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7.png" ContentType="image/png"/>
  <Override PartName="/ppt/media/image64.png" ContentType="image/png"/>
  <Override PartName="/ppt/media/image17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028-EE76-4024-A4F2-3AC67A75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05C-9342-4102-B0F2-62FC6E8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663-BF9F-4F3B-A337-0CF198E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D73-A820-43C7-8085-8013143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E07-4324-43C9-A3EB-E46DEC5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3D1-BAFF-4779-941C-35E2CBA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0C7-E07C-41C6-B2F2-559DC69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41D-ABDF-45CA-BEF8-24AA9C2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BBF-0666-42C7-B560-4FB81C2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D50-BC2C-4717-97EE-BE6F0B4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CE0-4AC9-4B3E-97A3-D44C8E0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2DF-9365-4650-A270-16AB9A20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KPH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29C2-6E86-4C5B-AF6F-C894BAF6C87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dfii_logo" descr=""/>
          <p:cNvPicPr/>
          <p:nvPr/>
        </p:nvPicPr>
        <p:blipFill>
          <a:blip r:embed="rId3"/>
          <a:stretch/>
        </p:blipFill>
        <p:spPr>
          <a:xfrm>
            <a:off x="166680" y="112680"/>
            <a:ext cx="83520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ggs and new particle searches at Tevatr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kihiro K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ki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half of CDF col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近大マーク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801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H→νν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87720" y="2855880"/>
            <a:ext cx="3159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5% C.L. upper limi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pect to the 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oss-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xclusion" descr=""/>
          <p:cNvPicPr/>
          <p:nvPr/>
        </p:nvPicPr>
        <p:blipFill>
          <a:blip r:embed="rId2"/>
          <a:stretch/>
        </p:blipFill>
        <p:spPr>
          <a:xfrm>
            <a:off x="914400" y="3349800"/>
            <a:ext cx="4325760" cy="30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5608800" y="3828960"/>
          <a:ext cx="3124080" cy="249876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609480"/>
                <a:gridCol w="609840"/>
                <a:gridCol w="609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gs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17" name="mjj_SIG_1Tag" descr=""/>
          <p:cNvPicPr/>
          <p:nvPr/>
        </p:nvPicPr>
        <p:blipFill>
          <a:blip r:embed="rId3"/>
          <a:stretch/>
        </p:blipFill>
        <p:spPr>
          <a:xfrm>
            <a:off x="557280" y="1096920"/>
            <a:ext cx="2388960" cy="2290680"/>
          </a:xfrm>
          <a:prstGeom prst="rect">
            <a:avLst/>
          </a:prstGeom>
          <a:ln w="0">
            <a:noFill/>
          </a:ln>
        </p:spPr>
      </p:pic>
      <p:pic>
        <p:nvPicPr>
          <p:cNvPr id="118" name="mjj_SIG_2Tag" descr=""/>
          <p:cNvPicPr/>
          <p:nvPr/>
        </p:nvPicPr>
        <p:blipFill>
          <a:blip r:embed="rId4"/>
          <a:stretch/>
        </p:blipFill>
        <p:spPr>
          <a:xfrm>
            <a:off x="3014640" y="1112760"/>
            <a:ext cx="2324160" cy="2289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97560" y="1411200"/>
            <a:ext cx="329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liding dijet mass cut for limit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5400" y="1417680"/>
            <a:ext cx="3108240" cy="789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2400" y="2400480"/>
            <a:ext cx="1200240" cy="433080"/>
          </a:xfrm>
          <a:prstGeom prst="downArrow">
            <a:avLst>
              <a:gd name="adj1" fmla="val 50000"/>
              <a:gd name="adj2" fmla="val 25000"/>
            </a:avLst>
          </a:prstGeom>
          <a:noFill/>
          <a:ln w="572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67080" y="354816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676520"/>
            <a:ext cx="2514600" cy="685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 → 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Good sensitivity of the “high-mass” region (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&gt; 150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3429000" cy="199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9440" y="1627200"/>
            <a:ext cx="3659040" cy="22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86200" y="5867280"/>
            <a:ext cx="32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Boson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84520" y="1655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600" spc="-1" strike="noStrike">
                <a:solidFill>
                  <a:srgbClr val="ffffff"/>
                </a:solidFill>
                <a:latin typeface="Arial"/>
              </a:rPr>
              <a:t>gg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 →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35400" y="2602080"/>
            <a:ext cx="449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σ(gg →H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  = 431fb @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16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(H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WW) = 90%   @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16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59280" y="2525760"/>
            <a:ext cx="990720" cy="914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0120" y="21430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t’s l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5320" y="3537000"/>
            <a:ext cx="3353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or sign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pposite-sign lep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transvers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952880" y="4680000"/>
            <a:ext cx="750960" cy="12636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921280"/>
            <a:ext cx="3166920" cy="3812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2600" y="50655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in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6280" y="3333600"/>
            <a:ext cx="4884840" cy="2979720"/>
          </a:xfrm>
          <a:prstGeom prst="roundRect">
            <a:avLst>
              <a:gd name="adj" fmla="val 16667"/>
            </a:avLst>
          </a:prstGeom>
          <a:solidFill>
            <a:srgbClr val="bb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 → 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" y="3377880"/>
            <a:ext cx="4657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vent se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olated leptons with opposite char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20 GeV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1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6 GeV &lt;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2 – 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# of jet 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ggs mass dependent event c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ations between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880" y="1235160"/>
            <a:ext cx="3108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ominant backgro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boson (WW, WZ, Z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rell-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08560" y="3559320"/>
            <a:ext cx="320688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027320" y="1055520"/>
            <a:ext cx="4932360" cy="2500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62600" y="1044720"/>
            <a:ext cx="3657600" cy="304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61880" y="971640"/>
            <a:ext cx="370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ummary of event selection vs. </a:t>
            </a:r>
            <a:r>
              <a:rPr b="0" i="1" lang="ja-JP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200" y="281952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ata sample: 1fb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95280"/>
            <a:ext cx="3048120" cy="144792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600" y="1187280"/>
            <a:ext cx="4114800" cy="390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52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 → 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8560" y="1372680"/>
            <a:ext cx="311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stically significant contribution of the Higgs signal is not obser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limitbands_log" descr=""/>
          <p:cNvPicPr/>
          <p:nvPr/>
        </p:nvPicPr>
        <p:blipFill>
          <a:blip r:embed="rId2"/>
          <a:stretch/>
        </p:blipFill>
        <p:spPr>
          <a:xfrm>
            <a:off x="4789440" y="3201840"/>
            <a:ext cx="3925800" cy="319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952880" y="1371600"/>
            <a:ext cx="3178440" cy="847800"/>
          </a:xfrm>
          <a:prstGeom prst="rect">
            <a:avLst/>
          </a:prstGeom>
          <a:noFill/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ndividual_TomdilDphi_ALL_2_160_plot_errorboxes" descr=""/>
          <p:cNvPicPr/>
          <p:nvPr/>
        </p:nvPicPr>
        <p:blipFill>
          <a:blip r:embed="rId3"/>
          <a:stretch/>
        </p:blipFill>
        <p:spPr>
          <a:xfrm>
            <a:off x="425520" y="3887640"/>
            <a:ext cx="1773000" cy="1667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9200" y="1165320"/>
            <a:ext cx="388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Look in Δφ(</a:t>
            </a:r>
            <a:r>
              <a:rPr b="1" lang="ja-JP" sz="2000" spc="-1" strike="noStrike">
                <a:solidFill>
                  <a:srgbClr val="ffffff"/>
                </a:solidFill>
                <a:latin typeface="MT Extra"/>
                <a:ea typeface="MT Extra"/>
              </a:rPr>
              <a:t></a:t>
            </a:r>
            <a:r>
              <a:rPr b="1" lang="ja-JP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000" spc="-1" strike="noStrike">
                <a:solidFill>
                  <a:srgbClr val="ffffff"/>
                </a:solidFill>
                <a:latin typeface="MT Extra"/>
                <a:ea typeface="MT Extra"/>
              </a:rPr>
              <a:t></a:t>
            </a:r>
            <a:r>
              <a:rPr b="1" lang="ja-JP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)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ndividual_TomdilDphi_ALL_2_110_plot_errorboxes" descr=""/>
          <p:cNvPicPr/>
          <p:nvPr/>
        </p:nvPicPr>
        <p:blipFill>
          <a:blip r:embed="rId4"/>
          <a:stretch/>
        </p:blipFill>
        <p:spPr>
          <a:xfrm>
            <a:off x="436680" y="1959120"/>
            <a:ext cx="1758960" cy="1654200"/>
          </a:xfrm>
          <a:prstGeom prst="rect">
            <a:avLst/>
          </a:prstGeom>
          <a:ln w="0">
            <a:noFill/>
          </a:ln>
        </p:spPr>
      </p:pic>
      <p:pic>
        <p:nvPicPr>
          <p:cNvPr id="155" name="individual_TomdilDphi_ALL_2_200_plot_errorboxes" descr=""/>
          <p:cNvPicPr/>
          <p:nvPr/>
        </p:nvPicPr>
        <p:blipFill>
          <a:blip r:embed="rId5"/>
          <a:stretch/>
        </p:blipFill>
        <p:spPr>
          <a:xfrm>
            <a:off x="2438280" y="3886200"/>
            <a:ext cx="1770120" cy="1663560"/>
          </a:xfrm>
          <a:prstGeom prst="rect">
            <a:avLst/>
          </a:prstGeom>
          <a:ln w="0">
            <a:noFill/>
          </a:ln>
        </p:spPr>
      </p:pic>
      <p:pic>
        <p:nvPicPr>
          <p:cNvPr id="156" name="individual_TomdilDphi_ALL_2_150_plot_errorboxes" descr=""/>
          <p:cNvPicPr/>
          <p:nvPr/>
        </p:nvPicPr>
        <p:blipFill>
          <a:blip r:embed="rId6"/>
          <a:stretch/>
        </p:blipFill>
        <p:spPr>
          <a:xfrm>
            <a:off x="2427120" y="1947960"/>
            <a:ext cx="1791000" cy="1684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477120" y="2286000"/>
            <a:ext cx="0" cy="8380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00880" y="254304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 95% C.L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760" y="1611360"/>
            <a:ext cx="36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Histograms include the signal and B.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9760" y="5257800"/>
            <a:ext cx="5715000" cy="12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SSM Higgs →τ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1157400"/>
            <a:ext cx="82674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SSM ⇒SUSY with minimal Higgs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equires two higgs field doub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2000" spc="-1" strike="noStrike">
                <a:solidFill>
                  <a:srgbClr val="00cc00"/>
                </a:solidFill>
                <a:latin typeface="Arial"/>
              </a:rPr>
              <a:t>H</a:t>
            </a:r>
            <a:r>
              <a:rPr b="1" lang="ja-JP" sz="2000" spc="-1" strike="noStrike" baseline="30000">
                <a:solidFill>
                  <a:srgbClr val="00cc00"/>
                </a:solidFill>
                <a:latin typeface="Arial"/>
              </a:rPr>
              <a:t>±</a:t>
            </a:r>
            <a:r>
              <a:rPr b="1" lang="ja-JP" sz="2000" spc="-1" strike="noStrike">
                <a:solidFill>
                  <a:srgbClr val="00cc00"/>
                </a:solidFill>
                <a:latin typeface="Arial"/>
              </a:rPr>
              <a:t>; A (CP-odd); h, H (CP-e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tree level defined by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tan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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u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/v</a:t>
            </a:r>
            <a:r>
              <a:rPr b="0" lang="ja-JP" sz="1800" spc="-1" strike="noStrike" baseline="-25000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 couplings to b, t enhanced b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For large tan</a:t>
            </a:r>
            <a:r>
              <a:rPr b="0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one of the h/H is SM-like and low mass (m&lt;135 GeV), the other almost mass-degenerate with A, similar cou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4920" y="528012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ominant A decays: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95%), </a:t>
            </a:r>
            <a:r>
              <a:rPr b="1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larger BR, but need associated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05120"/>
            <a:ext cx="268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followin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used to denote any of A, h,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96960" y="4148280"/>
            <a:ext cx="2120760" cy="1054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59280" y="4152960"/>
            <a:ext cx="1625400" cy="103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01880" y="3627360"/>
                <a:ext cx="1363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g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24080" y="3586320"/>
                <a:ext cx="144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79560" y="4073400"/>
            <a:ext cx="1447560" cy="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4067280"/>
            <a:ext cx="1447920" cy="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058080" y="3559320"/>
            <a:ext cx="2773080" cy="28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84120" y="5923080"/>
            <a:ext cx="30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rch for Higgs →</a:t>
            </a:r>
            <a:r>
              <a:rPr b="1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8880" y="60562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1160" y="1860480"/>
            <a:ext cx="2649600" cy="68580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143000"/>
            <a:ext cx="769608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SSM Higgs →τ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1869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tures are determined by the decay modes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992320" y="1766880"/>
          <a:ext cx="5600880" cy="2766960"/>
        </p:xfrm>
        <a:graphic>
          <a:graphicData uri="http://schemas.openxmlformats.org/drawingml/2006/table">
            <a:tbl>
              <a:tblPr/>
              <a:tblGrid>
                <a:gridCol w="1046160"/>
                <a:gridCol w="1998720"/>
                <a:gridCol w="255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Z/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→ee B.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Z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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.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 jet backgr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l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l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a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ing (jet B.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695760" y="4883040"/>
            <a:ext cx="5067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Z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*→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Z/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*→</a:t>
            </a:r>
            <a:r>
              <a:rPr b="1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isidentified jet as </a:t>
            </a: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(w+jets, multi-j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ibo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op pair pr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943360"/>
            <a:ext cx="457200" cy="125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2400 h 1253880"/>
              <a:gd name="textAreaBottom" fmla="*/ 1221480 h 125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0400" y="3209760"/>
            <a:ext cx="153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in this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920" y="540720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ominant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10160" y="4903920"/>
            <a:ext cx="5029200" cy="149688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2798640"/>
            <a:ext cx="8305560" cy="35053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SSM Higgs →τ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Arial"/>
              </a:rPr>
              <a:t>Data sample (992pb</a:t>
            </a:r>
            <a:r>
              <a:rPr b="1" lang="ja-JP" sz="2800" spc="-1" strike="noStrike" baseline="30000">
                <a:solidFill>
                  <a:srgbClr val="008000"/>
                </a:solidFill>
                <a:latin typeface="Arial"/>
              </a:rPr>
              <a:t>-1</a:t>
            </a:r>
            <a:r>
              <a:rPr b="1" lang="ja-JP" sz="2800" spc="-1" strike="noStrike">
                <a:solidFill>
                  <a:srgbClr val="008000"/>
                </a:solidFill>
                <a:latin typeface="Arial"/>
              </a:rPr>
              <a:t>) :</a:t>
            </a:r>
            <a:r>
              <a:rPr b="0" lang="ja-JP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Arial"/>
              </a:rPr>
              <a:t>e</a:t>
            </a: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Arial"/>
              </a:rPr>
              <a:t>had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Arial"/>
              </a:rPr>
              <a:t>had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 from lepton plus track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(one e/</a:t>
            </a: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 and isolated track </a:t>
            </a:r>
            <a:r>
              <a:rPr b="1" i="1" lang="ja-JP" sz="20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&gt;5GeV/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Arial"/>
              </a:rPr>
              <a:t>e</a:t>
            </a:r>
            <a:r>
              <a:rPr b="1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1" lang="ja-JP" sz="2000" spc="-1" strike="noStrike">
                <a:solidFill>
                  <a:srgbClr val="008000"/>
                </a:solidFill>
                <a:latin typeface="Arial"/>
              </a:rPr>
              <a:t> from di-lepton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800" y="281304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289320"/>
            <a:ext cx="78487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ood isolation lepton with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10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ID: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c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9 GeV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&gt; 15(1p), 20(3p) GeV/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1.8(1p), 2.2(3p) GeV, isolation(track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&gt;0.5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boson, tt, W+jets sup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nsverse momentum balance betwee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ft QCD sup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SzPct val="60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・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/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|+|mis.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gt; 55 GeV:      (3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SzPct val="60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|+|mis.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gt; 45(50)GeV: (1p)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a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・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pple Chancery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     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 &gt; 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3120" y="328788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-prong = (3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rong = (1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45320" y="3303720"/>
            <a:ext cx="1465200" cy="519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87360" y="300348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hadronic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fit-m160-emu" descr=""/>
          <p:cNvPicPr/>
          <p:nvPr/>
        </p:nvPicPr>
        <p:blipFill>
          <a:blip r:embed="rId2"/>
          <a:stretch/>
        </p:blipFill>
        <p:spPr>
          <a:xfrm>
            <a:off x="6365880" y="2844720"/>
            <a:ext cx="2471760" cy="3438720"/>
          </a:xfrm>
          <a:prstGeom prst="rect">
            <a:avLst/>
          </a:prstGeom>
          <a:ln w="0">
            <a:noFill/>
          </a:ln>
        </p:spPr>
      </p:pic>
      <p:pic>
        <p:nvPicPr>
          <p:cNvPr id="193" name="fit-m160-ltau" descr=""/>
          <p:cNvPicPr/>
          <p:nvPr/>
        </p:nvPicPr>
        <p:blipFill>
          <a:blip r:embed="rId3"/>
          <a:stretch/>
        </p:blipFill>
        <p:spPr>
          <a:xfrm>
            <a:off x="3898800" y="2844720"/>
            <a:ext cx="2460600" cy="3416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553000" y="6107040"/>
            <a:ext cx="1859040" cy="362160"/>
          </a:xfrm>
          <a:prstGeom prst="rect">
            <a:avLst/>
          </a:prstGeom>
          <a:solidFill>
            <a:srgbClr val="acd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400" y="5392800"/>
            <a:ext cx="2837160" cy="7682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6040" y="3232080"/>
            <a:ext cx="3211560" cy="13399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4120" y="2854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SSM Higgs →τ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37040" y="1414440"/>
            <a:ext cx="2438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2800" y="1077840"/>
            <a:ext cx="4456080" cy="175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9720" y="3776760"/>
            <a:ext cx="30502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vis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= invariant ma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the visible </a:t>
            </a:r>
            <a:r>
              <a:rPr b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decay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nd  missing </a:t>
            </a: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6075360"/>
            <a:ext cx="187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160 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9280" y="5451480"/>
            <a:ext cx="2895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o signal evidenc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= 90 – 250 GeV/c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240" y="3201840"/>
            <a:ext cx="283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vis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8680" y="1413000"/>
            <a:ext cx="2347920" cy="10396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58880" y="4683240"/>
            <a:ext cx="876240" cy="606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anb-muneg" descr=""/>
          <p:cNvPicPr/>
          <p:nvPr/>
        </p:nvPicPr>
        <p:blipFill>
          <a:blip r:embed="rId2"/>
          <a:stretch/>
        </p:blipFill>
        <p:spPr>
          <a:xfrm>
            <a:off x="517680" y="3849840"/>
            <a:ext cx="2917800" cy="2498400"/>
          </a:xfrm>
          <a:prstGeom prst="rect">
            <a:avLst/>
          </a:prstGeom>
          <a:ln w="0">
            <a:noFill/>
          </a:ln>
        </p:spPr>
      </p:pic>
      <p:pic>
        <p:nvPicPr>
          <p:cNvPr id="207" name="tanb-mupos" descr=""/>
          <p:cNvPicPr/>
          <p:nvPr/>
        </p:nvPicPr>
        <p:blipFill>
          <a:blip r:embed="rId3"/>
          <a:stretch/>
        </p:blipFill>
        <p:spPr>
          <a:xfrm>
            <a:off x="3427560" y="3843360"/>
            <a:ext cx="2944800" cy="2516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3481560"/>
            <a:ext cx="4032360" cy="363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066680"/>
            <a:ext cx="5029200" cy="3049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SSM Higgs →τ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6440" y="1020240"/>
            <a:ext cx="512460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and expected limits at 95%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xsec-limits" descr=""/>
          <p:cNvPicPr/>
          <p:nvPr/>
        </p:nvPicPr>
        <p:blipFill>
          <a:blip r:embed="rId4"/>
          <a:stretch/>
        </p:blipFill>
        <p:spPr>
          <a:xfrm>
            <a:off x="4836960" y="1371600"/>
            <a:ext cx="3276720" cy="2265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0640" y="3473280"/>
            <a:ext cx="387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xcluded region in tan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vs 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2720" y="145404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 for S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quarks and Glu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harginos + Neutralin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ke-sign dilepton, tri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-parity vio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ulti-lepton, stop, sneut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MSB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ng-lived neutralinos (decays to ph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gravi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re decays and stable parti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long-lived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040" y="1797120"/>
            <a:ext cx="695520" cy="555480"/>
          </a:xfrm>
          <a:prstGeom prst="diamond">
            <a:avLst/>
          </a:prstGeom>
          <a:noFill/>
          <a:ln w="5724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689280"/>
            <a:ext cx="663480" cy="523800"/>
          </a:xfrm>
          <a:prstGeom prst="diamond">
            <a:avLst/>
          </a:prstGeom>
          <a:noFill/>
          <a:ln w="5724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mass particles (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9040" y="499284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alk includes the new results since summ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200" y="5018040"/>
            <a:ext cx="7991280" cy="380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09760" y="5840280"/>
            <a:ext cx="7927920" cy="457200"/>
          </a:xfrm>
          <a:prstGeom prst="parallelogram">
            <a:avLst>
              <a:gd name="adj" fmla="val -127479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hargino – Neutralino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2889360" cy="1360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268280" y="1049400"/>
            <a:ext cx="2289240" cy="1382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37480" y="3191040"/>
            <a:ext cx="1855800" cy="167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2409840" y="3186000"/>
            <a:ext cx="1887480" cy="1697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61880" y="3186000"/>
            <a:ext cx="1890720" cy="1698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4884840" y="3186000"/>
            <a:ext cx="1865160" cy="168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04320" y="5867280"/>
            <a:ext cx="71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ulti-lepton (trilepton, like-sign dilepton) is a strong tool!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133720" y="2454120"/>
                <a:ext cx="41637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duct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dr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llid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39920" y="4853160"/>
                <a:ext cx="31705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epton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cay of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χ</m:t>
                        </m:r>
                      </m:e>
                    </m:acc>
                    <m:sSubSup>
                      <m:e/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494160" y="5227560"/>
                <a:ext cx="2544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SP and undetecte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990800" y="2471760"/>
            <a:ext cx="454032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14640" y="4897440"/>
            <a:ext cx="3386160" cy="69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63400" y="1413000"/>
            <a:ext cx="4953240" cy="0"/>
          </a:xfrm>
          <a:prstGeom prst="line">
            <a:avLst/>
          </a:prstGeom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4167360"/>
            <a:ext cx="2787840" cy="401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7640" y="1515960"/>
            <a:ext cx="1594080" cy="401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086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hargino – Neutralino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6200" y="10018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selection and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1640" y="1467000"/>
            <a:ext cx="729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Tri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olated three e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 isolated two e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one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3,tr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GeV/c) = (20,8,5), (20,5,5), (15,5,4), (5,5,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1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ject Mass window: 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20 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76&lt;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1800" spc="-1" strike="noStrike">
                <a:solidFill>
                  <a:srgbClr val="000000"/>
                </a:solidFill>
                <a:latin typeface="MT Extra"/>
                <a:ea typeface="MT Extra"/>
              </a:rPr>
              <a:t>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106 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minant backgrounds – dibosons, Drell-Yan+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480" y="4110120"/>
            <a:ext cx="602028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Like-sign di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air of same charge e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olated two e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&gt; 20 GeV, 1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1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Z veto ( 66 &lt;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116 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minant backgrounds – Drell-Yan, diboson, W/Z+1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981320" y="1863720"/>
            <a:ext cx="228600" cy="1647720"/>
          </a:xfrm>
          <a:custGeom>
            <a:avLst/>
            <a:gdLst>
              <a:gd name="textAreaLeft" fmla="*/ 0 w 228600"/>
              <a:gd name="textAreaRight" fmla="*/ 82440 w 228600"/>
              <a:gd name="textAreaTop" fmla="*/ 42840 h 1647720"/>
              <a:gd name="textAreaBottom" fmla="*/ 1604880 h 16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0320" y="2744640"/>
            <a:ext cx="8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9933"/>
                </a:solidFill>
                <a:latin typeface="Arial"/>
              </a:rPr>
              <a:t>high-</a:t>
            </a:r>
            <a:r>
              <a:rPr b="0" i="1" lang="ja-JP" sz="16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3399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6754680" y="1830240"/>
            <a:ext cx="228600" cy="1648080"/>
          </a:xfrm>
          <a:custGeom>
            <a:avLst/>
            <a:gdLst>
              <a:gd name="textAreaLeft" fmla="*/ 0 w 228600"/>
              <a:gd name="textAreaRight" fmla="*/ 82440 w 228600"/>
              <a:gd name="textAreaTop" fmla="*/ 42840 h 1648080"/>
              <a:gd name="textAreaBottom" fmla="*/ 1605240 h 164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0560" y="2700360"/>
            <a:ext cx="73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9933"/>
                </a:solidFill>
                <a:latin typeface="Arial"/>
              </a:rPr>
              <a:t>low-</a:t>
            </a:r>
            <a:r>
              <a:rPr b="0" i="1" lang="ja-JP" sz="16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3399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237360" y="2917800"/>
            <a:ext cx="2568600" cy="82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hargino – Neutralino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0280" y="1049400"/>
            <a:ext cx="41482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of event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trilep_table" descr=""/>
          <p:cNvPicPr/>
          <p:nvPr/>
        </p:nvPicPr>
        <p:blipFill>
          <a:blip r:embed="rId2"/>
          <a:stretch/>
        </p:blipFill>
        <p:spPr>
          <a:xfrm>
            <a:off x="369720" y="1631880"/>
            <a:ext cx="5632560" cy="2489400"/>
          </a:xfrm>
          <a:prstGeom prst="rect">
            <a:avLst/>
          </a:prstGeom>
          <a:ln w="0">
            <a:noFill/>
          </a:ln>
        </p:spPr>
      </p:pic>
      <p:pic>
        <p:nvPicPr>
          <p:cNvPr id="248" name="ls_table" descr=""/>
          <p:cNvPicPr/>
          <p:nvPr/>
        </p:nvPicPr>
        <p:blipFill>
          <a:blip r:embed="rId3"/>
          <a:stretch/>
        </p:blipFill>
        <p:spPr>
          <a:xfrm>
            <a:off x="380880" y="4116240"/>
            <a:ext cx="5613480" cy="2300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96960" y="1500120"/>
            <a:ext cx="3956040" cy="0"/>
          </a:xfrm>
          <a:prstGeom prst="line">
            <a:avLst/>
          </a:prstGeom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90920" y="1639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ri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47640" y="441324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ke-sign dile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65800" y="2854440"/>
            <a:ext cx="25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# of observed events are consistent with SM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84800" y="1700280"/>
            <a:ext cx="126360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4462560"/>
            <a:ext cx="2536560" cy="380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966000" y="21682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3280" y="3826800"/>
            <a:ext cx="0" cy="53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68480" y="1300320"/>
            <a:ext cx="4930560" cy="1440"/>
          </a:xfrm>
          <a:prstGeom prst="line">
            <a:avLst/>
          </a:prstGeom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32200" y="6110280"/>
            <a:ext cx="26319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68240" y="4602240"/>
            <a:ext cx="3194280" cy="18241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hargino – Neutralino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8080" y="139500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1) mSUGRA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ive free parameters (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sig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meters: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60 GeV/c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0, 162 &lt;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lt; 230 GeV/c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2) MSSM with no slepton mixing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eep mSUGRA relations with slepton mixing off (diagonal terms of the mixing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o zero in Softsusy).  → enhances the BR of              to e/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3) MSSM with W/Z decay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eep the relation in below in the MSSM framewo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21320" y="90504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Y scenarios for this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087640" y="1714680"/>
                <a:ext cx="3359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 the LSP and CDM candidat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00320" y="4044960"/>
                <a:ext cx="2565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08720" y="4365720"/>
                <a:ext cx="30780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ℓν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r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→</m:t>
                    </m:r>
                    <m:r>
                      <m:t xml:space="preserve">ℓν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05000" y="4378320"/>
                <a:ext cx="3171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sSup>
                      <m:e>
                        <m:r>
                          <m:t xml:space="preserve">ℓ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ℓ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ℓ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ℓ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333520" y="3338640"/>
                <a:ext cx="4129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,  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 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208480" y="3014640"/>
                <a:ext cx="5796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754080" y="6087960"/>
            <a:ext cx="269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cceptance of high-p</a:t>
            </a:r>
            <a:r>
              <a:rPr b="1" lang="ja-JP" sz="1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V="1">
            <a:off x="914400" y="1523520"/>
            <a:ext cx="7548480" cy="11160"/>
          </a:xfrm>
          <a:prstGeom prst="line">
            <a:avLst/>
          </a:prstGeom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hargino – Neutralino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69840" y="1789200"/>
            <a:ext cx="156528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SU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87360" y="2241720"/>
            <a:ext cx="2733840" cy="2733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127320" y="3308400"/>
            <a:ext cx="2722680" cy="2724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5838840" y="3325680"/>
            <a:ext cx="2776680" cy="2716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69040" y="29210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 slepton mi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93040" y="28684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/Z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03960" y="2441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960" y="10303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he excluded cross section limit vs. chargino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683320" y="6153120"/>
            <a:ext cx="231768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3689280"/>
            <a:ext cx="34830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GMSB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Gauge Mediated Supersymmetry Breaking mod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69252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971800" y="0"/>
                <a:ext cx="2617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γ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72160" y="4060800"/>
            <a:ext cx="2295360" cy="2097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80880" y="1523880"/>
            <a:ext cx="8088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utralino can be have a long life(free parameter). The lightest  neutralino is NLSP. LSP is gravitino.  NLSP decays to photons and 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gravitin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8360" y="1467000"/>
            <a:ext cx="7548480" cy="10800"/>
          </a:xfrm>
          <a:prstGeom prst="line">
            <a:avLst/>
          </a:prstGeom>
          <a:ln w="63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82720" y="461628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ival time is differen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p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deca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3656160" cy="1325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06400" y="5610240"/>
            <a:ext cx="3662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arrival time of photons in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mi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jet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93320" y="366084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ynman diagram for GMSB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80920" y="4603680"/>
            <a:ext cx="3495960" cy="674640"/>
          </a:xfrm>
          <a:prstGeom prst="rect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839160" y="5431680"/>
            <a:ext cx="838080" cy="620640"/>
          </a:xfrm>
          <a:custGeom>
            <a:avLst/>
            <a:gdLst>
              <a:gd name="textAreaLeft" fmla="*/ 279360 w 838080"/>
              <a:gd name="textAreaRight" fmla="*/ 717840 w 838080"/>
              <a:gd name="textAreaTop" fmla="*/ 357480 h 620640"/>
              <a:gd name="textAreaBottom" fmla="*/ 53172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5618160"/>
            <a:ext cx="3450960" cy="620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9480" y="618480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e Carlo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643280" y="2317680"/>
            <a:ext cx="4329360" cy="3041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12920" y="3570120"/>
            <a:ext cx="3155760" cy="2548080"/>
          </a:xfrm>
          <a:prstGeom prst="foldedCorner">
            <a:avLst>
              <a:gd name="adj" fmla="val 2145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42130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 phot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→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jet+fake mi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jets+fake mi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ets fak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collision phot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rays, beam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4880" y="3560760"/>
            <a:ext cx="34308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30 GeV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&lt;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4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et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3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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jet) &gt;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0 &lt; t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arriv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smic re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llision fid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982960" y="85680"/>
                <a:ext cx="2617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γ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293760" y="1165320"/>
            <a:ext cx="4298760" cy="2187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684680" y="1601640"/>
            <a:ext cx="2038320" cy="1433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916600" y="123048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ata sample: 570pb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69160" y="5410080"/>
            <a:ext cx="330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: 2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of backgrounds: 1.3±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462640" y="5300640"/>
            <a:ext cx="2365200" cy="933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971800" y="0"/>
                <a:ext cx="2617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γ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492280" y="3595680"/>
            <a:ext cx="2871720" cy="2662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819600" y="1425600"/>
            <a:ext cx="2774880" cy="21621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892080" y="1450800"/>
            <a:ext cx="2743200" cy="2140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67000" y="1054080"/>
            <a:ext cx="696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pected and observed 95% C.L. cross section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5334120"/>
            <a:ext cx="23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exclude region in the neutralino lifetime and ma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191120" y="4267080"/>
            <a:ext cx="4803480" cy="17910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echnicolor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w interaction to induce spontaneous symmetry breaking of the gauge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t Tevatron energy, new particle (ρ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 could b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Feynman_Tc" descr=""/>
          <p:cNvPicPr/>
          <p:nvPr/>
        </p:nvPicPr>
        <p:blipFill>
          <a:blip r:embed="rId2"/>
          <a:stretch/>
        </p:blipFill>
        <p:spPr>
          <a:xfrm>
            <a:off x="312840" y="3317760"/>
            <a:ext cx="3725640" cy="183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332240" y="3021120"/>
                <a:ext cx="434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±</m:t>
                        </m:r>
                      </m:sup>
                    </m:sSubSup>
                    <m:r>
                      <m:t xml:space="preserve">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±</m:t>
                        </m:r>
                      </m:sup>
                    </m:sSup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ℓν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257360" y="4308480"/>
            <a:ext cx="44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earch for W+2jet (b-tag)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36840" y="4756320"/>
            <a:ext cx="47984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solated e/μ with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&gt; 2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2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wo jets with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gt; 20GeV, |η| &lt;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-tag: one tag with NN, double tag w/o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3706920"/>
            <a:ext cx="1886040" cy="536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638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sample: 955 pb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3368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agree with B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sLimit_1tagNNtagdtag" descr=""/>
          <p:cNvPicPr/>
          <p:nvPr/>
        </p:nvPicPr>
        <p:blipFill>
          <a:blip r:embed="rId2"/>
          <a:stretch/>
        </p:blipFill>
        <p:spPr>
          <a:xfrm>
            <a:off x="4351320" y="2422440"/>
            <a:ext cx="4435560" cy="40118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20840" y="1066680"/>
            <a:ext cx="3782520" cy="3747960"/>
            <a:chOff x="420840" y="1066680"/>
            <a:chExt cx="3782520" cy="3747960"/>
          </a:xfrm>
        </p:grpSpPr>
        <p:pic>
          <p:nvPicPr>
            <p:cNvPr id="325" name="kinMass_1tagNNtag" descr=""/>
            <p:cNvPicPr/>
            <p:nvPr/>
          </p:nvPicPr>
          <p:blipFill>
            <a:blip r:embed="rId3"/>
            <a:stretch/>
          </p:blipFill>
          <p:spPr>
            <a:xfrm>
              <a:off x="425160" y="2939760"/>
              <a:ext cx="377820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kinMass_dtag" descr=""/>
            <p:cNvPicPr/>
            <p:nvPr/>
          </p:nvPicPr>
          <p:blipFill>
            <a:blip r:embed="rId4"/>
            <a:stretch/>
          </p:blipFill>
          <p:spPr>
            <a:xfrm>
              <a:off x="420840" y="1066680"/>
              <a:ext cx="3778200" cy="18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4267080" y="1676520"/>
            <a:ext cx="3429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rot="10800000">
            <a:off x="4313160" y="1787400"/>
            <a:ext cx="3022560" cy="803520"/>
          </a:xfrm>
          <a:custGeom>
            <a:avLst/>
            <a:gdLst>
              <a:gd name="textAreaLeft" fmla="*/ 890640 w 3022560"/>
              <a:gd name="textAreaRight" fmla="*/ 2667240 w 3022560"/>
              <a:gd name="textAreaTop" fmla="*/ 582840 h 803520"/>
              <a:gd name="textAreaBottom" fmla="*/ 709200 h 803520"/>
            </a:gdLst>
            <a:ahLst/>
            <a:rect l="textAreaLeft" t="textAreaTop" r="textAreaRight" b="textAreaBottom"/>
            <a:pathLst>
              <a:path w="21600" h="21600">
                <a:moveTo>
                  <a:pt x="0" y="18209"/>
                </a:moveTo>
                <a:lnTo>
                  <a:pt x="15667" y="18209"/>
                </a:lnTo>
                <a:lnTo>
                  <a:pt x="15667" y="6362"/>
                </a:lnTo>
                <a:lnTo>
                  <a:pt x="13125" y="6362"/>
                </a:lnTo>
                <a:lnTo>
                  <a:pt x="17363" y="0"/>
                </a:lnTo>
                <a:lnTo>
                  <a:pt x="21600" y="6362"/>
                </a:lnTo>
                <a:lnTo>
                  <a:pt x="19058" y="6362"/>
                </a:lnTo>
                <a:lnTo>
                  <a:pt x="19058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3440" y="4876920"/>
            <a:ext cx="2286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ackgrou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/Z + heavy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t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boson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n-W Q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s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4876920"/>
            <a:ext cx="2210040" cy="16002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57000" y="20653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tag w/ 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9880" y="40179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2 tag w/o 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um" descr=""/>
          <p:cNvPicPr/>
          <p:nvPr/>
        </p:nvPicPr>
        <p:blipFill>
          <a:blip r:embed="rId2"/>
          <a:stretch/>
        </p:blipFill>
        <p:spPr>
          <a:xfrm>
            <a:off x="415800" y="3706920"/>
            <a:ext cx="3938760" cy="268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67080" y="1440000"/>
            <a:ext cx="4713480" cy="2003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eva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V_MI_Aerial" descr=""/>
          <p:cNvPicPr/>
          <p:nvPr/>
        </p:nvPicPr>
        <p:blipFill>
          <a:blip r:embed="rId3"/>
          <a:stretch/>
        </p:blipFill>
        <p:spPr>
          <a:xfrm>
            <a:off x="425520" y="1073160"/>
            <a:ext cx="3605040" cy="2897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8000" y="1454040"/>
                <a:ext cx="39895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llision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554360" y="228132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 luminosity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89 ×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(Feb 25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60040" y="295596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evatron delivered 165pb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in Jan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2440" y="19112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luminosity is 2.4f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0760" y="1833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Teva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5680" y="15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Arial"/>
              </a:rPr>
              <a:t>C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840" y="1224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Arial"/>
              </a:rPr>
              <a:t>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14520" y="1452600"/>
            <a:ext cx="228600" cy="195120"/>
          </a:xfrm>
          <a:prstGeom prst="ellipse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9880" y="1463760"/>
            <a:ext cx="228600" cy="195120"/>
          </a:xfrm>
          <a:prstGeom prst="ellipse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43880" y="309708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n inj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lum" descr=""/>
          <p:cNvPicPr/>
          <p:nvPr/>
        </p:nvPicPr>
        <p:blipFill>
          <a:blip r:embed="rId4"/>
          <a:stretch/>
        </p:blipFill>
        <p:spPr>
          <a:xfrm>
            <a:off x="4711680" y="3699000"/>
            <a:ext cx="39146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867280" y="4572000"/>
            <a:ext cx="2819520" cy="152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38560" y="1200240"/>
            <a:ext cx="4937040" cy="1508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’b’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 → 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q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3657600"/>
            <a:ext cx="4348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Search for new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decaying to Z</a:t>
            </a:r>
            <a:r>
              <a:rPr b="1" lang="en-US" sz="2800" spc="-1" strike="noStrike" baseline="30000">
                <a:solidFill>
                  <a:srgbClr val="ff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quark may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branching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43000" y="1228680"/>
            <a:ext cx="3843360" cy="2233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57640" y="1254240"/>
            <a:ext cx="494640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ven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least one pair of e/μ with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2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Z mass window  81 &lt;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2000" spc="-1" strike="noStrike">
                <a:solidFill>
                  <a:srgbClr val="000000"/>
                </a:solidFill>
                <a:latin typeface="MT Extra"/>
                <a:ea typeface="MT Extra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 101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# of jets (with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30 GeV, |η| &lt;2)  ≧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3352680"/>
            <a:ext cx="313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arget range of 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50 &lt;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b’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&lt; 35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352680"/>
            <a:ext cx="312444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757600"/>
            <a:ext cx="933480" cy="488880"/>
          </a:xfrm>
          <a:prstGeom prst="downArrow">
            <a:avLst>
              <a:gd name="adj1" fmla="val 50000"/>
              <a:gd name="adj2" fmla="val 5384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42720" y="4557600"/>
            <a:ext cx="2957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ackgrounds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Z0 +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boson (WZ, ZZ) +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t + j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CD multi-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23360" y="57913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ata sample: 1055 pb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02120" y="3233880"/>
            <a:ext cx="228600" cy="228600"/>
          </a:xfrm>
          <a:prstGeom prst="ellipse">
            <a:avLst/>
          </a:prstGeom>
          <a:noFill/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28960" y="2701800"/>
            <a:ext cx="228600" cy="228600"/>
          </a:xfrm>
          <a:prstGeom prst="ellipse">
            <a:avLst/>
          </a:prstGeom>
          <a:noFill/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2644920"/>
            <a:ext cx="228600" cy="228600"/>
          </a:xfrm>
          <a:prstGeom prst="ellipse">
            <a:avLst/>
          </a:prstGeom>
          <a:noFill/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’b’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 → 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bq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8480" y="11430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mpared to the 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jets B.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calar sum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of all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fig_bless_limit" descr=""/>
          <p:cNvPicPr/>
          <p:nvPr/>
        </p:nvPicPr>
        <p:blipFill>
          <a:blip r:embed="rId2"/>
          <a:stretch/>
        </p:blipFill>
        <p:spPr>
          <a:xfrm>
            <a:off x="3490920" y="3905280"/>
            <a:ext cx="4729320" cy="25448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41440" y="1836720"/>
            <a:ext cx="3560760" cy="1970280"/>
          </a:xfrm>
          <a:prstGeom prst="rect">
            <a:avLst/>
          </a:prstGeom>
          <a:ln w="0">
            <a:noFill/>
          </a:ln>
        </p:spPr>
      </p:pic>
      <p:pic>
        <p:nvPicPr>
          <p:cNvPr id="351" name="fig_bless_fit_data_jt_log" descr=""/>
          <p:cNvPicPr/>
          <p:nvPr/>
        </p:nvPicPr>
        <p:blipFill>
          <a:blip r:embed="rId4"/>
          <a:stretch/>
        </p:blipFill>
        <p:spPr>
          <a:xfrm>
            <a:off x="4343400" y="1246320"/>
            <a:ext cx="3392640" cy="2560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74120" y="421308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ificant ex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920" y="4881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cross section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7520" y="5334120"/>
            <a:ext cx="2928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27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 BR(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= 100 %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5351400"/>
            <a:ext cx="3154320" cy="696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evatron and CDF are working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DF has collected the over 2f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DF has been exploring the new phenomena using ~ 1f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lease expect the interesting results of the new particles searches  at summer co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271520" y="1230480"/>
            <a:ext cx="6599160" cy="4397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234120" y="59799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y A. Anastass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95% C.L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7200" y="1579680"/>
            <a:ext cx="8763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un same likelihood procedure using “pseudoexperim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2405160"/>
            <a:ext cx="824544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each channel with a Poisson fluctuated value with mean equal to the total expected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lace the kinematic distribution with one randomly constructed from the above Poisson number, and the total background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lace the Gaussian constrained background values in the likelihood function with a Gaussian fluctuated value with mean equal to that background value. The error are lef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peat many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etector3DV" descr=""/>
          <p:cNvPicPr/>
          <p:nvPr/>
        </p:nvPicPr>
        <p:blipFill>
          <a:blip r:embed="rId2"/>
          <a:stretch/>
        </p:blipFill>
        <p:spPr>
          <a:xfrm>
            <a:off x="480960" y="1457280"/>
            <a:ext cx="3840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99120" y="1263600"/>
            <a:ext cx="4244760" cy="1817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56000" y="1361880"/>
            <a:ext cx="420048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DF has collected over 2 fb</a:t>
            </a:r>
            <a:r>
              <a:rPr b="1" lang="en-US" sz="2000" spc="-1" strike="noStrike" baseline="30000">
                <a:solidFill>
                  <a:srgbClr val="990033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ata at Feb.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653pb</a:t>
            </a:r>
            <a:r>
              <a:rPr b="1" lang="en-US" sz="2000" spc="-1" strike="noStrike" baseline="30000">
                <a:solidFill>
                  <a:srgbClr val="990033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delivered in FY0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82% to tape (~5% trig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~5% beam conditi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4357800"/>
            <a:ext cx="436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eneral purpose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ecision tracking with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ertex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ood particle identification (K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tore_tot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4141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8040" y="171360"/>
            <a:ext cx="7180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going analyses of the exotic physics  at C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g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M Higgs, non-SM Higg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gh mass parti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’, W’, RS gravitons, 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eptoquarks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chnicolor: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echni-r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photon+x, large extra dimension, lepton+photon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14480" y="1219320"/>
            <a:ext cx="685800" cy="58896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1000" y="2066760"/>
            <a:ext cx="739800" cy="6001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75160" y="3165480"/>
            <a:ext cx="500040" cy="39384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038480"/>
            <a:ext cx="652320" cy="55404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88000" y="3324240"/>
            <a:ext cx="4192560" cy="2662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 for Hi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M chann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 →</a:t>
            </a:r>
            <a:r>
              <a:rPr b="0" lang="ja-JP" sz="2800" spc="-1" strike="noStrike">
                <a:solidFill>
                  <a:srgbClr val="000000"/>
                </a:solidFill>
                <a:latin typeface="MT Extra"/>
                <a:ea typeface="MT Extra"/>
              </a:rPr>
              <a:t>ν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j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ZH → ννbb,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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b, jj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 → 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 →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tend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 →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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bH → bb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 →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→ W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→ W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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1752480"/>
            <a:ext cx="380880" cy="852480"/>
          </a:xfrm>
          <a:custGeom>
            <a:avLst/>
            <a:gdLst>
              <a:gd name="textAreaLeft" fmla="*/ 0 w 380880"/>
              <a:gd name="textAreaRight" fmla="*/ 137520 w 380880"/>
              <a:gd name="textAreaTop" fmla="*/ 21960 h 852480"/>
              <a:gd name="textAreaBottom" fmla="*/ 83052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16200" y="10575"/>
                  <a:pt x="21600" y="10575"/>
                </a:cubicBezTo>
                <a:cubicBezTo>
                  <a:pt x="162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0280" y="2678040"/>
            <a:ext cx="380880" cy="809640"/>
          </a:xfrm>
          <a:custGeom>
            <a:avLst/>
            <a:gdLst>
              <a:gd name="textAreaLeft" fmla="*/ 0 w 380880"/>
              <a:gd name="textAreaRight" fmla="*/ 137520 w 38088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16200" y="10575"/>
                  <a:pt x="21600" y="10575"/>
                </a:cubicBezTo>
                <a:cubicBezTo>
                  <a:pt x="162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27400" y="1957320"/>
            <a:ext cx="22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w mass Hi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51600" y="28828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igh mass Hi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63880" y="1665360"/>
            <a:ext cx="554040" cy="434880"/>
          </a:xfrm>
          <a:prstGeom prst="star5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09680"/>
            <a:ext cx="488880" cy="446040"/>
          </a:xfrm>
          <a:prstGeom prst="star5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13000" y="2579760"/>
            <a:ext cx="609480" cy="457200"/>
          </a:xfrm>
          <a:prstGeom prst="star5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014720"/>
            <a:ext cx="609480" cy="457200"/>
          </a:xfrm>
          <a:prstGeom prst="star5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6040" y="1084320"/>
            <a:ext cx="4305600" cy="221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4648320"/>
            <a:ext cx="5056200" cy="14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143000"/>
            <a:ext cx="434340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WH → </a:t>
            </a:r>
            <a:r>
              <a:rPr b="1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ν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89480" y="1219320"/>
            <a:ext cx="415296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ven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dentified e/μ,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gt; 2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wo jets: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gt; 15 GeV, |η| &lt;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 least one b-tagged j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&gt;2 tag, 1 tag w/ NN t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&gt; 20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0600" y="4724280"/>
            <a:ext cx="5158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ominant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 backgrounds: W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false b-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p backgrounds: single top, 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lti-jet (non W-Q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2j_L7_secvtx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3319560" cy="3319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6320" y="3835440"/>
            <a:ext cx="38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ata sample: 955 pb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5800" y="1093680"/>
            <a:ext cx="8305920" cy="152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WH → </a:t>
            </a:r>
            <a:r>
              <a:rPr b="1" lang="ja-JP" sz="4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ν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b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limit on Higgs mass from 110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150 G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Limit_WH_sdnntag" descr=""/>
          <p:cNvPicPr/>
          <p:nvPr/>
        </p:nvPicPr>
        <p:blipFill>
          <a:blip r:embed="rId2"/>
          <a:stretch/>
        </p:blipFill>
        <p:spPr>
          <a:xfrm>
            <a:off x="407880" y="2647800"/>
            <a:ext cx="3600720" cy="3600720"/>
          </a:xfrm>
          <a:prstGeom prst="rect">
            <a:avLst/>
          </a:prstGeom>
          <a:ln w="0">
            <a:noFill/>
          </a:ln>
        </p:spPr>
      </p:pic>
      <p:pic>
        <p:nvPicPr>
          <p:cNvPr id="99" name="Limits" descr=""/>
          <p:cNvPicPr/>
          <p:nvPr/>
        </p:nvPicPr>
        <p:blipFill>
          <a:blip r:embed="rId3"/>
          <a:stretch/>
        </p:blipFill>
        <p:spPr>
          <a:xfrm>
            <a:off x="5029200" y="2666880"/>
            <a:ext cx="3556080" cy="250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7200" y="2057400"/>
                <a:ext cx="662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W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H="1" flipV="1">
            <a:off x="3162240" y="4603680"/>
            <a:ext cx="15242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0080" y="551484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result with 955 p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38480" y="4038480"/>
            <a:ext cx="4848480" cy="2362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ZH→νν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40" y="410688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ominant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lti-jet (Q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/Z + heavy fl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bo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281480" cy="196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13360" y="1182600"/>
            <a:ext cx="3567240" cy="26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ven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jets,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60, 20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pton v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&gt; 70 Ge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t on direction with two 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 or 2 b-ta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ingle/double tag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184640" y="4446720"/>
          <a:ext cx="4554720" cy="1825560"/>
        </p:xfrm>
        <a:graphic>
          <a:graphicData uri="http://schemas.openxmlformats.org/drawingml/2006/table">
            <a:tbl>
              <a:tblPr/>
              <a:tblGrid>
                <a:gridCol w="1770120"/>
                <a:gridCol w="1392120"/>
                <a:gridCol w="1392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-t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b-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B.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±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±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 (115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±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±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 (115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±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±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246200" y="40021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expected event after the 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280" y="4079880"/>
            <a:ext cx="3760920" cy="223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5080" y="1200240"/>
            <a:ext cx="3897000" cy="23432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1040" y="3386160"/>
            <a:ext cx="38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ata sample: 973 pb</a:t>
            </a:r>
            <a:r>
              <a:rPr b="1" lang="en-US" sz="2800" spc="-1" strike="noStrike" baseline="30000">
                <a:solidFill>
                  <a:srgbClr val="8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09:51Z</dcterms:created>
  <dc:creator>加藤幸弘</dc:creator>
  <dc:description/>
  <dc:language>en-US</dc:language>
  <cp:lastModifiedBy>Rahul Sinha</cp:lastModifiedBy>
  <dcterms:modified xsi:type="dcterms:W3CDTF">2007-03-01T01:30:13Z</dcterms:modified>
  <cp:revision>181</cp:revision>
  <dc:subject/>
  <dc:title>Physics on Tevatron (CDF) - Search for new particles -</dc:title>
</cp:coreProperties>
</file>