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106.wmf" ContentType="image/x-wmf"/>
  <Override PartName="/ppt/media/image50.png" ContentType="image/png"/>
  <Override PartName="/ppt/media/image49.png" ContentType="image/png"/>
  <Override PartName="/ppt/media/image71.wmf" ContentType="image/x-wmf"/>
  <Override PartName="/ppt/media/image10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51.png" ContentType="image/png"/>
  <Override PartName="/ppt/media/image105.wmf" ContentType="image/x-wmf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0.png" ContentType="image/png"/>
  <Override PartName="/ppt/media/image28.wmf" ContentType="image/x-wmf"/>
  <Override PartName="/ppt/media/image122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57.png" ContentType="image/png"/>
  <Override PartName="/ppt/media/image2.jpeg" ContentType="image/jpeg"/>
  <Override PartName="/ppt/media/image31.png" ContentType="image/png"/>
  <Override PartName="/ppt/media/image29.wmf" ContentType="image/x-wmf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42.png" ContentType="image/png"/>
  <Override PartName="/ppt/media/image87.png" ContentType="image/png"/>
  <Override PartName="/ppt/media/image88.png" ContentType="image/png"/>
  <Override PartName="/ppt/media/image85.wmf" ContentType="image/x-wmf"/>
  <Override PartName="/ppt/media/image114.png" ContentType="image/png"/>
  <Override PartName="/ppt/media/image70.png" ContentType="image/png"/>
  <Override PartName="/ppt/media/image94.png" ContentType="image/png"/>
  <Override PartName="/ppt/media/image26.jpeg" ContentType="image/jpeg"/>
  <Override PartName="/ppt/media/image101.png" ContentType="image/png"/>
  <Override PartName="/ppt/media/image98.png" ContentType="image/png"/>
  <Override PartName="/ppt/media/image61.png" ContentType="image/png"/>
  <Override PartName="/ppt/media/image120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58.wmf" ContentType="image/x-wmf"/>
  <Override PartName="/ppt/media/image117.png" ContentType="image/png"/>
  <Override PartName="/ppt/media/image73.png" ContentType="image/png"/>
  <Override PartName="/ppt/media/image96.png" ContentType="image/png"/>
  <Override PartName="/ppt/media/image103.png" ContentType="image/png"/>
  <Override PartName="/ppt/media/image116.png" ContentType="image/png"/>
  <Override PartName="/ppt/media/image72.png" ContentType="image/png"/>
  <Override PartName="/ppt/media/image115.png" ContentType="image/png"/>
  <Override PartName="/ppt/media/image93.png" ContentType="image/png"/>
  <Override PartName="/ppt/media/image14.png" ContentType="image/png"/>
  <Override PartName="/ppt/media/image113.png" ContentType="image/png"/>
  <Override PartName="/ppt/media/image121.png" ContentType="image/png"/>
  <Override PartName="/ppt/media/image99.png" ContentType="image/png"/>
  <Override PartName="/ppt/media/image62.png" ContentType="image/png"/>
  <Override PartName="/ppt/media/image112.png" ContentType="image/png"/>
  <Override PartName="/ppt/media/image91.png" ContentType="image/png"/>
  <Override PartName="/ppt/media/image109.png" ContentType="image/png"/>
  <Override PartName="/ppt/media/image65.png" ContentType="image/png"/>
  <Override PartName="/ppt/media/image111.png" ContentType="image/png"/>
  <Override PartName="/ppt/media/image102.png" ContentType="image/png"/>
  <Override PartName="/ppt/media/image69.jpeg" ContentType="image/jpeg"/>
  <Override PartName="/ppt/media/image8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118.wmf" ContentType="image/x-wmf"/>
  <Override PartName="/ppt/media/image64.png" ContentType="image/png"/>
  <Override PartName="/ppt/media/image25.png" ContentType="image/png"/>
  <Override PartName="/ppt/media/image90.png" ContentType="image/png"/>
  <Override PartName="/ppt/media/image119.png" ContentType="image/png"/>
  <Override PartName="/ppt/media/image22.png" ContentType="image/png"/>
  <Override PartName="/ppt/media/image95.png" ContentType="image/png"/>
  <Override PartName="/ppt/media/image24.jpeg" ContentType="image/jpeg"/>
  <Override PartName="/ppt/media/image59.png" ContentType="image/png"/>
  <Override PartName="/ppt/media/image110.png" ContentType="image/png"/>
  <Override PartName="/ppt/media/image20.wmf" ContentType="image/x-wmf"/>
  <Override PartName="/ppt/media/image63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918700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18000" cy="680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19600" y="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ja-JP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F77027E-644A-4CD5-9109-3253F0E18E2F}" type="datetime">
              <a:rPr b="0" lang="ja-JP" sz="1300" spc="-1" strike="noStrike">
                <a:solidFill>
                  <a:srgbClr val="000000"/>
                </a:solidFill>
                <a:latin typeface="Arial"/>
              </a:rPr>
              <a:t>26/07/30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5480" y="509760"/>
            <a:ext cx="3403800" cy="25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2280" y="3233880"/>
            <a:ext cx="7274160" cy="3063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6596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ja-JP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19600" y="646596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ja-JP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AB1DCFE-DCE6-4B26-BA85-8A95C20E915C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619600" y="646596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1DAE87E-7E59-4740-BC61-DAE05EA41AE7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646596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619600" y="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06254FD-F955-4872-B5EB-A6CA401451F1}" type="datetime">
              <a:rPr b="0" lang="ja-JP" sz="1300" spc="-1" strike="noStrike">
                <a:solidFill>
                  <a:srgbClr val="000000"/>
                </a:solidFill>
                <a:latin typeface="Arial"/>
              </a:rPr>
              <a:t>26/07/30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2608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90720" y="3231720"/>
            <a:ext cx="79372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5619600" y="646596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96AE1A9-ED7C-4E71-89C7-025A06D6FC9E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646596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619600" y="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F918746-CBC8-4F7C-9F18-5950DA8229B7}" type="datetime">
              <a:rPr b="0" lang="ja-JP" sz="1300" spc="-1" strike="noStrike">
                <a:solidFill>
                  <a:srgbClr val="000000"/>
                </a:solidFill>
                <a:latin typeface="Arial"/>
              </a:rPr>
              <a:t>26/07/30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2608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90720" y="3231720"/>
            <a:ext cx="79372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C0B-A390-41EE-9F7D-F0C8D2B4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05C-767E-44A9-975B-822AE885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1BD-EF2A-4D18-94C1-7E0104CE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F33-80B7-4FD4-8819-0B3F9D44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A25-440A-4EC2-9188-B037EA63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CF7-EE2D-4859-947A-BBCC0923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BC3-10D6-41B9-86F5-D55ADA7A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A5E-1AC7-4E38-9C49-D54C9B4A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C5D-C1B8-4DBE-A9EC-0FDF9A6B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8D3-D14E-4DC9-AAAD-9BCCED7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E43-CE92-4201-B5CD-478966F0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51B-A0CE-4470-94DF-0EA8E175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8B51-3706-4159-A940-75AC9CBCE8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9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wmf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5.png"/><Relationship Id="rId3" Type="http://schemas.openxmlformats.org/officeDocument/2006/relationships/image" Target="../media/image7.png"/><Relationship Id="rId4" Type="http://schemas.openxmlformats.org/officeDocument/2006/relationships/image" Target="../media/image66.png"/><Relationship Id="rId5" Type="http://schemas.openxmlformats.org/officeDocument/2006/relationships/image" Target="../media/image7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wmf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03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image" Target="../media/image106.wmf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11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png"/><Relationship Id="rId3" Type="http://schemas.openxmlformats.org/officeDocument/2006/relationships/image" Target="../media/image120.png"/><Relationship Id="rId4" Type="http://schemas.openxmlformats.org/officeDocument/2006/relationships/image" Target="../media/image121.png"/><Relationship Id="rId5" Type="http://schemas.openxmlformats.org/officeDocument/2006/relationships/image" Target="../media/image12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24000" y="4005360"/>
            <a:ext cx="4969080" cy="115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mihik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EGA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DF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niversity of Tsukuba,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5286240"/>
            <a:ext cx="612144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EK Theory Meeting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rticle Physics Phenomenolog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EKPH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rch 1 - 3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33360"/>
            <a:ext cx="7058160" cy="151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Top, Electroweak a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Bottom Physics at CDF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366560" cy="136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3120" y="2116080"/>
            <a:ext cx="6908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quark production x-section,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 boson mass, gauge boson pair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scillations,  B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24480" y="1557360"/>
            <a:ext cx="4655880" cy="475128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179280" y="0"/>
            <a:ext cx="3348000" cy="3068640"/>
            <a:chOff x="179280" y="0"/>
            <a:chExt cx="3348000" cy="306864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rcRect l="0" t="8574" r="0" b="3964"/>
            <a:stretch/>
          </p:blipFill>
          <p:spPr>
            <a:xfrm>
              <a:off x="179280" y="0"/>
              <a:ext cx="33480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334240" y="1144800"/>
              <a:ext cx="215640" cy="203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2556000" y="765000"/>
            <a:ext cx="1296720" cy="503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115920"/>
            <a:ext cx="1171440" cy="8240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F / D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fb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3 G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115920"/>
            <a:ext cx="3044520" cy="520560"/>
          </a:xfrm>
          <a:prstGeom prst="rect">
            <a:avLst/>
          </a:prstGeom>
          <a:noFill/>
          <a:ln cap="sq"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Quark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1989000"/>
            <a:ext cx="4284720" cy="486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68520" y="6284880"/>
            <a:ext cx="38397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Aiming at &lt;1%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35640" y="1052640"/>
            <a:ext cx="84060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0520" y="1603440"/>
            <a:ext cx="11988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43040" y="1892160"/>
            <a:ext cx="1354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4160" y="187200"/>
            <a:ext cx="7742160" cy="43524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-108000" y="765000"/>
            <a:ext cx="5400720" cy="2032200"/>
            <a:chOff x="-108000" y="765000"/>
            <a:chExt cx="5400720" cy="203220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-108000" y="765000"/>
              <a:ext cx="4191120" cy="20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1101600" y="765000"/>
              <a:ext cx="4191120" cy="203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73120" y="3789360"/>
            <a:ext cx="3422520" cy="344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643280" y="364500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247680" y="3062160"/>
            <a:ext cx="6078600" cy="573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7684920" y="4581360"/>
            <a:ext cx="1495440" cy="314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250920" y="4950000"/>
            <a:ext cx="4176720" cy="566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4645080" y="1073160"/>
            <a:ext cx="43196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71880" y="3963960"/>
            <a:ext cx="4308480" cy="2921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3962520"/>
            <a:ext cx="4209840" cy="2851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859280" y="907920"/>
            <a:ext cx="4308480" cy="292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1400" y="907920"/>
            <a:ext cx="4314600" cy="2927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51280" y="115920"/>
            <a:ext cx="51134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ing th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179280" y="115920"/>
            <a:ext cx="3246480" cy="377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35120" y="3860640"/>
            <a:ext cx="8013600" cy="390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08000" y="766800"/>
            <a:ext cx="4224240" cy="428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4919760" y="836640"/>
            <a:ext cx="4120920" cy="358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40680" y="247320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Bremsstrahlung 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092720" y="2924280"/>
            <a:ext cx="215640" cy="360360"/>
          </a:xfrm>
          <a:prstGeom prst="line">
            <a:avLst/>
          </a:prstGeom>
          <a:ln cap="sq" w="158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50560" y="1197000"/>
            <a:ext cx="1008360" cy="287280"/>
          </a:xfrm>
          <a:prstGeom prst="line">
            <a:avLst/>
          </a:prstGeom>
          <a:ln cap="sq" w="158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10160" y="692280"/>
            <a:ext cx="4641840" cy="3147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10160" y="3710160"/>
            <a:ext cx="4641840" cy="3147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857160"/>
            <a:ext cx="4641840" cy="3148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-9360" y="3701880"/>
            <a:ext cx="4652640" cy="3156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5976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-boson Mass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64240" y="1076400"/>
            <a:ext cx="1334880" cy="206280"/>
          </a:xfrm>
          <a:prstGeom prst="roundRect">
            <a:avLst>
              <a:gd name="adj" fmla="val 57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4797360"/>
            <a:ext cx="696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rebuchet MS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01760" y="5373720"/>
            <a:ext cx="526680" cy="367200"/>
            <a:chOff x="5801760" y="5373720"/>
            <a:chExt cx="526680" cy="367200"/>
          </a:xfrm>
        </p:grpSpPr>
        <p:sp>
          <p:nvSpPr>
            <p:cNvPr id="177" name=""/>
            <p:cNvSpPr/>
            <p:nvPr/>
          </p:nvSpPr>
          <p:spPr>
            <a:xfrm>
              <a:off x="5801760" y="5373720"/>
              <a:ext cx="5266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GB" sz="2000" spc="-1" strike="noStrike" baseline="-33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871960" y="5449680"/>
              <a:ext cx="11268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284640" y="1390680"/>
            <a:ext cx="56916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7360" y="1916280"/>
            <a:ext cx="110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rebuchet MS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4348080"/>
            <a:ext cx="57960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7040" y="2565360"/>
            <a:ext cx="49932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78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boson mass uncertainties / res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1511280"/>
            <a:ext cx="178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99ff"/>
                </a:solidFill>
                <a:latin typeface="Times New Roman"/>
              </a:rPr>
              <a:t>CDF RUN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99ff"/>
                </a:solidFill>
                <a:latin typeface="Times New Roman"/>
              </a:rPr>
              <a:t>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040360" cy="4183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48360" y="1787400"/>
            <a:ext cx="3995640" cy="3802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50920" y="5686560"/>
            <a:ext cx="4551120" cy="407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826920" y="6165720"/>
            <a:ext cx="2880000" cy="328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012000" y="6093000"/>
            <a:ext cx="26193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52360" y="2008080"/>
            <a:ext cx="706680" cy="63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0240" y="220824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03400" y="1981080"/>
            <a:ext cx="861840" cy="106740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F/D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fb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4920" y="836640"/>
            <a:ext cx="3456000" cy="2952720"/>
            <a:chOff x="34920" y="836640"/>
            <a:chExt cx="3456000" cy="295272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rcRect l="0" t="8583" r="0" b="3951"/>
            <a:stretch/>
          </p:blipFill>
          <p:spPr>
            <a:xfrm>
              <a:off x="34920" y="836640"/>
              <a:ext cx="345600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259000" y="1938600"/>
              <a:ext cx="222840" cy="19476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851280" y="-100080"/>
            <a:ext cx="5283360" cy="2347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1840" y="92160"/>
            <a:ext cx="304488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gs Ma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564000" y="1916280"/>
            <a:ext cx="5508720" cy="49132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538560" y="2016000"/>
            <a:ext cx="8254440" cy="4797720"/>
            <a:chOff x="538560" y="2016000"/>
            <a:chExt cx="8254440" cy="4797720"/>
          </a:xfrm>
        </p:grpSpPr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>
              <a:off x="3564000" y="2016000"/>
              <a:ext cx="52290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38560" y="6021360"/>
              <a:ext cx="3280680" cy="45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ＭＳ Ｐゴシック"/>
                </a:rPr>
                <a:t>SUSY Higgs favore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61640" y="43657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SM Higgs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84360" y="4935600"/>
            <a:ext cx="2877840" cy="387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3680" y="558972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35400" y="2782800"/>
            <a:ext cx="3505320" cy="3167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8000" y="2708280"/>
            <a:ext cx="3527280" cy="3174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218200" y="189000"/>
            <a:ext cx="396216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84320" y="92160"/>
            <a:ext cx="41097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uge boson pair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1960" y="620640"/>
            <a:ext cx="547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fied electroweak theory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Abelian gauge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-coupling among gauge bo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19640" y="549000"/>
            <a:ext cx="0" cy="934920"/>
          </a:xfrm>
          <a:prstGeom prst="line">
            <a:avLst/>
          </a:prstGeom>
          <a:ln cap="sq" w="1908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76720" y="4428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Unicode MS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97000" y="2021040"/>
            <a:ext cx="6046560" cy="687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274920" y="6453360"/>
            <a:ext cx="3168720" cy="285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306360" y="6021360"/>
            <a:ext cx="657072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380960"/>
            <a:ext cx="4284720" cy="4091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500720" y="1349280"/>
            <a:ext cx="4289400" cy="4095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189000"/>
            <a:ext cx="33847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 + Photon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800" y="692280"/>
            <a:ext cx="52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otons detected  &gt; 7 G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3-body mass (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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for Br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8600" y="6242040"/>
            <a:ext cx="89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ore direct test : angular distributions 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radiation amplitude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7960" y="5506920"/>
            <a:ext cx="8190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173160"/>
            <a:ext cx="4895640" cy="369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608800" y="189000"/>
            <a:ext cx="3427200" cy="2189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39640" y="765000"/>
            <a:ext cx="4896000" cy="28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79280" y="2349360"/>
            <a:ext cx="4176720" cy="3624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250920" y="1414440"/>
            <a:ext cx="5182920" cy="784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4645080" y="2421000"/>
            <a:ext cx="4390920" cy="360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1508040" y="6237360"/>
            <a:ext cx="4143600" cy="387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687280" y="62118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First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073920" y="2060640"/>
            <a:ext cx="3035160" cy="3809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89440" y="3933720"/>
            <a:ext cx="3419640" cy="2816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012000" y="312840"/>
            <a:ext cx="2895480" cy="1460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80360" y="50760"/>
            <a:ext cx="17427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297000" y="692280"/>
            <a:ext cx="5643360" cy="1790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H="1" flipV="1">
            <a:off x="8172000" y="2852640"/>
            <a:ext cx="36036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7451640" y="2852640"/>
            <a:ext cx="100800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172000" y="2852640"/>
            <a:ext cx="360360" cy="505080"/>
          </a:xfrm>
          <a:prstGeom prst="line">
            <a:avLst/>
          </a:prstGeom>
          <a:ln cap="sq"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524720" y="2781360"/>
            <a:ext cx="936720" cy="576360"/>
          </a:xfrm>
          <a:prstGeom prst="line">
            <a:avLst/>
          </a:prstGeom>
          <a:ln cap="sq"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461880" y="2798640"/>
            <a:ext cx="5211720" cy="930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177840" y="4543560"/>
            <a:ext cx="52624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03440" y="0"/>
            <a:ext cx="5740560" cy="601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209520"/>
            <a:ext cx="23050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Qu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3729240" cy="479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4360" y="2781360"/>
            <a:ext cx="4788000" cy="3970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1125360"/>
            <a:ext cx="6192720" cy="13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d by CDF and DØ in Run-I data, 100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ns of events reconstructed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s limited by statis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-II data now allow more detailed stu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95640" cy="3715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067280" y="4113360"/>
            <a:ext cx="4897440" cy="2752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859280" y="2205000"/>
            <a:ext cx="3836880" cy="1557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Crucial information on the unitarity triangle of the CKM matri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length of one of th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3942000" cy="3363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492360" y="4076640"/>
            <a:ext cx="2448000" cy="64764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71280" y="88920"/>
            <a:ext cx="2916360" cy="38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5796000" y="103320"/>
            <a:ext cx="3274920" cy="1253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237960" y="690480"/>
            <a:ext cx="52675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45120" cy="446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39560" y="900000"/>
            <a:ext cx="3845160" cy="441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5651640" y="839880"/>
            <a:ext cx="2412720" cy="788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79280" y="1557360"/>
            <a:ext cx="4081680" cy="4276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572000" y="1766880"/>
            <a:ext cx="4281480" cy="4110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395280" y="5950080"/>
            <a:ext cx="3859200" cy="701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684360" y="4365360"/>
            <a:ext cx="574560" cy="1439640"/>
          </a:xfrm>
          <a:prstGeom prst="line">
            <a:avLst/>
          </a:prstGeom>
          <a:ln cap="sq" w="19080">
            <a:solidFill>
              <a:srgbClr val="ff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68360" y="1413000"/>
            <a:ext cx="432000" cy="1008000"/>
          </a:xfrm>
          <a:prstGeom prst="line">
            <a:avLst/>
          </a:prstGeom>
          <a:ln cap="sq" w="19080">
            <a:solidFill>
              <a:srgbClr val="ff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96720" y="1700280"/>
            <a:ext cx="5400360" cy="3990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68360" y="5877000"/>
            <a:ext cx="8186760" cy="336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099040" y="1166760"/>
            <a:ext cx="4027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Proper time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Real data, hadromic m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932360" y="2021040"/>
            <a:ext cx="4211640" cy="3713040"/>
            <a:chOff x="4932360" y="2021040"/>
            <a:chExt cx="4211640" cy="3713040"/>
          </a:xfrm>
        </p:grpSpPr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4932360" y="2021040"/>
              <a:ext cx="4211640" cy="37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"/>
            <a:stretch/>
          </p:blipFill>
          <p:spPr>
            <a:xfrm>
              <a:off x="7038000" y="3623760"/>
              <a:ext cx="1605240" cy="25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468360" y="1268280"/>
            <a:ext cx="4319640" cy="3304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39640" y="333360"/>
            <a:ext cx="75186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One of the challenges : resolving very quick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8040" y="63086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Roughly 20 times better than Belle/Ba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113440" y="549360"/>
            <a:ext cx="4572000" cy="4387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5184720" cy="421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556000" y="5084640"/>
            <a:ext cx="6027480" cy="425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1174680" y="182520"/>
            <a:ext cx="5273640" cy="4460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611280" y="5950080"/>
            <a:ext cx="515916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476600" y="1989000"/>
            <a:ext cx="4775400" cy="4631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3360" y="2143080"/>
            <a:ext cx="4437360" cy="4454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79960" y="15667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Summ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9560" y="156672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Fal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1855800"/>
            <a:ext cx="72252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4588200" cy="323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826920" y="1004760"/>
            <a:ext cx="5643720" cy="408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16920" y="-2700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Impact on the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2592360" cy="573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2016000" cy="338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83960" y="234936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ngu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22200" y="1012680"/>
            <a:ext cx="3889440" cy="2271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18080" cy="2017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20920" y="2421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3708360" y="3486240"/>
            <a:ext cx="1447920" cy="647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307800" y="4611600"/>
            <a:ext cx="8309160" cy="1986120"/>
          </a:xfrm>
          <a:prstGeom prst="rect">
            <a:avLst/>
          </a:prstGeom>
          <a:ln cap="sq" w="12600">
            <a:solidFill>
              <a:srgbClr val="ff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231840" y="3424320"/>
            <a:ext cx="2960640" cy="847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5695920" y="3429000"/>
            <a:ext cx="30528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643280" y="1054080"/>
            <a:ext cx="4500720" cy="4319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rcRect l="25843" t="15445" r="44315" b="63743"/>
          <a:stretch/>
        </p:blipFill>
        <p:spPr>
          <a:xfrm>
            <a:off x="34920" y="1125360"/>
            <a:ext cx="4495680" cy="4438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51640" y="1052640"/>
            <a:ext cx="3097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pectation from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356000" y="333360"/>
            <a:ext cx="3056040" cy="228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108000" y="115920"/>
            <a:ext cx="3849480" cy="573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449440" y="4487760"/>
            <a:ext cx="60984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1640" y="3645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mbinatorial 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634920" y="4221000"/>
            <a:ext cx="71640" cy="503280"/>
          </a:xfrm>
          <a:prstGeom prst="line">
            <a:avLst/>
          </a:prstGeom>
          <a:ln cap="sq" w="19080">
            <a:solidFill>
              <a:srgbClr val="80008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5157720"/>
            <a:ext cx="16002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ti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constru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50920" y="4149360"/>
            <a:ext cx="792000" cy="863640"/>
          </a:xfrm>
          <a:prstGeom prst="line">
            <a:avLst/>
          </a:prstGeom>
          <a:ln cap="sq" w="19080">
            <a:solidFill>
              <a:srgbClr val="ff66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250920" y="5950080"/>
            <a:ext cx="5327640" cy="666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flipV="1">
            <a:off x="1476360" y="3860640"/>
            <a:ext cx="431640" cy="1873440"/>
          </a:xfrm>
          <a:prstGeom prst="line">
            <a:avLst/>
          </a:prstGeom>
          <a:ln cap="sq" w="2232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05760" y="5516640"/>
            <a:ext cx="3891600" cy="119124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Statistical s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using mass, kinematic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dE/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0" t="65652" r="8716" b="0"/>
          <a:stretch/>
        </p:blipFill>
        <p:spPr>
          <a:xfrm>
            <a:off x="3397320" y="333360"/>
            <a:ext cx="5746680" cy="3063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rcRect l="0" t="59497" r="5810" b="0"/>
          <a:stretch/>
        </p:blipFill>
        <p:spPr>
          <a:xfrm>
            <a:off x="3778200" y="3656160"/>
            <a:ext cx="5257800" cy="32018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0680" y="173160"/>
            <a:ext cx="1782720" cy="447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441360" y="1484280"/>
            <a:ext cx="2114640" cy="384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3716280"/>
            <a:ext cx="4529160" cy="609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747720" y="5516640"/>
            <a:ext cx="2816280" cy="162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7"/>
          <a:stretch/>
        </p:blipFill>
        <p:spPr>
          <a:xfrm>
            <a:off x="179280" y="1943280"/>
            <a:ext cx="325116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076720" y="1038240"/>
            <a:ext cx="4067280" cy="3903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92320" y="115920"/>
            <a:ext cx="2114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Rarer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rcRect l="0" t="35986" r="2381" b="0"/>
          <a:stretch/>
        </p:blipFill>
        <p:spPr>
          <a:xfrm>
            <a:off x="0" y="609480"/>
            <a:ext cx="4724280" cy="43862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2690640" y="189000"/>
            <a:ext cx="568980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843520" y="1052640"/>
            <a:ext cx="662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57840" y="4005360"/>
            <a:ext cx="1370160" cy="1008000"/>
          </a:xfrm>
          <a:prstGeom prst="ellipse">
            <a:avLst/>
          </a:prstGeom>
          <a:noFill/>
          <a:ln cap="sq"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395280" y="5548320"/>
            <a:ext cx="4319640" cy="3286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685800" y="6329520"/>
            <a:ext cx="4033800" cy="339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711360" y="5969160"/>
            <a:ext cx="4003560" cy="3394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8000" y="49752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Three new modes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5580000" y="5445000"/>
            <a:ext cx="3456000" cy="654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932360" y="5734080"/>
            <a:ext cx="503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4319640" cy="41464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3987720" cy="357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2168640" y="549360"/>
            <a:ext cx="1539720" cy="341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6659640" y="333360"/>
            <a:ext cx="1533600" cy="3175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4948200" y="476280"/>
            <a:ext cx="3152880" cy="19144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108000" y="495360"/>
            <a:ext cx="3127320" cy="1925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4284720" y="1268280"/>
            <a:ext cx="820800" cy="936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988720" y="8366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Mo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85080" y="6922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Mo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8"/>
          <a:stretch/>
        </p:blipFill>
        <p:spPr>
          <a:xfrm>
            <a:off x="539640" y="2781360"/>
            <a:ext cx="3456000" cy="6602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9"/>
          <a:stretch/>
        </p:blipFill>
        <p:spPr>
          <a:xfrm>
            <a:off x="179280" y="2492280"/>
            <a:ext cx="5329440" cy="219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175040" y="350028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Gronau, PL B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ＭＳ Ｐゴシック"/>
              </a:rPr>
              <a:t>492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, 297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77440" y="3860640"/>
            <a:ext cx="502920" cy="505080"/>
          </a:xfrm>
          <a:prstGeom prst="ellipse">
            <a:avLst/>
          </a:prstGeom>
          <a:noFill/>
          <a:ln cap="sq"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35640" y="3213000"/>
            <a:ext cx="503280" cy="505080"/>
          </a:xfrm>
          <a:prstGeom prst="ellipse">
            <a:avLst/>
          </a:prstGeom>
          <a:noFill/>
          <a:ln cap="sq"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3500280"/>
            <a:ext cx="2448000" cy="50508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19520" y="702936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Lipkin, PL B 621, 12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73160" y="4351320"/>
            <a:ext cx="4779720" cy="8064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108000" y="4076640"/>
            <a:ext cx="1320840" cy="1684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2"/>
          <a:stretch/>
        </p:blipFill>
        <p:spPr>
          <a:xfrm>
            <a:off x="6083280" y="2637000"/>
            <a:ext cx="2736720" cy="6267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3"/>
          <a:stretch/>
        </p:blipFill>
        <p:spPr>
          <a:xfrm>
            <a:off x="324000" y="5516640"/>
            <a:ext cx="2376360" cy="569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4"/>
          <a:stretch/>
        </p:blipFill>
        <p:spPr>
          <a:xfrm>
            <a:off x="281160" y="6159600"/>
            <a:ext cx="2539800" cy="547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987640" y="5661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3640" y="5734080"/>
            <a:ext cx="18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Agree, though errors are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15920"/>
            <a:ext cx="4680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quark pair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8000" y="1832040"/>
            <a:ext cx="4262400" cy="49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00440" y="1886040"/>
            <a:ext cx="4724640" cy="4495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43280" y="6480000"/>
            <a:ext cx="4283280" cy="26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09840" y="1531800"/>
            <a:ext cx="3634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t multiplic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364000" y="189000"/>
            <a:ext cx="1727280" cy="372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14200" y="831960"/>
            <a:ext cx="4807080" cy="62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469200" y="546120"/>
            <a:ext cx="2087280" cy="312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78760" y="6922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Lepton + jet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25360" y="990720"/>
            <a:ext cx="8675640" cy="4591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920" y="73080"/>
            <a:ext cx="2700360" cy="619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23493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0" y="2852640"/>
            <a:ext cx="720720" cy="0"/>
          </a:xfrm>
          <a:prstGeom prst="line">
            <a:avLst/>
          </a:prstGeom>
          <a:ln cap="sq" w="22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364000" y="2657520"/>
            <a:ext cx="30308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up slid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4643280" cy="3816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354560" cy="4022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670800" y="692280"/>
            <a:ext cx="99468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0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6356520"/>
            <a:ext cx="8569080" cy="579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uture : look for CP-violation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~0 expected in SM, arg(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  <a:ea typeface="Arial Unicode MS"/>
              </a:rPr>
              <a:t>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108000" y="81000"/>
            <a:ext cx="4535280" cy="420480"/>
          </a:xfrm>
          <a:prstGeom prst="rect">
            <a:avLst/>
          </a:prstGeom>
          <a:ln cap="sq" w="12600">
            <a:solidFill>
              <a:srgbClr val="0000ff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260280" y="4851360"/>
            <a:ext cx="4452840" cy="1243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324000" y="4292640"/>
            <a:ext cx="4176720" cy="25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5186520" y="4292640"/>
            <a:ext cx="3511440" cy="250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5245200" y="5272200"/>
            <a:ext cx="34830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6360" y="115920"/>
            <a:ext cx="9144000" cy="6226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368480" y="189000"/>
            <a:ext cx="901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1 f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Unicode MS"/>
                <a:ea typeface="ＭＳ Ｐゴシック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60240" y="6369120"/>
            <a:ext cx="672948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87280" y="1197000"/>
            <a:ext cx="4572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C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t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,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 Unicode MS"/>
              </a:rPr>
              <a:t>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Helicity supp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.F. very sm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SM predictions for B.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957560" y="1066680"/>
            <a:ext cx="3954600" cy="3066480"/>
            <a:chOff x="4957560" y="1066680"/>
            <a:chExt cx="3954600" cy="3066480"/>
          </a:xfrm>
        </p:grpSpPr>
        <p:sp>
          <p:nvSpPr>
            <p:cNvPr id="363" name=""/>
            <p:cNvSpPr/>
            <p:nvPr/>
          </p:nvSpPr>
          <p:spPr>
            <a:xfrm>
              <a:off x="5715000" y="1319040"/>
              <a:ext cx="946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61080" y="1319040"/>
              <a:ext cx="0" cy="1044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15000" y="2363760"/>
              <a:ext cx="946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7512480" y="1319040"/>
              <a:ext cx="945720" cy="1044360"/>
              <a:chOff x="7512480" y="1319040"/>
              <a:chExt cx="945720" cy="1044360"/>
            </a:xfrm>
          </p:grpSpPr>
          <p:sp>
            <p:nvSpPr>
              <p:cNvPr id="367" name=""/>
              <p:cNvSpPr/>
              <p:nvPr/>
            </p:nvSpPr>
            <p:spPr>
              <a:xfrm flipH="1">
                <a:off x="7512480" y="1319040"/>
                <a:ext cx="945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12480" y="1319040"/>
                <a:ext cx="0" cy="1044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512480" y="2363400"/>
                <a:ext cx="945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653160" y="1255680"/>
              <a:ext cx="855720" cy="111240"/>
            </a:xfrm>
            <a:custGeom>
              <a:avLst/>
              <a:gdLst/>
              <a:ahLst/>
              <a:rect l="l" t="t" r="r" b="b"/>
              <a:pathLst>
                <a:path w="434" h="46">
                  <a:moveTo>
                    <a:pt x="0" y="34"/>
                  </a:moveTo>
                  <a:cubicBezTo>
                    <a:pt x="5" y="7"/>
                    <a:pt x="3" y="0"/>
                    <a:pt x="32" y="6"/>
                  </a:cubicBezTo>
                  <a:cubicBezTo>
                    <a:pt x="41" y="19"/>
                    <a:pt x="43" y="29"/>
                    <a:pt x="56" y="42"/>
                  </a:cubicBezTo>
                  <a:cubicBezTo>
                    <a:pt x="78" y="34"/>
                    <a:pt x="78" y="21"/>
                    <a:pt x="96" y="10"/>
                  </a:cubicBezTo>
                  <a:cubicBezTo>
                    <a:pt x="117" y="17"/>
                    <a:pt x="112" y="35"/>
                    <a:pt x="132" y="42"/>
                  </a:cubicBezTo>
                  <a:cubicBezTo>
                    <a:pt x="153" y="34"/>
                    <a:pt x="142" y="17"/>
                    <a:pt x="164" y="10"/>
                  </a:cubicBezTo>
                  <a:cubicBezTo>
                    <a:pt x="174" y="20"/>
                    <a:pt x="192" y="46"/>
                    <a:pt x="192" y="46"/>
                  </a:cubicBezTo>
                  <a:cubicBezTo>
                    <a:pt x="210" y="39"/>
                    <a:pt x="209" y="21"/>
                    <a:pt x="220" y="6"/>
                  </a:cubicBezTo>
                  <a:cubicBezTo>
                    <a:pt x="239" y="12"/>
                    <a:pt x="234" y="30"/>
                    <a:pt x="252" y="42"/>
                  </a:cubicBezTo>
                  <a:cubicBezTo>
                    <a:pt x="269" y="30"/>
                    <a:pt x="271" y="13"/>
                    <a:pt x="288" y="2"/>
                  </a:cubicBezTo>
                  <a:cubicBezTo>
                    <a:pt x="299" y="18"/>
                    <a:pt x="299" y="35"/>
                    <a:pt x="320" y="42"/>
                  </a:cubicBezTo>
                  <a:cubicBezTo>
                    <a:pt x="338" y="13"/>
                    <a:pt x="327" y="23"/>
                    <a:pt x="348" y="10"/>
                  </a:cubicBezTo>
                  <a:cubicBezTo>
                    <a:pt x="367" y="16"/>
                    <a:pt x="362" y="34"/>
                    <a:pt x="380" y="46"/>
                  </a:cubicBezTo>
                  <a:cubicBezTo>
                    <a:pt x="385" y="38"/>
                    <a:pt x="390" y="30"/>
                    <a:pt x="396" y="22"/>
                  </a:cubicBezTo>
                  <a:cubicBezTo>
                    <a:pt x="398" y="18"/>
                    <a:pt x="404" y="10"/>
                    <a:pt x="404" y="10"/>
                  </a:cubicBezTo>
                  <a:cubicBezTo>
                    <a:pt x="434" y="16"/>
                    <a:pt x="416" y="14"/>
                    <a:pt x="432" y="3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61080" y="2247840"/>
              <a:ext cx="855720" cy="111240"/>
            </a:xfrm>
            <a:custGeom>
              <a:avLst/>
              <a:gdLst/>
              <a:ahLst/>
              <a:rect l="l" t="t" r="r" b="b"/>
              <a:pathLst>
                <a:path w="434" h="46">
                  <a:moveTo>
                    <a:pt x="0" y="34"/>
                  </a:moveTo>
                  <a:cubicBezTo>
                    <a:pt x="5" y="7"/>
                    <a:pt x="3" y="0"/>
                    <a:pt x="32" y="6"/>
                  </a:cubicBezTo>
                  <a:cubicBezTo>
                    <a:pt x="41" y="19"/>
                    <a:pt x="43" y="29"/>
                    <a:pt x="56" y="42"/>
                  </a:cubicBezTo>
                  <a:cubicBezTo>
                    <a:pt x="78" y="34"/>
                    <a:pt x="78" y="21"/>
                    <a:pt x="96" y="10"/>
                  </a:cubicBezTo>
                  <a:cubicBezTo>
                    <a:pt x="117" y="17"/>
                    <a:pt x="112" y="35"/>
                    <a:pt x="132" y="42"/>
                  </a:cubicBezTo>
                  <a:cubicBezTo>
                    <a:pt x="153" y="34"/>
                    <a:pt x="142" y="17"/>
                    <a:pt x="164" y="10"/>
                  </a:cubicBezTo>
                  <a:cubicBezTo>
                    <a:pt x="174" y="20"/>
                    <a:pt x="192" y="46"/>
                    <a:pt x="192" y="46"/>
                  </a:cubicBezTo>
                  <a:cubicBezTo>
                    <a:pt x="210" y="39"/>
                    <a:pt x="209" y="21"/>
                    <a:pt x="220" y="6"/>
                  </a:cubicBezTo>
                  <a:cubicBezTo>
                    <a:pt x="239" y="12"/>
                    <a:pt x="234" y="30"/>
                    <a:pt x="252" y="42"/>
                  </a:cubicBezTo>
                  <a:cubicBezTo>
                    <a:pt x="269" y="30"/>
                    <a:pt x="271" y="13"/>
                    <a:pt x="288" y="2"/>
                  </a:cubicBezTo>
                  <a:cubicBezTo>
                    <a:pt x="299" y="18"/>
                    <a:pt x="299" y="35"/>
                    <a:pt x="320" y="42"/>
                  </a:cubicBezTo>
                  <a:cubicBezTo>
                    <a:pt x="338" y="13"/>
                    <a:pt x="327" y="23"/>
                    <a:pt x="348" y="10"/>
                  </a:cubicBezTo>
                  <a:cubicBezTo>
                    <a:pt x="367" y="16"/>
                    <a:pt x="362" y="34"/>
                    <a:pt x="380" y="46"/>
                  </a:cubicBezTo>
                  <a:cubicBezTo>
                    <a:pt x="385" y="38"/>
                    <a:pt x="390" y="30"/>
                    <a:pt x="396" y="22"/>
                  </a:cubicBezTo>
                  <a:cubicBezTo>
                    <a:pt x="398" y="18"/>
                    <a:pt x="404" y="10"/>
                    <a:pt x="404" y="10"/>
                  </a:cubicBezTo>
                  <a:cubicBezTo>
                    <a:pt x="434" y="16"/>
                    <a:pt x="416" y="14"/>
                    <a:pt x="432" y="3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56360" y="10666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7560" y="205884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d,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42840" y="1676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04440" y="121932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04440" y="182880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1800" y="1084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2520" y="2058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5000" y="2933640"/>
              <a:ext cx="946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61080" y="2933640"/>
              <a:ext cx="0" cy="1044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15000" y="3978360"/>
              <a:ext cx="946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924680" y="2933640"/>
              <a:ext cx="533520" cy="495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7924680" y="3429000"/>
              <a:ext cx="533520" cy="549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281800">
              <a:off x="6599160" y="3097080"/>
              <a:ext cx="779400" cy="123840"/>
            </a:xfrm>
            <a:custGeom>
              <a:avLst/>
              <a:gdLst/>
              <a:ahLst/>
              <a:rect l="l" t="t" r="r" b="b"/>
              <a:pathLst>
                <a:path w="434" h="46">
                  <a:moveTo>
                    <a:pt x="0" y="34"/>
                  </a:moveTo>
                  <a:cubicBezTo>
                    <a:pt x="5" y="7"/>
                    <a:pt x="3" y="0"/>
                    <a:pt x="32" y="6"/>
                  </a:cubicBezTo>
                  <a:cubicBezTo>
                    <a:pt x="41" y="19"/>
                    <a:pt x="43" y="29"/>
                    <a:pt x="56" y="42"/>
                  </a:cubicBezTo>
                  <a:cubicBezTo>
                    <a:pt x="78" y="34"/>
                    <a:pt x="78" y="21"/>
                    <a:pt x="96" y="10"/>
                  </a:cubicBezTo>
                  <a:cubicBezTo>
                    <a:pt x="117" y="17"/>
                    <a:pt x="112" y="35"/>
                    <a:pt x="132" y="42"/>
                  </a:cubicBezTo>
                  <a:cubicBezTo>
                    <a:pt x="153" y="34"/>
                    <a:pt x="142" y="17"/>
                    <a:pt x="164" y="10"/>
                  </a:cubicBezTo>
                  <a:cubicBezTo>
                    <a:pt x="174" y="20"/>
                    <a:pt x="192" y="46"/>
                    <a:pt x="192" y="46"/>
                  </a:cubicBezTo>
                  <a:cubicBezTo>
                    <a:pt x="210" y="39"/>
                    <a:pt x="209" y="21"/>
                    <a:pt x="220" y="6"/>
                  </a:cubicBezTo>
                  <a:cubicBezTo>
                    <a:pt x="239" y="12"/>
                    <a:pt x="234" y="30"/>
                    <a:pt x="252" y="42"/>
                  </a:cubicBezTo>
                  <a:cubicBezTo>
                    <a:pt x="269" y="30"/>
                    <a:pt x="271" y="13"/>
                    <a:pt x="288" y="2"/>
                  </a:cubicBezTo>
                  <a:cubicBezTo>
                    <a:pt x="299" y="18"/>
                    <a:pt x="299" y="35"/>
                    <a:pt x="320" y="42"/>
                  </a:cubicBezTo>
                  <a:cubicBezTo>
                    <a:pt x="338" y="13"/>
                    <a:pt x="327" y="23"/>
                    <a:pt x="348" y="10"/>
                  </a:cubicBezTo>
                  <a:cubicBezTo>
                    <a:pt x="367" y="16"/>
                    <a:pt x="362" y="34"/>
                    <a:pt x="380" y="46"/>
                  </a:cubicBezTo>
                  <a:cubicBezTo>
                    <a:pt x="385" y="38"/>
                    <a:pt x="390" y="30"/>
                    <a:pt x="396" y="22"/>
                  </a:cubicBezTo>
                  <a:cubicBezTo>
                    <a:pt x="398" y="18"/>
                    <a:pt x="404" y="10"/>
                    <a:pt x="404" y="10"/>
                  </a:cubicBezTo>
                  <a:cubicBezTo>
                    <a:pt x="434" y="16"/>
                    <a:pt x="416" y="14"/>
                    <a:pt x="432" y="3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8547600">
              <a:off x="6598800" y="3658320"/>
              <a:ext cx="782640" cy="101880"/>
            </a:xfrm>
            <a:custGeom>
              <a:avLst/>
              <a:gdLst/>
              <a:ahLst/>
              <a:rect l="l" t="t" r="r" b="b"/>
              <a:pathLst>
                <a:path w="434" h="46">
                  <a:moveTo>
                    <a:pt x="0" y="34"/>
                  </a:moveTo>
                  <a:cubicBezTo>
                    <a:pt x="5" y="7"/>
                    <a:pt x="3" y="0"/>
                    <a:pt x="32" y="6"/>
                  </a:cubicBezTo>
                  <a:cubicBezTo>
                    <a:pt x="41" y="19"/>
                    <a:pt x="43" y="29"/>
                    <a:pt x="56" y="42"/>
                  </a:cubicBezTo>
                  <a:cubicBezTo>
                    <a:pt x="78" y="34"/>
                    <a:pt x="78" y="21"/>
                    <a:pt x="96" y="10"/>
                  </a:cubicBezTo>
                  <a:cubicBezTo>
                    <a:pt x="117" y="17"/>
                    <a:pt x="112" y="35"/>
                    <a:pt x="132" y="42"/>
                  </a:cubicBezTo>
                  <a:cubicBezTo>
                    <a:pt x="153" y="34"/>
                    <a:pt x="142" y="17"/>
                    <a:pt x="164" y="10"/>
                  </a:cubicBezTo>
                  <a:cubicBezTo>
                    <a:pt x="174" y="20"/>
                    <a:pt x="192" y="46"/>
                    <a:pt x="192" y="46"/>
                  </a:cubicBezTo>
                  <a:cubicBezTo>
                    <a:pt x="210" y="39"/>
                    <a:pt x="209" y="21"/>
                    <a:pt x="220" y="6"/>
                  </a:cubicBezTo>
                  <a:cubicBezTo>
                    <a:pt x="239" y="12"/>
                    <a:pt x="234" y="30"/>
                    <a:pt x="252" y="42"/>
                  </a:cubicBezTo>
                  <a:cubicBezTo>
                    <a:pt x="269" y="30"/>
                    <a:pt x="271" y="13"/>
                    <a:pt x="288" y="2"/>
                  </a:cubicBezTo>
                  <a:cubicBezTo>
                    <a:pt x="299" y="18"/>
                    <a:pt x="299" y="35"/>
                    <a:pt x="320" y="42"/>
                  </a:cubicBezTo>
                  <a:cubicBezTo>
                    <a:pt x="338" y="13"/>
                    <a:pt x="327" y="23"/>
                    <a:pt x="348" y="10"/>
                  </a:cubicBezTo>
                  <a:cubicBezTo>
                    <a:pt x="367" y="16"/>
                    <a:pt x="362" y="34"/>
                    <a:pt x="380" y="46"/>
                  </a:cubicBezTo>
                  <a:cubicBezTo>
                    <a:pt x="385" y="38"/>
                    <a:pt x="390" y="30"/>
                    <a:pt x="396" y="22"/>
                  </a:cubicBezTo>
                  <a:cubicBezTo>
                    <a:pt x="398" y="18"/>
                    <a:pt x="404" y="10"/>
                    <a:pt x="404" y="10"/>
                  </a:cubicBezTo>
                  <a:cubicBezTo>
                    <a:pt x="434" y="16"/>
                    <a:pt x="416" y="14"/>
                    <a:pt x="432" y="3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6360" y="26812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57560" y="367344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d,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42840" y="329076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85440" y="26668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85440" y="35812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51800" y="2698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52520" y="3673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r>
                <a:rPr b="0" lang="en-US" sz="2400" spc="-1" strike="noStrike" baseline="30000">
                  <a:solidFill>
                    <a:srgbClr val="0000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15200" y="3392640"/>
              <a:ext cx="609480" cy="74520"/>
            </a:xfrm>
            <a:custGeom>
              <a:avLst/>
              <a:gdLst/>
              <a:ahLst/>
              <a:rect l="l" t="t" r="r" b="b"/>
              <a:pathLst>
                <a:path w="344" h="52">
                  <a:moveTo>
                    <a:pt x="0" y="39"/>
                  </a:moveTo>
                  <a:cubicBezTo>
                    <a:pt x="5" y="31"/>
                    <a:pt x="6" y="18"/>
                    <a:pt x="16" y="15"/>
                  </a:cubicBezTo>
                  <a:cubicBezTo>
                    <a:pt x="24" y="12"/>
                    <a:pt x="40" y="7"/>
                    <a:pt x="40" y="7"/>
                  </a:cubicBezTo>
                  <a:cubicBezTo>
                    <a:pt x="51" y="23"/>
                    <a:pt x="51" y="40"/>
                    <a:pt x="72" y="47"/>
                  </a:cubicBezTo>
                  <a:cubicBezTo>
                    <a:pt x="89" y="41"/>
                    <a:pt x="91" y="34"/>
                    <a:pt x="104" y="23"/>
                  </a:cubicBezTo>
                  <a:cubicBezTo>
                    <a:pt x="111" y="16"/>
                    <a:pt x="128" y="7"/>
                    <a:pt x="128" y="7"/>
                  </a:cubicBezTo>
                  <a:cubicBezTo>
                    <a:pt x="140" y="25"/>
                    <a:pt x="141" y="35"/>
                    <a:pt x="164" y="43"/>
                  </a:cubicBezTo>
                  <a:cubicBezTo>
                    <a:pt x="183" y="36"/>
                    <a:pt x="178" y="18"/>
                    <a:pt x="200" y="11"/>
                  </a:cubicBezTo>
                  <a:cubicBezTo>
                    <a:pt x="224" y="17"/>
                    <a:pt x="223" y="31"/>
                    <a:pt x="236" y="51"/>
                  </a:cubicBezTo>
                  <a:cubicBezTo>
                    <a:pt x="249" y="49"/>
                    <a:pt x="266" y="52"/>
                    <a:pt x="276" y="43"/>
                  </a:cubicBezTo>
                  <a:cubicBezTo>
                    <a:pt x="293" y="25"/>
                    <a:pt x="289" y="10"/>
                    <a:pt x="312" y="3"/>
                  </a:cubicBezTo>
                  <a:cubicBezTo>
                    <a:pt x="335" y="10"/>
                    <a:pt x="313" y="0"/>
                    <a:pt x="332" y="19"/>
                  </a:cubicBezTo>
                  <a:cubicBezTo>
                    <a:pt x="335" y="22"/>
                    <a:pt x="344" y="27"/>
                    <a:pt x="344" y="27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06640" y="34862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Z/</a:t>
              </a:r>
              <a:r>
                <a:rPr b="0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1143000"/>
              <a:ext cx="152280" cy="0"/>
            </a:xfrm>
            <a:prstGeom prst="line">
              <a:avLst/>
            </a:prstGeom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34120" y="2743200"/>
              <a:ext cx="152280" cy="0"/>
            </a:xfrm>
            <a:prstGeom prst="line">
              <a:avLst/>
            </a:prstGeom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0440" y="152280"/>
            <a:ext cx="6127560" cy="588960"/>
          </a:xfrm>
          <a:prstGeom prst="rect">
            <a:avLst/>
          </a:prstGeom>
          <a:ln cap="sq" w="12600">
            <a:solidFill>
              <a:srgbClr val="ff0000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89120" y="4614840"/>
            <a:ext cx="67197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003640" y="1201680"/>
            <a:ext cx="3924360" cy="551520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cand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  <a:ea typeface="Arial Unicode MS"/>
              </a:rPr>
              <a:t>0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B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Arial"/>
                <a:ea typeface="Arial Unicode MS"/>
              </a:rPr>
              <a:t>0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  <a:ea typeface="Arial Unicode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mass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B.R. &lt; 3.0 x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 Unicode MS"/>
              </a:rPr>
              <a:t>-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 f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  <a:ea typeface="Arial Unicode MS"/>
              </a:rPr>
              <a:t>0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B.R. &lt; 1.0 x 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  <a:ea typeface="Arial Unicode MS"/>
              </a:rPr>
              <a:t>-7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for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B</a:t>
            </a:r>
            <a:r>
              <a:rPr b="0" i="1" lang="en-US" sz="2800" spc="-1" strike="noStrike" baseline="30000">
                <a:solidFill>
                  <a:srgbClr val="0000ff"/>
                </a:solidFill>
                <a:latin typeface="Arial"/>
                <a:ea typeface="Arial Unicode MS"/>
              </a:rPr>
              <a:t>0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  <a:ea typeface="Arial Unicode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@ 95% C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elimi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Arial Unicode MS"/>
              </a:rPr>
              <a:t>CDF Run-I limit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B.R. &lt; 8.6 x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 Unicode MS"/>
              </a:rPr>
              <a:t>-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 fo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B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  <a:ea typeface="Arial Unicode MS"/>
              </a:rPr>
              <a:t>0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B.R. &lt; 2.6 x 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Arial Unicode MS"/>
              </a:rPr>
              <a:t>-6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fo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B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Arial"/>
                <a:ea typeface="Arial Unicode MS"/>
              </a:rPr>
              <a:t>0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  <a:ea typeface="Arial Unicode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5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3811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46240" y="93600"/>
            <a:ext cx="4541760" cy="463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4788000" cy="32972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15840" y="3529080"/>
            <a:ext cx="47721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495360"/>
            <a:ext cx="3924360" cy="31496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067280" y="622440"/>
            <a:ext cx="4897440" cy="861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7800" y="44280"/>
            <a:ext cx="336420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 helicity in top dec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18200" y="115920"/>
            <a:ext cx="559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ther left-handed (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or longitudinally polarized (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56000" y="1757520"/>
            <a:ext cx="4032360" cy="13744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pton angular distributio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 rest fram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ward peak for left-handed 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er momentum in l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74520" y="3681360"/>
            <a:ext cx="4281480" cy="32036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2449440" cy="468360"/>
          </a:xfrm>
          <a:prstGeom prst="rect">
            <a:avLst/>
          </a:prstGeom>
          <a:ln cap="sq" w="12600">
            <a:solidFill>
              <a:srgbClr val="ff0000"/>
            </a:solidFill>
            <a:miter/>
          </a:ln>
        </p:spPr>
      </p:pic>
      <p:sp>
        <p:nvSpPr>
          <p:cNvPr id="410" name=""/>
          <p:cNvSpPr/>
          <p:nvPr/>
        </p:nvSpPr>
        <p:spPr>
          <a:xfrm flipH="1">
            <a:off x="3276720" y="1989000"/>
            <a:ext cx="100800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789440" y="3664080"/>
            <a:ext cx="4103280" cy="3222360"/>
            <a:chOff x="4789440" y="3664080"/>
            <a:chExt cx="4103280" cy="3222360"/>
          </a:xfrm>
        </p:grpSpPr>
        <p:pic>
          <p:nvPicPr>
            <p:cNvPr id="412" name="" descr=""/>
            <p:cNvPicPr/>
            <p:nvPr/>
          </p:nvPicPr>
          <p:blipFill>
            <a:blip r:embed="rId5"/>
            <a:stretch/>
          </p:blipFill>
          <p:spPr>
            <a:xfrm>
              <a:off x="5029200" y="3745080"/>
              <a:ext cx="3863520" cy="29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8168040" y="6579360"/>
              <a:ext cx="67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s(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83280" y="366408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99"/>
                  </a:solidFill>
                  <a:latin typeface="Arial"/>
                  <a:ea typeface="ＭＳ Ｐゴシック"/>
                </a:rPr>
                <a:t>~160 pb</a:t>
              </a:r>
              <a:r>
                <a:rPr b="0" lang="en-US" sz="1600" spc="-1" strike="noStrike" baseline="30000">
                  <a:solidFill>
                    <a:srgbClr val="990099"/>
                  </a:solidFill>
                  <a:latin typeface="Arial"/>
                  <a:ea typeface="ＭＳ Ｐゴシック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32000" y="4312080"/>
              <a:ext cx="13377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cc"/>
                  </a:solidFill>
                  <a:latin typeface="Arial"/>
                  <a:ea typeface="ＭＳ Ｐゴシック"/>
                </a:rPr>
                <a:t>F</a:t>
              </a:r>
              <a:r>
                <a:rPr b="0" lang="en-US" sz="1600" spc="-1" strike="noStrike" baseline="-25000">
                  <a:solidFill>
                    <a:srgbClr val="0066cc"/>
                  </a:solidFill>
                  <a:latin typeface="Arial"/>
                  <a:ea typeface="ＭＳ Ｐゴシック"/>
                </a:rPr>
                <a:t>+</a:t>
              </a:r>
              <a:r>
                <a:rPr b="0" lang="en-US" sz="1600" spc="-1" strike="noStrike">
                  <a:solidFill>
                    <a:srgbClr val="0066cc"/>
                  </a:solidFill>
                  <a:latin typeface="Arial"/>
                  <a:ea typeface="ＭＳ Ｐゴシック"/>
                </a:rPr>
                <a:t> = 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24720" y="4959720"/>
              <a:ext cx="160560" cy="5670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46200" y="4635720"/>
              <a:ext cx="482760" cy="81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4574520" y="416628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150160" y="3319560"/>
            <a:ext cx="36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Ø reconstructs cos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= -cos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1844640"/>
            <a:ext cx="4494240" cy="4313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0720" y="84240"/>
            <a:ext cx="57265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quark production cross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981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-lepto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396360" y="2133720"/>
            <a:ext cx="4427640" cy="3668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859280" y="1700280"/>
            <a:ext cx="4402080" cy="439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6350040"/>
            <a:ext cx="8116920" cy="392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84720" y="189000"/>
            <a:ext cx="1727280" cy="372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364000" y="1459080"/>
            <a:ext cx="3108600" cy="601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95280" y="1484280"/>
            <a:ext cx="3254400" cy="601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19640" y="981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-hadronic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877080" y="549360"/>
            <a:ext cx="2087640" cy="31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0720" y="84240"/>
            <a:ext cx="57265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quark production cross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765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channels,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396360" y="2133720"/>
            <a:ext cx="4427640" cy="3668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9440" y="189000"/>
            <a:ext cx="1727280" cy="372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8000" y="1236600"/>
            <a:ext cx="3743280" cy="5072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924360" y="1413000"/>
            <a:ext cx="5148360" cy="4184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859280" y="1052640"/>
            <a:ext cx="1832040" cy="38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24000" y="6381720"/>
            <a:ext cx="5230800" cy="271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14120" y="5708520"/>
            <a:ext cx="4597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Good agreement with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356000" y="2565360"/>
            <a:ext cx="4752720" cy="4292280"/>
            <a:chOff x="4356000" y="2565360"/>
            <a:chExt cx="4752720" cy="4292280"/>
          </a:xfrm>
        </p:grpSpPr>
        <p:sp>
          <p:nvSpPr>
            <p:cNvPr id="88" name=""/>
            <p:cNvSpPr/>
            <p:nvPr/>
          </p:nvSpPr>
          <p:spPr>
            <a:xfrm>
              <a:off x="5877000" y="4023720"/>
              <a:ext cx="961200" cy="905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0" t="8574" r="0" b="3964"/>
            <a:stretch/>
          </p:blipFill>
          <p:spPr>
            <a:xfrm>
              <a:off x="4356000" y="2565360"/>
              <a:ext cx="4752720" cy="42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414560" y="4166640"/>
              <a:ext cx="307440" cy="28368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98600" y="4307400"/>
              <a:ext cx="61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2200" y="3985920"/>
              <a:ext cx="1171440" cy="58068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DF/D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 fb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-1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51280" y="1440"/>
            <a:ext cx="5283360" cy="2347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6360" y="2492280"/>
            <a:ext cx="4015080" cy="4249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1520" y="806400"/>
            <a:ext cx="32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e with W ma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e Higgs indi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20" y="1982880"/>
            <a:ext cx="3027600" cy="45972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-I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1840" y="92160"/>
            <a:ext cx="3044880" cy="520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 Quark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8560" y="64612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ep-ex/0404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59680" y="2311560"/>
            <a:ext cx="33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-II expectations, ~3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189000"/>
            <a:ext cx="5184720" cy="459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ss measurement techniq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6360" y="1100160"/>
            <a:ext cx="2789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plate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628640"/>
            <a:ext cx="410544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ze maxima information of the event, such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on level cros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on distributio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 a probability density as a function of tru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y prob. for all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2708280"/>
            <a:ext cx="4118040" cy="3460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76360" y="1027080"/>
            <a:ext cx="35884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rix element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557360"/>
            <a:ext cx="41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nstruct top “mass” from observed quantities (lepton, je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to MC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5840" y="4971960"/>
            <a:ext cx="4124160" cy="1922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In any method, understanding the jet energy scale is crucial  and a dominant systematic uncertai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4960" y="18900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Lepton + jet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2349360"/>
            <a:ext cx="525636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189000"/>
            <a:ext cx="6840720" cy="459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ss measurement : jet energy scale (J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040" y="907920"/>
            <a:ext cx="2980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it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libration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26200" y="2565360"/>
            <a:ext cx="37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rix element method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55736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just the jet energy scale so as to get the correct W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48000" y="1028880"/>
            <a:ext cx="5526000" cy="247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3924000" y="2781360"/>
            <a:ext cx="136836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170028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ly treated as a stat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11720" y="3205080"/>
            <a:ext cx="3649680" cy="270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92720" y="4869000"/>
            <a:ext cx="371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l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the template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305320" y="5661000"/>
            <a:ext cx="3649680" cy="27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524720" y="3573360"/>
            <a:ext cx="1317600" cy="27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597800" y="6013440"/>
            <a:ext cx="1317600" cy="27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22880" y="382428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Stat + 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77080" y="3500280"/>
            <a:ext cx="14436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ss measurements : dilepton and all-hadronic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1413000"/>
            <a:ext cx="28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rix element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4869000"/>
            <a:ext cx="371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l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the templete metho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4392720" cy="4127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981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-lepto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981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-hadronic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500720" cy="4173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599240" y="6308640"/>
            <a:ext cx="1317600" cy="270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297400" y="5967360"/>
            <a:ext cx="3649680" cy="27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292720" y="155736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plat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0440" y="6013440"/>
            <a:ext cx="3649680" cy="27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701800" y="6373800"/>
            <a:ext cx="14605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1T04:28:57Z</dcterms:created>
  <dc:creator>Fumihiko Ukegawa</dc:creator>
  <dc:description/>
  <dc:language>en-US</dc:language>
  <cp:lastModifiedBy>Fumihiko Ukegawa</cp:lastModifiedBy>
  <cp:lastPrinted>2000-12-06T15:00:50Z</cp:lastPrinted>
  <dcterms:modified xsi:type="dcterms:W3CDTF">2007-03-02T03:13:07Z</dcterms:modified>
  <cp:revision>433</cp:revision>
  <dc:subject/>
  <dc:title>SUSY4 ukegawa     June 17 - 23, 2004</dc:title>
</cp:coreProperties>
</file>