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1827-BCEC-4DBB-B022-0E551D2968D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171-43D7-4BA4-A80D-5FF4EDFF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AD2-D58A-4BBD-8F61-18DC8719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0EA-2EEB-44F8-B378-A17DE67D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77B-0470-4F19-836C-FD0F2A68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5007-C5E1-4C44-BBC7-9FA65E86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FC94-C152-4C23-B7FA-BA7777AD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A776-0A0A-458B-AED4-2A85D6DF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0D47-C74C-469C-BE58-01CA40E3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D405-3B49-4C04-97D5-DDC6F5A9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CD32-DF5F-4DEB-B2C3-AF175492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BD3F-1BBB-475C-8438-7583F491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BA9-EAE3-4B43-978E-5922465E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C2E4-C013-4783-9921-7069900C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0ACF-AFF2-4CEB-8262-090F93F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5125-C27C-458C-B132-54F7FFCE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65D0-962A-4D5B-AA0A-24C79285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BD3E-EE51-473C-912D-97A637FD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495-E8CD-4A0B-B43A-8F752944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3E9-7F1A-4E27-B21A-08A55171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042-6E4E-43E5-A18E-364D8712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F2F-EBFD-4820-91DB-0B7F5805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A08-3A94-49E0-BF6A-CE2747A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9A4-4F4F-4E05-9496-8E0CDF04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7F4-E172-4E4F-B5B3-99CDAD07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7 – 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CNP, Osaka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C3E2-81F8-4A9B-B4E0-A2906ED97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50920" y="40464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560320" y="258840"/>
            <a:ext cx="40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llenge to New Exotic Hadrons with Heavy Qu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624720" y="40464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956720" y="47628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287280" y="51264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7 – 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CNP, Osaka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0636-377D-4296-ACA1-6282F8ACF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50920" y="40464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60320" y="258840"/>
            <a:ext cx="40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llenge to New Exotic Hadrons with Heavy Qu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4720" y="40464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956720" y="476280"/>
            <a:ext cx="911160" cy="911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87280" y="51264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9640" y="1915920"/>
            <a:ext cx="6227640" cy="1260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vy Hadron Studi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e Tevat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4113000"/>
            <a:ext cx="3348360" cy="122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uhiro Yamam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saka City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CDF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4041720"/>
            <a:ext cx="3492720" cy="1313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evatron and C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(38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ntaqu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 b-bar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(3872)     - 5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termination of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ja-JP" sz="2000" spc="-1" strike="noStrike" baseline="30000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38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oked at di-pion mass spect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Bell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: Found high 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masses fav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CD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: Observed the same tendency. Tried fits for possible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64000" y="3573360"/>
            <a:ext cx="3492720" cy="2160360"/>
            <a:chOff x="5364000" y="3573360"/>
            <a:chExt cx="3492720" cy="2160360"/>
          </a:xfrm>
        </p:grpSpPr>
        <p:sp>
          <p:nvSpPr>
            <p:cNvPr id="152" name=""/>
            <p:cNvSpPr/>
            <p:nvPr/>
          </p:nvSpPr>
          <p:spPr>
            <a:xfrm>
              <a:off x="5364000" y="3573360"/>
              <a:ext cx="3492720" cy="21603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Compatible with intermediate </a:t>
              </a:r>
              <a:r>
                <a:rPr b="0" lang="ja-JP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0" lang="ja-JP" sz="1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</a:t>
              </a:r>
              <a:r>
                <a:rPr b="0" lang="ja-JP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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resonances. (1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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, 2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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32640" indent="-33264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32640" indent="-33264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800" spc="-1" strike="noStrike" baseline="30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ja-JP" sz="18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0" lang="ja-JP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multipole expansion for </a:t>
              </a:r>
              <a:r>
                <a:rPr b="0" i="1" lang="ja-JP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also possible. (1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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20720" indent="-277200">
                <a:spcBef>
                  <a:spcPts val="451"/>
                </a:spcBef>
                <a:buClr>
                  <a:srgbClr val="333399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But, no charmonium candidates at that mass</a:t>
              </a:r>
              <a:r>
                <a:rPr b="0" lang="ja-JP" sz="18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0360" y="487008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03280" y="3105000"/>
            <a:ext cx="4860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(3872)     - 6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termination of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ja-JP" sz="2000" spc="-1" strike="noStrike" baseline="30000">
                <a:solidFill>
                  <a:srgbClr val="000000"/>
                </a:solidFill>
                <a:latin typeface="Arial"/>
              </a:rPr>
              <a:t>PC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38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oked at angular correlations b/w 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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and 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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03280" y="4292640"/>
            <a:ext cx="4033800" cy="1644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47640" y="2637000"/>
            <a:ext cx="1908360" cy="1598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72000" y="1420920"/>
            <a:ext cx="3886200" cy="3628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08360" y="5127480"/>
            <a:ext cx="4114800" cy="1073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 assignments are ruled out by more than 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qu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860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860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by NA49 at 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280" y="2889000"/>
            <a:ext cx="4038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adron-colli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d vertex resulting from weak decay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ble by discriminating candidates out of  the huge number of tracks in QCD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392720" y="2565360"/>
            <a:ext cx="4392360" cy="3494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0000" y="2529000"/>
            <a:ext cx="3724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quark   - 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860) sear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87280" y="2168640"/>
          <a:ext cx="6913800" cy="3614760"/>
        </p:xfrm>
        <a:graphic>
          <a:graphicData uri="http://schemas.openxmlformats.org/drawingml/2006/table">
            <a:tbl>
              <a:tblPr/>
              <a:tblGrid>
                <a:gridCol w="1152720"/>
                <a:gridCol w="612720"/>
                <a:gridCol w="1187640"/>
                <a:gridCol w="39607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[GeV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60)) = 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Z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6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/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53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&lt; 0.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i="1" lang="ja-JP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i="1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10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60)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&lt; 0.7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 </a:t>
                      </a: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NAL-E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6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/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53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&lt; 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60)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•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6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) &lt; 0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A-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6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/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53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&lt; 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2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60) photoproduction) &lt; 2.1 n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400" spc="-1" strike="noStrike" baseline="-16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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60)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•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186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 &lt; 3.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300, 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60)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/</a:t>
                      </a: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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530)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i="1" lang="ja-JP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86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/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530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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&lt; 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6877080" y="33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quark   - 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1860) search at C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oton-antiproton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 = 1.96 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constru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0" lang="ja-JP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ja-JP" sz="1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</a:t>
            </a:r>
            <a:r>
              <a:rPr b="0" lang="ja-JP" sz="1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ja-JP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</a:t>
            </a:r>
            <a:r>
              <a:rPr b="0" lang="ja-JP" sz="1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</a:t>
            </a:r>
            <a:r>
              <a:rPr b="0" lang="ja-JP" sz="1800" spc="-1" strike="noStrike">
                <a:solidFill>
                  <a:srgbClr val="0000ff"/>
                </a:solidFill>
                <a:latin typeface="Times New Roman"/>
              </a:rPr>
              <a:t>(1860) </a:t>
            </a:r>
            <a:r>
              <a:rPr b="0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</a:t>
            </a:r>
            <a:r>
              <a:rPr b="0" lang="ja-JP" sz="1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ja-JP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th tracking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211640" y="2023920"/>
            <a:ext cx="41752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quark   - 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riant mass spectra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77040" y="5337000"/>
            <a:ext cx="5807520" cy="36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o peaks around M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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= 1860 MeV/c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31640" y="2170080"/>
            <a:ext cx="4175280" cy="2843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354560" y="2158920"/>
            <a:ext cx="4213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quark   - 5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limits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820)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section ratio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30)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280360" cy="26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692360" y="5373720"/>
          <a:ext cx="608328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5373720"/>
                    <a:ext cx="6083280" cy="6350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ary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55600" y="2205000"/>
            <a:ext cx="3662280" cy="1653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uub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ddb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: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0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=1(1/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uub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ddb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: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0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=1(3/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dsb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: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0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=1/2(1/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5440" y="3860640"/>
            <a:ext cx="729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=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824360" y="2889360"/>
            <a:ext cx="3857760" cy="3533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414560" y="3220920"/>
            <a:ext cx="729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=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8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db, I(JP)=0(1/2+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as the only establish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ry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ly observ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ry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2054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bservation of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8880" y="1600200"/>
            <a:ext cx="4600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struction of the decay ch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79640" y="2023920"/>
            <a:ext cx="3047760" cy="1298880"/>
            <a:chOff x="1079640" y="2023920"/>
            <a:chExt cx="3047760" cy="1298880"/>
          </a:xfrm>
        </p:grpSpPr>
        <p:sp>
          <p:nvSpPr>
            <p:cNvPr id="193" name=""/>
            <p:cNvSpPr/>
            <p:nvPr/>
          </p:nvSpPr>
          <p:spPr>
            <a:xfrm>
              <a:off x="1079640" y="2023920"/>
              <a:ext cx="3047760" cy="1298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18880" y="2033640"/>
              <a:ext cx="1886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i="1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ja-JP" sz="2000" spc="-1" strike="noStrike" baseline="14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i="1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85560" y="2424240"/>
              <a:ext cx="203040" cy="226800"/>
            </a:xfrm>
            <a:custGeom>
              <a:avLst/>
              <a:gdLst/>
              <a:ahLst/>
              <a:rect l="l" t="t" r="r" b="b"/>
              <a:pathLst>
                <a:path w="90" h="143">
                  <a:moveTo>
                    <a:pt x="0" y="0"/>
                  </a:moveTo>
                  <a:lnTo>
                    <a:pt x="2" y="143"/>
                  </a:lnTo>
                  <a:lnTo>
                    <a:pt x="90" y="14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79240" y="2440080"/>
              <a:ext cx="96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i="1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45920" y="2857680"/>
              <a:ext cx="203040" cy="226800"/>
            </a:xfrm>
            <a:custGeom>
              <a:avLst/>
              <a:gdLst/>
              <a:ahLst/>
              <a:rect l="l" t="t" r="r" b="b"/>
              <a:pathLst>
                <a:path w="90" h="143">
                  <a:moveTo>
                    <a:pt x="0" y="0"/>
                  </a:moveTo>
                  <a:lnTo>
                    <a:pt x="2" y="143"/>
                  </a:lnTo>
                  <a:lnTo>
                    <a:pt x="90" y="14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63720" y="2878200"/>
              <a:ext cx="132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 + K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68360" y="3465360"/>
            <a:ext cx="4600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gnals consistent with lowest lying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tates at &gt; 5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ignifican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1640" y="4257720"/>
            <a:ext cx="4745160" cy="2462040"/>
          </a:xfrm>
          <a:prstGeom prst="rect">
            <a:avLst/>
          </a:prstGeom>
          <a:solidFill>
            <a:srgbClr val="c9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= 5808      (stat.)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1.7(syst.) MeV/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ja-JP" sz="2000" spc="-1" strike="noStrike" baseline="4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 baseline="40000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= 5816      (stat.)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1.7(syst.) MeV/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ja-JP" sz="2000" spc="-1" strike="noStrike" baseline="4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 baseline="40000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= 5829      (stat.)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1.7(syst.) MeV/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ja-JP" sz="2000" spc="-1" strike="noStrike" baseline="4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 baseline="40000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= 5837      (stat.)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1.7(syst.) MeV/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ja-JP" sz="2000" spc="-1" strike="noStrike" baseline="4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 baseline="40000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08400" y="2190600"/>
            <a:ext cx="19836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91280" y="2840040"/>
            <a:ext cx="3608280" cy="2603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238720" y="1760400"/>
            <a:ext cx="36082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bservation of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struction of the decay ch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6040" y="4292640"/>
            <a:ext cx="362124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racking of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in the silicon micro-strip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-track final state 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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into 3-track vertex 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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349360"/>
            <a:ext cx="4645080" cy="378792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876240" y="2238480"/>
            <a:ext cx="2795760" cy="1695240"/>
            <a:chOff x="876240" y="2238480"/>
            <a:chExt cx="2795760" cy="1695240"/>
          </a:xfrm>
        </p:grpSpPr>
        <p:sp>
          <p:nvSpPr>
            <p:cNvPr id="209" name=""/>
            <p:cNvSpPr/>
            <p:nvPr/>
          </p:nvSpPr>
          <p:spPr>
            <a:xfrm>
              <a:off x="876240" y="2238480"/>
              <a:ext cx="2795760" cy="1695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66600" y="2247840"/>
              <a:ext cx="164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</a:t>
              </a:r>
              <a:r>
                <a:rPr b="0" i="1" lang="ja-JP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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ja-JP" sz="2000" spc="-1" strike="noStrike">
                  <a:solidFill>
                    <a:srgbClr val="000000"/>
                  </a:solidFill>
                  <a:latin typeface="Times New Roman"/>
                </a:rPr>
                <a:t>J/</a:t>
              </a:r>
              <a:r>
                <a:rPr b="0" i="1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76360" y="2638440"/>
              <a:ext cx="203400" cy="227160"/>
            </a:xfrm>
            <a:custGeom>
              <a:avLst/>
              <a:gdLst/>
              <a:ahLst/>
              <a:rect l="l" t="t" r="r" b="b"/>
              <a:pathLst>
                <a:path w="90" h="143">
                  <a:moveTo>
                    <a:pt x="0" y="0"/>
                  </a:moveTo>
                  <a:lnTo>
                    <a:pt x="2" y="143"/>
                  </a:lnTo>
                  <a:lnTo>
                    <a:pt x="90" y="14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6280" y="265428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08240" y="3454560"/>
              <a:ext cx="203040" cy="226800"/>
            </a:xfrm>
            <a:custGeom>
              <a:avLst/>
              <a:gdLst/>
              <a:ahLst/>
              <a:rect l="l" t="t" r="r" b="b"/>
              <a:pathLst>
                <a:path w="90" h="143">
                  <a:moveTo>
                    <a:pt x="0" y="0"/>
                  </a:moveTo>
                  <a:lnTo>
                    <a:pt x="2" y="143"/>
                  </a:lnTo>
                  <a:lnTo>
                    <a:pt x="90" y="14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68880" y="3429000"/>
              <a:ext cx="79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 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12960" y="2637000"/>
              <a:ext cx="203040" cy="647640"/>
            </a:xfrm>
            <a:custGeom>
              <a:avLst/>
              <a:gdLst/>
              <a:ahLst/>
              <a:rect l="l" t="t" r="r" b="b"/>
              <a:pathLst>
                <a:path w="90" h="143">
                  <a:moveTo>
                    <a:pt x="0" y="0"/>
                  </a:moveTo>
                  <a:lnTo>
                    <a:pt x="2" y="143"/>
                  </a:lnTo>
                  <a:lnTo>
                    <a:pt x="90" y="14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33640" y="3068640"/>
              <a:ext cx="89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995640" y="2313000"/>
            <a:ext cx="47167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vatron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34240" cy="4452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157120" y="3571920"/>
            <a:ext cx="192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Main Inj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72680" y="2979720"/>
            <a:ext cx="134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evat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32840" y="1971720"/>
            <a:ext cx="706680" cy="4291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Verdana"/>
              </a:rPr>
              <a:t>C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859280" y="2425680"/>
            <a:ext cx="84240" cy="355680"/>
          </a:xfrm>
          <a:prstGeom prst="line">
            <a:avLst/>
          </a:prstGeom>
          <a:ln w="255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3640" y="2386080"/>
            <a:ext cx="603000" cy="4291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Verdana"/>
              </a:rPr>
              <a:t>D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380000" y="2838600"/>
            <a:ext cx="27000" cy="446040"/>
          </a:xfrm>
          <a:prstGeom prst="line">
            <a:avLst/>
          </a:prstGeom>
          <a:ln w="255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760" y="5157720"/>
            <a:ext cx="5062320" cy="398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n-antiproton collision a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= 1.96 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bservation of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- 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ja-JP" sz="2000" spc="-1" strike="noStrike">
                <a:solidFill>
                  <a:srgbClr val="333399"/>
                </a:solidFill>
                <a:latin typeface="Times New Roman"/>
              </a:rPr>
              <a:t>J/</a:t>
            </a:r>
            <a:r>
              <a:rPr b="0" i="1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</a:t>
            </a:r>
            <a:r>
              <a:rPr b="0" i="1" lang="ja-JP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ja-JP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was used for the control channel of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</a:t>
            </a:r>
            <a:r>
              <a:rPr b="0" i="1" lang="ja-JP" sz="20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ja-JP" sz="2000" spc="-1" strike="noStrike">
                <a:solidFill>
                  <a:srgbClr val="333399"/>
                </a:solidFill>
                <a:latin typeface="Times New Roman"/>
              </a:rPr>
              <a:t>J/</a:t>
            </a:r>
            <a:r>
              <a:rPr b="0" i="1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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</a:t>
            </a:r>
            <a:r>
              <a:rPr b="0" lang="ja-JP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ptimized cuts for best 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J/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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signal. Applied the same cuts to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J/</a:t>
            </a:r>
            <a:r>
              <a:rPr b="0" i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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candid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is assumption was validated with the simulatio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4068720" cy="2562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714920" y="2997360"/>
            <a:ext cx="403380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859280" y="2352600"/>
            <a:ext cx="3888000" cy="27687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bservation of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- 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variant mass of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92000" y="2241720"/>
            <a:ext cx="4175280" cy="2833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056680" y="5408640"/>
            <a:ext cx="4711680" cy="405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 = 5792.9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2.5 (stat.)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1.7(syst.) MeV/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92760" y="351648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7.8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Signific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bservation of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- 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andidates for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</a:t>
            </a:r>
            <a:r>
              <a:rPr b="0" i="1" lang="ja-JP" sz="20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ja-JP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ja-JP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</a:t>
            </a:r>
            <a:r>
              <a:rPr b="0" i="1" lang="ja-JP" sz="2000" spc="-1" strike="noStrike" baseline="-25000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ja-JP" sz="20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ja-JP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adronic decay of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i="1" lang="ja-JP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35280" y="2457360"/>
            <a:ext cx="51480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eavy flavor hadron studies in progress at the Tevat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CDF and D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Ø observed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X(387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3871.1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0.4 MeV/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fav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eds more investigation to solve of the mystery of X(387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Negative result for existence of pentaquark 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186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CDF and D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observed new </a:t>
            </a:r>
            <a:r>
              <a:rPr b="0" i="1" lang="ja-JP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-baryons 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ja-JP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ja-JP" sz="22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i="1" lang="ja-JP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F II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000" y="1484280"/>
            <a:ext cx="7525080" cy="454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79640" y="1808280"/>
            <a:ext cx="51022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 tracking and ID at C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entral drift chamber in B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/p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~ 0.1% GeV/c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/dx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licon vertex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.P. resolution: 35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 @ 2G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ime-of-flight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uon coverage: |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|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riggers for heavy flavor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-muon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isplaced track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3851280" cy="2806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23623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vatro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51280" y="1376280"/>
            <a:ext cx="3224160" cy="2435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51280" y="3824280"/>
            <a:ext cx="3224160" cy="2457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7844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ccelerat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rowing year b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ypical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eak lumin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2.0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2.5 x 10</a:t>
            </a:r>
            <a:r>
              <a:rPr b="0" lang="ja-JP" sz="1800" spc="-1" strike="noStrike" baseline="30000">
                <a:solidFill>
                  <a:srgbClr val="ff0000"/>
                </a:solidFill>
                <a:latin typeface="Arial"/>
              </a:rPr>
              <a:t>32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ja-JP" sz="18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ja-JP" sz="18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eekly integrated 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40 pb</a:t>
            </a:r>
            <a:r>
              <a:rPr b="0" lang="ja-JP" sz="18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/w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xpect  the integrated lum. of 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6 ~ 8 fb</a:t>
            </a:r>
            <a:r>
              <a:rPr b="0" lang="ja-JP" sz="20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by the end of FY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(38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irst observation at B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L 91 262001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harmoniumlike state decaying to </a:t>
            </a:r>
            <a:r>
              <a:rPr b="0" i="1" lang="ja-JP" sz="1800" spc="-1" strike="noStrike">
                <a:solidFill>
                  <a:srgbClr val="333399"/>
                </a:solidFill>
                <a:latin typeface="Times New Roman"/>
              </a:rPr>
              <a:t>J/</a:t>
            </a:r>
            <a:r>
              <a:rPr b="0" i="1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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0" i="1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0" i="1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nfirmation at C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L93 072001 (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lso in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nd BA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L93 162002 (2004), 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D71 071103 (2005), BAB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3280" y="2205000"/>
            <a:ext cx="3533760" cy="3714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762880" y="1700280"/>
            <a:ext cx="198360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lle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9400" y="1700280"/>
            <a:ext cx="1942560" cy="368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F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716360" y="2131920"/>
            <a:ext cx="366264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(3872)     - 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ja-JP" sz="1800" spc="-1" strike="noStrike" baseline="-25000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ja-JP" sz="1800" spc="-1" strike="noStrike">
                <a:solidFill>
                  <a:srgbClr val="333399"/>
                </a:solidFill>
                <a:latin typeface="Times New Roman"/>
              </a:rPr>
              <a:t> = 3871.1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333399"/>
                </a:solidFill>
                <a:latin typeface="Times New Roman"/>
              </a:rPr>
              <a:t>0.4 MeV/</a:t>
            </a:r>
            <a:r>
              <a:rPr b="0" i="1" lang="ja-JP" sz="1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ja-JP" sz="1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3872) right in 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imes New Roman"/>
              </a:rPr>
              <a:t>*0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reshold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mpatible with or smaller than the detector re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5013360"/>
            <a:ext cx="6480000" cy="847800"/>
            <a:chOff x="1258920" y="5013360"/>
            <a:chExt cx="6480000" cy="847800"/>
          </a:xfrm>
        </p:grpSpPr>
        <p:sp>
          <p:nvSpPr>
            <p:cNvPr id="133" name=""/>
            <p:cNvSpPr/>
            <p:nvPr/>
          </p:nvSpPr>
          <p:spPr>
            <a:xfrm>
              <a:off x="1258920" y="5013360"/>
              <a:ext cx="6480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t easily explained as a conventional 1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tat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sibl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Arial"/>
                </a:rPr>
                <a:t>*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molecule-like bound state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59280" y="5445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4720" y="512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2023920"/>
            <a:ext cx="41767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(3872)     - 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 deca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“promp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displaced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wit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58920" y="2492280"/>
          <a:ext cx="281952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492280"/>
                    <a:ext cx="2819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57200" y="1603440"/>
            <a:ext cx="5194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fraction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356000" y="2276640"/>
            <a:ext cx="406728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(3872)     - 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2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ion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live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457360"/>
            <a:ext cx="38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2S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28.3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1.0(stat.)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0.7(syst.)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3872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16.1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4.9(stat.)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1.0(syst.)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9000" y="4329000"/>
            <a:ext cx="3774240" cy="36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3872) behaves similarly to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10840" y="4905360"/>
            <a:ext cx="2553480" cy="36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3872) mostly prom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59280" y="1406520"/>
            <a:ext cx="3718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5:18:08Z</dcterms:created>
  <dc:creator>山本 和弘</dc:creator>
  <dc:description/>
  <dc:language>en-US</dc:language>
  <cp:lastModifiedBy>山本 和弘</cp:lastModifiedBy>
  <dcterms:modified xsi:type="dcterms:W3CDTF">2007-07-10T07:35:29Z</dcterms:modified>
  <cp:revision>256</cp:revision>
  <dc:subject/>
  <dc:title>スライド 1</dc:title>
</cp:coreProperties>
</file>