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56.png" ContentType="image/png"/>
  <Override PartName="/ppt/media/image13.wmf" ContentType="image/x-wmf"/>
  <Override PartName="/ppt/media/image53.png" ContentType="image/png"/>
  <Override PartName="/ppt/media/image49.png" ContentType="image/png"/>
  <Override PartName="/ppt/media/image48.png" ContentType="image/png"/>
  <Override PartName="/ppt/media/image47.wmf" ContentType="image/x-wmf"/>
  <Override PartName="/ppt/media/image46.png" ContentType="image/png"/>
  <Override PartName="/ppt/media/image45.wmf" ContentType="image/x-wmf"/>
  <Override PartName="/ppt/media/image44.png" ContentType="image/png"/>
  <Override PartName="/ppt/media/image43.png" ContentType="image/png"/>
  <Override PartName="/ppt/media/image10.jpeg" ContentType="image/jpeg"/>
  <Override PartName="/ppt/media/image54.wmf" ContentType="image/x-wmf"/>
  <Override PartName="/ppt/media/image57.png" ContentType="image/png"/>
  <Override PartName="/ppt/media/image20.png" ContentType="image/png"/>
  <Override PartName="/ppt/media/image69.wmf" ContentType="image/x-wmf"/>
  <Override PartName="/ppt/media/image29.png" ContentType="image/png"/>
  <Override PartName="/ppt/media/image18.png" ContentType="image/png"/>
  <Override PartName="/ppt/media/image21.wmf" ContentType="image/x-wmf"/>
  <Override PartName="/ppt/media/image71.png" ContentType="image/png"/>
  <Override PartName="/ppt/media/image6.jpeg" ContentType="image/jpeg"/>
  <Override PartName="/ppt/media/image60.png" ContentType="image/png"/>
  <Override PartName="/ppt/media/image22.wmf" ContentType="image/x-wmf"/>
  <Override PartName="/ppt/media/image61.png" ContentType="image/png"/>
  <Override PartName="/ppt/media/image24.wmf" ContentType="image/x-wmf"/>
  <Override PartName="/ppt/media/image63.png" ContentType="image/png"/>
  <Override PartName="/ppt/media/image25.wmf" ContentType="image/x-wmf"/>
  <Override PartName="/ppt/media/image26.wmf" ContentType="image/x-wmf"/>
  <Override PartName="/ppt/media/image70.png" ContentType="image/png"/>
  <Override PartName="/ppt/media/image68.wmf" ContentType="image/x-wmf"/>
  <Override PartName="/ppt/media/image67.wmf" ContentType="image/x-wmf"/>
  <Override PartName="/ppt/media/image65.wmf" ContentType="image/x-wmf"/>
  <Override PartName="/ppt/media/image64.wmf" ContentType="image/x-wmf"/>
  <Override PartName="/ppt/media/image27.wmf" ContentType="image/x-wmf"/>
  <Override PartName="/ppt/media/image66.png" ContentType="image/png"/>
  <Override PartName="/ppt/media/image62.png" ContentType="image/png"/>
  <Override PartName="/ppt/media/image1.png" ContentType="image/png"/>
  <Override PartName="/ppt/media/image31.png" ContentType="image/png"/>
  <Override PartName="/ppt/media/image58.png" ContentType="image/png"/>
  <Override PartName="/ppt/media/image2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8.wmf" ContentType="image/x-wmf"/>
  <Override PartName="/ppt/media/image30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38.png" ContentType="image/png"/>
  <Override PartName="/ppt/media/image4.png" ContentType="image/png"/>
  <Override PartName="/ppt/media/image3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5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079-98A7-4CFF-836B-A30AC335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920" y="4167360"/>
            <a:ext cx="85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25B-0003-452C-A86E-ED899FCC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1160" y="416736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22C-1643-465E-AD9F-C88E69A7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9320" y="201780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3720" y="201780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4920" y="416736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9320" y="416736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3720" y="416736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493-F559-4825-A68A-D8CBC2EA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CB35-01F4-4CB4-BDE9-114ED49A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2E1F-E8D7-4F5C-B489-0ACDC92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C31E-E6A7-4FA5-B4CD-6E4BCE16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E896-4277-4277-8B7D-41B284ED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1EC1-A984-4645-B018-B5C0C210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9B8B-1858-4401-9CA1-3A7AEC58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B601-5171-4182-B2DC-A348A52A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56B-5CC9-4110-B645-DA4F8036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81160" y="416736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C3E7-0FB9-40C8-829B-B67FA6C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85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6A51-3A41-4B95-A473-8898557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920" y="4167360"/>
            <a:ext cx="85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EC87-F394-45FC-84CE-02F40523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81160" y="416736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9802-D2F5-4305-930B-AA13D384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89320" y="201780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83720" y="201780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94920" y="416736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89320" y="416736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83720" y="4167360"/>
            <a:ext cx="275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BDF6-0228-403C-8124-1DAD2EFB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C85-BE88-4851-AC89-F1B7A3A4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0D8-6087-445D-8F2D-82B70029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C96-9B54-4BBF-AD20-09F76EAC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AF5-8F09-4172-A47A-0A18F48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04E-FEE0-46EA-BA4F-E50084B2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1160" y="416736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AF8-84BD-4E77-99FE-0F46AE79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1160" y="2017800"/>
            <a:ext cx="417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167360"/>
            <a:ext cx="855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3AF-8EB9-40B1-B1DB-FA4FB603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952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700360" y="6243480"/>
            <a:ext cx="385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9321-2BD7-43B3-B7EC-20C8B59C2B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028000" y="117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2700000" y="6248520"/>
            <a:ext cx="362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BB1B-D2CD-4B95-A5A3-65944C17D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280" y="810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hyperlink" Target="http://tevbwg.fnal.gov/results/Summer2009_betas/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4.png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-cdfonline.fnal.gov/ops/opshelp/stores/grand_summary/lumi.eps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-cdf.fnal.gov/physics/new/bottom/040901.PR_dimuon/mumu_si.eps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ent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hysics Result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CD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monobu Tom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University of Tsukub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4B44-342C-40F5-BA27-C413335C455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P Violation 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ec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559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Analogously to the neutral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system, CP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iolation in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system is accessible through interference of decays with and without mix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P violation phase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in SM is predicted to be very small,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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ew physics particles running in the mixing diagram may enhance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large 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clear indication of New Physics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30920" y="2565360"/>
            <a:ext cx="4105080" cy="114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78080" y="3787920"/>
            <a:ext cx="6408720" cy="151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26920" y="2565360"/>
                <a:ext cx="3600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M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b</m:t>
                            </m:r>
                          </m:sub>
                          <m:sup/>
                        </m:sSub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  <m:sup/>
                        </m:sSubSup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656000" cy="799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349360" y="3860640"/>
            <a:ext cx="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542440" y="3860640"/>
            <a:ext cx="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74680" y="41324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540640" y="37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040" y="429264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ay rate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0840" y="49165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14120" y="522936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physics partic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7" idx="1"/>
            <a:endCxn id="166" idx="3"/>
          </p:cNvCxnSpPr>
          <p:nvPr/>
        </p:nvCxnSpPr>
        <p:spPr>
          <a:xfrm flipH="1" flipV="1">
            <a:off x="3171240" y="5144400"/>
            <a:ext cx="611640" cy="268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755640" y="2997360"/>
            <a:ext cx="246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inant contribution from top qu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3645000"/>
            <a:ext cx="1224000" cy="28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3213000"/>
            <a:ext cx="792000" cy="5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D90-3781-4584-BA21-9F05AD2BA9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6200" y="3789360"/>
            <a:ext cx="4321440" cy="2664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ec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00720" y="2017440"/>
            <a:ext cx="43192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easur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lifetime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H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decay width difference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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P violating phase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Three different angular momentum final st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=0, 2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CP 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hort lived or light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=1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CP od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Long lived or heavy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Three decay angles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escribe directions of final decay products: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4720" y="2050920"/>
            <a:ext cx="2590560" cy="166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667640" y="5346720"/>
                <a:ext cx="1368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2A4-2E5B-4227-A15B-035CFDD5D7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ransversity Ba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Use “tansversity basis” in which the vector boson polarizations w.r.t. direction of motion are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Transverse (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</a:t>
            </a: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 perpendicular to each other) </a:t>
            </a: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 CP od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Transverse (|| parallel to each other)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 CP 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Longitudinal (0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CP 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rresponding amplitudes: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||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A. S. Dighe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et a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., Phys. Lett. B369, 144 (1996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634356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B80-542E-422E-8F1B-CAB352A109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ay R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3280" y="1844280"/>
            <a:ext cx="43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ecay rate as a function of </a:t>
            </a:r>
            <a:r>
              <a:rPr b="0" lang="ja-JP" sz="2000" spc="-1" strike="noStrike">
                <a:solidFill>
                  <a:srgbClr val="3333cc"/>
                </a:solidFill>
                <a:latin typeface="Tahoma"/>
              </a:rPr>
              <a:t>tim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ja-JP" sz="2000" spc="-1" strike="noStrike">
                <a:solidFill>
                  <a:srgbClr val="00e4a8"/>
                </a:solidFill>
                <a:latin typeface="Tahoma"/>
              </a:rPr>
              <a:t>decay angle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ja-JP" sz="2000" spc="-1" strike="noStrike">
                <a:solidFill>
                  <a:srgbClr val="ff00ff"/>
                </a:solidFill>
                <a:latin typeface="Tahoma"/>
              </a:rPr>
              <a:t>initial </a:t>
            </a:r>
            <a:r>
              <a:rPr b="0" i="1" lang="ja-JP" sz="2000" spc="-1" strike="noStrike">
                <a:solidFill>
                  <a:srgbClr val="ff00ff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ff00ff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ff00ff"/>
                </a:solidFill>
                <a:latin typeface="Tahoma"/>
              </a:rPr>
              <a:t> flav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Identification of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flavor at production (flavor tagging)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better sensitivity to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465440" cy="154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3851280" cy="863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06200" y="4559400"/>
            <a:ext cx="3673800" cy="1895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08000" y="2205000"/>
            <a:ext cx="287640" cy="287280"/>
          </a:xfrm>
          <a:prstGeom prst="rect">
            <a:avLst/>
          </a:prstGeom>
          <a:solidFill>
            <a:srgbClr val="3333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2205000"/>
            <a:ext cx="287280" cy="287280"/>
          </a:xfrm>
          <a:prstGeom prst="rect">
            <a:avLst/>
          </a:prstGeom>
          <a:solidFill>
            <a:srgbClr val="3333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2637000"/>
            <a:ext cx="287280" cy="287280"/>
          </a:xfrm>
          <a:prstGeom prst="rect">
            <a:avLst/>
          </a:prstGeom>
          <a:solidFill>
            <a:srgbClr val="3333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2637000"/>
            <a:ext cx="287280" cy="287280"/>
          </a:xfrm>
          <a:prstGeom prst="rect">
            <a:avLst/>
          </a:prstGeom>
          <a:solidFill>
            <a:srgbClr val="3333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2924280"/>
            <a:ext cx="287280" cy="287280"/>
          </a:xfrm>
          <a:prstGeom prst="rect">
            <a:avLst/>
          </a:prstGeom>
          <a:solidFill>
            <a:srgbClr val="3333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8360" y="3213000"/>
            <a:ext cx="287640" cy="287280"/>
          </a:xfrm>
          <a:prstGeom prst="rect">
            <a:avLst/>
          </a:prstGeom>
          <a:solidFill>
            <a:srgbClr val="3333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2205000"/>
            <a:ext cx="431640" cy="287280"/>
          </a:xfrm>
          <a:prstGeom prst="rect">
            <a:avLst/>
          </a:prstGeom>
          <a:solidFill>
            <a:srgbClr val="00e4a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2205000"/>
            <a:ext cx="432000" cy="287280"/>
          </a:xfrm>
          <a:prstGeom prst="rect">
            <a:avLst/>
          </a:prstGeom>
          <a:solidFill>
            <a:srgbClr val="00e4a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2637000"/>
            <a:ext cx="432000" cy="287280"/>
          </a:xfrm>
          <a:prstGeom prst="rect">
            <a:avLst/>
          </a:prstGeom>
          <a:solidFill>
            <a:srgbClr val="00e4a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2637000"/>
            <a:ext cx="432000" cy="287280"/>
          </a:xfrm>
          <a:prstGeom prst="rect">
            <a:avLst/>
          </a:prstGeom>
          <a:solidFill>
            <a:srgbClr val="00e4a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2925720"/>
            <a:ext cx="432000" cy="287280"/>
          </a:xfrm>
          <a:prstGeom prst="rect">
            <a:avLst/>
          </a:prstGeom>
          <a:solidFill>
            <a:srgbClr val="00e4a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3213000"/>
            <a:ext cx="431640" cy="287280"/>
          </a:xfrm>
          <a:prstGeom prst="rect">
            <a:avLst/>
          </a:prstGeom>
          <a:solidFill>
            <a:srgbClr val="00e4a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4149720"/>
            <a:ext cx="1655640" cy="28728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4508640"/>
            <a:ext cx="1655640" cy="28728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4869000"/>
            <a:ext cx="2521080" cy="21564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5518080"/>
            <a:ext cx="1295280" cy="28728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5805360"/>
            <a:ext cx="2160720" cy="28764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38600" y="2637000"/>
            <a:ext cx="2789640" cy="368280"/>
          </a:xfrm>
          <a:prstGeom prst="rect">
            <a:avLst/>
          </a:prstGeom>
          <a:solidFill>
            <a:srgbClr val="3333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dependenc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1"/>
            <a:endCxn id="186" idx="2"/>
          </p:cNvCxnSpPr>
          <p:nvPr/>
        </p:nvCxnSpPr>
        <p:spPr>
          <a:xfrm flipH="1" flipV="1">
            <a:off x="3492000" y="2491920"/>
            <a:ext cx="2131200" cy="3290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379480" y="2997360"/>
            <a:ext cx="3112920" cy="368280"/>
          </a:xfrm>
          <a:prstGeom prst="rect">
            <a:avLst/>
          </a:prstGeom>
          <a:solidFill>
            <a:srgbClr val="00e4a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gular dependenc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endCxn id="195" idx="3"/>
          </p:cNvCxnSpPr>
          <p:nvPr/>
        </p:nvCxnSpPr>
        <p:spPr>
          <a:xfrm flipH="1" flipV="1">
            <a:off x="3563640" y="3069360"/>
            <a:ext cx="1924560" cy="143640"/>
          </a:xfrm>
          <a:prstGeom prst="straightConnector1">
            <a:avLst/>
          </a:prstGeom>
          <a:ln w="9360">
            <a:solidFill>
              <a:srgbClr val="00e4a8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197080" y="3716280"/>
            <a:ext cx="719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4076640"/>
            <a:ext cx="7189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797360"/>
            <a:ext cx="71928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63640" y="5805360"/>
            <a:ext cx="719280" cy="64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3357720"/>
            <a:ext cx="3313080" cy="504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Terms with </a:t>
            </a:r>
            <a:r>
              <a:rPr b="0" i="1" lang="ja-JP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ja-JP" sz="1800" spc="-1" strike="noStrike" baseline="-25000">
                <a:solidFill>
                  <a:srgbClr val="ff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 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10" idx="2"/>
            <a:endCxn id="206" idx="7"/>
          </p:cNvCxnSpPr>
          <p:nvPr/>
        </p:nvCxnSpPr>
        <p:spPr>
          <a:xfrm flipH="1">
            <a:off x="2810880" y="3609720"/>
            <a:ext cx="2408760" cy="159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4815000" y="3933720"/>
            <a:ext cx="4186080" cy="95436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erms with 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dependence pre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f initial state of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meson (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vs anti-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s determined (flavor tagg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659640" y="4869000"/>
            <a:ext cx="2089080" cy="503280"/>
          </a:xfrm>
          <a:prstGeom prst="rect">
            <a:avLst/>
          </a:prstGeom>
          <a:ln w="0">
            <a:noFill/>
          </a:ln>
        </p:spPr>
      </p:pic>
      <p:cxnSp>
        <p:nvCxnSpPr>
          <p:cNvPr id="214" name=""/>
          <p:cNvCxnSpPr>
            <a:stCxn id="212" idx="1"/>
            <a:endCxn id="197" idx="3"/>
          </p:cNvCxnSpPr>
          <p:nvPr/>
        </p:nvCxnSpPr>
        <p:spPr>
          <a:xfrm flipH="1" flipV="1">
            <a:off x="2770920" y="4293720"/>
            <a:ext cx="2088360" cy="99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2" idx="1"/>
            <a:endCxn id="198" idx="3"/>
          </p:cNvCxnSpPr>
          <p:nvPr/>
        </p:nvCxnSpPr>
        <p:spPr>
          <a:xfrm flipH="1">
            <a:off x="2986920" y="4392360"/>
            <a:ext cx="1872360" cy="26100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659640" y="5300640"/>
            <a:ext cx="2089080" cy="360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943160" y="514980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 ph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9AB-BF87-4BB7-8C64-4561A51561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4392720" cy="33796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vious 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47640" y="1844280"/>
            <a:ext cx="5545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CDF and D0 showed ~1.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viations from SM in the same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d result shows 2.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viation from SM expec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808360" cy="2201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49687" t="0" r="0" b="0"/>
          <a:stretch/>
        </p:blipFill>
        <p:spPr>
          <a:xfrm>
            <a:off x="539640" y="4276800"/>
            <a:ext cx="2808360" cy="2176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28840" y="6093000"/>
            <a:ext cx="4469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tevbwg.fnal.gov/results/Summer2009_beta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202-7DBE-43B8-BF80-6477F50505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sis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dimensional likelihood f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3633840"/>
            <a:ext cx="212400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7128000" y="3610080"/>
            <a:ext cx="1836720" cy="1763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0" t="0" r="33329" b="0"/>
          <a:stretch/>
        </p:blipFill>
        <p:spPr>
          <a:xfrm>
            <a:off x="4597560" y="3486240"/>
            <a:ext cx="2350800" cy="1095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0" t="0" r="8666" b="28543"/>
          <a:stretch/>
        </p:blipFill>
        <p:spPr>
          <a:xfrm>
            <a:off x="2195640" y="3789360"/>
            <a:ext cx="2305080" cy="1222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rcRect l="66664" t="0" r="0" b="0"/>
          <a:stretch/>
        </p:blipFill>
        <p:spPr>
          <a:xfrm>
            <a:off x="5148360" y="4565520"/>
            <a:ext cx="1176120" cy="1095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0200" y="515772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riminates signal against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20920" y="515772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ahoma"/>
              </a:rPr>
              <a:t>Decay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etermines lifetime of each mass eigen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7640" y="551664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arates CP-even from CP-odd fin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5334120"/>
            <a:ext cx="19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s flavor of initial B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371600" y="2409840"/>
                <a:ext cx="6296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 flipH="1">
            <a:off x="1116000" y="2997360"/>
            <a:ext cx="122400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92360" y="2997360"/>
            <a:ext cx="2160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99736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2997360"/>
            <a:ext cx="2953080" cy="50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01C-00E9-46C9-81D7-0F568CB4CA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87280" y="3718080"/>
            <a:ext cx="2880000" cy="273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Reco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18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Reconstruct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J/y f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5.2 fb</a:t>
            </a:r>
            <a:r>
              <a:rPr b="0" lang="ja-JP" sz="24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of data from sample selected by di-muon trig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mbine kinematic variables with particle ID information (dE/dx, TOF) in 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neural network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to discriminate signal from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Yield of ~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650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signal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events with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S/B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~ 1 (compared to ~3150 in 2.8 f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00720" y="3505320"/>
            <a:ext cx="4105080" cy="29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025-EA95-413B-A37B-F5DAF7482CE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35280" y="3645000"/>
            <a:ext cx="5508720" cy="26226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lavor Tagg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2200" y="2017440"/>
            <a:ext cx="835344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t Tevatron,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quarks mainly produced in pairs of bottom anti-bottom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flavor of the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meson at production inferr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Opposite Side Tagger (O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Exploits decay products of other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adron in the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ame Side Kaon Tagger (SSK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Exploits correlations with particles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produced in fragm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560" y="4437000"/>
            <a:ext cx="3879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Output of flavor tag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Flavor decision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quark or anti-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quar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robability that the decision is correct: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= (1 + Dilution) 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D29-6E31-4CBC-BD27-D3B9046E60A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posite Side Tagg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alibration an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388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OST combines opposite side lepton and jet charge information in a N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Initially calibrated using a sample of inclusive semileptonic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redicts tagging probability on event-by-event ba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Re-calibrated using ~52000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J/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 K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OST efficiency =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94.2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0.4%,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OST dilution =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11.5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0.2%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correct tag probability ~56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otal tagging power = 1.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340000" cy="2270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211640" y="4149720"/>
            <a:ext cx="2376360" cy="22795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588000" y="4149720"/>
            <a:ext cx="237672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E4A-350C-474F-BE8B-FFD1BCAE1E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Side Tagg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alib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569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vent-by-event predicted dilution based on sim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alibrated with 5.2 f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imultaneously measuring the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mixing frequency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and the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dilution scale factor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event-by-event predicted di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: tagging decision = +1, -1, 0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, and un-tagged ev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Fully reconstructed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decays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selected by displaced track trig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0" b="24635"/>
          <a:stretch/>
        </p:blipFill>
        <p:spPr>
          <a:xfrm>
            <a:off x="4932360" y="2898720"/>
            <a:ext cx="4176720" cy="3235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330960" y="6138720"/>
            <a:ext cx="2705040" cy="314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6920" y="1989000"/>
            <a:ext cx="824400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044720" y="5237280"/>
            <a:ext cx="3022560" cy="12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04D-328E-4803-80B3-1DE25759CC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ahoma"/>
              </a:rPr>
              <a:t>Updated Measurement of the CP Violating Phase </a:t>
            </a:r>
            <a:r>
              <a:rPr b="0" i="1" lang="ja-JP" sz="6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6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6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ja-JP" sz="6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6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6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6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6000" spc="-1" strike="noStrike">
                <a:solidFill>
                  <a:srgbClr val="000000"/>
                </a:solidFill>
                <a:latin typeface="Tahoma"/>
              </a:rPr>
              <a:t>J/</a:t>
            </a:r>
            <a:r>
              <a:rPr b="0" i="1" lang="ja-JP" sz="6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6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6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nd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EE6-0E86-4F6C-B4B2-690671CE70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4824360" cy="272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4608360" cy="504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16000" y="5950080"/>
            <a:ext cx="3672000" cy="517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1692360" y="2205000"/>
            <a:ext cx="3313080" cy="432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Side Tagg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oscillation frequency measured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statistical error on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In good agreement with the published CDF measurement with 1 f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Phys. Rev. Lett. 97, 242003 (2006),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Phys. Rev. Lett. 97, 062003 (2006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used as external constraint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ilution scale factor (amplitude)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in good agreement with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Largest systematic uncertainty from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decay time resolution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otal SSKT tagging pow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5364000" y="2895480"/>
            <a:ext cx="3743640" cy="348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8F9-5449-4C19-B0A6-3DEEC95332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ctor Angular 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55972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-even and CP-odd final states have different angular distribu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 angl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statistically separate CP-even and CP-odd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or acceptance distorts the angul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3D angular efficiency function from simulation and account for this effect in the f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1280" y="4389480"/>
            <a:ext cx="2916360" cy="18478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987640" y="4532400"/>
            <a:ext cx="3024360" cy="1687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091200" y="4532400"/>
            <a:ext cx="2873520" cy="1682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7200" y="3957480"/>
            <a:ext cx="50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F Simulation of Detector Angular Scul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D2B-8382-4D11-9767-8B0A82CDFE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0" t="0" r="0" b="27559"/>
          <a:stretch/>
        </p:blipFill>
        <p:spPr>
          <a:xfrm>
            <a:off x="250920" y="3068640"/>
            <a:ext cx="5400720" cy="2651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Lifetime an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ecay Width Dif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Assuming no CP</a:t>
            </a:r>
            <a:r>
              <a:rPr b="0" i="1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violation (</a:t>
            </a:r>
            <a:r>
              <a:rPr b="0" i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= 0) obtain 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most precise measurements of lifetime 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ja-JP" sz="2800" spc="-1" strike="noStrike" baseline="-25000">
                <a:solidFill>
                  <a:srgbClr val="ff0000"/>
                </a:solidFill>
                <a:latin typeface="Tahoma"/>
              </a:rPr>
              <a:t>s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 and decay width difference 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</a:t>
            </a:r>
            <a:r>
              <a:rPr b="0" i="1" lang="ja-JP" sz="2800" spc="-1" strike="noStrike" baseline="-25000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79280" y="5762520"/>
            <a:ext cx="5486400" cy="762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421600" y="5013360"/>
            <a:ext cx="37666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mpared to PDG 2009 aver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= 1.472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+0.024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-0.02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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= 0.062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+0.034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-0.037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ps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3592440"/>
            <a:ext cx="3961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P-even (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ligh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 and CP-odd (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heavy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components have different lifetimes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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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83D-62B0-479E-B156-23435B24E6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4776840"/>
            <a:ext cx="5400720" cy="1676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rization Amplitu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3960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ost precise measurement of polarization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540072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356000" y="1828800"/>
            <a:ext cx="4608720" cy="14558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98560" y="3573360"/>
            <a:ext cx="14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fit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9080" y="5229360"/>
            <a:ext cx="17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ground fit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9A8-89AE-45C9-8F3E-3AEC14815F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219640" y="1835280"/>
            <a:ext cx="3816360" cy="36813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wave Conta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974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otential contamination of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signal b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KK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KK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non-resonant) and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KK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wave 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redicted up to 15% contamination of total sample (~6% of signal) could bias towards SM value of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28640" y="522936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Invariant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KK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mass (abo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mbinatorial background from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sideb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reflections modelled from 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Fractions fixed from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mass fit (lef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55640" y="4078440"/>
            <a:ext cx="2374920" cy="23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E40-C749-490E-A5BB-DF6D6C0D626D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00720" y="2001960"/>
            <a:ext cx="4464000" cy="43066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lusion of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wave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KK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ompon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2161800"/>
            <a:ext cx="468000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wave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KK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component has been added to full-angular, time-dependent likelihood f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and non-resonant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KK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are considered flat in mass within the small selection window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meson mass is modeled by asymmetric, relativistic Breit-Wign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J/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KK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(f0) is pure CP odd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KK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ass is not a fit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5157720"/>
            <a:ext cx="3549600" cy="916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 fitted fraction of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KK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-wave contamination in the signal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&lt; 6.7% at the 95%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B5B-0E2D-4C81-9B4C-1617FEF021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CP Violating Phase </a:t>
            </a:r>
            <a:r>
              <a:rPr b="0" i="1" lang="ja-JP" sz="4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i="1" lang="ja-JP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br>
              <a:rPr sz="4400"/>
            </a:b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in Tagged </a:t>
            </a:r>
            <a:r>
              <a:rPr b="0" i="1" lang="ja-JP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i="1" lang="ja-JP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ja-JP" sz="4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ja-JP" sz="44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/</a:t>
            </a:r>
            <a:r>
              <a:rPr b="0" i="1" lang="ja-JP" sz="4400" spc="-1" strike="noStrike">
                <a:solidFill>
                  <a:srgbClr val="333399"/>
                </a:solidFill>
                <a:latin typeface="Symbol"/>
                <a:ea typeface="Symbol"/>
              </a:rPr>
              <a:t>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ja-JP" sz="4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Dec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5040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Without the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wave, the likelihood function is symmetric under the trans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tudy expected effect of tagging using pseudo-experi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mprovement of parameter resolution is small due to limited tagging pow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ja-JP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 ~ 4.5% compared to </a:t>
            </a:r>
            <a:r>
              <a:rPr b="0" i="1" lang="ja-JP" sz="1400" spc="-1" strike="noStrike">
                <a:solidFill>
                  <a:srgbClr val="000000"/>
                </a:solidFill>
                <a:latin typeface="Tahoma"/>
              </a:rPr>
              <a:t>B-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factories ~3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wever, 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no longer a symmetry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4-fold ambiguity reduced to 2-fold ambigu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ing the 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-wave “slightly” breaks the symmetry due to asymmetric 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mass sha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ymmetry still valid with good approximation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971640" y="2665440"/>
            <a:ext cx="3240000" cy="692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754440" cy="3889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5508720" y="5807160"/>
            <a:ext cx="3168720" cy="5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638-FAA8-4F01-8DB5-87800839E0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New CDF Measurement of </a:t>
            </a:r>
            <a:r>
              <a:rPr b="0" i="1" lang="ja-JP" sz="4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i="1" lang="ja-JP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4105440" cy="39387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3816360" cy="37022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008360" y="1854360"/>
            <a:ext cx="3231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-value for SM point: 4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~0.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v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27680" y="5516640"/>
            <a:ext cx="330192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8% CL: [0.0, 0.5]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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[1.1, 1.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5% CL: [-0.1, 0.7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[0.9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2, -1.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E2C-3D70-40FC-A242-5C42B5E1300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New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J/</a:t>
            </a: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P eigenstate, lifetime measures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heavy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an be used to extract CKM angle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R. Fleischer, Eur. Phys. J.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10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, 299 (1999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J/</a:t>
            </a: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*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Admixture of CP final states.  Estimate penguin contribution to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J/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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A large sample can be used to measure sin(2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 as a complementary mode to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J/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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Reconstruct the signal modes in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samples from 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6 fb</a:t>
            </a:r>
            <a:r>
              <a:rPr b="0" lang="ja-JP" sz="20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of CDF di-muon trigge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Apply binned likelihood fits to mass distributions to extract signal yield fractions between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m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Finally, measure </a:t>
            </a:r>
            <a:r>
              <a:rPr b="0" i="1" lang="ja-JP" sz="20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i="1" lang="ja-JP" sz="2000" spc="-1" strike="noStrike" baseline="-25000">
                <a:solidFill>
                  <a:srgbClr val="ff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 BR(</a:t>
            </a:r>
            <a:r>
              <a:rPr b="0" i="1" lang="ja-JP" sz="20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ff0000"/>
                </a:solidFill>
                <a:latin typeface="Tahoma"/>
              </a:rPr>
              <a:t>s</a:t>
            </a:r>
            <a:r>
              <a:rPr b="0" lang="ja-JP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ja-JP" sz="2000" spc="-1" strike="noStrike">
                <a:solidFill>
                  <a:srgbClr val="ff0000"/>
                </a:solidFill>
                <a:latin typeface="Tahoma"/>
              </a:rPr>
              <a:t>J/</a:t>
            </a:r>
            <a:r>
              <a:rPr b="0" i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i="1" lang="ja-JP" sz="20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ja-JP" sz="2000" spc="-1" strike="noStrike" baseline="30000">
                <a:solidFill>
                  <a:srgbClr val="ff0000"/>
                </a:solidFill>
                <a:latin typeface="Tahoma"/>
              </a:rPr>
              <a:t>(*)0</a:t>
            </a:r>
            <a:r>
              <a:rPr b="0" lang="ja-JP" sz="2000" spc="-1" strike="noStrike" baseline="-25000">
                <a:solidFill>
                  <a:srgbClr val="ff0000"/>
                </a:solidFill>
                <a:latin typeface="Tahoma"/>
              </a:rPr>
              <a:t>(s)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) / </a:t>
            </a:r>
            <a:r>
              <a:rPr b="0" i="1" lang="ja-JP" sz="20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i="1" lang="ja-JP" sz="2000" spc="-1" strike="noStrike" baseline="-25000">
                <a:solidFill>
                  <a:srgbClr val="ff0000"/>
                </a:solidFill>
                <a:latin typeface="Tahoma"/>
              </a:rPr>
              <a:t>d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 BR(</a:t>
            </a:r>
            <a:r>
              <a:rPr b="0" i="1" lang="ja-JP" sz="20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ja-JP" sz="2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ja-JP" sz="2000" spc="-1" strike="noStrike">
                <a:solidFill>
                  <a:srgbClr val="ff0000"/>
                </a:solidFill>
                <a:latin typeface="Tahoma"/>
              </a:rPr>
              <a:t>J/</a:t>
            </a:r>
            <a:r>
              <a:rPr b="0" i="1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i="1" lang="ja-JP" sz="20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ja-JP" sz="2000" spc="-1" strike="noStrike" baseline="30000">
                <a:solidFill>
                  <a:srgbClr val="ff0000"/>
                </a:solidFill>
                <a:latin typeface="Tahoma"/>
              </a:rPr>
              <a:t>(*)0</a:t>
            </a:r>
            <a:r>
              <a:rPr b="0" lang="ja-JP" sz="2000" spc="-1" strike="noStrike" baseline="-25000">
                <a:solidFill>
                  <a:srgbClr val="ff0000"/>
                </a:solidFill>
                <a:latin typeface="Tahoma"/>
              </a:rPr>
              <a:t>(s)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138-35A2-42F2-85C9-142A5694E9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st Observation of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0</a:t>
            </a: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J/</a:t>
            </a:r>
            <a:r>
              <a:rPr b="0" i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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0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0</a:t>
            </a: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J/</a:t>
            </a:r>
            <a:r>
              <a:rPr b="0" i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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*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806616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F88-E29A-41CE-B54C-331FC80101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evatron Run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4941360"/>
            <a:ext cx="831708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longer the world's highest-energy particle collider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ton-antiproton collisions at sqrt(s) = 1.96 T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vatron is performing really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eak luminosity: ~ 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4.0</a:t>
            </a: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0" lang="ja-JP" sz="2000" spc="-1" strike="noStrike" baseline="30000">
                <a:solidFill>
                  <a:srgbClr val="ff0000"/>
                </a:solidFill>
                <a:latin typeface="Tahoma"/>
              </a:rPr>
              <a:t>32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 cm</a:t>
            </a:r>
            <a:r>
              <a:rPr b="0" lang="ja-JP" sz="2000" spc="-1" strike="noStrike" baseline="30000">
                <a:solidFill>
                  <a:srgbClr val="ff0000"/>
                </a:solidFill>
                <a:latin typeface="Tahoma"/>
              </a:rPr>
              <a:t>-2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 s</a:t>
            </a:r>
            <a:r>
              <a:rPr b="0" lang="ja-JP" sz="20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7800" cy="3119400"/>
          </a:xfrm>
          <a:prstGeom prst="rect">
            <a:avLst/>
          </a:prstGeom>
          <a:ln w="36000">
            <a:solidFill>
              <a:srgbClr val="ffffff"/>
            </a:solidFill>
            <a:round/>
          </a:ln>
        </p:spPr>
      </p:pic>
      <p:sp>
        <p:nvSpPr>
          <p:cNvPr id="108" name=""/>
          <p:cNvSpPr/>
          <p:nvPr/>
        </p:nvSpPr>
        <p:spPr>
          <a:xfrm>
            <a:off x="6062040" y="1870200"/>
            <a:ext cx="1026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92720" y="2409840"/>
            <a:ext cx="654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C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24200" y="2770200"/>
            <a:ext cx="49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D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21120" y="3068640"/>
            <a:ext cx="152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TEVA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3716280"/>
            <a:ext cx="2163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MAIN IN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0D7-8845-4BB0-B9B3-4FC588135B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848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evatron is operating well.  Better than ev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DF is ready to run for FY2011.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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  <a:ea typeface="Arial"/>
              </a:rPr>
              <a:t>Ld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Arial"/>
              </a:rPr>
              <a:t> ~ 12 fb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-1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Arial"/>
              </a:rPr>
              <a:t> is expect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Arial"/>
              </a:rPr>
              <a:t>Possibly Run III (2012~2014).  ~ 16 fb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-1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"/>
              </a:rPr>
              <a:t>Successful application of multivariate analysis techniques, even for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  <a:ea typeface="Arial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Arial"/>
              </a:rPr>
              <a:t> phys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 signs of physics beyond SM?  But search continues a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analysis is now consistent with SM within ~1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Stay tuned for interesting results from CDF in the near futu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earch for new physics in Bs mixing at CDF has potential to observe/exclude wide range of non-SM mixing phas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199-4BAB-43B1-A71C-6F52127B18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Backup Slides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DAE-3B9D-4A21-BCBB-A7C6E9C7634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atic Uncertain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D2E-4DCD-4EB5-B297-F7694B488E2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lution Scale Facto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ystematic Uncertain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042920" y="2076480"/>
            <a:ext cx="7345440" cy="42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BC6-AF7B-4032-9B64-503FF629A55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861080" y="2060640"/>
            <a:ext cx="4174920" cy="400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Gaussian Reg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504036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seudo-experiments show that we are still not in perfect Gaussian regime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quote confidence regions instead of point estim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ideal case (high statistics, Gaussian likelihood), to get the 2D 68% (95%) C.L. regions, take a slice through profiled likelihood at 2.3 (6.0) units up from minim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his analysis integrated likelihood ratio distribution (black histogram) deviates from the ideal χ2 distribution (green continuous curv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Using pseudo-experiments establish a “map” between Confidence Level and 2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log(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ll nuisance parameters are randomly varied within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from their best fit values and maps of CL vs 2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g(L) re-deriv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To establish final confidence regions use most conservative c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B53-33DB-4D90-94EB-9168AA5454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Betwee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ifferent Data Peri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ivide 5.2 fb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sample in three sub-samples corresponding to three public releas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~ 1.4 fb</a:t>
            </a:r>
            <a:r>
              <a:rPr b="0" lang="ja-JP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(initial result released at the end of 2007,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Phys. Rev. Lett.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, 161802 (2008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1.4 ~ 2.8 fb</a:t>
            </a:r>
            <a:r>
              <a:rPr b="0" lang="ja-JP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(added for 2008 ICHEP upda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2.8 ~ 5.2 fb</a:t>
            </a:r>
            <a:r>
              <a:rPr b="0" lang="ja-JP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(added for this upda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revious results reproduced with updated analy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learly, improved agreement with the SM expectation comes from the second half of data (2.8 ~ 5.2 fb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116000" y="422100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276720" y="422100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9DF-BF8A-4EB4-9FA6-999EC1133E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i="1" lang="ja-JP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Sensi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266920" y="1989000"/>
            <a:ext cx="4105440" cy="4105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635280" y="1916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DF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97800" y="346104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ty of 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52080" y="5985000"/>
            <a:ext cx="14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(radi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25240" y="3357720"/>
            <a:ext cx="76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 f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B6D-A2C0-4877-BDDC-AA6EDEDB15E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CP Asymmetry</a:t>
            </a:r>
            <a:br>
              <a:rPr sz="4400"/>
            </a:b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in Semileptonic </a:t>
            </a:r>
            <a:r>
              <a:rPr b="0" i="1" lang="ja-JP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Dec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2017440"/>
            <a:ext cx="36720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1.6 f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ahoma"/>
              </a:rPr>
              <a:t>S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= 0.0080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0.0090 (stat)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0.0068 (sy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ahoma"/>
              </a:rPr>
              <a:t>S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= 0.020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0.021 (stat)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0.016 (syst)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0.009 (inpu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4752720" cy="456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C0A-BEEC-436C-87DA-EF3E63AF27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28960"/>
            <a:ext cx="7704000" cy="4424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minos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.1 f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1200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7.6 fb</a:t>
            </a:r>
            <a:r>
              <a:rPr b="1" lang="en-US" sz="1800" spc="-1" strike="noStrike" baseline="30000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 baseline="30000">
                <a:solidFill>
                  <a:srgbClr val="ff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2492280"/>
            <a:ext cx="0" cy="3467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716280"/>
            <a:ext cx="106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16000" y="2532240"/>
            <a:ext cx="3816360" cy="2192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87280" y="4605480"/>
            <a:ext cx="3816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tector is stable and working 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0920" y="34941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~6 f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02E-6D90-46D4-933E-F4C25D3175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187280" y="1803240"/>
            <a:ext cx="5400720" cy="3210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DF II Det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4797000"/>
            <a:ext cx="496908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8 layer silicon vertex det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8 super layer drift cha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.4T solen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Good particle identification (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entral/Wall/Plug calorime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cintillator+drift chamber muon dete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7626" r="0" b="13358"/>
          <a:stretch/>
        </p:blipFill>
        <p:spPr>
          <a:xfrm>
            <a:off x="5796000" y="4068720"/>
            <a:ext cx="3348000" cy="22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493-7281-4A9C-880A-B4E78C1B18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Production at Tevat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24360" y="3573360"/>
            <a:ext cx="5030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Tevatron is a source of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all </a:t>
            </a:r>
            <a:r>
              <a:rPr b="0" i="1" lang="ja-JP" sz="24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-hadron spe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= 29.4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0.6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6.2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b (|</a:t>
            </a:r>
            <a:r>
              <a:rPr b="0" i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|&lt;1) (C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Huge cross section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compared to the B-factories, but proportionally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large background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622680"/>
            <a:ext cx="3527280" cy="255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26920" y="1992240"/>
            <a:ext cx="792180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D5A-B274-4123-8881-26DFFA39DE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iggers for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hy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518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b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 &lt;&lt;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p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, events have to be selected with specific trig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rigger requirements: large bandwidth, background suppression, dead-time-l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ingle-/Di-lepton :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J/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m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igh 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lepton or two leptons with lower 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Lepton + displaced track : semileptonic s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) &gt; 4 GeV/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Trk) &gt; 2 GeV/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120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m &lt; d0(Trk) &lt; 1 m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wo displace tracks : hadronic sa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Trk) &gt; 2 GeV/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120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m &lt; d0(Trk) &lt; 1 m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&gt; 5.5 GeV/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32360" y="4005360"/>
            <a:ext cx="3203640" cy="2360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916280"/>
            <a:ext cx="3529080" cy="20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AB5-6EDD-49C4-8060-1F5DB1DAD8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CKM Matrix and</a:t>
            </a:r>
            <a:br>
              <a:rPr sz="4400"/>
            </a:b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 Unitarity Triang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3503520"/>
            <a:ext cx="7777080" cy="2949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1655640" cy="1122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635280" y="1844640"/>
            <a:ext cx="5400720" cy="1390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67080" y="2201760"/>
            <a:ext cx="3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3480" y="232416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KM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120" y="3357720"/>
            <a:ext cx="12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Unit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640" y="4888080"/>
            <a:ext cx="12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Unit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11120" y="4425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~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34760" y="50846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32000" y="5837040"/>
            <a:ext cx="40957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mall CP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iolation phase 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accessible in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J/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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ec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1916280"/>
            <a:ext cx="3024000" cy="13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429000"/>
            <a:ext cx="4465800" cy="23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38960" y="501336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BF4-0055-4BD7-BF4E-8499AA6B9E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76720" y="4629240"/>
            <a:ext cx="388800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44520" y="2492280"/>
            <a:ext cx="419112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utral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ime evolution of 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flavor eigenstates described by Sch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Tahoma"/>
              </a:rPr>
              <a:t>ö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inger equa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iagonalize mass (</a:t>
            </a:r>
            <a:r>
              <a:rPr b="0" i="1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 and decay (</a:t>
            </a:r>
            <a:r>
              <a:rPr b="0" i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 matrices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mass eigenstat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Flavor eigenstates differ from mass eigenstates and mass eigenvalues are also different: 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 - m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2|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|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oscillates with frequency 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ja-JP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br>
              <a:rPr sz="1800"/>
            </a:br>
            <a:r>
              <a:rPr b="0" i="1" lang="ja-JP" sz="1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precisely measur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DF 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= 17.77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0.12 ps</a:t>
            </a:r>
            <a:r>
              <a:rPr b="0" lang="ja-JP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Ø  </a:t>
            </a:r>
            <a:r>
              <a:rPr b="0" i="1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= 18.56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0.87 ps</a:t>
            </a:r>
            <a:r>
              <a:rPr b="0" lang="ja-JP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Mass eigenstates have different decay width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26920" y="3749760"/>
            <a:ext cx="5543640" cy="615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372360" y="2421000"/>
            <a:ext cx="2323800" cy="158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32000" y="6021360"/>
                <a:ext cx="6912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Γ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M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v from b factories to tevatron and lhc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581-82A9-4AD1-A8DC-E1FE25E70E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09/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7:23:34Z</dcterms:created>
  <dc:creator>Tomonobu Tomura</dc:creator>
  <dc:description/>
  <dc:language>en-US</dc:language>
  <cp:lastModifiedBy>Tomonobu Tomura</cp:lastModifiedBy>
  <dcterms:modified xsi:type="dcterms:W3CDTF">2010-09-01T04:25:00Z</dcterms:modified>
  <cp:revision>15</cp:revision>
  <dc:subject/>
  <dc:title>Recent B Physics Results from CDF</dc:title>
</cp:coreProperties>
</file>