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0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11.png" ContentType="image/png"/>
  <Override PartName="/ppt/media/image35.wmf" ContentType="image/x-wmf"/>
  <Override PartName="/ppt/media/image47.wmf" ContentType="image/x-wmf"/>
  <Override PartName="/ppt/media/image4.png" ContentType="image/png"/>
  <Override PartName="/ppt/media/image36.wmf" ContentType="image/x-wmf"/>
  <Override PartName="/ppt/media/image5.png" ContentType="image/png"/>
  <Override PartName="/ppt/media/image38.png" ContentType="image/png"/>
  <Override PartName="/ppt/media/image8.jpeg" ContentType="image/jpeg"/>
  <Override PartName="/ppt/media/image48.wmf" ContentType="image/x-wmf"/>
  <Override PartName="/ppt/media/image50.png" ContentType="image/png"/>
  <Override PartName="/ppt/media/image33.wmf" ContentType="image/x-wmf"/>
  <Override PartName="/ppt/media/image13.png" ContentType="image/png"/>
  <Override PartName="/ppt/media/image49.wmf" ContentType="image/x-wmf"/>
  <Override PartName="/ppt/media/image34.wmf" ContentType="image/x-wmf"/>
  <Override PartName="/ppt/media/image39.png" ContentType="image/png"/>
  <Override PartName="/ppt/media/image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2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780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DAE45772-7CEC-488D-B109-FE4FD1311681}" type="datetime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8840" cy="44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64320"/>
            <a:ext cx="291780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4560" y="9364320"/>
            <a:ext cx="291780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7C8EC237-06C6-4947-B760-77F473651D5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8840" cy="44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will give a talk about the study of W gamma Production with  W decays to mu nu at CDF in R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am Naho Tanimoto from Okayama University, Japa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0504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42080" cy="44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rning the signal extraction, Bhh events are collect by the SVT trig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ing the two tracks be displaced and with a relatively large opening angle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 the QCD combinatorial back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optimization of the cut a clean signal peak of about 300 events is visible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-pi invariant mass spectrum, due to the superposition of the different B0 and B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ay modes, with a good agreement with the results of the sim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ssue is then to be able to separate these contrib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DDA-64BB-4381-941E-10B83A49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888480"/>
            <a:ext cx="83059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14480"/>
            <a:ext cx="83059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96F-63CB-407A-8B20-B9BFBAE6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88848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3480" y="88848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1448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3480" y="371448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E7D-ECE8-41AF-91A2-33AE33B5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888480"/>
            <a:ext cx="267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5920" y="888480"/>
            <a:ext cx="267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4280" y="888480"/>
            <a:ext cx="267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14480"/>
            <a:ext cx="267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5920" y="3714480"/>
            <a:ext cx="267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4280" y="3714480"/>
            <a:ext cx="267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1C2-BE38-4280-9D8E-E953FC32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8F91-E854-4243-BD1D-C6ABC1E1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88848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333D-29D6-4283-B7C5-1619F25C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88848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34E0-490E-4294-850C-270B6572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88480"/>
            <a:ext cx="4053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480" y="888480"/>
            <a:ext cx="4053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AC5B-805E-4372-9DDB-0C87E173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E7A2-E6D8-46C6-B2EB-7C49DE36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E38D-48A2-48C7-9187-335F1CAB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8848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888480"/>
            <a:ext cx="4053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1448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CB70-72F6-4C89-B5FA-1A3E4BA3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88848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4B21-026A-4AFD-BA94-6DECA27D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88480"/>
            <a:ext cx="4053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88848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3480" y="371448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567E-45A0-45E1-B43E-231F8B60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88848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88848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14480"/>
            <a:ext cx="83059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1AFB-5440-4B63-94DF-6F54C7F0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888480"/>
            <a:ext cx="83059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714480"/>
            <a:ext cx="83059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ABFE-F648-462B-A49D-2D909AB1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8848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3480" y="88848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1448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3480" y="371448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578E-6153-46CA-BF92-284A8B72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888480"/>
            <a:ext cx="267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5920" y="888480"/>
            <a:ext cx="267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4280" y="888480"/>
            <a:ext cx="267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714480"/>
            <a:ext cx="267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5920" y="3714480"/>
            <a:ext cx="267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4280" y="3714480"/>
            <a:ext cx="267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A1E5-7A4C-490F-8F48-002C1C02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8848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E61F-245A-4CE3-83A0-3C0F9FBB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888480"/>
            <a:ext cx="4053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3480" y="888480"/>
            <a:ext cx="4053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D4C-F2CF-41BB-99A7-C5A46E04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DB5-B049-4E40-8601-97F4584F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C105-7592-4897-A19D-1FC139AA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88848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480" y="888480"/>
            <a:ext cx="4053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1448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160-A000-424E-AC80-7D1255A3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888480"/>
            <a:ext cx="4053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88848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3480" y="371448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93D7-BDDC-40E0-BC95-07341F32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88848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88848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14480"/>
            <a:ext cx="83059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C90B-1149-4197-AB4E-D919F5EB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8848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0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52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11CC-9EFE-4E99-9F7C-BBCAF195977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8205840" y="25560"/>
            <a:ext cx="849240" cy="8632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52280" y="101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2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E365-C4C1-4169-8245-EC5125184B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280" y="101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205840" y="25560"/>
            <a:ext cx="849240" cy="86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1.png"/><Relationship Id="rId5" Type="http://schemas.openxmlformats.org/officeDocument/2006/relationships/image" Target="../media/image14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5.png"/><Relationship Id="rId10" Type="http://schemas.openxmlformats.org/officeDocument/2006/relationships/image" Target="../media/image14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.png"/><Relationship Id="rId6" Type="http://schemas.openxmlformats.org/officeDocument/2006/relationships/image" Target="../media/image11.png"/><Relationship Id="rId7" Type="http://schemas.openxmlformats.org/officeDocument/2006/relationships/image" Target="../media/image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package" Target="../embeddings/oleObject1.docx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1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32.png"/><Relationship Id="rId7" Type="http://schemas.openxmlformats.org/officeDocument/2006/relationships/image" Target="../media/image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1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.png"/><Relationship Id="rId7" Type="http://schemas.openxmlformats.org/officeDocument/2006/relationships/image" Target="../media/image1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8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CDF Run II </a:t>
            </a:r>
            <a:r>
              <a:rPr b="0" lang="ja-JP" sz="4000" spc="-1" strike="noStrike">
                <a:solidFill>
                  <a:srgbClr val="000099"/>
                </a:solidFill>
                <a:latin typeface="Arial"/>
              </a:rPr>
              <a:t>実験の現状報告 １</a:t>
            </a:r>
            <a:br>
              <a:rPr sz="4000"/>
            </a:br>
            <a:br>
              <a:rPr sz="3200"/>
            </a:br>
            <a:r>
              <a:rPr b="0" lang="ja-JP" sz="3600" spc="-1" strike="noStrike">
                <a:solidFill>
                  <a:srgbClr val="33cc33"/>
                </a:solidFill>
                <a:latin typeface="Arial"/>
              </a:rPr>
              <a:t>電弱相互作用</a:t>
            </a: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0" lang="ja-JP" sz="3600" spc="-1" strike="noStrike">
                <a:solidFill>
                  <a:srgbClr val="33cc33"/>
                </a:solidFill>
                <a:latin typeface="Arial"/>
              </a:rPr>
              <a:t>　</a:t>
            </a: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B</a:t>
            </a:r>
            <a:r>
              <a:rPr b="0" lang="ja-JP" sz="3600" spc="-1" strike="noStrike">
                <a:solidFill>
                  <a:srgbClr val="33cc33"/>
                </a:solidFill>
                <a:latin typeface="Arial"/>
              </a:rPr>
              <a:t>の物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岡山大学理学部　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中　　野　　逸　　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日本物理学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95640" y="127080"/>
            <a:ext cx="4248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.  W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63640" y="1131840"/>
            <a:ext cx="425916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central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7 GeV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(l-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√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η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Φ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&gt;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68360" y="2797200"/>
            <a:ext cx="3995640" cy="3306600"/>
            <a:chOff x="468360" y="2797200"/>
            <a:chExt cx="3995640" cy="3306600"/>
          </a:xfrm>
        </p:grpSpPr>
        <p:pic>
          <p:nvPicPr>
            <p:cNvPr id="216" name="" descr=""/>
            <p:cNvPicPr/>
            <p:nvPr/>
          </p:nvPicPr>
          <p:blipFill>
            <a:blip r:embed="rId4"/>
            <a:stretch/>
          </p:blipFill>
          <p:spPr>
            <a:xfrm>
              <a:off x="468360" y="2797200"/>
              <a:ext cx="3995640" cy="33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 txBox="1"/>
            <p:nvPr/>
          </p:nvSpPr>
          <p:spPr>
            <a:xfrm>
              <a:off x="468360" y="2797200"/>
              <a:ext cx="3995640" cy="330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51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4464000" y="2736720"/>
            <a:ext cx="4213440" cy="3422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183280" y="3139920"/>
            <a:ext cx="252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7 s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3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27280" y="3994200"/>
            <a:ext cx="9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3139920"/>
            <a:ext cx="194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33 s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41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630864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σ</a:t>
            </a:r>
            <a:r>
              <a:rPr b="0" lang="en-US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0" lang="el-GR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•</a:t>
            </a:r>
            <a:r>
              <a:rPr b="0" lang="en-US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Br </a:t>
            </a:r>
            <a:r>
              <a:rPr b="0" lang="en-GB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= 17.2 ± 2.2 (stat.) ± 2.0 (syst.) ± 1.1(lumi.) pb              </a:t>
            </a:r>
            <a:r>
              <a:rPr b="0" lang="el-GR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σ</a:t>
            </a:r>
            <a:r>
              <a:rPr b="0" lang="en-US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0" lang="el-GR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•</a:t>
            </a:r>
            <a:r>
              <a:rPr b="0" lang="en-US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Br </a:t>
            </a:r>
            <a:r>
              <a:rPr b="0" lang="en-GB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= 5.8 ± 1.0 (stat.) ± 0.4 (syst.) ± 0.4 (lumi.) pb</a:t>
            </a:r>
            <a:r>
              <a:rPr b="0" lang="en-GB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341360"/>
            <a:ext cx="4211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0aS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岡山大 谷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tudy of Wγ production with W→μν at CDF in Run 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2920" y="2736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W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03640" y="234000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Z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4356000" cy="4041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3902040" cy="4146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564000" y="26028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27280" y="2286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2.2.  W/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そ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91440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  <a:ea typeface="Arial Unicode MS"/>
              </a:rPr>
              <a:t>Wγ and Zγ coup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4360" y="580536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Cross sections and mass spectra are consistent with 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68000" y="74160"/>
            <a:ext cx="403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3. W 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1557360"/>
            <a:ext cx="52801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lepton 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site-charge, high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m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v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to events with j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∫</a:t>
            </a:r>
            <a:r>
              <a:rPr b="0" lang="en-US" sz="1800" spc="-1" strike="noStrike">
                <a:solidFill>
                  <a:srgbClr val="ff0066"/>
                </a:solidFill>
                <a:latin typeface="Monotype Corsiva"/>
                <a:ea typeface="Arial"/>
              </a:rPr>
              <a:t>L</a:t>
            </a:r>
            <a:r>
              <a:rPr b="0" lang="en-US" sz="1600" spc="-1" strike="noStrike">
                <a:solidFill>
                  <a:srgbClr val="ff0066"/>
                </a:solidFill>
                <a:latin typeface="Monotype Corsiva"/>
                <a:ea typeface="Arial"/>
              </a:rPr>
              <a:t>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= 126 pb</a:t>
            </a:r>
            <a:r>
              <a:rPr b="0" lang="en-US" sz="16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events 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with 1.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0.3 BG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Run I   @ ∫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108 pb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2 events exp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.3 background, 6.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 1.5  </a:t>
            </a:r>
            <a:r>
              <a:rPr b="0" lang="en-US" sz="1800" spc="-1" strike="noStrike">
                <a:solidFill>
                  <a:srgbClr val="00cc99"/>
                </a:solidFill>
                <a:latin typeface="Arial"/>
                <a:ea typeface="Arial"/>
              </a:rPr>
              <a:t>W W → l</a:t>
            </a:r>
            <a:r>
              <a:rPr b="0" lang="en-GB" sz="1800" spc="-1" strike="noStrike">
                <a:solidFill>
                  <a:srgbClr val="00cc99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cc99"/>
                </a:solidFill>
                <a:latin typeface="Arial"/>
                <a:ea typeface="Arial"/>
              </a:rPr>
              <a:t>l’</a:t>
            </a:r>
            <a:r>
              <a:rPr b="0" lang="en-GB" sz="1800" spc="-1" strike="noStrike">
                <a:solidFill>
                  <a:srgbClr val="00cc99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>
                <a:solidFill>
                  <a:srgbClr val="00cc99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43280" y="836640"/>
            <a:ext cx="4176720" cy="3527280"/>
            <a:chOff x="4643280" y="836640"/>
            <a:chExt cx="4176720" cy="3527280"/>
          </a:xfrm>
        </p:grpSpPr>
        <p:pic>
          <p:nvPicPr>
            <p:cNvPr id="235" name="" descr=""/>
            <p:cNvPicPr/>
            <p:nvPr/>
          </p:nvPicPr>
          <p:blipFill>
            <a:blip r:embed="rId9"/>
            <a:srcRect l="0" t="5738" r="0" b="4343"/>
            <a:stretch/>
          </p:blipFill>
          <p:spPr>
            <a:xfrm>
              <a:off x="4643280" y="836640"/>
              <a:ext cx="4176720" cy="35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 txBox="1"/>
            <p:nvPr/>
          </p:nvSpPr>
          <p:spPr>
            <a:xfrm>
              <a:off x="4643280" y="836640"/>
              <a:ext cx="4176720" cy="352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51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11"/>
          <a:srcRect l="1911" t="56917" r="8468" b="30975"/>
          <a:stretch/>
        </p:blipFill>
        <p:spPr>
          <a:xfrm>
            <a:off x="754200" y="5084640"/>
            <a:ext cx="6769080" cy="1295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050920" y="944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Higgs, SUSY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物理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hysics at Hadron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095560" y="2320920"/>
            <a:ext cx="46483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ormous cross-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1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n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-5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n “reconstructab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At 4x10</a:t>
            </a:r>
            <a:r>
              <a:rPr b="1" lang="en-US" sz="1800" spc="-1" strike="noStrike" baseline="30000">
                <a:solidFill>
                  <a:srgbClr val="00279f"/>
                </a:solidFill>
                <a:latin typeface="Arial"/>
              </a:rPr>
              <a:t>31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cm</a:t>
            </a:r>
            <a:r>
              <a:rPr b="1" lang="en-US" sz="1800" spc="-1" strike="noStrike" baseline="30000">
                <a:solidFill>
                  <a:srgbClr val="00279f"/>
                </a:solidFill>
                <a:latin typeface="Arial"/>
              </a:rPr>
              <a:t>-2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</a:t>
            </a:r>
            <a:r>
              <a:rPr b="1" lang="en-US" sz="1800" spc="-1" strike="noStrike" baseline="30000">
                <a:solidFill>
                  <a:srgbClr val="00279f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~150Hz of reconstructable </a:t>
            </a:r>
            <a:r>
              <a:rPr b="1" i="1" lang="en-US" sz="1800" spc="-1" strike="noStrike">
                <a:solidFill>
                  <a:srgbClr val="00279f"/>
                </a:solidFill>
                <a:latin typeface="Arial"/>
              </a:rPr>
              <a:t>BB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ecies p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 baseline="-18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 baseline="-18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B</a:t>
            </a:r>
            <a:r>
              <a:rPr b="1" i="1" lang="en-US" sz="1800" spc="-1" strike="noStrike" baseline="-18000">
                <a:solidFill>
                  <a:srgbClr val="fc0128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B</a:t>
            </a:r>
            <a:r>
              <a:rPr b="1" i="1" lang="en-US" sz="1800" spc="-1" strike="noStrike" baseline="-18000">
                <a:solidFill>
                  <a:srgbClr val="33cc3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fc0128"/>
                </a:solidFill>
                <a:latin typeface="Symbol"/>
                <a:ea typeface="Symbol"/>
              </a:rPr>
              <a:t></a:t>
            </a:r>
            <a:r>
              <a:rPr b="1" i="1" lang="en-US" sz="1800" spc="-1" strike="noStrike" baseline="-18000">
                <a:solidFill>
                  <a:srgbClr val="fc0128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095200" y="5157720"/>
            <a:ext cx="441972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inelastic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ing and reconstruction are challe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6080" y="1828800"/>
            <a:ext cx="8305560" cy="3988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Lucida Sans"/>
              </a:rPr>
              <a:t>b</a:t>
            </a:r>
            <a:r>
              <a:rPr b="1" lang="en-US" sz="2000" spc="-1" strike="noStrike">
                <a:solidFill>
                  <a:srgbClr val="fc0128"/>
                </a:solidFill>
                <a:latin typeface="Lucida Sans"/>
              </a:rPr>
              <a:t>’s produced by strong interaction, decay by weak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95480" y="6629400"/>
            <a:ext cx="3048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3429000"/>
            <a:ext cx="3565440" cy="647640"/>
          </a:xfrm>
          <a:prstGeom prst="rect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寿　命（そ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dron Life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915080" y="3592440"/>
            <a:ext cx="4076640" cy="3075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62000" y="838080"/>
            <a:ext cx="513072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71360" indent="-1713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lifetimes equal in spectator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1360">
              <a:spcBef>
                <a:spcPts val="4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ces from interference &amp; other nonspectator 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99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v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ark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pansion predicts the lifetimes for different B hadron spe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1360">
              <a:spcBef>
                <a:spcPts val="400"/>
              </a:spcBef>
              <a:buClr>
                <a:srgbClr val="fc0128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c0128"/>
                </a:solidFill>
                <a:latin typeface="Arial"/>
              </a:rPr>
              <a:t>B</a:t>
            </a:r>
            <a:r>
              <a:rPr b="0" i="1" lang="en-US" sz="1600" spc="-1" strike="noStrike" baseline="30000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,</a:t>
            </a:r>
            <a:r>
              <a:rPr b="0" i="1" lang="en-US" sz="1600" spc="-1" strike="noStrike">
                <a:solidFill>
                  <a:srgbClr val="fc0128"/>
                </a:solidFill>
                <a:latin typeface="Arial"/>
              </a:rPr>
              <a:t>B</a:t>
            </a:r>
            <a:r>
              <a:rPr b="0" i="1" lang="en-US" sz="16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 lifetimes measured to better than 1%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1360">
              <a:spcBef>
                <a:spcPts val="4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600" spc="-1" strike="noStrike" baseline="-18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nown to about 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1360">
              <a:spcBef>
                <a:spcPts val="349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P/CDF (Run I)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US" sz="1600" spc="-1" strike="noStrike" baseline="-18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ifetime lower than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Q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edi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1360">
              <a:spcBef>
                <a:spcPts val="349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evatron can contribute to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i="1" lang="en-US" sz="2000" spc="-1" strike="noStrike" baseline="-16000">
                <a:solidFill>
                  <a:srgbClr val="00279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i="1" lang="en-US" sz="2000" spc="-1" strike="noStrike" baseline="-16000">
                <a:solidFill>
                  <a:srgbClr val="00279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</a:t>
            </a:r>
            <a:r>
              <a:rPr b="0" i="1" lang="en-US" sz="2000" spc="-1" strike="noStrike" baseline="-18000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(and other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-baryon) life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133960" y="1247760"/>
          <a:ext cx="3857760" cy="27529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33960" y="1247760"/>
                    <a:ext cx="3857760" cy="27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5038560" y="800280"/>
            <a:ext cx="41911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Lucida Sans"/>
              </a:rPr>
              <a:t>Heavy Flavor Averag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c0128"/>
                </a:solidFill>
                <a:latin typeface="Arial"/>
              </a:rPr>
              <a:t>http://www.slac.stanford.edu/xorg/hfag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2000" y="3429000"/>
            <a:ext cx="4876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57200" y="2475000"/>
                <a:ext cx="40766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τ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τ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τ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≫</m:t>
                    </m:r>
                    <m:r>
                      <m:t xml:space="preserve">τ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00200" y="263160"/>
            <a:ext cx="6500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寿　命（そ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fetime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600200" y="1188720"/>
            <a:ext cx="3889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1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.06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.02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)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53920" y="2381400"/>
            <a:ext cx="5038920" cy="37764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600200" y="1623960"/>
            <a:ext cx="38894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63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.05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.04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)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5447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279f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279f"/>
                </a:solidFill>
                <a:latin typeface="Lucida Sans"/>
              </a:rPr>
              <a:t>(</a:t>
            </a:r>
            <a:r>
              <a:rPr b="0" i="1" lang="en-US" sz="2800" spc="-1" strike="noStrike">
                <a:solidFill>
                  <a:srgbClr val="00279f"/>
                </a:solidFill>
                <a:latin typeface="Lucida Sans"/>
              </a:rPr>
              <a:t>B</a:t>
            </a:r>
            <a:r>
              <a:rPr b="0" i="1" lang="en-US" sz="2800" spc="-1" strike="noStrike" baseline="30000">
                <a:solidFill>
                  <a:srgbClr val="00279f"/>
                </a:solidFill>
                <a:latin typeface="Lucida Sans"/>
              </a:rPr>
              <a:t>+</a:t>
            </a:r>
            <a:r>
              <a:rPr b="0" lang="en-US" sz="2800" spc="-1" strike="noStrike">
                <a:solidFill>
                  <a:srgbClr val="00279f"/>
                </a:solidFill>
                <a:latin typeface="Lucid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102564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279f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279f"/>
                </a:solidFill>
                <a:latin typeface="Lucida Sans"/>
              </a:rPr>
              <a:t>(</a:t>
            </a:r>
            <a:r>
              <a:rPr b="0" i="1" lang="en-US" sz="2800" spc="-1" strike="noStrike">
                <a:solidFill>
                  <a:srgbClr val="00279f"/>
                </a:solidFill>
                <a:latin typeface="Lucida Sans"/>
              </a:rPr>
              <a:t>B</a:t>
            </a:r>
            <a:r>
              <a:rPr b="0" i="1" lang="en-US" sz="2800" spc="-1" strike="noStrike" baseline="30000">
                <a:solidFill>
                  <a:srgbClr val="00279f"/>
                </a:solidFill>
                <a:latin typeface="Lucida Sans"/>
              </a:rPr>
              <a:t>0</a:t>
            </a:r>
            <a:r>
              <a:rPr b="0" lang="en-US" sz="2800" spc="-1" strike="noStrike">
                <a:solidFill>
                  <a:srgbClr val="00279f"/>
                </a:solidFill>
                <a:latin typeface="Lucid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948360" y="5189400"/>
          <a:ext cx="1524240" cy="78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48360" y="5189400"/>
                    <a:ext cx="15242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6156360" y="4896000"/>
            <a:ext cx="2600280" cy="107604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56360" y="48960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Lucida Sans"/>
              </a:rPr>
              <a:t>Proper decay leng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92840" y="1646280"/>
            <a:ext cx="312408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Lucida Sans"/>
              </a:rPr>
              <a:t>Trigger on low </a:t>
            </a:r>
            <a:r>
              <a:rPr b="0" i="1" lang="en-US" sz="2000" spc="-1" strike="noStrike">
                <a:solidFill>
                  <a:srgbClr val="00279f"/>
                </a:solidFill>
                <a:latin typeface="Lucida Sans"/>
              </a:rPr>
              <a:t>p</a:t>
            </a:r>
            <a:r>
              <a:rPr b="0" i="1" lang="en-US" sz="2000" spc="-1" strike="noStrike" baseline="-25000">
                <a:solidFill>
                  <a:srgbClr val="00279f"/>
                </a:solidFill>
                <a:latin typeface="Lucida Sans"/>
              </a:rPr>
              <a:t>T</a:t>
            </a:r>
            <a:r>
              <a:rPr b="0" i="1" lang="en-US" sz="2000" spc="-1" strike="noStrike">
                <a:solidFill>
                  <a:srgbClr val="00279f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Lucida Sans"/>
              </a:rPr>
              <a:t>dimuons (1.5-2GeV/</a:t>
            </a:r>
            <a:r>
              <a:rPr b="0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279f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Lucida Sans"/>
              </a:rPr>
              <a:t>Fully recon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250"/>
              </a:spcBef>
              <a:buClr>
                <a:srgbClr val="fc0128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Lucida Sans"/>
                <a:ea typeface="ＭＳ Ｐゴシック"/>
              </a:rPr>
              <a:t>J/</a:t>
            </a:r>
            <a:r>
              <a:rPr b="0" i="1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279f"/>
                </a:solidFill>
                <a:latin typeface="Lucida Sans"/>
                <a:ea typeface="ＭＳ Ｐゴシック"/>
              </a:rPr>
              <a:t>, </a:t>
            </a:r>
            <a:r>
              <a:rPr b="0" i="1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279f"/>
                </a:solidFill>
                <a:latin typeface="Lucida Sans"/>
                <a:ea typeface="ＭＳ Ｐゴシック"/>
              </a:rPr>
              <a:t>(2s)</a:t>
            </a:r>
            <a:r>
              <a:rPr b="0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30000">
                <a:solidFill>
                  <a:srgbClr val="00279f"/>
                </a:solidFill>
                <a:latin typeface="Lucida Sans"/>
                <a:ea typeface="ＭＳ Ｐゴシック"/>
              </a:rPr>
              <a:t>+</a:t>
            </a:r>
            <a:r>
              <a:rPr b="0" i="1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30000">
                <a:solidFill>
                  <a:srgbClr val="00279f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250"/>
              </a:spcBef>
              <a:buClr>
                <a:srgbClr val="fc0128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Lucida Sans"/>
                <a:ea typeface="ＭＳ Ｐゴシック"/>
              </a:rPr>
              <a:t>B</a:t>
            </a:r>
            <a:r>
              <a:rPr b="0" i="1" lang="en-US" sz="2000" spc="-1" strike="noStrike" baseline="30000">
                <a:solidFill>
                  <a:srgbClr val="00279f"/>
                </a:solidFill>
                <a:latin typeface="Lucida Sans"/>
                <a:ea typeface="ＭＳ Ｐゴシック"/>
              </a:rPr>
              <a:t>+</a:t>
            </a:r>
            <a:r>
              <a:rPr b="0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279f"/>
                </a:solidFill>
                <a:latin typeface="Lucida Sans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279f"/>
                </a:solidFill>
                <a:latin typeface="Lucida Sans"/>
                <a:ea typeface="ＭＳ Ｐゴシック"/>
              </a:rPr>
              <a:t>J/</a:t>
            </a:r>
            <a:r>
              <a:rPr b="0" i="1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>
                <a:solidFill>
                  <a:srgbClr val="00279f"/>
                </a:solidFill>
                <a:latin typeface="Lucida Sans"/>
                <a:ea typeface="ＭＳ Ｐゴシック"/>
              </a:rPr>
              <a:t>K</a:t>
            </a:r>
            <a:r>
              <a:rPr b="0" i="1" lang="en-US" sz="2000" spc="-1" strike="noStrike" baseline="30000">
                <a:solidFill>
                  <a:srgbClr val="00279f"/>
                </a:solidFill>
                <a:latin typeface="Lucida Sans"/>
                <a:ea typeface="ＭＳ Ｐゴシック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250"/>
              </a:spcBef>
              <a:buClr>
                <a:srgbClr val="fc0128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Lucida Sans"/>
                <a:ea typeface="ＭＳ Ｐゴシック"/>
              </a:rPr>
              <a:t>B</a:t>
            </a:r>
            <a:r>
              <a:rPr b="0" i="1" lang="en-US" sz="2000" spc="-1" strike="noStrike" baseline="30000">
                <a:solidFill>
                  <a:srgbClr val="00279f"/>
                </a:solidFill>
                <a:latin typeface="Lucida Sans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00279f"/>
                </a:solidFill>
                <a:latin typeface="Lucida San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279f"/>
                </a:solidFill>
                <a:latin typeface="Lucida Sans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279f"/>
                </a:solidFill>
                <a:latin typeface="Lucida Sans"/>
                <a:ea typeface="ＭＳ Ｐゴシック"/>
              </a:rPr>
              <a:t>J/</a:t>
            </a:r>
            <a:r>
              <a:rPr b="0" i="1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>
                <a:solidFill>
                  <a:srgbClr val="00279f"/>
                </a:solidFill>
                <a:latin typeface="Lucida Sans"/>
                <a:ea typeface="ＭＳ Ｐゴシック"/>
              </a:rPr>
              <a:t>K*, J/</a:t>
            </a:r>
            <a:r>
              <a:rPr b="0" i="1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>
                <a:solidFill>
                  <a:srgbClr val="00279f"/>
                </a:solidFill>
                <a:latin typeface="Lucida Sans"/>
                <a:ea typeface="ＭＳ Ｐゴシック"/>
              </a:rPr>
              <a:t>K</a:t>
            </a:r>
            <a:r>
              <a:rPr b="0" i="1" lang="en-US" sz="2000" spc="-1" strike="noStrike" baseline="-10000">
                <a:solidFill>
                  <a:srgbClr val="00279f"/>
                </a:solidFill>
                <a:latin typeface="Lucida Sans"/>
                <a:ea typeface="ＭＳ Ｐゴシック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250"/>
              </a:spcBef>
              <a:buClr>
                <a:srgbClr val="fc0128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Lucida Sans"/>
                <a:ea typeface="ＭＳ Ｐゴシック"/>
              </a:rPr>
              <a:t>B</a:t>
            </a:r>
            <a:r>
              <a:rPr b="0" i="1" lang="en-US" sz="2000" spc="-1" strike="noStrike" baseline="-10000">
                <a:solidFill>
                  <a:srgbClr val="00279f"/>
                </a:solidFill>
                <a:latin typeface="Lucida Sans"/>
                <a:ea typeface="ＭＳ Ｐゴシック"/>
              </a:rPr>
              <a:t>s</a:t>
            </a:r>
            <a:r>
              <a:rPr b="0" i="1" lang="en-US" sz="2000" spc="-1" strike="noStrike">
                <a:solidFill>
                  <a:srgbClr val="00279f"/>
                </a:solidFill>
                <a:latin typeface="Lucida San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279f"/>
                </a:solidFill>
                <a:latin typeface="Lucida Sans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279f"/>
                </a:solidFill>
                <a:latin typeface="Lucida Sans"/>
                <a:ea typeface="ＭＳ Ｐゴシック"/>
              </a:rPr>
              <a:t>J/</a:t>
            </a:r>
            <a:r>
              <a:rPr b="0" i="1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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250"/>
              </a:spcBef>
              <a:buClr>
                <a:srgbClr val="fc0128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</a:t>
            </a:r>
            <a:r>
              <a:rPr b="0" i="1" lang="en-US" sz="2000" spc="-1" strike="noStrike" baseline="-10000">
                <a:solidFill>
                  <a:srgbClr val="00279f"/>
                </a:solidFill>
                <a:latin typeface="Lucida Sans"/>
                <a:ea typeface="ＭＳ Ｐゴシック"/>
              </a:rPr>
              <a:t>b</a:t>
            </a:r>
            <a:r>
              <a:rPr b="0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279f"/>
                </a:solidFill>
                <a:latin typeface="Lucida Sans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279f"/>
                </a:solidFill>
                <a:latin typeface="Lucida Sans"/>
                <a:ea typeface="ＭＳ Ｐゴシック"/>
              </a:rPr>
              <a:t>J/</a:t>
            </a:r>
            <a:r>
              <a:rPr b="0" i="1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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652760" y="2816280"/>
            <a:ext cx="5079960" cy="31845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14480" y="1041480"/>
            <a:ext cx="68007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/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ith J/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ψ→μ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μ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Φ→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3015d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15d1"/>
                </a:solidFill>
                <a:latin typeface="Arial"/>
              </a:rPr>
              <a:t>B</a:t>
            </a:r>
            <a:r>
              <a:rPr b="1" lang="en-US" sz="2000" spc="-1" strike="noStrike" baseline="30000">
                <a:solidFill>
                  <a:srgbClr val="3015d1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3015d1"/>
                </a:solidFill>
                <a:latin typeface="Arial"/>
                <a:ea typeface="Arial"/>
              </a:rPr>
              <a:t>→ J/</a:t>
            </a:r>
            <a:r>
              <a:rPr b="1" lang="el-GR" sz="2000" spc="-1" strike="noStrike">
                <a:solidFill>
                  <a:srgbClr val="3015d1"/>
                </a:solidFill>
                <a:latin typeface="Arial"/>
              </a:rPr>
              <a:t>Ψ</a:t>
            </a:r>
            <a:r>
              <a:rPr b="1" lang="en-US" sz="2000" spc="-1" strike="noStrike">
                <a:solidFill>
                  <a:srgbClr val="3015d1"/>
                </a:solidFill>
                <a:latin typeface="Arial"/>
              </a:rPr>
              <a:t>K</a:t>
            </a:r>
            <a:r>
              <a:rPr b="1" lang="en-US" sz="2000" spc="-1" strike="noStrike" baseline="30000">
                <a:solidFill>
                  <a:srgbClr val="3015d1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3015d1"/>
                </a:solidFill>
                <a:latin typeface="Arial"/>
              </a:rPr>
              <a:t>, B</a:t>
            </a:r>
            <a:r>
              <a:rPr b="1" lang="en-US" sz="2000" spc="-1" strike="noStrike" baseline="30000">
                <a:solidFill>
                  <a:srgbClr val="3015d1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015d1"/>
                </a:solidFill>
                <a:latin typeface="Arial"/>
                <a:ea typeface="Arial"/>
              </a:rPr>
              <a:t>→J/</a:t>
            </a:r>
            <a:r>
              <a:rPr b="1" lang="el-GR" sz="2000" spc="-1" strike="noStrike">
                <a:solidFill>
                  <a:srgbClr val="3015d1"/>
                </a:solidFill>
                <a:latin typeface="Arial"/>
                <a:ea typeface="Arial"/>
              </a:rPr>
              <a:t>Ψ</a:t>
            </a:r>
            <a:r>
              <a:rPr b="1" lang="en-US" sz="2000" spc="-1" strike="noStrike">
                <a:solidFill>
                  <a:srgbClr val="3015d1"/>
                </a:solidFill>
                <a:latin typeface="Arial"/>
                <a:ea typeface="Arial"/>
              </a:rPr>
              <a:t>K</a:t>
            </a:r>
            <a:r>
              <a:rPr b="1" lang="en-US" sz="2000" spc="-1" strike="noStrike" baseline="30000">
                <a:solidFill>
                  <a:srgbClr val="3015d1"/>
                </a:solidFill>
                <a:latin typeface="Arial"/>
                <a:ea typeface="Arial"/>
              </a:rPr>
              <a:t>*0  </a:t>
            </a:r>
            <a:r>
              <a:rPr b="1" lang="en-US" sz="2000" spc="-1" strike="noStrike">
                <a:solidFill>
                  <a:srgbClr val="3015d1"/>
                </a:solidFill>
                <a:latin typeface="Arial"/>
                <a:ea typeface="Arial"/>
              </a:rPr>
              <a:t>check technique, systema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52760" y="5397480"/>
            <a:ext cx="18396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86880" y="5664240"/>
            <a:ext cx="237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02480" y="5424480"/>
            <a:ext cx="18432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7337520" y="1041480"/>
                <a:ext cx="15778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155760" y="109440"/>
            <a:ext cx="3033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.1. </a:t>
            </a:r>
            <a:r>
              <a:rPr b="0" lang="ja-JP" sz="2800" spc="-1" strike="noStrike">
                <a:solidFill>
                  <a:srgbClr val="3333cc"/>
                </a:solidFill>
                <a:latin typeface="Arial"/>
              </a:rPr>
              <a:t>寿　命（その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3333cc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Meso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Life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10080" y="6084720"/>
            <a:ext cx="184320" cy="260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305000" y="1920960"/>
            <a:ext cx="6032160" cy="1194840"/>
            <a:chOff x="1305000" y="1920960"/>
            <a:chExt cx="6032160" cy="1194840"/>
          </a:xfrm>
        </p:grpSpPr>
        <p:sp>
          <p:nvSpPr>
            <p:cNvPr id="274" name=""/>
            <p:cNvSpPr/>
            <p:nvPr/>
          </p:nvSpPr>
          <p:spPr>
            <a:xfrm>
              <a:off x="1305000" y="1920960"/>
              <a:ext cx="6032160" cy="7873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lifetime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 - PDG 1.461 ± 0.057 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                           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.33 ± 0.14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(stat)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± 0.02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(sys)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3215880" y="2608920"/>
                  <a:ext cx="336240" cy="50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寿　命（そ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2400"/>
            </a:br>
            <a:r>
              <a:rPr b="0" i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US" sz="2400" spc="-1" strike="noStrike" baseline="-18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f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888480"/>
            <a:ext cx="40766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lly reconstruct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Symbol"/>
                <a:ea typeface="Symbol"/>
              </a:rPr>
              <a:t></a:t>
            </a:r>
            <a:r>
              <a:rPr b="1" i="1" lang="en-US" sz="1800" spc="-1" strike="noStrike" baseline="-18000">
                <a:solidFill>
                  <a:srgbClr val="fc0128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fc0128"/>
                </a:solidFill>
                <a:latin typeface="Symbol"/>
                <a:ea typeface="Symbol"/>
              </a:rPr>
              <a:t>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J/</a:t>
            </a:r>
            <a:r>
              <a:rPr b="1" i="1" lang="en-US" sz="1800" spc="-1" strike="noStrike">
                <a:solidFill>
                  <a:srgbClr val="fc0128"/>
                </a:solidFill>
                <a:latin typeface="Symbol"/>
                <a:ea typeface="Symbol"/>
              </a:rPr>
              <a:t>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ith J/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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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469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evious LEP/CDF measurements used semileptonic 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US" sz="1400" spc="-1" strike="noStrike" baseline="-18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US" sz="1400" spc="-1" strike="noStrike" baseline="-16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ystematic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4800600"/>
            <a:ext cx="19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19840" y="3844800"/>
            <a:ext cx="4124160" cy="862560"/>
          </a:xfrm>
          <a:prstGeom prst="rect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019840" y="4067280"/>
          <a:ext cx="4124160" cy="48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19840" y="4067280"/>
                    <a:ext cx="41241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5303880" y="3232080"/>
            <a:ext cx="180972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Lucida Sans"/>
              </a:rPr>
              <a:t>46</a:t>
            </a:r>
            <a:r>
              <a:rPr b="0" lang="en-US" sz="2000" spc="-1" strike="noStrike">
                <a:solidFill>
                  <a:srgbClr val="fc0128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c0128"/>
                </a:solidFill>
                <a:latin typeface="Lucida Sans"/>
              </a:rPr>
              <a:t>9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867280" y="1252440"/>
            <a:ext cx="2743200" cy="1776240"/>
            <a:chOff x="5867280" y="1252440"/>
            <a:chExt cx="2743200" cy="1776240"/>
          </a:xfrm>
        </p:grpSpPr>
        <p:sp>
          <p:nvSpPr>
            <p:cNvPr id="284" name=""/>
            <p:cNvSpPr/>
            <p:nvPr/>
          </p:nvSpPr>
          <p:spPr>
            <a:xfrm flipV="1">
              <a:off x="6703920" y="1427040"/>
              <a:ext cx="1071720" cy="42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03920" y="1851120"/>
              <a:ext cx="1028880" cy="84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367760" y="1956960"/>
              <a:ext cx="685800" cy="18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46640" y="1803600"/>
              <a:ext cx="8604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6146280" y="1803600"/>
              <a:ext cx="8604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89840" y="1851120"/>
              <a:ext cx="514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89840" y="194472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03920" y="194472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08560" y="1893960"/>
              <a:ext cx="4716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279f"/>
                  </a:solidFill>
                  <a:latin typeface="Arial"/>
                </a:rPr>
                <a:t>L</a:t>
              </a:r>
              <a:r>
                <a:rPr b="1" i="1" lang="en-US" sz="1600" spc="-1" strike="noStrike" baseline="-16000">
                  <a:solidFill>
                    <a:srgbClr val="00279f"/>
                  </a:solidFill>
                  <a:latin typeface="Arial"/>
                </a:rPr>
                <a:t>x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78640" y="2038320"/>
              <a:ext cx="12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6189480" y="2038320"/>
              <a:ext cx="12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75560" y="2508120"/>
              <a:ext cx="60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28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</a:t>
              </a:r>
              <a:r>
                <a:rPr b="0" i="1" lang="en-US" sz="28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12160" y="2298600"/>
              <a:ext cx="59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97880" y="1252440"/>
              <a:ext cx="6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28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</a:t>
              </a:r>
              <a:r>
                <a:rPr b="0" i="1" lang="ja-JP" sz="2800" spc="-1" strike="noStrike" baseline="30000">
                  <a:solidFill>
                    <a:srgbClr val="00279f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9720" y="1892160"/>
              <a:ext cx="59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2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</a:t>
              </a:r>
              <a:r>
                <a:rPr b="0" i="1" lang="ja-JP" sz="2800" spc="-1" strike="noStrike" baseline="30000">
                  <a:solidFill>
                    <a:srgbClr val="00279f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67280" y="1549440"/>
              <a:ext cx="857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Lucida Sans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67760" y="2144880"/>
              <a:ext cx="68580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24800" y="1863720"/>
              <a:ext cx="642960" cy="281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0" y="2508120"/>
            <a:ext cx="5019840" cy="42228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851280" y="191628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65 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19840" y="5303880"/>
            <a:ext cx="3873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First lifetime from fully reconstructed Λ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 dec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352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dron M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95000"/>
            <a:ext cx="408312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masses using fully reconstruct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/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tatistic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/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s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/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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calib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atic uncertainty from tracking momentum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SzPct val="1286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gnetic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SzPct val="1286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terial (energy lo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onsistent with world aver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B</a:t>
            </a:r>
            <a:r>
              <a:rPr b="1" i="1" lang="en-US" sz="1800" spc="-1" strike="noStrike" baseline="-18000">
                <a:solidFill>
                  <a:srgbClr val="fc0128"/>
                </a:solidFill>
                <a:latin typeface="Arial"/>
              </a:rPr>
              <a:t>s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c0128"/>
                </a:solidFill>
                <a:latin typeface="Symbol"/>
                <a:ea typeface="Symbol"/>
              </a:rPr>
              <a:t></a:t>
            </a:r>
            <a:r>
              <a:rPr b="1" i="1" lang="en-US" sz="1800" spc="-1" strike="noStrike" baseline="-16000">
                <a:solidFill>
                  <a:srgbClr val="fc0128"/>
                </a:solidFill>
                <a:latin typeface="Arial"/>
              </a:rPr>
              <a:t>b</a:t>
            </a:r>
            <a:r>
              <a:rPr b="1" lang="en-US" sz="1800" spc="-1" strike="noStrike" baseline="-16000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easurements are world’s b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8"/>
          <a:stretch/>
        </p:blipFill>
        <p:spPr>
          <a:xfrm>
            <a:off x="4743360" y="3933720"/>
            <a:ext cx="4343400" cy="27259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9"/>
          <a:stretch/>
        </p:blipFill>
        <p:spPr>
          <a:xfrm>
            <a:off x="4743360" y="1138320"/>
            <a:ext cx="4372200" cy="279540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-76320" y="4653000"/>
            <a:ext cx="5656320" cy="1807560"/>
            <a:chOff x="-76320" y="4653000"/>
            <a:chExt cx="5656320" cy="1807560"/>
          </a:xfrm>
        </p:grpSpPr>
        <p:sp>
          <p:nvSpPr>
            <p:cNvPr id="310" name=""/>
            <p:cNvSpPr/>
            <p:nvPr/>
          </p:nvSpPr>
          <p:spPr>
            <a:xfrm>
              <a:off x="-76320" y="4653000"/>
              <a:ext cx="5656320" cy="180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Lucida Sans"/>
                </a:rPr>
                <a:t>CDF result:        M(B</a:t>
              </a:r>
              <a:r>
                <a:rPr b="1" lang="en-US" sz="1800" spc="-1" strike="noStrike" baseline="-16000">
                  <a:solidFill>
                    <a:srgbClr val="fc0128"/>
                  </a:solidFill>
                  <a:latin typeface="Lucida Sans"/>
                </a:rPr>
                <a:t>s</a:t>
              </a:r>
              <a:r>
                <a:rPr b="1" lang="en-US" sz="1800" spc="-1" strike="noStrike">
                  <a:solidFill>
                    <a:srgbClr val="fc0128"/>
                  </a:solidFill>
                  <a:latin typeface="Lucida Sans"/>
                </a:rPr>
                <a:t>)=5365.50 </a:t>
              </a:r>
              <a:r>
                <a:rPr b="1" lang="en-US" sz="1800" spc="-1" strike="noStrike">
                  <a:solidFill>
                    <a:srgbClr val="fc0128"/>
                  </a:solidFill>
                  <a:latin typeface="Symbol"/>
                  <a:ea typeface="Symbol"/>
                </a:rPr>
                <a:t></a:t>
              </a:r>
              <a:r>
                <a:rPr b="1" lang="en-US" sz="1800" spc="-1" strike="noStrike">
                  <a:solidFill>
                    <a:srgbClr val="fc0128"/>
                  </a:solidFill>
                  <a:latin typeface="Lucida Sans"/>
                </a:rPr>
                <a:t>1.60 M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Lucida Sans"/>
                </a:rPr>
                <a:t>World average: M(B</a:t>
              </a:r>
              <a:r>
                <a:rPr b="1" lang="en-US" sz="1800" spc="-1" strike="noStrike" baseline="-16000">
                  <a:solidFill>
                    <a:srgbClr val="00279f"/>
                  </a:solidFill>
                  <a:latin typeface="Lucida Sans"/>
                </a:rPr>
                <a:t>s</a:t>
              </a:r>
              <a:r>
                <a:rPr b="1" lang="en-US" sz="1800" spc="-1" strike="noStrike">
                  <a:solidFill>
                    <a:srgbClr val="00279f"/>
                  </a:solidFill>
                  <a:latin typeface="Lucida Sans"/>
                </a:rPr>
                <a:t>)=5369.6</a:t>
              </a:r>
              <a:r>
                <a:rPr b="1" lang="en-US" sz="1800" spc="-1" strike="noStrike">
                  <a:solidFill>
                    <a:srgbClr val="ffffff"/>
                  </a:solidFill>
                  <a:latin typeface="Lucida Sans"/>
                </a:rPr>
                <a:t>0 </a:t>
              </a:r>
              <a:r>
                <a:rPr b="1" lang="en-US" sz="18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</a:t>
              </a:r>
              <a:r>
                <a:rPr b="1" lang="en-US" sz="1800" spc="-1" strike="noStrike">
                  <a:solidFill>
                    <a:srgbClr val="00279f"/>
                  </a:solidFill>
                  <a:latin typeface="Lucida Sans"/>
                </a:rPr>
                <a:t>2.4</a:t>
              </a:r>
              <a:r>
                <a:rPr b="1" lang="en-US" sz="1800" spc="-1" strike="noStrike">
                  <a:solidFill>
                    <a:srgbClr val="ffffff"/>
                  </a:solidFill>
                  <a:latin typeface="Lucida Sans"/>
                </a:rPr>
                <a:t>0</a:t>
              </a:r>
              <a:r>
                <a:rPr b="1" lang="en-US" sz="1800" spc="-1" strike="noStrike">
                  <a:solidFill>
                    <a:srgbClr val="00279f"/>
                  </a:solidFill>
                  <a:latin typeface="Lucida Sans"/>
                </a:rPr>
                <a:t>  MeV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Lucida Sans"/>
                </a:rPr>
                <a:t>CDF result:        M(</a:t>
              </a:r>
              <a:r>
                <a:rPr b="1" lang="en-US" sz="1800" spc="-1" strike="noStrike">
                  <a:solidFill>
                    <a:srgbClr val="fc0128"/>
                  </a:solidFill>
                  <a:latin typeface="Symbol"/>
                  <a:ea typeface="Symbol"/>
                </a:rPr>
                <a:t></a:t>
              </a:r>
              <a:r>
                <a:rPr b="1" lang="en-US" sz="1800" spc="-1" strike="noStrike" baseline="-16000">
                  <a:solidFill>
                    <a:srgbClr val="fc0128"/>
                  </a:solidFill>
                  <a:latin typeface="Lucida Sans"/>
                </a:rPr>
                <a:t>b</a:t>
              </a:r>
              <a:r>
                <a:rPr b="1" lang="en-US" sz="1800" spc="-1" strike="noStrike">
                  <a:solidFill>
                    <a:srgbClr val="fc0128"/>
                  </a:solidFill>
                  <a:latin typeface="Lucida Sans"/>
                </a:rPr>
                <a:t>)=5620.4  </a:t>
              </a:r>
              <a:r>
                <a:rPr b="1" lang="en-US" sz="1800" spc="-1" strike="noStrike">
                  <a:solidFill>
                    <a:srgbClr val="fc0128"/>
                  </a:solidFill>
                  <a:latin typeface="Symbol"/>
                  <a:ea typeface="Symbol"/>
                </a:rPr>
                <a:t></a:t>
              </a:r>
              <a:r>
                <a:rPr b="1" lang="en-US" sz="1800" spc="-1" strike="noStrike">
                  <a:solidFill>
                    <a:srgbClr val="fc0128"/>
                  </a:solidFill>
                  <a:latin typeface="Lucida Sans"/>
                </a:rPr>
                <a:t>2.0   M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Lucida Sans"/>
                </a:rPr>
                <a:t>World average: M(</a:t>
              </a:r>
              <a:r>
                <a:rPr b="1" lang="en-US" sz="18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</a:t>
              </a:r>
              <a:r>
                <a:rPr b="1" lang="en-US" sz="1800" spc="-1" strike="noStrike" baseline="-16000">
                  <a:solidFill>
                    <a:srgbClr val="00279f"/>
                  </a:solidFill>
                  <a:latin typeface="Lucida Sans"/>
                </a:rPr>
                <a:t>b</a:t>
              </a:r>
              <a:r>
                <a:rPr b="1" lang="en-US" sz="1800" spc="-1" strike="noStrike">
                  <a:solidFill>
                    <a:srgbClr val="00279f"/>
                  </a:solidFill>
                  <a:latin typeface="Lucida Sans"/>
                </a:rPr>
                <a:t>)=5624</a:t>
              </a:r>
              <a:r>
                <a:rPr b="1" lang="en-US" sz="1800" spc="-1" strike="noStrike">
                  <a:solidFill>
                    <a:srgbClr val="ffffff"/>
                  </a:solidFill>
                  <a:latin typeface="Lucida Sans"/>
                </a:rPr>
                <a:t>.4</a:t>
              </a:r>
              <a:r>
                <a:rPr b="1" lang="en-US" sz="1800" spc="-1" strike="noStrike">
                  <a:solidFill>
                    <a:srgbClr val="00279f"/>
                  </a:solidFill>
                  <a:latin typeface="Lucida Sans"/>
                </a:rPr>
                <a:t>   </a:t>
              </a:r>
              <a:r>
                <a:rPr b="1" lang="en-US" sz="18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</a:t>
              </a:r>
              <a:r>
                <a:rPr b="1" lang="en-US" sz="1800" spc="-1" strike="noStrike">
                  <a:solidFill>
                    <a:srgbClr val="00279f"/>
                  </a:solidFill>
                  <a:latin typeface="Lucida Sans"/>
                </a:rPr>
                <a:t>9</a:t>
              </a:r>
              <a:r>
                <a:rPr b="1" lang="en-US" sz="1800" spc="-1" strike="noStrike">
                  <a:solidFill>
                    <a:srgbClr val="ffffff"/>
                  </a:solidFill>
                  <a:latin typeface="Lucida Sans"/>
                </a:rPr>
                <a:t>.0</a:t>
              </a:r>
              <a:r>
                <a:rPr b="1" lang="en-US" sz="1800" spc="-1" strike="noStrike">
                  <a:solidFill>
                    <a:srgbClr val="00279f"/>
                  </a:solidFill>
                  <a:latin typeface="Lucida Sans"/>
                </a:rPr>
                <a:t>   M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-2520" y="4947840"/>
              <a:ext cx="4627440" cy="1463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2843280" y="1760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3.2.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質　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-360" y="1376280"/>
            <a:ext cx="41720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T incorporates silicon info in the Level 2 trigger… select events with large impact parame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fitted beam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parameter per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372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s deadtimel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SzPct val="1286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25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/event for readout           + clustering + track f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521240" y="1584360"/>
            <a:ext cx="4267080" cy="3930480"/>
            <a:chOff x="4521240" y="1584360"/>
            <a:chExt cx="4267080" cy="3930480"/>
          </a:xfrm>
        </p:grpSpPr>
        <p:pic>
          <p:nvPicPr>
            <p:cNvPr id="315" name="" descr=""/>
            <p:cNvPicPr/>
            <p:nvPr/>
          </p:nvPicPr>
          <p:blipFill>
            <a:blip r:embed="rId6"/>
            <a:stretch/>
          </p:blipFill>
          <p:spPr>
            <a:xfrm>
              <a:off x="4611600" y="1584360"/>
              <a:ext cx="3972960" cy="36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521240" y="4870440"/>
              <a:ext cx="426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00    -250        0        250      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12920" y="1658880"/>
              <a:ext cx="1746000" cy="131364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Times New Roman"/>
                </a:rPr>
                <a:t>35</a:t>
              </a:r>
              <a:r>
                <a:rPr b="0" lang="en-US" sz="20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</a:t>
              </a:r>
              <a:r>
                <a:rPr b="0" lang="en-US" sz="2000" spc="-1" strike="noStrike">
                  <a:solidFill>
                    <a:srgbClr val="00279f"/>
                  </a:solidFill>
                  <a:latin typeface="Times New Roman"/>
                </a:rPr>
                <a:t>m </a:t>
              </a:r>
              <a:r>
                <a:rPr b="0" lang="en-US" sz="20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</a:t>
              </a:r>
              <a:r>
                <a:rPr b="0" lang="en-US" sz="2000" spc="-1" strike="noStrike">
                  <a:solidFill>
                    <a:srgbClr val="00279f"/>
                  </a:solidFill>
                  <a:latin typeface="Times New Roman"/>
                </a:rPr>
                <a:t> 33</a:t>
              </a:r>
              <a:r>
                <a:rPr b="0" lang="en-US" sz="20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</a:t>
              </a:r>
              <a:r>
                <a:rPr b="0" lang="en-US" sz="2000" spc="-1" strike="noStrike">
                  <a:solidFill>
                    <a:srgbClr val="00279f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Comic Sans MS"/>
                </a:rPr>
                <a:t>resol </a:t>
              </a:r>
              <a:r>
                <a:rPr b="0" lang="en-US" sz="20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</a:t>
              </a:r>
              <a:r>
                <a:rPr b="0" lang="en-US" sz="20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279f"/>
                  </a:solidFill>
                  <a:latin typeface="Comic Sans MS"/>
                </a:rPr>
                <a:t>be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</a:t>
              </a:r>
              <a:r>
                <a:rPr b="0" lang="en-US" sz="20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</a:t>
              </a:r>
              <a:r>
                <a:rPr b="1" lang="en-US" sz="20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279f"/>
                  </a:solidFill>
                  <a:latin typeface="Times New Roman"/>
                </a:rPr>
                <a:t>= 48</a:t>
              </a:r>
              <a:r>
                <a:rPr b="1" lang="en-US" sz="20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00279f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32240" y="5146560"/>
              <a:ext cx="354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VT impact parameter (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26600" y="614520"/>
            <a:ext cx="475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Vertex Tracker (SV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13640" y="2386080"/>
            <a:ext cx="3899160" cy="2853720"/>
            <a:chOff x="413640" y="2386080"/>
            <a:chExt cx="3899160" cy="2853720"/>
          </a:xfrm>
        </p:grpSpPr>
        <p:sp>
          <p:nvSpPr>
            <p:cNvPr id="321" name=""/>
            <p:cNvSpPr/>
            <p:nvPr/>
          </p:nvSpPr>
          <p:spPr>
            <a:xfrm>
              <a:off x="1034640" y="4932720"/>
              <a:ext cx="210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d = impact parame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413640" y="2386080"/>
              <a:ext cx="3899160" cy="2620800"/>
              <a:chOff x="413640" y="2386080"/>
              <a:chExt cx="3899160" cy="262080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1394640" y="3398400"/>
                <a:ext cx="1063440" cy="985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2463480" y="2386080"/>
                <a:ext cx="378360" cy="994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2463480" y="2757600"/>
                <a:ext cx="560880" cy="62280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2463480" y="3061440"/>
                <a:ext cx="841320" cy="31860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9221000">
                <a:off x="2357640" y="3245400"/>
                <a:ext cx="229320" cy="231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183680" y="4349520"/>
                <a:ext cx="210600" cy="2077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13640" y="4154400"/>
                <a:ext cx="939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rimary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Verte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50880" y="2907000"/>
                <a:ext cx="1151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Secondary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Verte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1919160" y="3398760"/>
                <a:ext cx="538200" cy="1480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381320" y="4489920"/>
                <a:ext cx="615600" cy="389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647440" y="333288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1266120" y="4646520"/>
                <a:ext cx="281880" cy="360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212120" y="371016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Comic Sans MS"/>
                  </a:rPr>
                  <a:t>Lx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3600">
                <a:off x="2361960" y="4221360"/>
                <a:ext cx="1950480" cy="38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3333cc"/>
                    </a:solidFill>
                    <a:latin typeface="Comic Sans MS"/>
                  </a:rPr>
                  <a:t>L</a:t>
                </a:r>
                <a:r>
                  <a:rPr b="1" lang="it-IT" sz="1800" spc="-1" strike="noStrike" baseline="-18000">
                    <a:solidFill>
                      <a:srgbClr val="3333cc"/>
                    </a:solidFill>
                    <a:latin typeface="Comic Sans MS"/>
                  </a:rPr>
                  <a:t>xy</a:t>
                </a:r>
                <a:r>
                  <a:rPr b="1" lang="it-IT" sz="1800" spc="-1" strike="noStrike">
                    <a:solidFill>
                      <a:srgbClr val="3333cc"/>
                    </a:solidFill>
                    <a:latin typeface="Comic Sans MS"/>
                  </a:rPr>
                  <a:t> </a:t>
                </a:r>
                <a:r>
                  <a:rPr b="1" lang="it-IT" sz="1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</a:t>
                </a:r>
                <a:r>
                  <a:rPr b="1" lang="it-IT" sz="1800" spc="-1" strike="noStrike">
                    <a:solidFill>
                      <a:srgbClr val="3333cc"/>
                    </a:solidFill>
                    <a:latin typeface="Comic Sans MS"/>
                  </a:rPr>
                  <a:t> 450</a:t>
                </a:r>
                <a:r>
                  <a:rPr b="1" lang="it-IT" sz="1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</a:t>
                </a:r>
                <a:r>
                  <a:rPr b="1" lang="it-IT" sz="1800" spc="-1" strike="noStrike">
                    <a:solidFill>
                      <a:srgbClr val="3333cc"/>
                    </a:solidFill>
                    <a:latin typeface="Comic Sans MS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336400" y="3866760"/>
                <a:ext cx="1651320" cy="37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1" lang="en-US" sz="1800" spc="-1" strike="noStrike" baseline="-10000">
                    <a:solidFill>
                      <a:srgbClr val="000000"/>
                    </a:solidFill>
                    <a:latin typeface="Comic Sans MS"/>
                  </a:rPr>
                  <a:t>T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(B) </a:t>
                </a:r>
                <a:r>
                  <a:rPr b="1" lang="it-IT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 5 Ge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>
            <a:off x="2843280" y="1573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3.3.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分岐比（そ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56167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ア　ウ　ト　ラ　イ　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03280" y="1142640"/>
            <a:ext cx="4897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１．はじめ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New York"/>
              </a:rPr>
              <a:t>　１．１．</a:t>
            </a:r>
            <a:r>
              <a:rPr b="1" lang="en-US" sz="2800" spc="-1" strike="noStrike">
                <a:solidFill>
                  <a:srgbClr val="000000"/>
                </a:solidFill>
                <a:latin typeface="New York"/>
              </a:rPr>
              <a:t>TEVA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New York"/>
              </a:rPr>
              <a:t>　１．２．</a:t>
            </a:r>
            <a:r>
              <a:rPr b="1" lang="en-US" sz="2800" spc="-1" strike="noStrike">
                <a:solidFill>
                  <a:srgbClr val="000000"/>
                </a:solidFill>
                <a:latin typeface="New York"/>
              </a:rPr>
              <a:t>C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New York"/>
              </a:rPr>
              <a:t>２．電弱相互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New York"/>
              </a:rPr>
              <a:t>　２．１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New York"/>
              </a:rPr>
              <a:t>　２．２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New York"/>
              </a:rPr>
              <a:t>　２．３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New York"/>
              </a:rPr>
              <a:t>３．</a:t>
            </a:r>
            <a:r>
              <a:rPr b="1" lang="en-US" sz="2800" spc="-1" strike="noStrike">
                <a:solidFill>
                  <a:srgbClr val="000000"/>
                </a:solidFill>
                <a:latin typeface="New York"/>
              </a:rPr>
              <a:t>B </a:t>
            </a:r>
            <a:r>
              <a:rPr b="1" lang="ja-JP" sz="2800" spc="-1" strike="noStrike">
                <a:solidFill>
                  <a:srgbClr val="000000"/>
                </a:solidFill>
                <a:latin typeface="New York"/>
              </a:rPr>
              <a:t>の物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New York"/>
              </a:rPr>
              <a:t>　３．１．寿　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New York"/>
              </a:rPr>
              <a:t>　３．２．質　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New York"/>
              </a:rPr>
              <a:t>　３．３．分岐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New York"/>
              </a:rPr>
              <a:t>４．まとめ　　　</a:t>
            </a:r>
            <a:r>
              <a:rPr b="0" lang="ja-JP" sz="2000" spc="-1" strike="noStrike">
                <a:solidFill>
                  <a:srgbClr val="000000"/>
                </a:solidFill>
                <a:latin typeface="New York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98920" y="3043080"/>
                <a:ext cx="19443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ℓ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698920" y="3521160"/>
                <a:ext cx="1087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Z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698920" y="4005360"/>
                <a:ext cx="1087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5208480" y="3809880"/>
            <a:ext cx="3568680" cy="2941920"/>
            <a:chOff x="5208480" y="3809880"/>
            <a:chExt cx="3568680" cy="2941920"/>
          </a:xfrm>
        </p:grpSpPr>
        <p:grpSp>
          <p:nvGrpSpPr>
            <p:cNvPr id="340" name=""/>
            <p:cNvGrpSpPr/>
            <p:nvPr/>
          </p:nvGrpSpPr>
          <p:grpSpPr>
            <a:xfrm>
              <a:off x="5208480" y="3809880"/>
              <a:ext cx="3568680" cy="2941920"/>
              <a:chOff x="5208480" y="3809880"/>
              <a:chExt cx="3568680" cy="2941920"/>
            </a:xfrm>
          </p:grpSpPr>
          <p:pic>
            <p:nvPicPr>
              <p:cNvPr id="341" name="" descr=""/>
              <p:cNvPicPr/>
              <p:nvPr/>
            </p:nvPicPr>
            <p:blipFill>
              <a:blip r:embed="rId1"/>
              <a:srcRect l="1733" t="36741" r="12132" b="1225"/>
              <a:stretch/>
            </p:blipFill>
            <p:spPr>
              <a:xfrm>
                <a:off x="5208480" y="3809880"/>
                <a:ext cx="3430080" cy="294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6812280" y="4354560"/>
                <a:ext cx="1964880" cy="91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360" rIns="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Comic Sans MS"/>
                  </a:rPr>
                  <a:t>280</a:t>
                </a:r>
                <a:r>
                  <a:rPr b="0" lang="en-US" sz="1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</a:t>
                </a:r>
                <a:r>
                  <a:rPr b="0" lang="en-US" sz="1800" spc="-1" strike="noStrike">
                    <a:solidFill>
                      <a:srgbClr val="3333cc"/>
                    </a:solidFill>
                    <a:latin typeface="Comic Sans MS"/>
                  </a:rPr>
                  <a:t>26 ev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3333cc"/>
                  </a:buClr>
                  <a:buFont typeface="Symbol" charset="2"/>
                  <a:buChar char="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3333cc"/>
                    </a:solidFill>
                    <a:latin typeface="Comic Sans MS"/>
                  </a:rPr>
                  <a:t>= 5.252(4) 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Comic Sans MS"/>
                  </a:rPr>
                  <a:t>GeV/c</a:t>
                </a:r>
                <a:r>
                  <a:rPr b="0" lang="en-US" sz="1600" spc="-1" strike="noStrike" baseline="30000">
                    <a:solidFill>
                      <a:srgbClr val="3333cc"/>
                    </a:solidFill>
                    <a:latin typeface="Comic Sans MS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800" spc="-1" strike="noStrike">
                    <a:solidFill>
                      <a:srgbClr val="3333cc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3333cc"/>
                    </a:solidFill>
                    <a:latin typeface="Comic Sans MS"/>
                  </a:rPr>
                  <a:t>= 41.0(4.0) 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Comic Sans MS"/>
                  </a:rPr>
                  <a:t>MeVc</a:t>
                </a:r>
                <a:r>
                  <a:rPr b="0" lang="en-US" sz="1600" spc="-1" strike="noStrike" baseline="30000">
                    <a:solidFill>
                      <a:srgbClr val="3333cc"/>
                    </a:solidFill>
                    <a:latin typeface="Comic Sans MS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690520" y="5989680"/>
              <a:ext cx="9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(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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5934240" y="798480"/>
            <a:ext cx="2743200" cy="2879640"/>
          </a:xfrm>
          <a:prstGeom prst="rect">
            <a:avLst/>
          </a:pr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165240" y="2085840"/>
            <a:ext cx="5349600" cy="39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mless two-body dec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r term</a:t>
            </a:r>
            <a:r>
              <a:rPr b="0" i="1" lang="en-US" sz="1800" spc="-1" strike="noStrike">
                <a:solidFill>
                  <a:srgbClr val="fc0128"/>
                </a:solidFill>
                <a:latin typeface="Arial"/>
              </a:rPr>
              <a:t> B</a:t>
            </a:r>
            <a:r>
              <a:rPr b="0" i="1" lang="en-US" sz="1800" spc="-1" strike="noStrike" baseline="-25000">
                <a:solidFill>
                  <a:srgbClr val="fc0128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modes help extract unitarity angle </a:t>
            </a:r>
            <a:r>
              <a:rPr b="1" i="1" lang="en-US" sz="1800" spc="-1" strike="noStrike">
                <a:solidFill>
                  <a:srgbClr val="fc0128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 is a combination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i="1" lang="en-US" sz="1800" spc="-1" strike="noStrike" baseline="30000">
                <a:solidFill>
                  <a:srgbClr val="00279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279f"/>
                </a:solidFill>
                <a:latin typeface="Symbol"/>
                <a:ea typeface="Symbol"/>
              </a:rPr>
              <a:t></a:t>
            </a:r>
            <a:r>
              <a:rPr b="0" i="1" lang="en-US" sz="1800" spc="-1" strike="noStrike" baseline="30000">
                <a:solidFill>
                  <a:srgbClr val="00279f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279f"/>
                </a:solidFill>
                <a:latin typeface="Symbol"/>
                <a:ea typeface="Symbol"/>
              </a:rPr>
              <a:t></a:t>
            </a:r>
            <a:r>
              <a:rPr b="0" i="1" lang="en-US" sz="1800" spc="-1" strike="noStrike" baseline="30000">
                <a:solidFill>
                  <a:srgbClr val="00279f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 baseline="30000">
                <a:solidFill>
                  <a:srgbClr val="00279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279f"/>
                </a:solidFill>
                <a:latin typeface="Arial"/>
              </a:rPr>
              <a:t>  BR~5x10</a:t>
            </a:r>
            <a:r>
              <a:rPr b="0" i="1" lang="en-US" sz="1800" spc="-1" strike="noStrike" baseline="30000">
                <a:solidFill>
                  <a:srgbClr val="00279f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i="1" lang="en-US" sz="1800" spc="-1" strike="noStrike" baseline="30000">
                <a:solidFill>
                  <a:srgbClr val="00279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279f"/>
                </a:solidFill>
                <a:latin typeface="Arial"/>
              </a:rPr>
              <a:t>K</a:t>
            </a:r>
            <a:r>
              <a:rPr b="0" i="1" lang="en-US" sz="1800" spc="-1" strike="noStrike" baseline="30000">
                <a:solidFill>
                  <a:srgbClr val="00279f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279f"/>
                </a:solidFill>
                <a:latin typeface="Symbol"/>
                <a:ea typeface="Symbol"/>
              </a:rPr>
              <a:t></a:t>
            </a:r>
            <a:r>
              <a:rPr b="0" i="1" lang="en-US" sz="1800" spc="-1" strike="noStrike" baseline="30000">
                <a:solidFill>
                  <a:srgbClr val="00279f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 baseline="30000">
                <a:solidFill>
                  <a:srgbClr val="00279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279f"/>
                </a:solidFill>
                <a:latin typeface="Arial"/>
              </a:rPr>
              <a:t>BR~2x10</a:t>
            </a:r>
            <a:r>
              <a:rPr b="0" i="1" lang="en-US" sz="1800" spc="-1" strike="noStrike" baseline="30000">
                <a:solidFill>
                  <a:srgbClr val="00279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c0128"/>
                </a:solidFill>
                <a:latin typeface="Arial"/>
              </a:rPr>
              <a:t>B</a:t>
            </a:r>
            <a:r>
              <a:rPr b="0" i="1" lang="en-US" sz="1800" spc="-1" strike="noStrike" baseline="-18000">
                <a:solidFill>
                  <a:srgbClr val="fc0128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c0128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fc0128"/>
                </a:solidFill>
                <a:latin typeface="Arial"/>
              </a:rPr>
              <a:t>K</a:t>
            </a:r>
            <a:r>
              <a:rPr b="0" i="1" lang="en-US" sz="18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fc0128"/>
                </a:solidFill>
                <a:latin typeface="Arial"/>
              </a:rPr>
              <a:t>K</a:t>
            </a:r>
            <a:r>
              <a:rPr b="0" i="1" lang="en-US" sz="1800" spc="-1" strike="noStrike" baseline="30000">
                <a:solidFill>
                  <a:srgbClr val="fc0128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 baseline="30000">
                <a:solidFill>
                  <a:srgbClr val="fc0128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fc0128"/>
                </a:solidFill>
                <a:latin typeface="Arial"/>
              </a:rPr>
              <a:t>BR~5x10</a:t>
            </a:r>
            <a:r>
              <a:rPr b="0" i="1" lang="en-US" sz="1800" spc="-1" strike="noStrike" baseline="30000">
                <a:solidFill>
                  <a:srgbClr val="fc0128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c0128"/>
                </a:solidFill>
                <a:latin typeface="Arial"/>
              </a:rPr>
              <a:t>B</a:t>
            </a:r>
            <a:r>
              <a:rPr b="0" i="1" lang="en-US" sz="1800" spc="-1" strike="noStrike" baseline="-18000">
                <a:solidFill>
                  <a:srgbClr val="fc0128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c0128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fc0128"/>
                </a:solidFill>
                <a:latin typeface="Symbol"/>
                <a:ea typeface="Symbol"/>
              </a:rPr>
              <a:t></a:t>
            </a:r>
            <a:r>
              <a:rPr b="0" i="1" lang="en-US" sz="18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fc0128"/>
                </a:solidFill>
                <a:latin typeface="Arial"/>
              </a:rPr>
              <a:t>K</a:t>
            </a:r>
            <a:r>
              <a:rPr b="0" i="1" lang="en-US" sz="1800" spc="-1" strike="noStrike" baseline="30000">
                <a:solidFill>
                  <a:srgbClr val="fc0128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 baseline="30000">
                <a:solidFill>
                  <a:srgbClr val="fc0128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fc0128"/>
                </a:solidFill>
                <a:latin typeface="Arial"/>
              </a:rPr>
              <a:t>BR~1x10</a:t>
            </a:r>
            <a:r>
              <a:rPr b="0" i="1" lang="en-US" sz="1800" spc="-1" strike="noStrike" baseline="30000">
                <a:solidFill>
                  <a:srgbClr val="fc0128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1428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ced track 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1428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mass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1428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ID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/d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2778120" y="890280"/>
            <a:ext cx="273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47920" y="3243240"/>
            <a:ext cx="3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Lucida Sans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533760" y="345456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279f"/>
                </a:solidFill>
                <a:latin typeface="Symbol"/>
                <a:ea typeface="Symbol"/>
              </a:rPr>
              <a:t></a:t>
            </a:r>
            <a:r>
              <a:rPr b="0" lang="en-US" sz="2000" spc="-1" strike="noStrike">
                <a:solidFill>
                  <a:srgbClr val="00279f"/>
                </a:solidFill>
                <a:latin typeface="Lucida Sans"/>
              </a:rPr>
              <a:t>(4s),Teva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47920" y="3809880"/>
            <a:ext cx="3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Lucida Sans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33760" y="4005360"/>
            <a:ext cx="16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Lucida Sans"/>
              </a:rPr>
              <a:t>Teva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016680" y="890640"/>
            <a:ext cx="2430360" cy="1347840"/>
            <a:chOff x="6016680" y="890640"/>
            <a:chExt cx="2430360" cy="1347840"/>
          </a:xfrm>
        </p:grpSpPr>
        <p:pic>
          <p:nvPicPr>
            <p:cNvPr id="352" name="" descr=""/>
            <p:cNvPicPr/>
            <p:nvPr/>
          </p:nvPicPr>
          <p:blipFill>
            <a:blip r:embed="rId13"/>
            <a:srcRect l="0" t="63847" r="42481" b="0"/>
            <a:stretch/>
          </p:blipFill>
          <p:spPr>
            <a:xfrm>
              <a:off x="6016680" y="890640"/>
              <a:ext cx="2430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6090120" y="989280"/>
              <a:ext cx="874080" cy="45972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Lucida Sans"/>
                </a:rPr>
                <a:t>tr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06600" y="1641960"/>
              <a:ext cx="87408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Lucida Sans"/>
                </a:rPr>
                <a:t>V</a:t>
              </a:r>
              <a:r>
                <a:rPr b="0" i="1" lang="en-US" sz="2400" spc="-1" strike="noStrike" baseline="-14000">
                  <a:solidFill>
                    <a:srgbClr val="fc0128"/>
                  </a:solidFill>
                  <a:latin typeface="Lucida Sans"/>
                </a:rPr>
                <a:t>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87320" y="1529640"/>
              <a:ext cx="51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22360" y="1003320"/>
            <a:ext cx="23619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22000" y="865080"/>
            <a:ext cx="2286360" cy="967680"/>
            <a:chOff x="522000" y="865080"/>
            <a:chExt cx="2286360" cy="967680"/>
          </a:xfrm>
        </p:grpSpPr>
        <p:sp>
          <p:nvSpPr>
            <p:cNvPr id="358" name=""/>
            <p:cNvSpPr/>
            <p:nvPr/>
          </p:nvSpPr>
          <p:spPr>
            <a:xfrm flipH="1">
              <a:off x="522000" y="930240"/>
              <a:ext cx="738360" cy="8445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2360" y="1774800"/>
              <a:ext cx="22860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60720" y="930240"/>
              <a:ext cx="1547640" cy="8445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3880" y="1373040"/>
              <a:ext cx="37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01960" y="86508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38320" y="1432080"/>
              <a:ext cx="42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6016680" y="2548080"/>
            <a:ext cx="2512440" cy="1129680"/>
            <a:chOff x="6016680" y="2548080"/>
            <a:chExt cx="2512440" cy="1129680"/>
          </a:xfrm>
        </p:grpSpPr>
        <p:pic>
          <p:nvPicPr>
            <p:cNvPr id="365" name="" descr=""/>
            <p:cNvPicPr/>
            <p:nvPr/>
          </p:nvPicPr>
          <p:blipFill>
            <a:blip r:embed="rId14"/>
            <a:srcRect l="0" t="66022" r="36492" b="0"/>
            <a:stretch/>
          </p:blipFill>
          <p:spPr>
            <a:xfrm>
              <a:off x="6293880" y="2686680"/>
              <a:ext cx="2235240" cy="9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016680" y="2548080"/>
              <a:ext cx="1365840" cy="82548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Lucida Sans"/>
                </a:rPr>
                <a:t>pengu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873840" y="5259240"/>
            <a:ext cx="20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03640" y="117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465280" y="11736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3.3.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分岐比（そ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6553080"/>
            <a:ext cx="5181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459320" y="509760"/>
            <a:ext cx="25480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(B</a:t>
            </a:r>
            <a:r>
              <a:rPr b="0" i="1" lang="en-US" sz="2400" spc="-1" strike="noStrike" baseline="-16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0" y="609480"/>
            <a:ext cx="4403520" cy="2971800"/>
            <a:chOff x="0" y="609480"/>
            <a:chExt cx="4403520" cy="2971800"/>
          </a:xfrm>
        </p:grpSpPr>
        <p:pic>
          <p:nvPicPr>
            <p:cNvPr id="373" name="" descr=""/>
            <p:cNvPicPr/>
            <p:nvPr/>
          </p:nvPicPr>
          <p:blipFill>
            <a:blip r:embed="rId1"/>
            <a:srcRect l="0" t="35837" r="10941" b="104"/>
            <a:stretch/>
          </p:blipFill>
          <p:spPr>
            <a:xfrm>
              <a:off x="0" y="635040"/>
              <a:ext cx="3733920" cy="29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609480" y="761760"/>
              <a:ext cx="19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5120" y="1143000"/>
              <a:ext cx="990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K</a:t>
              </a:r>
              <a:r>
                <a:rPr b="1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r>
                <a:rPr b="1" lang="en-US" sz="1600" spc="-1" strike="noStrike" baseline="-25000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K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B</a:t>
              </a:r>
              <a:r>
                <a:rPr b="1" lang="en-US" sz="1600" spc="-1" strike="noStrike" baseline="-25000">
                  <a:solidFill>
                    <a:srgbClr val="ffcc00"/>
                  </a:solidFill>
                  <a:latin typeface="Arial"/>
                </a:rPr>
                <a:t>d</a:t>
              </a:r>
              <a:r>
                <a:rPr b="1" lang="en-US" sz="16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</a:t>
              </a: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cc33"/>
                  </a:solidFill>
                  <a:latin typeface="Arial"/>
                </a:rPr>
                <a:t>B</a:t>
              </a:r>
              <a:r>
                <a:rPr b="1" lang="en-US" sz="1600" spc="-1" strike="noStrike" baseline="-25000">
                  <a:solidFill>
                    <a:srgbClr val="33cc33"/>
                  </a:solidFill>
                  <a:latin typeface="Arial"/>
                </a:rPr>
                <a:t>s</a:t>
              </a:r>
              <a:r>
                <a:rPr b="1" lang="en-US" sz="16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33cc33"/>
                  </a:solidFill>
                  <a:latin typeface="Arial"/>
                </a:rPr>
                <a:t>K </a:t>
              </a:r>
              <a:r>
                <a:rPr b="1" lang="en-US" sz="16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63760" y="609480"/>
              <a:ext cx="2039760" cy="916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320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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60 ev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Symbol" charset="2"/>
                <a:buChar char="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= 5.252(2) </a:t>
              </a: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GeV/c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= 41.1(1.9) </a:t>
              </a: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MeV/c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00120" y="2466720"/>
              <a:ext cx="9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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04920" y="3962520"/>
            <a:ext cx="3414600" cy="2820600"/>
            <a:chOff x="304920" y="3962520"/>
            <a:chExt cx="3414600" cy="2820600"/>
          </a:xfrm>
        </p:grpSpPr>
        <p:pic>
          <p:nvPicPr>
            <p:cNvPr id="379" name="" descr=""/>
            <p:cNvPicPr/>
            <p:nvPr/>
          </p:nvPicPr>
          <p:blipFill>
            <a:blip r:embed="rId2"/>
            <a:srcRect l="0" t="56419" r="11621" b="0"/>
            <a:stretch/>
          </p:blipFill>
          <p:spPr>
            <a:xfrm>
              <a:off x="304920" y="4144680"/>
              <a:ext cx="3414600" cy="24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2350440" y="4343040"/>
              <a:ext cx="1208160" cy="398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72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Sep.~1.3</a:t>
              </a:r>
              <a:r>
                <a:rPr b="0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70360" y="3962520"/>
              <a:ext cx="254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CDF RunII Prelimin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79680" y="6414840"/>
              <a:ext cx="301068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(dE/dx – dE/dx(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))/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(dE/d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3480" y="4571640"/>
              <a:ext cx="1239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D*</a:t>
              </a:r>
              <a:r>
                <a:rPr b="0" lang="en-US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0</a:t>
              </a:r>
              <a:r>
                <a:rPr b="0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0</a:t>
              </a:r>
              <a:r>
                <a:rPr b="0" lang="en-US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-38160" y="3575160"/>
            <a:ext cx="5181840" cy="1001880"/>
            <a:chOff x="-38160" y="3575160"/>
            <a:chExt cx="5181840" cy="1001880"/>
          </a:xfrm>
        </p:grpSpPr>
        <p:sp>
          <p:nvSpPr>
            <p:cNvPr id="385" name=""/>
            <p:cNvSpPr/>
            <p:nvPr/>
          </p:nvSpPr>
          <p:spPr>
            <a:xfrm>
              <a:off x="-38160" y="3575160"/>
              <a:ext cx="518184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nematics &amp;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E/dx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to separate contribu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c0128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-1800" y="3575160"/>
              <a:ext cx="4462200" cy="376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4572000" y="4038480"/>
            <a:ext cx="525780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Lucida Sans"/>
              </a:rPr>
              <a:t>First observation of </a:t>
            </a:r>
            <a:r>
              <a:rPr b="1" i="1" lang="en-US" sz="2000" spc="-1" strike="noStrike">
                <a:solidFill>
                  <a:srgbClr val="fc0128"/>
                </a:solidFill>
                <a:latin typeface="Lucida Sans"/>
              </a:rPr>
              <a:t>B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Lucida Sans"/>
              </a:rPr>
              <a:t>s</a:t>
            </a:r>
            <a:r>
              <a:rPr b="1" i="1" lang="en-US" sz="2000" spc="-1" strike="noStrike">
                <a:solidFill>
                  <a:srgbClr val="fc0128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fc0128"/>
                </a:solidFill>
                <a:latin typeface="Lucida Sans"/>
              </a:rPr>
              <a:t>K</a:t>
            </a:r>
            <a:r>
              <a:rPr b="1" i="1" lang="en-US" sz="2000" spc="-1" strike="noStrike" baseline="30000">
                <a:solidFill>
                  <a:srgbClr val="fc0128"/>
                </a:solidFill>
                <a:latin typeface="Lucida Sans"/>
              </a:rPr>
              <a:t>+</a:t>
            </a:r>
            <a:r>
              <a:rPr b="1" i="1" lang="en-US" sz="2000" spc="-1" strike="noStrike">
                <a:solidFill>
                  <a:srgbClr val="fc0128"/>
                </a:solidFill>
                <a:latin typeface="Lucida Sans"/>
              </a:rPr>
              <a:t>K</a:t>
            </a:r>
            <a:r>
              <a:rPr b="1" i="1" lang="en-US" sz="2000" spc="-1" strike="noStrike" baseline="30000">
                <a:solidFill>
                  <a:srgbClr val="fc0128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fc0128"/>
                </a:solidFill>
                <a:latin typeface="Lucida Sans"/>
              </a:rPr>
              <a:t>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Lucida Sans"/>
              </a:rPr>
              <a:t>Resu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5591160" y="4643280"/>
          <a:ext cx="3276720" cy="9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91160" y="4643280"/>
                    <a:ext cx="327672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4600440" y="4629240"/>
            <a:ext cx="4391280" cy="8380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4952880" y="1371600"/>
          <a:ext cx="4114440" cy="2361960"/>
        </p:xfrm>
        <a:graphic>
          <a:graphicData uri="http://schemas.openxmlformats.org/drawingml/2006/table">
            <a:tbl>
              <a:tblPr/>
              <a:tblGrid>
                <a:gridCol w="1144800"/>
                <a:gridCol w="296964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eld (65 pb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i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(stat.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(sy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i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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(stat.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(sy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B</a:t>
                      </a:r>
                      <a:r>
                        <a:rPr b="1" i="1" lang="en-US" sz="1800" spc="-1" strike="noStrike" baseline="-25000">
                          <a:solidFill>
                            <a:srgbClr val="fc0128"/>
                          </a:solidFill>
                          <a:latin typeface="Arial"/>
                        </a:rPr>
                        <a:t>s</a:t>
                      </a:r>
                      <a:r>
                        <a:rPr b="1" i="1" lang="en-US" sz="1800" spc="-1" strike="noStrike">
                          <a:solidFill>
                            <a:srgbClr val="fc0128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i="1" lang="en-US" sz="18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K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90</a:t>
                      </a:r>
                      <a:r>
                        <a:rPr b="1" lang="en-US" sz="1800" spc="-1" strike="noStrike">
                          <a:solidFill>
                            <a:srgbClr val="fc0128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8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17(stat.) </a:t>
                      </a:r>
                      <a:r>
                        <a:rPr b="1" lang="en-US" sz="1800" spc="-1" strike="noStrike">
                          <a:solidFill>
                            <a:srgbClr val="fc0128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800" spc="-1" strike="noStrike">
                          <a:solidFill>
                            <a:srgbClr val="fc0128"/>
                          </a:solidFill>
                          <a:latin typeface="Arial"/>
                        </a:rPr>
                        <a:t>17(sy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i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(stat.)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(sy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1905120" y="3886200"/>
            <a:ext cx="1522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76920" y="9907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Lucida Sans"/>
              </a:rPr>
              <a:t>Fitted contrib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76720" y="0"/>
            <a:ext cx="28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55960" y="525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3.3.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分岐比（そ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838080" y="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3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岐比（そ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18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 baseline="-18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9240" y="5911920"/>
            <a:ext cx="50166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ew measuremen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ious limit set by OPAL: BR (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D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) &lt; 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1040" y="5181480"/>
            <a:ext cx="8635320" cy="5796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B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B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D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 = ( 4.8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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1.2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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1.8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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0.8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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0.6)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imes New Roman"/>
              </a:rPr>
              <a:t>-3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92840" y="5791320"/>
            <a:ext cx="331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tat)   (BR)   (sys)   (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54176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38020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2182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93432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00800" y="63532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79f"/>
                </a:solidFill>
                <a:latin typeface="Lucida Sans"/>
              </a:rPr>
              <a:t>BR result uses less data than shown in pl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-228600" y="4740120"/>
            <a:ext cx="7162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Lucida Sans"/>
              </a:rPr>
              <a:t>B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Lucida Sans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Lucida Sans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i="1" lang="en-US" sz="2400" spc="-1" strike="noStrike" baseline="30000">
                <a:solidFill>
                  <a:srgbClr val="fc0128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   </a:t>
            </a:r>
            <a:r>
              <a:rPr b="1" lang="en-US" sz="2400" spc="-1" strike="noStrike">
                <a:solidFill>
                  <a:srgbClr val="fc0128"/>
                </a:solidFill>
                <a:latin typeface="Lucida Sans"/>
              </a:rPr>
              <a:t>with    </a:t>
            </a:r>
            <a:r>
              <a:rPr b="1" i="1" lang="en-US" sz="2400" spc="-1" strike="noStrike">
                <a:solidFill>
                  <a:srgbClr val="fc0128"/>
                </a:solidFill>
                <a:latin typeface="Lucida Sans"/>
              </a:rPr>
              <a:t>D</a:t>
            </a:r>
            <a:r>
              <a:rPr b="1" i="1" lang="en-US" sz="2400" spc="-1" strike="noStrike" baseline="-16000">
                <a:solidFill>
                  <a:srgbClr val="fc0128"/>
                </a:solidFill>
                <a:latin typeface="Lucida Sans"/>
              </a:rPr>
              <a:t>s</a:t>
            </a:r>
            <a:r>
              <a:rPr b="1" lang="en-US" sz="2400" spc="-1" strike="noStrike">
                <a:solidFill>
                  <a:srgbClr val="fc0128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</a:t>
            </a:r>
            <a:r>
              <a:rPr b="1" i="1" lang="en-US" sz="2400" spc="-1" strike="noStrike" baseline="30000">
                <a:solidFill>
                  <a:srgbClr val="fc0128"/>
                </a:solidFill>
                <a:latin typeface="Lucida Sans"/>
              </a:rPr>
              <a:t>+</a:t>
            </a:r>
            <a:r>
              <a:rPr b="1" lang="en-US" sz="2400" spc="-1" strike="noStrike">
                <a:solidFill>
                  <a:srgbClr val="fc0128"/>
                </a:solidFill>
                <a:latin typeface="Lucida Sans"/>
              </a:rPr>
              <a:t>  and  </a:t>
            </a:r>
            <a:r>
              <a:rPr b="1" i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fc0128"/>
                </a:solidFill>
                <a:latin typeface="Lucida Sans"/>
              </a:rPr>
              <a:t>K</a:t>
            </a:r>
            <a:r>
              <a:rPr b="1" i="1" lang="en-US" sz="2400" spc="-1" strike="noStrike" baseline="30000">
                <a:solidFill>
                  <a:srgbClr val="fc0128"/>
                </a:solidFill>
                <a:latin typeface="Symbol"/>
                <a:ea typeface="Symbol"/>
              </a:rPr>
              <a:t></a:t>
            </a:r>
            <a:r>
              <a:rPr b="1" i="1" lang="en-US" sz="2400" spc="-1" strike="noStrike">
                <a:solidFill>
                  <a:srgbClr val="fc0128"/>
                </a:solidFill>
                <a:latin typeface="Lucida Sans"/>
              </a:rPr>
              <a:t>K</a:t>
            </a:r>
            <a:r>
              <a:rPr b="1" i="1" lang="en-US" sz="2400" spc="-1" strike="noStrike" baseline="30000">
                <a:solidFill>
                  <a:srgbClr val="fc0128"/>
                </a:solidFill>
                <a:latin typeface="Lucida San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411120" y="1222200"/>
            <a:ext cx="3673440" cy="35434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4800600" y="1236600"/>
            <a:ext cx="3659040" cy="35290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2627280" y="762120"/>
            <a:ext cx="430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Golden mode for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  <a:ea typeface="Arial Unicode MS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 mi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79640" y="228600"/>
            <a:ext cx="540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分岐比（そ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18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nsitivity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perform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600 events/f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1800" spc="-1" strike="noStrike" baseline="-18000">
                <a:solidFill>
                  <a:srgbClr val="000000"/>
                </a:solidFill>
                <a:latin typeface="Arial"/>
              </a:rPr>
              <a:t>effe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produce+trigger+rec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B = 2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1800" spc="-1" strike="noStrike" baseline="-16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67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c0128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sensitivity for </a:t>
            </a:r>
            <a:r>
              <a:rPr b="0" lang="en-US" sz="1800" spc="-1" strike="noStrike">
                <a:solidFill>
                  <a:srgbClr val="fc0128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0" i="1" lang="en-US" sz="1800" spc="-1" strike="noStrike" baseline="-18000">
                <a:solidFill>
                  <a:srgbClr val="fc0128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=15ps</a:t>
            </a:r>
            <a:r>
              <a:rPr b="0" lang="en-US" sz="1800" spc="-1" strike="noStrike" baseline="30000">
                <a:solidFill>
                  <a:srgbClr val="fc0128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with ~0.5fb</a:t>
            </a:r>
            <a:r>
              <a:rPr b="0" lang="en-US" sz="1800" spc="-1" strike="noStrike" baseline="30000">
                <a:solidFill>
                  <a:srgbClr val="fc0128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of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pass the current world 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“modest”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2000 fb   (improve trigger, reconstruct more mo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B = 2/1  (unchang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% (kaon tagg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1800" spc="-1" strike="noStrike" baseline="-16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0fs  (event-by-event vertex + L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c0128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sensitivity for </a:t>
            </a:r>
            <a:r>
              <a:rPr b="0" lang="en-US" sz="1800" spc="-1" strike="noStrike">
                <a:solidFill>
                  <a:srgbClr val="fc0128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0" i="1" lang="en-US" sz="1800" spc="-1" strike="noStrike" baseline="-18000">
                <a:solidFill>
                  <a:srgbClr val="fc0128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=18ps</a:t>
            </a:r>
            <a:r>
              <a:rPr b="0" lang="en-US" sz="1800" spc="-1" strike="noStrike" baseline="30000">
                <a:solidFill>
                  <a:srgbClr val="fc0128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with ~1.7fb</a:t>
            </a:r>
            <a:r>
              <a:rPr b="0" lang="en-US" sz="1800" spc="-1" strike="noStrike" baseline="30000">
                <a:solidFill>
                  <a:srgbClr val="fc0128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c0128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sensitivity for </a:t>
            </a:r>
            <a:r>
              <a:rPr b="0" lang="en-US" sz="1800" spc="-1" strike="noStrike">
                <a:solidFill>
                  <a:srgbClr val="fc0128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0" i="1" lang="en-US" sz="1800" spc="-1" strike="noStrike" baseline="-18000">
                <a:solidFill>
                  <a:srgbClr val="fc0128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=24ps</a:t>
            </a:r>
            <a:r>
              <a:rPr b="0" lang="en-US" sz="1800" spc="-1" strike="noStrike" baseline="30000">
                <a:solidFill>
                  <a:srgbClr val="fc0128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with ~3.2fb</a:t>
            </a:r>
            <a:r>
              <a:rPr b="0" lang="en-US" sz="1800" spc="-1" strike="noStrike" baseline="30000">
                <a:solidFill>
                  <a:srgbClr val="fc0128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279f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Symbol"/>
                <a:ea typeface="Symbol"/>
              </a:rPr>
              <a:t></a:t>
            </a:r>
            <a:r>
              <a:rPr b="0" i="1" lang="en-US" sz="1600" spc="-1" strike="noStrike">
                <a:solidFill>
                  <a:srgbClr val="00279f"/>
                </a:solidFill>
                <a:latin typeface="Arial"/>
              </a:rPr>
              <a:t>m</a:t>
            </a:r>
            <a:r>
              <a:rPr b="0" i="1" lang="en-US" sz="1600" spc="-1" strike="noStrike" baseline="-18000">
                <a:solidFill>
                  <a:srgbClr val="00279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=24ps</a:t>
            </a:r>
            <a:r>
              <a:rPr b="0" lang="en-US" sz="1600" spc="-1" strike="noStrike" baseline="30000">
                <a:solidFill>
                  <a:srgbClr val="00279f"/>
                </a:solidFill>
                <a:latin typeface="Arial"/>
              </a:rPr>
              <a:t>-1   </a:t>
            </a: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“covers” the expected region based upon indirect 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s is a difficult measur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2781360"/>
            <a:ext cx="6324480" cy="38088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28800" y="4869000"/>
            <a:ext cx="6324480" cy="6858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657600" y="6629400"/>
            <a:ext cx="1676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52880" y="1143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Lucida Sans"/>
              </a:rPr>
              <a:t>hadronic mode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76920" y="1219320"/>
            <a:ext cx="3276360" cy="30456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rcRect l="0" t="4295" r="-118" b="2332"/>
          <a:stretch/>
        </p:blipFill>
        <p:spPr>
          <a:xfrm>
            <a:off x="885960" y="1773360"/>
            <a:ext cx="3954240" cy="38606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733360" y="2349360"/>
            <a:ext cx="243216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 event in B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d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arch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xpected bk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54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20 (for B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59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22 (for B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57800" y="4748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063880" y="2076480"/>
                <a:ext cx="86364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780000" y="1197000"/>
                <a:ext cx="1655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587600" y="4870440"/>
                <a:ext cx="1815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>
            <a:off x="2859120" y="228600"/>
            <a:ext cx="336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137040" y="228600"/>
            <a:ext cx="30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3.3.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分岐比（そ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981080" y="5805360"/>
                <a:ext cx="424368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6588000" y="5805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@95%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0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分岐比（そ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2400"/>
            </a:br>
            <a:r>
              <a:rPr b="0" i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US" sz="2400" spc="-1" strike="noStrike" baseline="-18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US" sz="2400" spc="-1" strike="noStrike" baseline="-18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US" sz="2400" spc="-1" strike="noStrike" baseline="-18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K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0" y="822240"/>
            <a:ext cx="47242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s:  rea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nstruc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: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Lucida Sans"/>
              </a:rPr>
              <a:t>Use MC to parametrize the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Lucida Sans"/>
              </a:rPr>
              <a:t>Data to normalize the ampl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Lucida Sans"/>
              </a:rPr>
              <a:t>Dominant backgrounds are real heavy fla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Lucida Sans"/>
              </a:rPr>
              <a:t>proton particle ID (</a:t>
            </a:r>
            <a:r>
              <a:rPr b="0" i="1" lang="en-US" sz="2000" spc="-1" strike="noStrike">
                <a:solidFill>
                  <a:srgbClr val="00279f"/>
                </a:solidFill>
                <a:latin typeface="Lucida Sans"/>
              </a:rPr>
              <a:t>dE/dx</a:t>
            </a:r>
            <a:r>
              <a:rPr b="0" lang="en-US" sz="2000" spc="-1" strike="noStrike">
                <a:solidFill>
                  <a:srgbClr val="00279f"/>
                </a:solidFill>
                <a:latin typeface="Lucida Sans"/>
              </a:rPr>
              <a:t>) improves S/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79280" y="1300320"/>
            <a:ext cx="4287960" cy="41353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4876920" y="3809880"/>
            <a:ext cx="3733560" cy="1008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tted sig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927680" y="4191120"/>
          <a:ext cx="3606840" cy="5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27680" y="4191120"/>
                    <a:ext cx="36068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888840" y="5994360"/>
            <a:ext cx="7363080" cy="510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(6.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t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y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.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3040" y="5524560"/>
            <a:ext cx="20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ew Resul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572000" y="4876920"/>
            <a:ext cx="4543200" cy="747720"/>
            <a:chOff x="4572000" y="4876920"/>
            <a:chExt cx="4543200" cy="747720"/>
          </a:xfrm>
        </p:grpSpPr>
        <p:sp>
          <p:nvSpPr>
            <p:cNvPr id="436" name=""/>
            <p:cNvSpPr/>
            <p:nvPr/>
          </p:nvSpPr>
          <p:spPr>
            <a:xfrm>
              <a:off x="4572000" y="4896000"/>
              <a:ext cx="4543200" cy="695520"/>
            </a:xfrm>
            <a:prstGeom prst="rect">
              <a:avLst/>
            </a:prstGeom>
            <a:solidFill>
              <a:srgbClr val="ffff9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7" name=""/>
            <p:cNvGraphicFramePr/>
            <p:nvPr/>
          </p:nvGraphicFramePr>
          <p:xfrm>
            <a:off x="6095880" y="4876920"/>
            <a:ext cx="2914560" cy="747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95880" y="4876920"/>
                      <a:ext cx="2914560" cy="74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4657680" y="5038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Lucida Sans"/>
                </a:rPr>
                <a:t>Measur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07640" y="228600"/>
            <a:ext cx="496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3.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分岐比（そ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3600"/>
            </a:br>
            <a:br>
              <a:rPr sz="36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US" sz="2800" spc="-1" strike="noStrike" baseline="-18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/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23896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pSJ6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岡山大　山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2484360" y="4076640"/>
                <a:ext cx="55152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σ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p</m:t>
                                </m:r>
                              </m:e>
                            </m:ba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</m:t>
                                </m:r>
                              </m:num>
                              <m:den>
                                <m:r>
                                  <m:t xml:space="preserve">ψΛ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σ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p</m:t>
                                </m:r>
                              </m:e>
                            </m:ba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ψK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sup>
                                </m:sSup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　と　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305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大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５．２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１０</a:t>
            </a:r>
            <a:r>
              <a:rPr b="0" lang="ja-JP" sz="2800" spc="-1" strike="noStrike" baseline="30000">
                <a:solidFill>
                  <a:srgbClr val="ff0000"/>
                </a:solidFill>
                <a:latin typeface="Arial"/>
              </a:rPr>
              <a:t>３１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達成し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vatr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uminosit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順調に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増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し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検出器増強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成果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出し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検出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リガ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ミュレーションの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理解も深まりつつあ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解析に使用可能な積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inosit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１３０ｐｂ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－１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達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un I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の結果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統計精度を上げながら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再現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新しい物理結果が出はじめ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断面積、寿命、分岐比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1158840"/>
            <a:ext cx="3887640" cy="2055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63640" y="12733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5019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0000" y="1730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eva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2492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in Injector + Recyc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4560" y="0"/>
            <a:ext cx="662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１．はじめ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１．１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va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1158840"/>
            <a:ext cx="2952720" cy="22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Inj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反陽子生成率の向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ビーム強度の増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yc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反陽子の再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今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9640" y="3541680"/>
            <a:ext cx="4248360" cy="2836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88000" y="3827520"/>
            <a:ext cx="4356000" cy="25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 I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２００１年３月より稼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×6@900GeV ⇒ 36×36@980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2×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ec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2003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年８月１１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1×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ec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2003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年３月　春の学会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.6 ×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Run 1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p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Deliv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p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On T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0p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. CDF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そ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 Detector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888480"/>
            <a:ext cx="4081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1440" y="888480"/>
            <a:ext cx="4081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381880" cy="5749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013000" y="4998960"/>
            <a:ext cx="3786480" cy="160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X: Acceptance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&lt; 30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00:  Vertex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: 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&lt;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7680" y="2909880"/>
            <a:ext cx="3141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lug Calo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&lt;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&lt; 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4440" y="1143000"/>
            <a:ext cx="390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entral Tracker (C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01080" y="1308240"/>
            <a:ext cx="4515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F counter for K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d right before the Solen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5560" y="5713560"/>
            <a:ext cx="2957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Calo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 &lt;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&lt; 5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523880"/>
            <a:ext cx="2133360" cy="1765440"/>
          </a:xfrm>
          <a:custGeom>
            <a:avLst/>
            <a:gdLst/>
            <a:ahLst/>
            <a:rect l="l" t="t" r="r" b="b"/>
            <a:pathLst>
              <a:path w="1344" h="1112">
                <a:moveTo>
                  <a:pt x="0" y="0"/>
                </a:moveTo>
                <a:cubicBezTo>
                  <a:pt x="248" y="404"/>
                  <a:pt x="496" y="808"/>
                  <a:pt x="720" y="960"/>
                </a:cubicBezTo>
                <a:cubicBezTo>
                  <a:pt x="944" y="1112"/>
                  <a:pt x="1144" y="1012"/>
                  <a:pt x="1344" y="912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3886200"/>
            <a:ext cx="160020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1008" y="720"/>
                </a:moveTo>
                <a:cubicBezTo>
                  <a:pt x="996" y="636"/>
                  <a:pt x="984" y="552"/>
                  <a:pt x="816" y="432"/>
                </a:cubicBezTo>
                <a:cubicBezTo>
                  <a:pt x="648" y="312"/>
                  <a:pt x="324" y="156"/>
                  <a:pt x="0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3429000"/>
            <a:ext cx="457200" cy="838080"/>
          </a:xfrm>
          <a:custGeom>
            <a:avLst/>
            <a:gdLst/>
            <a:ahLst/>
            <a:rect l="l" t="t" r="r" b="b"/>
            <a:pathLst>
              <a:path w="288" h="528">
                <a:moveTo>
                  <a:pt x="288" y="0"/>
                </a:moveTo>
                <a:cubicBezTo>
                  <a:pt x="288" y="0"/>
                  <a:pt x="144" y="264"/>
                  <a:pt x="0" y="528"/>
                </a:cubicBezTo>
              </a:path>
            </a:pathLst>
          </a:custGeom>
          <a:noFill/>
          <a:ln cap="sq"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60520" y="3216240"/>
            <a:ext cx="22809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on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73240" y="3978360"/>
            <a:ext cx="4672080" cy="287964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82440" y="283680"/>
            <a:ext cx="5550840" cy="4008600"/>
            <a:chOff x="82440" y="283680"/>
            <a:chExt cx="5550840" cy="4008600"/>
          </a:xfrm>
        </p:grpSpPr>
        <p:grpSp>
          <p:nvGrpSpPr>
            <p:cNvPr id="124" name=""/>
            <p:cNvGrpSpPr/>
            <p:nvPr/>
          </p:nvGrpSpPr>
          <p:grpSpPr>
            <a:xfrm>
              <a:off x="82440" y="1002240"/>
              <a:ext cx="5495760" cy="3290040"/>
              <a:chOff x="82440" y="1002240"/>
              <a:chExt cx="5495760" cy="3290040"/>
            </a:xfrm>
          </p:grpSpPr>
          <p:pic>
            <p:nvPicPr>
              <p:cNvPr id="125" name="" descr=""/>
              <p:cNvPicPr/>
              <p:nvPr/>
            </p:nvPicPr>
            <p:blipFill>
              <a:blip r:embed="rId2"/>
              <a:srcRect l="0" t="0" r="28116" b="0"/>
              <a:stretch/>
            </p:blipFill>
            <p:spPr>
              <a:xfrm>
                <a:off x="82440" y="1002240"/>
                <a:ext cx="5344560" cy="329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259920" y="13032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O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91560" y="1713600"/>
                <a:ext cx="700560" cy="18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75440" y="1591920"/>
                <a:ext cx="302760" cy="52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245560" y="2416320"/>
                <a:ext cx="181440" cy="42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5056200" y="2100960"/>
              <a:ext cx="394560" cy="42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20840" y="2089440"/>
              <a:ext cx="71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78800" y="2593440"/>
              <a:ext cx="62208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90240" y="2665080"/>
              <a:ext cx="74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38200" y="1884960"/>
              <a:ext cx="1706040" cy="38520"/>
            </a:xfrm>
            <a:prstGeom prst="rect">
              <a:avLst/>
            </a:prstGeom>
            <a:solidFill>
              <a:srgbClr val="ff99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711240" y="924840"/>
              <a:ext cx="699120" cy="558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9336800">
              <a:off x="4362840" y="453240"/>
              <a:ext cx="71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056280" y="1035000"/>
            <a:ext cx="281952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Si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 &lt;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la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Drift Ch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6 la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of 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e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Calori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T tracks at 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icon tracks at 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67200" y="0"/>
            <a:ext cx="290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22860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1.2. CDF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そ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13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電弱相互作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     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そ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743360" y="838080"/>
            <a:ext cx="4076640" cy="2557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549600" y="476280"/>
                <a:ext cx="12873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ℓℓ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209520" y="1047600"/>
            <a:ext cx="4324320" cy="2310120"/>
            <a:chOff x="209520" y="1047600"/>
            <a:chExt cx="4324320" cy="231012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rcRect l="0" t="58038" r="0" b="0"/>
            <a:stretch/>
          </p:blipFill>
          <p:spPr>
            <a:xfrm>
              <a:off x="209520" y="1047600"/>
              <a:ext cx="4324320" cy="23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 txBox="1"/>
            <p:nvPr/>
          </p:nvSpPr>
          <p:spPr>
            <a:xfrm>
              <a:off x="209520" y="1047600"/>
              <a:ext cx="4324320" cy="23101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601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09520" y="3357720"/>
            <a:ext cx="47941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0000"/>
                </a:solidFill>
                <a:latin typeface="Arial"/>
              </a:rPr>
              <a:t>σ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• Br(Z→e+e−) = 267.0 ± 6.3 ± 15.2 ± 16.0 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                            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tat.   syst. 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　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um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36960" y="3357720"/>
            <a:ext cx="4307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0000"/>
                </a:solidFill>
                <a:latin typeface="Arial"/>
              </a:rPr>
              <a:t>σ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• Br(Z→</a:t>
            </a:r>
            <a:r>
              <a:rPr b="0" lang="el-GR" sz="14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l-GR" sz="14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−) = 246  ±  6  ±  12  ±  15 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tat.   syst.   lum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00040" y="3825720"/>
            <a:ext cx="3309840" cy="233856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4743360" y="3778200"/>
            <a:ext cx="4076640" cy="2362320"/>
            <a:chOff x="4743360" y="3778200"/>
            <a:chExt cx="4076640" cy="2362320"/>
          </a:xfrm>
        </p:grpSpPr>
        <p:pic>
          <p:nvPicPr>
            <p:cNvPr id="150" name="" descr=""/>
            <p:cNvPicPr/>
            <p:nvPr/>
          </p:nvPicPr>
          <p:blipFill>
            <a:blip r:embed="rId5"/>
            <a:stretch/>
          </p:blipFill>
          <p:spPr>
            <a:xfrm>
              <a:off x="4743360" y="3778200"/>
              <a:ext cx="407664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 txBox="1"/>
            <p:nvPr/>
          </p:nvSpPr>
          <p:spPr>
            <a:xfrm>
              <a:off x="4743360" y="3778200"/>
              <a:ext cx="4076640" cy="2362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71360" y="625140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0000"/>
                </a:solidFill>
                <a:latin typeface="Arial"/>
              </a:rPr>
              <a:t>σ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• Br(W→e</a:t>
            </a:r>
            <a:r>
              <a:rPr b="0" lang="en-GB" sz="1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) =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2.64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±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 0.01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±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 0.09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±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 0.16 n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stat.    syst.    lumi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43360" y="6164280"/>
            <a:ext cx="4076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-25000">
                <a:solidFill>
                  <a:srgbClr val="ff0000"/>
                </a:solidFill>
                <a:latin typeface="Arial"/>
              </a:rPr>
              <a:t>W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·B(W</a:t>
            </a:r>
            <a:r>
              <a:rPr b="0" lang="en-GB" sz="1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0" lang="en-GB" sz="1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= 2.64 </a:t>
            </a:r>
            <a:r>
              <a:rPr b="0" lang="en-GB" sz="14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 0.02 </a:t>
            </a:r>
            <a:r>
              <a:rPr b="0" lang="en-GB" sz="14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 0.12 </a:t>
            </a:r>
            <a:r>
              <a:rPr b="0" lang="en-GB" sz="14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 0.16 n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                                       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stat      syst      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84400" y="228600"/>
            <a:ext cx="48974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2.1.                      (</a:t>
            </a:r>
            <a:r>
              <a:rPr b="0" lang="ja-JP" sz="2400" spc="-1" strike="noStrike">
                <a:solidFill>
                  <a:srgbClr val="0066cc"/>
                </a:solidFill>
                <a:latin typeface="Arial"/>
              </a:rPr>
              <a:t>その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2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74840" y="2168640"/>
            <a:ext cx="4059000" cy="2628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52280" y="993600"/>
            <a:ext cx="4496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We have a clear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Z</a:t>
            </a:r>
            <a:r>
              <a:rPr b="0" lang="en-GB" sz="2400" spc="-1" strike="noStrike" baseline="30000">
                <a:solidFill>
                  <a:srgbClr val="0066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66cc"/>
                </a:solidFill>
                <a:latin typeface="Symbol"/>
                <a:ea typeface="Symbol"/>
              </a:rPr>
              <a:t></a:t>
            </a:r>
            <a:r>
              <a:rPr b="0" lang="en-GB" sz="2400" spc="-1" strike="noStrike" baseline="-25000">
                <a:solidFill>
                  <a:srgbClr val="0066cc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66cc"/>
                </a:solidFill>
                <a:latin typeface="Symbol"/>
                <a:ea typeface="Symbol"/>
              </a:rPr>
              <a:t></a:t>
            </a:r>
            <a:r>
              <a:rPr b="0" lang="en-GB" sz="2400" spc="-1" strike="noStrike" baseline="-25000">
                <a:solidFill>
                  <a:srgbClr val="0066cc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sig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Further study of backgrounds is under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479736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Not only interesting as an EWK measurement, it is important for Higgs and SUSYsear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356000" y="1698480"/>
                <a:ext cx="609624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319640" y="993600"/>
            <a:ext cx="482436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jet with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rrow 10 degree c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within wi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degree c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gt; 25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mi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25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W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 • Br(W→ </a:t>
            </a:r>
            <a:r>
              <a:rPr b="0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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) =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2.62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±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0.07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±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0.21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±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0.16 n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                                       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stat.    syst.    lumi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533840" y="3132000"/>
            <a:ext cx="4070520" cy="3081600"/>
            <a:chOff x="4533840" y="3132000"/>
            <a:chExt cx="4070520" cy="3081600"/>
          </a:xfrm>
        </p:grpSpPr>
        <p:pic>
          <p:nvPicPr>
            <p:cNvPr id="161" name="" descr=""/>
            <p:cNvPicPr/>
            <p:nvPr/>
          </p:nvPicPr>
          <p:blipFill>
            <a:blip r:embed="rId11"/>
            <a:stretch/>
          </p:blipFill>
          <p:spPr>
            <a:xfrm>
              <a:off x="4533840" y="3132000"/>
              <a:ext cx="4070520" cy="308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 txBox="1"/>
            <p:nvPr/>
          </p:nvSpPr>
          <p:spPr>
            <a:xfrm>
              <a:off x="4533840" y="3132000"/>
              <a:ext cx="4070520" cy="308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258920" y="555480"/>
            <a:ext cx="187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Arial Unicode MS"/>
              </a:rPr>
              <a:t>Z</a:t>
            </a:r>
            <a:r>
              <a:rPr b="0" lang="en-GB" sz="2400" spc="-1" strike="noStrike" baseline="30000">
                <a:solidFill>
                  <a:srgbClr val="0066cc"/>
                </a:solidFill>
                <a:latin typeface="Arial"/>
                <a:ea typeface="Arial Unicode MS"/>
              </a:rPr>
              <a:t>0</a:t>
            </a:r>
            <a:r>
              <a:rPr b="0" lang="en-GB" sz="2400" spc="-1" strike="noStrike">
                <a:solidFill>
                  <a:srgbClr val="0066cc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ＭＳ 明朝"/>
              </a:rPr>
              <a:t>τ</a:t>
            </a:r>
            <a:r>
              <a:rPr b="0" lang="en-GB" sz="2400" spc="-1" strike="noStrike" baseline="-25000">
                <a:solidFill>
                  <a:srgbClr val="0066cc"/>
                </a:solidFill>
                <a:latin typeface="Arial"/>
                <a:ea typeface="Arial Unicode MS"/>
              </a:rPr>
              <a:t>e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ＭＳ 明朝"/>
              </a:rPr>
              <a:t>τ</a:t>
            </a:r>
            <a:r>
              <a:rPr b="0" lang="en-GB" sz="2400" spc="-1" strike="noStrike" baseline="-25000">
                <a:solidFill>
                  <a:srgbClr val="0066cc"/>
                </a:solidFill>
                <a:latin typeface="Arial"/>
                <a:ea typeface="Arial Unicode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27640" y="55548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W→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ＭＳ 明朝"/>
              </a:rPr>
              <a:t>τ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492360" y="122400"/>
                <a:ext cx="16560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ℓℓ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               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そ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br>
              <a:rPr sz="2400"/>
            </a:b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W &amp; Z Cross Sections vs. E</a:t>
            </a:r>
            <a:r>
              <a:rPr b="0" lang="en-US" sz="2400" spc="-1" strike="noStrike" baseline="-25000">
                <a:solidFill>
                  <a:srgbClr val="0066cc"/>
                </a:solidFill>
                <a:latin typeface="Arial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543800" cy="5181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419000" y="263196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ur new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010280" y="198108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32767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5410080"/>
            <a:ext cx="38088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2240" y="51814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NN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708360" y="184320"/>
                <a:ext cx="12952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ℓℓ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43040" y="210600"/>
            <a:ext cx="611496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2.1.               </a:t>
            </a:r>
            <a:r>
              <a:rPr b="0" lang="ja-JP" sz="2400" spc="-1" strike="noStrike">
                <a:solidFill>
                  <a:srgbClr val="0066cc"/>
                </a:solidFill>
                <a:latin typeface="Arial"/>
              </a:rPr>
              <a:t>　　　　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66cc"/>
                </a:solidFill>
                <a:latin typeface="Arial"/>
              </a:rPr>
              <a:t>その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4)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Lepton Universality in W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746520" y="228600"/>
                <a:ext cx="1655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ℓℓ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2811600"/>
            <a:ext cx="4838760" cy="307800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730080" y="1995480"/>
            <a:ext cx="3460680" cy="869040"/>
            <a:chOff x="730080" y="1995480"/>
            <a:chExt cx="3460680" cy="869040"/>
          </a:xfrm>
        </p:grpSpPr>
        <p:sp>
          <p:nvSpPr>
            <p:cNvPr id="178" name=""/>
            <p:cNvSpPr/>
            <p:nvPr/>
          </p:nvSpPr>
          <p:spPr>
            <a:xfrm>
              <a:off x="1141200" y="2238480"/>
              <a:ext cx="304956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바탕"/>
                </a:rPr>
                <a:t>= </a:t>
              </a:r>
              <a:r>
                <a:rPr b="1" lang="en-GB" sz="2000" spc="-1" strike="noStrike">
                  <a:solidFill>
                    <a:srgbClr val="ff0000"/>
                  </a:solidFill>
                  <a:latin typeface="바탕"/>
                </a:rPr>
                <a:t>0.99</a:t>
              </a:r>
              <a:r>
                <a:rPr b="1" lang="en-GB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</a:t>
              </a:r>
              <a:r>
                <a:rPr b="1" lang="en-GB" sz="2000" spc="-1" strike="noStrike">
                  <a:solidFill>
                    <a:srgbClr val="ff0000"/>
                  </a:solidFill>
                  <a:latin typeface="바탕"/>
                </a:rPr>
                <a:t>0.02</a:t>
              </a:r>
              <a:r>
                <a:rPr b="1" lang="en-GB" sz="2000" spc="-1" strike="noStrike" baseline="-25000">
                  <a:solidFill>
                    <a:srgbClr val="ff0000"/>
                  </a:solidFill>
                  <a:latin typeface="바탕"/>
                </a:rPr>
                <a:t>stat</a:t>
              </a:r>
              <a:r>
                <a:rPr b="1" lang="en-GB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</a:t>
              </a:r>
              <a:r>
                <a:rPr b="1" lang="en-GB" sz="2000" spc="-1" strike="noStrike">
                  <a:solidFill>
                    <a:srgbClr val="ff0000"/>
                  </a:solidFill>
                  <a:latin typeface="바탕"/>
                </a:rPr>
                <a:t>0.04</a:t>
              </a:r>
              <a:r>
                <a:rPr b="1" lang="en-GB" sz="2000" spc="-1" strike="noStrike" baseline="-25000">
                  <a:solidFill>
                    <a:srgbClr val="ff0000"/>
                  </a:solidFill>
                  <a:latin typeface="바탕"/>
                </a:rPr>
                <a:t>sy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99920" y="2485800"/>
              <a:ext cx="322200" cy="324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2680" y="1995480"/>
              <a:ext cx="461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바탕"/>
                </a:rPr>
                <a:t>g</a:t>
              </a:r>
              <a:r>
                <a:rPr b="1" lang="en-GB" sz="24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0080" y="23544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바탕"/>
                </a:rPr>
                <a:t>g</a:t>
              </a:r>
              <a:r>
                <a:rPr b="1" lang="en-GB" sz="2400" spc="-1" strike="noStrike" baseline="-25000">
                  <a:solidFill>
                    <a:srgbClr val="ff0000"/>
                  </a:solidFill>
                  <a:latin typeface="바탕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19200" y="1494000"/>
                <a:ext cx="35719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τν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→</m:t>
                        </m:r>
                        <m:r>
                          <m:t xml:space="preserve">eν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 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395960" y="1363680"/>
                <a:ext cx="18619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→</m:t>
                        </m:r>
                        <m:r>
                          <m:t xml:space="preserve">eν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110360" y="4556160"/>
                <a:ext cx="11206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μ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649760" y="2111400"/>
                <a:ext cx="44625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Wμ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Wμ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Ze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Z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Zμ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Zμ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  <m:r>
                          <m:t xml:space="preserve">A</m:t>
                        </m:r>
                        <m:r>
                          <m:t xml:space="preserve">Zμ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Wμ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Ze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ε</m:t>
                        </m:r>
                        <m:r>
                          <m:t xml:space="preserve">Zμ</m:t>
                        </m:r>
                        <m:r>
                          <m:t xml:space="preserve">ε</m:t>
                        </m:r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num>
                      <m:den>
                        <m:r>
                          <m:t xml:space="preserve">ε</m:t>
                        </m:r>
                        <m:r>
                          <m:t xml:space="preserve">Wμ</m:t>
                        </m:r>
                        <m:r>
                          <m:t xml:space="preserve">ε</m:t>
                        </m:r>
                        <m:r>
                          <m:rPr>
                            <m:lit/>
                            <m:nor/>
                          </m:rPr>
                          <m:t xml:space="preserve">Z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015320" y="2871720"/>
                <a:ext cx="9619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μ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707000" y="2844720"/>
                <a:ext cx="5443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W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707000" y="3543480"/>
                <a:ext cx="54432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W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768920" y="4194000"/>
                <a:ext cx="4903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W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768920" y="4552920"/>
                <a:ext cx="4903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W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327640" y="2844720"/>
            <a:ext cx="17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= Number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00920" y="314640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87960" y="351792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= Number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87960" y="4118040"/>
            <a:ext cx="24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= Acceptanc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41880" y="451476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= Efficiency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6967440" y="3543480"/>
                <a:ext cx="890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μ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446960" y="4218120"/>
                <a:ext cx="8715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μ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651720" y="3821040"/>
            <a:ext cx="24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ackground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141880" y="4930920"/>
                <a:ext cx="3249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2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9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4430880" y="491184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10587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τ-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70600" y="1058760"/>
            <a:ext cx="12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μ-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191120" y="5514840"/>
            <a:ext cx="4298040" cy="1211040"/>
            <a:chOff x="4191120" y="5514840"/>
            <a:chExt cx="4298040" cy="1211040"/>
          </a:xfrm>
        </p:grpSpPr>
        <p:grpSp>
          <p:nvGrpSpPr>
            <p:cNvPr id="204" name=""/>
            <p:cNvGrpSpPr/>
            <p:nvPr/>
          </p:nvGrpSpPr>
          <p:grpSpPr>
            <a:xfrm>
              <a:off x="4191120" y="5514840"/>
              <a:ext cx="4298040" cy="1211040"/>
              <a:chOff x="4191120" y="5514840"/>
              <a:chExt cx="4298040" cy="1211040"/>
            </a:xfrm>
          </p:grpSpPr>
          <p:sp>
            <p:nvSpPr>
              <p:cNvPr id="205" name=""/>
              <p:cNvSpPr/>
              <p:nvPr/>
            </p:nvSpPr>
            <p:spPr>
              <a:xfrm>
                <a:off x="4191120" y="5870880"/>
                <a:ext cx="62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R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126400" y="6084720"/>
                <a:ext cx="3195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47160" y="6084720"/>
                <a:ext cx="857160" cy="6411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020560" y="5603400"/>
                <a:ext cx="3468600" cy="74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(pp-&gt;W)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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(W-&gt;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134680" y="6224400"/>
                <a:ext cx="280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(pp-&gt;Z)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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(Z-&gt;ll)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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(W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311880" y="5514840"/>
                <a:ext cx="857160" cy="1068840"/>
              </a:xfrm>
              <a:prstGeom prst="rect">
                <a:avLst/>
              </a:prstGeom>
              <a:noFill/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048280" y="5514840"/>
              <a:ext cx="1169280" cy="1139760"/>
            </a:xfrm>
            <a:prstGeom prst="rect">
              <a:avLst/>
            </a:prstGeom>
            <a:noFill/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09080" y="5514840"/>
              <a:ext cx="1169280" cy="498600"/>
            </a:xfrm>
            <a:prstGeom prst="rect">
              <a:avLst/>
            </a:prstGeom>
            <a:noFill/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tsuo Nakano</cp:lastModifiedBy>
  <dcterms:modified xsi:type="dcterms:W3CDTF">2003-09-12T10:05:49Z</dcterms:modified>
  <cp:revision>382</cp:revision>
  <dc:subject/>
  <dc:title>PowerPoint Presentation</dc:title>
</cp:coreProperties>
</file>