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14957280" y="-12831840"/>
            <a:ext cx="18116280" cy="135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-14957280" y="-12831840"/>
            <a:ext cx="18116280" cy="135874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051-4422-47EF-8019-D04ACCDB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9B7-317A-43B0-8D28-D2B07A8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CDE-C561-4963-9F78-FA7AE472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89E-5D65-421E-974D-3AABCACB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46D-9F4A-4903-8055-F87583E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1C9-D7F2-4583-83F6-F51DBCCB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C9A-EF43-4AB5-9AE7-4D6BE2FB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B3D-2FCF-4503-BA41-CBD5EDF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D31-E24D-492E-AED2-CE7D8F7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4E7-C000-4EAD-982B-88A1F90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9D4-7DFE-442F-B38C-D6B221B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1E9-149B-4D72-AF7E-4C312D7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7F4A17-B738-4A25-8BF8-34BADE05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実験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ニュートリノ反応点探索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名古屋大学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北川　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5092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D Reconstruction of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551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95280" y="6384960"/>
            <a:ext cx="792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反応点候補の周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×10plate  (~150000 Track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092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D Reconstruction of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55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22200" y="6248520"/>
            <a:ext cx="882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以上繋が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のみ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D Reconstruction of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551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4000" y="6248520"/>
            <a:ext cx="85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貫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を除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6461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ry interactio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いか等を確認　→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 Search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n Back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年度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年度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8360" y="2060640"/>
          <a:ext cx="8227800" cy="1643040"/>
        </p:xfrm>
        <a:graphic>
          <a:graphicData uri="http://schemas.openxmlformats.org/drawingml/2006/table">
            <a:tbl>
              <a:tblPr/>
              <a:tblGrid>
                <a:gridCol w="2158920"/>
                <a:gridCol w="2808360"/>
                <a:gridCol w="3260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大処理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追い上げる本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イベント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複数本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イベン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イベント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本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イベン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869760" y="4714920"/>
            <a:ext cx="744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量に応じて追い上げる本数を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→　反応点探索の信頼性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-11160" y="703440"/>
          <a:ext cx="9012240" cy="57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703440"/>
                    <a:ext cx="901224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187280" y="119700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2400" y="119700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n Back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信頼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19280" y="321300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速度を上げるために１本の追い上げとした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信頼性を維持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8040" y="407664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度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28800" y="4927680"/>
            <a:ext cx="71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23280" y="1844640"/>
            <a:ext cx="16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2008 : 95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9 : 96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57320" y="6308640"/>
            <a:ext cx="59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反応点が特定された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年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イベント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年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イベン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50920" y="692280"/>
          <a:ext cx="8893080" cy="58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889308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961000" y="1341360"/>
            <a:ext cx="6303600" cy="1739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途中で見失った　　　　→　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pai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辿り着いた　 →　上のプレートスキャ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２ｒ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辿り着いた＝親粒子が見つ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→　親粒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データ上でｖｔｘの描像が見え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→　異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7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ｖｔ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_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の差の原因と対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4360" y="12682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4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33680" y="6237360"/>
            <a:ext cx="42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年の反応点が特定され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44280"/>
            <a:ext cx="6134040" cy="7272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709800" y="45813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kink angle : 118 m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3440" y="4365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149720"/>
            <a:ext cx="360360" cy="26640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48000" y="5300640"/>
            <a:ext cx="399960" cy="144360"/>
          </a:xfrm>
          <a:custGeom>
            <a:avLst/>
            <a:gdLst/>
            <a:ahLst/>
            <a:rect l="l" t="t" r="r" b="b"/>
            <a:pathLst>
              <a:path w="252" h="91">
                <a:moveTo>
                  <a:pt x="0" y="0"/>
                </a:moveTo>
                <a:cubicBezTo>
                  <a:pt x="60" y="91"/>
                  <a:pt x="119" y="45"/>
                  <a:pt x="252" y="45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472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800" y="616572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-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6160" y="580536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ccff"/>
                </a:solidFill>
                <a:latin typeface="Arial"/>
              </a:rPr>
              <a:t>娘粒子の運動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255 +78-49 M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2160" y="234936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800" spc="-1" strike="noStrike">
                <a:solidFill>
                  <a:srgbClr val="ffccff"/>
                </a:solidFill>
                <a:latin typeface="Arial"/>
              </a:rPr>
              <a:t>親粒子の運動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452 +122-80 M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340000" y="5516280"/>
            <a:ext cx="431640" cy="1152360"/>
          </a:xfrm>
          <a:prstGeom prst="line">
            <a:avLst/>
          </a:prstGeom>
          <a:ln w="223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87840" y="551664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01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から追い上げ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70160" y="476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8360" y="2276640"/>
          <a:ext cx="8227800" cy="172872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nd in 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692360" y="4221000"/>
            <a:ext cx="60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年の一部と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009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年のイベントは、現在解析進行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全体の現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268280"/>
          <a:ext cx="8228160" cy="3719520"/>
        </p:xfrm>
        <a:graphic>
          <a:graphicData uri="http://schemas.openxmlformats.org/drawingml/2006/table">
            <a:tbl>
              <a:tblPr/>
              <a:tblGrid>
                <a:gridCol w="4978440"/>
                <a:gridCol w="1657440"/>
                <a:gridCol w="15922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００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００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 predicted by the electronic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nd in 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utrino interactions in the bri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ed in dead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ction in the upstream br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1280520" y="5084640"/>
            <a:ext cx="65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までに捕らえた反応数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0 + 349 = 1289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9000" y="585144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タウニュートリノ検出期待値は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ベント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=2.4x10-3(SK(200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78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におけるニュートリノ反応点探索は高い信頼性で行っている。（イベント処理スピードに合わせて、探索手法を変更しても、その信頼性は失われな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全体でも順調に反応点探索が進行し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解析中のニュートリノ反応数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3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ν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反応検出期待値は１個　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.4x10-3(SK(200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ニュートリノ反応点探索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から反応点を探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360" y="1930320"/>
            <a:ext cx="3416760" cy="4524840"/>
            <a:chOff x="684360" y="1930320"/>
            <a:chExt cx="3416760" cy="4524840"/>
          </a:xfrm>
        </p:grpSpPr>
        <p:grpSp>
          <p:nvGrpSpPr>
            <p:cNvPr id="48" name=""/>
            <p:cNvGrpSpPr/>
            <p:nvPr/>
          </p:nvGrpSpPr>
          <p:grpSpPr>
            <a:xfrm>
              <a:off x="684360" y="1930320"/>
              <a:ext cx="2980440" cy="3913920"/>
              <a:chOff x="684360" y="1930320"/>
              <a:chExt cx="2980440" cy="3913920"/>
            </a:xfrm>
          </p:grpSpPr>
          <p:sp>
            <p:nvSpPr>
              <p:cNvPr id="49" name=""/>
              <p:cNvSpPr/>
              <p:nvPr/>
            </p:nvSpPr>
            <p:spPr>
              <a:xfrm>
                <a:off x="684360" y="1930320"/>
                <a:ext cx="2980440" cy="39139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258560" y="1930320"/>
                <a:ext cx="696960" cy="3911400"/>
                <a:chOff x="1258560" y="1930320"/>
                <a:chExt cx="696960" cy="39114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2585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1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538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67364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809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9537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2105280" y="1930320"/>
                <a:ext cx="694440" cy="3911400"/>
                <a:chOff x="2105280" y="1930320"/>
                <a:chExt cx="694440" cy="39114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105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237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385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517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6521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7979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940840" y="1930320"/>
                <a:ext cx="696240" cy="3911400"/>
                <a:chOff x="2940840" y="1930320"/>
                <a:chExt cx="696240" cy="39114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940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0729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2216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54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489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349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97560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872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2536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848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74320" y="1930320"/>
              <a:ext cx="200160" cy="3913920"/>
              <a:chOff x="3874320" y="1930320"/>
              <a:chExt cx="200160" cy="3913920"/>
            </a:xfrm>
          </p:grpSpPr>
          <p:sp>
            <p:nvSpPr>
              <p:cNvPr id="76" name=""/>
              <p:cNvSpPr/>
              <p:nvPr/>
            </p:nvSpPr>
            <p:spPr>
              <a:xfrm>
                <a:off x="3874320" y="1930320"/>
                <a:ext cx="200160" cy="39139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7368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812600" y="60562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66880" y="6056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1692360" y="3365640"/>
            <a:ext cx="236988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92360" y="3619080"/>
            <a:ext cx="2376360" cy="26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875040"/>
            <a:ext cx="236988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227400"/>
            <a:ext cx="2376360" cy="64764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408"/>
                </a:moveTo>
                <a:cubicBezTo>
                  <a:pt x="230" y="317"/>
                  <a:pt x="461" y="226"/>
                  <a:pt x="635" y="181"/>
                </a:cubicBezTo>
                <a:cubicBezTo>
                  <a:pt x="809" y="136"/>
                  <a:pt x="900" y="166"/>
                  <a:pt x="1043" y="136"/>
                </a:cubicBezTo>
                <a:cubicBezTo>
                  <a:pt x="1186" y="106"/>
                  <a:pt x="1341" y="53"/>
                  <a:pt x="149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60720" y="3875040"/>
            <a:ext cx="1008000" cy="144360"/>
          </a:xfrm>
          <a:custGeom>
            <a:avLst/>
            <a:gdLst/>
            <a:ahLst/>
            <a:rect l="l" t="t" r="r" b="b"/>
            <a:pathLst>
              <a:path w="635" h="91">
                <a:moveTo>
                  <a:pt x="0" y="91"/>
                </a:moveTo>
                <a:cubicBezTo>
                  <a:pt x="173" y="75"/>
                  <a:pt x="347" y="60"/>
                  <a:pt x="453" y="45"/>
                </a:cubicBezTo>
                <a:cubicBezTo>
                  <a:pt x="559" y="30"/>
                  <a:pt x="597" y="15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60720" y="401940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47" y="102"/>
                  <a:pt x="13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3875040"/>
            <a:ext cx="2376360" cy="1224000"/>
          </a:xfrm>
          <a:custGeom>
            <a:avLst/>
            <a:gdLst/>
            <a:ahLst/>
            <a:rect l="l" t="t" r="r" b="b"/>
            <a:pathLst>
              <a:path w="1497" h="771">
                <a:moveTo>
                  <a:pt x="0" y="0"/>
                </a:moveTo>
                <a:cubicBezTo>
                  <a:pt x="272" y="57"/>
                  <a:pt x="544" y="114"/>
                  <a:pt x="725" y="182"/>
                </a:cubicBezTo>
                <a:cubicBezTo>
                  <a:pt x="906" y="250"/>
                  <a:pt x="959" y="310"/>
                  <a:pt x="1088" y="408"/>
                </a:cubicBezTo>
                <a:cubicBezTo>
                  <a:pt x="1217" y="506"/>
                  <a:pt x="1357" y="638"/>
                  <a:pt x="1497" y="77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60840" y="1930320"/>
            <a:ext cx="1983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89320" y="19162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見つけた飛跡情報によ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反応点探索方法を使い分け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9680" y="2852640"/>
            <a:ext cx="39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Vertex Hunt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複数 か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精度良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一点に収束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直接反応点を予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 L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 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一点に収束しない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飛跡情報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を追い上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→　追えなくなったところを反応点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80" y="386064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640" y="3176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403280" y="3932280"/>
            <a:ext cx="216000" cy="28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1880" y="4221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反応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57280" y="31082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-228600" y="404640"/>
          <a:ext cx="9372600" cy="587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04640"/>
                    <a:ext cx="9372600" cy="587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-192240" y="436680"/>
          <a:ext cx="937260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2240" y="436680"/>
                    <a:ext cx="937260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-268200" y="388800"/>
          <a:ext cx="944856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8200" y="388800"/>
                    <a:ext cx="944856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200160"/>
          <a:ext cx="9144000" cy="66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160"/>
                    <a:ext cx="9144000" cy="66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7200" y="2295360"/>
            <a:ext cx="739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-EC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間の物質　　　　　　　　　　　　　　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ィルムの端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以内　　　　　　　　　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ィルムのバックグラウンドが多い　　　　　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C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へ繋げない（角度が大きい）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2941200" y="1268280"/>
            <a:ext cx="2930040" cy="4759920"/>
            <a:chOff x="2941200" y="1268280"/>
            <a:chExt cx="2930040" cy="4759920"/>
          </a:xfrm>
        </p:grpSpPr>
        <p:sp>
          <p:nvSpPr>
            <p:cNvPr id="310" name=""/>
            <p:cNvSpPr/>
            <p:nvPr/>
          </p:nvSpPr>
          <p:spPr>
            <a:xfrm>
              <a:off x="2941200" y="1268280"/>
              <a:ext cx="293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上の複数本の飛跡よ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最も可能性が高い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T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の位置を推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直接その付近のデータをと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966760" y="2690640"/>
              <a:ext cx="2584440" cy="3337560"/>
              <a:chOff x="2966760" y="2690640"/>
              <a:chExt cx="2584440" cy="333756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2966760" y="2690640"/>
                <a:ext cx="2584440" cy="3337560"/>
                <a:chOff x="2966760" y="2690640"/>
                <a:chExt cx="2584440" cy="333756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966760" y="2690640"/>
                  <a:ext cx="2120040" cy="2787840"/>
                  <a:chOff x="2966760" y="2690640"/>
                  <a:chExt cx="2120040" cy="27878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966760" y="2690640"/>
                    <a:ext cx="2120040" cy="278784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375000" y="2690640"/>
                    <a:ext cx="495720" cy="2786400"/>
                    <a:chOff x="3375000" y="2690640"/>
                    <a:chExt cx="495720" cy="27864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37500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46968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57408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67020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76668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386964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3977280" y="2690640"/>
                    <a:ext cx="493920" cy="2786400"/>
                    <a:chOff x="3977280" y="2690640"/>
                    <a:chExt cx="493920" cy="278640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97728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407124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17636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27068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36644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47012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4571640" y="2690640"/>
                    <a:ext cx="495360" cy="2786400"/>
                    <a:chOff x="4571640" y="2690640"/>
                    <a:chExt cx="495360" cy="278640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57164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466560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4771440" y="2690640"/>
                      <a:ext cx="108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486540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96152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065560" y="2690640"/>
                      <a:ext cx="1440" cy="2786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>
                    <a:off x="3173760" y="2690640"/>
                    <a:ext cx="1440" cy="278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069360" y="2690640"/>
                    <a:ext cx="1440" cy="278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280320" y="2690640"/>
                    <a:ext cx="1080" cy="278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983680" y="2690640"/>
                    <a:ext cx="1440" cy="278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235480" y="2690640"/>
                  <a:ext cx="142560" cy="2787840"/>
                  <a:chOff x="5235480" y="2690640"/>
                  <a:chExt cx="142560" cy="27878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5235480" y="2690640"/>
                    <a:ext cx="142560" cy="2787840"/>
                  </a:xfrm>
                  <a:prstGeom prst="rect">
                    <a:avLst/>
                  </a:prstGeom>
                  <a:solidFill>
                    <a:srgbClr val="ccff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306040" y="2690640"/>
                    <a:ext cx="1080" cy="278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3768840" y="5629320"/>
                  <a:ext cx="718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C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16960" y="562932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 flipV="1">
                <a:off x="2966760" y="3668760"/>
                <a:ext cx="2418120" cy="68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66760" y="2766960"/>
                <a:ext cx="2418120" cy="180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2966760" y="3443040"/>
                <a:ext cx="2418120" cy="128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505760" y="3594240"/>
                <a:ext cx="585360" cy="303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4505760" y="3743280"/>
                <a:ext cx="585360" cy="154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05760" y="3897360"/>
                <a:ext cx="585360" cy="45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238720" y="3441600"/>
                <a:ext cx="147600" cy="7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232600" y="3681000"/>
                <a:ext cx="155160" cy="50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26120" y="4437000"/>
                <a:ext cx="171000" cy="12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214160" y="3670200"/>
              <a:ext cx="804600" cy="45252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489040" y="4762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VTX H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684360" y="2492280"/>
            <a:ext cx="2491920" cy="3126600"/>
            <a:chOff x="684360" y="2492280"/>
            <a:chExt cx="2491920" cy="3126600"/>
          </a:xfrm>
        </p:grpSpPr>
        <p:grpSp>
          <p:nvGrpSpPr>
            <p:cNvPr id="357" name=""/>
            <p:cNvGrpSpPr/>
            <p:nvPr/>
          </p:nvGrpSpPr>
          <p:grpSpPr>
            <a:xfrm>
              <a:off x="684360" y="2492280"/>
              <a:ext cx="2491920" cy="3126600"/>
              <a:chOff x="684360" y="2492280"/>
              <a:chExt cx="2491920" cy="312660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684360" y="2492280"/>
                <a:ext cx="2491920" cy="3126600"/>
                <a:chOff x="684360" y="2492280"/>
                <a:chExt cx="2491920" cy="312660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684360" y="2492280"/>
                  <a:ext cx="2022480" cy="2588040"/>
                  <a:chOff x="684360" y="2492280"/>
                  <a:chExt cx="2022480" cy="25880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684360" y="2492280"/>
                    <a:ext cx="2022480" cy="2588040"/>
                  </a:xfrm>
                  <a:prstGeom prst="rect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1073520" y="2492280"/>
                    <a:ext cx="471240" cy="2586600"/>
                    <a:chOff x="1073520" y="2492280"/>
                    <a:chExt cx="471240" cy="25866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107352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116460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126360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135324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144576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154368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1648440" y="2492280"/>
                    <a:ext cx="471240" cy="2586600"/>
                    <a:chOff x="1648440" y="2492280"/>
                    <a:chExt cx="471240" cy="25866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64844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173916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183816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192852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01960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11860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2215800" y="2492280"/>
                    <a:ext cx="471240" cy="2586600"/>
                    <a:chOff x="2215800" y="2492280"/>
                    <a:chExt cx="471240" cy="25866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21580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230508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240552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249552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2588040" y="2492280"/>
                      <a:ext cx="108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2685600" y="2492280"/>
                      <a:ext cx="1440" cy="258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2" name=""/>
                  <p:cNvSpPr/>
                  <p:nvPr/>
                </p:nvSpPr>
                <p:spPr>
                  <a:xfrm>
                    <a:off x="882000" y="2492280"/>
                    <a:ext cx="1080" cy="258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2280" y="2492280"/>
                    <a:ext cx="1080" cy="258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983520" y="2492280"/>
                    <a:ext cx="1080" cy="258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99840" y="2492280"/>
                    <a:ext cx="1080" cy="258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2849760" y="2492280"/>
                  <a:ext cx="136440" cy="2588040"/>
                  <a:chOff x="2849760" y="2492280"/>
                  <a:chExt cx="136440" cy="25880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2849760" y="2492280"/>
                    <a:ext cx="136440" cy="2588040"/>
                  </a:xfrm>
                  <a:prstGeom prst="rect">
                    <a:avLst/>
                  </a:prstGeom>
                  <a:solidFill>
                    <a:srgbClr val="ccff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917080" y="2492280"/>
                    <a:ext cx="1080" cy="258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1451520" y="5220000"/>
                  <a:ext cx="718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C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642040" y="522000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>
                <a:off x="684360" y="3330360"/>
                <a:ext cx="2307960" cy="56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1228680" y="3409560"/>
                <a:ext cx="148896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849400" y="3321000"/>
                <a:ext cx="14616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1065240" y="3541680"/>
              <a:ext cx="487440" cy="41904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42973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56440" y="4581360"/>
            <a:ext cx="265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ストップしたプレート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・上流　２～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・下流　６～１０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の面積の飛跡情報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により読み取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88160" y="5734080"/>
            <a:ext cx="2787120" cy="368280"/>
            <a:chOff x="488160" y="5734080"/>
            <a:chExt cx="2787120" cy="368280"/>
          </a:xfrm>
        </p:grpSpPr>
        <p:sp>
          <p:nvSpPr>
            <p:cNvPr id="398" name=""/>
            <p:cNvSpPr/>
            <p:nvPr/>
          </p:nvSpPr>
          <p:spPr>
            <a:xfrm>
              <a:off x="920520" y="5949000"/>
              <a:ext cx="1752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8160" y="573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上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20240" y="573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下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中でのニュートリノ反応探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93600" y="2362320"/>
            <a:ext cx="7386480" cy="2801520"/>
            <a:chOff x="993600" y="2362320"/>
            <a:chExt cx="7386480" cy="2801520"/>
          </a:xfrm>
        </p:grpSpPr>
        <p:sp>
          <p:nvSpPr>
            <p:cNvPr id="403" name=""/>
            <p:cNvSpPr/>
            <p:nvPr/>
          </p:nvSpPr>
          <p:spPr>
            <a:xfrm>
              <a:off x="993600" y="2362320"/>
              <a:ext cx="5461560" cy="273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1404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336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764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60120" y="2430000"/>
              <a:ext cx="11700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404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2976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09440" y="2430000"/>
              <a:ext cx="11556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7560" y="4412160"/>
              <a:ext cx="122040" cy="6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93400" y="4273920"/>
              <a:ext cx="185400" cy="6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78880" y="4069440"/>
              <a:ext cx="185400" cy="6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13920" y="3797640"/>
              <a:ext cx="1821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59880" y="3660120"/>
              <a:ext cx="183960" cy="6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8440" y="3932640"/>
              <a:ext cx="182160" cy="6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45680" y="2430000"/>
              <a:ext cx="4680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59960" y="2430000"/>
              <a:ext cx="4680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77480" y="2430000"/>
              <a:ext cx="46656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3560" y="2430000"/>
              <a:ext cx="4662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09280" y="2430000"/>
              <a:ext cx="4680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25000" y="2430000"/>
              <a:ext cx="4680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39640" y="2430000"/>
              <a:ext cx="468000" cy="2594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1880" y="2430000"/>
              <a:ext cx="117000" cy="2594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83920" y="2498400"/>
              <a:ext cx="306000" cy="2595600"/>
            </a:xfrm>
            <a:prstGeom prst="flowChartPunchedTap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83920" y="2498400"/>
              <a:ext cx="115560" cy="2595600"/>
            </a:xfrm>
            <a:prstGeom prst="flowChartPunchedTap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3720" y="3797640"/>
              <a:ext cx="36792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2680" y="3797640"/>
              <a:ext cx="3074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20480" y="3385440"/>
              <a:ext cx="182160" cy="137880"/>
            </a:xfrm>
            <a:prstGeom prst="flowChartSummingJunct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73080" y="3523680"/>
              <a:ext cx="185400" cy="134280"/>
            </a:xfrm>
            <a:prstGeom prst="flowChartSummingJunct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3720" y="5162760"/>
              <a:ext cx="54615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437600" y="2362320"/>
              <a:ext cx="364680" cy="2728800"/>
              <a:chOff x="7437600" y="2362320"/>
              <a:chExt cx="364680" cy="2728800"/>
            </a:xfrm>
          </p:grpSpPr>
          <p:sp>
            <p:nvSpPr>
              <p:cNvPr id="433" name=""/>
              <p:cNvSpPr/>
              <p:nvPr/>
            </p:nvSpPr>
            <p:spPr>
              <a:xfrm>
                <a:off x="7437600" y="2362320"/>
                <a:ext cx="364680" cy="272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5160" y="2430000"/>
                <a:ext cx="115200" cy="2592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97720" y="2430000"/>
                <a:ext cx="114840" cy="2592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6515640" y="3864600"/>
              <a:ext cx="86004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98080" y="4683240"/>
              <a:ext cx="244080" cy="6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55160" y="4478400"/>
              <a:ext cx="982440" cy="204480"/>
            </a:xfrm>
            <a:prstGeom prst="line">
              <a:avLst/>
            </a:prstGeom>
            <a:ln w="93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77200" y="33854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2200" y="4579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4960" y="2976120"/>
              <a:ext cx="17838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topping P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504600" y="3318840"/>
              <a:ext cx="190080" cy="340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ニュートリノ反応点探索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から反応点を探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4360" y="1930320"/>
            <a:ext cx="3416760" cy="4524840"/>
            <a:chOff x="684360" y="1930320"/>
            <a:chExt cx="3416760" cy="4524840"/>
          </a:xfrm>
        </p:grpSpPr>
        <p:grpSp>
          <p:nvGrpSpPr>
            <p:cNvPr id="96" name=""/>
            <p:cNvGrpSpPr/>
            <p:nvPr/>
          </p:nvGrpSpPr>
          <p:grpSpPr>
            <a:xfrm>
              <a:off x="684360" y="1930320"/>
              <a:ext cx="2980440" cy="3913920"/>
              <a:chOff x="684360" y="1930320"/>
              <a:chExt cx="2980440" cy="3913920"/>
            </a:xfrm>
          </p:grpSpPr>
          <p:sp>
            <p:nvSpPr>
              <p:cNvPr id="97" name=""/>
              <p:cNvSpPr/>
              <p:nvPr/>
            </p:nvSpPr>
            <p:spPr>
              <a:xfrm>
                <a:off x="684360" y="1930320"/>
                <a:ext cx="2980440" cy="39139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258560" y="1930320"/>
                <a:ext cx="696960" cy="3911400"/>
                <a:chOff x="1258560" y="1930320"/>
                <a:chExt cx="696960" cy="3911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585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391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38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364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809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9537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105280" y="1930320"/>
                <a:ext cx="694440" cy="3911400"/>
                <a:chOff x="2105280" y="1930320"/>
                <a:chExt cx="694440" cy="3911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105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37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85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517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6521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979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940840" y="1930320"/>
                <a:ext cx="696240" cy="3911400"/>
                <a:chOff x="2940840" y="1930320"/>
                <a:chExt cx="696240" cy="3911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940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29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2216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54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89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6349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97560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872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2536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0848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874320" y="1930320"/>
              <a:ext cx="200160" cy="3913920"/>
              <a:chOff x="3874320" y="1930320"/>
              <a:chExt cx="200160" cy="3913920"/>
            </a:xfrm>
          </p:grpSpPr>
          <p:sp>
            <p:nvSpPr>
              <p:cNvPr id="124" name=""/>
              <p:cNvSpPr/>
              <p:nvPr/>
            </p:nvSpPr>
            <p:spPr>
              <a:xfrm>
                <a:off x="3874320" y="1930320"/>
                <a:ext cx="200160" cy="39139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7368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812600" y="60562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6880" y="6056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1692360" y="3365640"/>
            <a:ext cx="236988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692360" y="3619080"/>
            <a:ext cx="2376360" cy="26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875040"/>
            <a:ext cx="236988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3227400"/>
            <a:ext cx="2376360" cy="64764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408"/>
                </a:moveTo>
                <a:cubicBezTo>
                  <a:pt x="230" y="317"/>
                  <a:pt x="461" y="226"/>
                  <a:pt x="635" y="181"/>
                </a:cubicBezTo>
                <a:cubicBezTo>
                  <a:pt x="809" y="136"/>
                  <a:pt x="900" y="166"/>
                  <a:pt x="1043" y="136"/>
                </a:cubicBezTo>
                <a:cubicBezTo>
                  <a:pt x="1186" y="106"/>
                  <a:pt x="1341" y="53"/>
                  <a:pt x="149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3875040"/>
            <a:ext cx="1008000" cy="144360"/>
          </a:xfrm>
          <a:custGeom>
            <a:avLst/>
            <a:gdLst/>
            <a:ahLst/>
            <a:rect l="l" t="t" r="r" b="b"/>
            <a:pathLst>
              <a:path w="635" h="91">
                <a:moveTo>
                  <a:pt x="0" y="91"/>
                </a:moveTo>
                <a:cubicBezTo>
                  <a:pt x="173" y="75"/>
                  <a:pt x="347" y="60"/>
                  <a:pt x="453" y="45"/>
                </a:cubicBezTo>
                <a:cubicBezTo>
                  <a:pt x="559" y="30"/>
                  <a:pt x="597" y="15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0720" y="401940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47" y="102"/>
                  <a:pt x="13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875040"/>
            <a:ext cx="2376360" cy="1224000"/>
          </a:xfrm>
          <a:custGeom>
            <a:avLst/>
            <a:gdLst/>
            <a:ahLst/>
            <a:rect l="l" t="t" r="r" b="b"/>
            <a:pathLst>
              <a:path w="1497" h="771">
                <a:moveTo>
                  <a:pt x="0" y="0"/>
                </a:moveTo>
                <a:cubicBezTo>
                  <a:pt x="272" y="57"/>
                  <a:pt x="544" y="114"/>
                  <a:pt x="725" y="182"/>
                </a:cubicBezTo>
                <a:cubicBezTo>
                  <a:pt x="906" y="250"/>
                  <a:pt x="959" y="310"/>
                  <a:pt x="1088" y="408"/>
                </a:cubicBezTo>
                <a:cubicBezTo>
                  <a:pt x="1217" y="506"/>
                  <a:pt x="1357" y="638"/>
                  <a:pt x="1497" y="77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60840" y="1930320"/>
            <a:ext cx="1983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320" y="19162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見つけた飛跡情報によ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反応点探索方法を使い分け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280" y="386064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640" y="3176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40000" y="3357720"/>
            <a:ext cx="215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140000" y="3602160"/>
            <a:ext cx="215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140000" y="4653000"/>
            <a:ext cx="215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9680" y="2852640"/>
            <a:ext cx="39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rect Vertex Hunting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%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複数 か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精度良く（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2mm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）一点に収束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　→　直接反応点を予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 L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 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一点に収束しない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飛跡情報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を追い上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→　追えなくなったところを反応点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ニュートリノ反応点探索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から反応点を探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4360" y="1930320"/>
            <a:ext cx="3416760" cy="4524840"/>
            <a:chOff x="684360" y="1930320"/>
            <a:chExt cx="3416760" cy="4524840"/>
          </a:xfrm>
        </p:grpSpPr>
        <p:grpSp>
          <p:nvGrpSpPr>
            <p:cNvPr id="145" name=""/>
            <p:cNvGrpSpPr/>
            <p:nvPr/>
          </p:nvGrpSpPr>
          <p:grpSpPr>
            <a:xfrm>
              <a:off x="684360" y="1930320"/>
              <a:ext cx="2980440" cy="3913920"/>
              <a:chOff x="684360" y="1930320"/>
              <a:chExt cx="2980440" cy="39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684360" y="1930320"/>
                <a:ext cx="2980440" cy="39139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258560" y="1930320"/>
                <a:ext cx="696960" cy="3911400"/>
                <a:chOff x="1258560" y="1930320"/>
                <a:chExt cx="696960" cy="3911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585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91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538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7364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09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537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105280" y="1930320"/>
                <a:ext cx="694440" cy="3911400"/>
                <a:chOff x="2105280" y="1930320"/>
                <a:chExt cx="694440" cy="39114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10528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3776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38500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17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6521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9792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940840" y="1930320"/>
                <a:ext cx="696240" cy="3911400"/>
                <a:chOff x="2940840" y="1930320"/>
                <a:chExt cx="696240" cy="3911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9408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7296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21640" y="193032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354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4891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34920" y="193032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97560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872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2536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8480" y="193032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874320" y="1930320"/>
              <a:ext cx="200160" cy="3913920"/>
              <a:chOff x="3874320" y="1930320"/>
              <a:chExt cx="200160" cy="3913920"/>
            </a:xfrm>
          </p:grpSpPr>
          <p:sp>
            <p:nvSpPr>
              <p:cNvPr id="173" name=""/>
              <p:cNvSpPr/>
              <p:nvPr/>
            </p:nvSpPr>
            <p:spPr>
              <a:xfrm>
                <a:off x="3874320" y="1930320"/>
                <a:ext cx="200160" cy="39139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73680" y="193032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812600" y="60562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6880" y="6056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1692360" y="3365640"/>
            <a:ext cx="236988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92360" y="3619080"/>
            <a:ext cx="2376360" cy="26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875040"/>
            <a:ext cx="236988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3227400"/>
            <a:ext cx="2376360" cy="64764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408"/>
                </a:moveTo>
                <a:cubicBezTo>
                  <a:pt x="230" y="317"/>
                  <a:pt x="461" y="226"/>
                  <a:pt x="635" y="181"/>
                </a:cubicBezTo>
                <a:cubicBezTo>
                  <a:pt x="809" y="136"/>
                  <a:pt x="900" y="166"/>
                  <a:pt x="1043" y="136"/>
                </a:cubicBezTo>
                <a:cubicBezTo>
                  <a:pt x="1186" y="106"/>
                  <a:pt x="1341" y="53"/>
                  <a:pt x="149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60720" y="3875040"/>
            <a:ext cx="1008000" cy="144360"/>
          </a:xfrm>
          <a:custGeom>
            <a:avLst/>
            <a:gdLst/>
            <a:ahLst/>
            <a:rect l="l" t="t" r="r" b="b"/>
            <a:pathLst>
              <a:path w="635" h="91">
                <a:moveTo>
                  <a:pt x="0" y="91"/>
                </a:moveTo>
                <a:cubicBezTo>
                  <a:pt x="173" y="75"/>
                  <a:pt x="347" y="60"/>
                  <a:pt x="453" y="45"/>
                </a:cubicBezTo>
                <a:cubicBezTo>
                  <a:pt x="559" y="30"/>
                  <a:pt x="597" y="15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401940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47" y="102"/>
                  <a:pt x="13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3875040"/>
            <a:ext cx="2376360" cy="1224000"/>
          </a:xfrm>
          <a:custGeom>
            <a:avLst/>
            <a:gdLst/>
            <a:ahLst/>
            <a:rect l="l" t="t" r="r" b="b"/>
            <a:pathLst>
              <a:path w="1497" h="771">
                <a:moveTo>
                  <a:pt x="0" y="0"/>
                </a:moveTo>
                <a:cubicBezTo>
                  <a:pt x="272" y="57"/>
                  <a:pt x="544" y="114"/>
                  <a:pt x="725" y="182"/>
                </a:cubicBezTo>
                <a:cubicBezTo>
                  <a:pt x="906" y="250"/>
                  <a:pt x="959" y="310"/>
                  <a:pt x="1088" y="408"/>
                </a:cubicBezTo>
                <a:cubicBezTo>
                  <a:pt x="1217" y="506"/>
                  <a:pt x="1357" y="638"/>
                  <a:pt x="1497" y="77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0840" y="1930320"/>
            <a:ext cx="1983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89320" y="19162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見つけた飛跡情報によ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反応点探索方法を使い分け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280" y="386064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640" y="3176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40000" y="3602160"/>
            <a:ext cx="215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9680" y="2852640"/>
            <a:ext cx="39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Vertex Hunt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複数 か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精度良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一点に収束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直接反応点を予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can Back Location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0%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本 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一点に収束しない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　　→　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の飛跡情報から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中を追い上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→　</a:t>
            </a:r>
            <a:r>
              <a:rPr b="0" lang="ja-JP" sz="1800" spc="-1" strike="noStrike" u="sng">
                <a:solidFill>
                  <a:srgbClr val="0000ff"/>
                </a:solidFill>
                <a:uFillTx/>
                <a:latin typeface="Arial"/>
              </a:rPr>
              <a:t>追えなくなったところ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を反応点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5280" y="5734080"/>
            <a:ext cx="170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枚続けて飛跡が確認でき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71840" y="3448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71840" y="611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0920" y="-27000"/>
            <a:ext cx="51850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01920" y="6375240"/>
            <a:ext cx="429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自動飛跡読み取り装置の上に自動プレート交換装置を搭載した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1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ニュートリノ反応点探索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から反応点を探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4360" y="1989000"/>
            <a:ext cx="3416760" cy="4524840"/>
            <a:chOff x="684360" y="1989000"/>
            <a:chExt cx="3416760" cy="4524840"/>
          </a:xfrm>
        </p:grpSpPr>
        <p:grpSp>
          <p:nvGrpSpPr>
            <p:cNvPr id="200" name=""/>
            <p:cNvGrpSpPr/>
            <p:nvPr/>
          </p:nvGrpSpPr>
          <p:grpSpPr>
            <a:xfrm>
              <a:off x="684360" y="1989000"/>
              <a:ext cx="2980440" cy="3913920"/>
              <a:chOff x="684360" y="1989000"/>
              <a:chExt cx="2980440" cy="3913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84360" y="1989000"/>
                <a:ext cx="2980440" cy="39139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58560" y="1989000"/>
                <a:ext cx="696960" cy="3911400"/>
                <a:chOff x="1258560" y="1989000"/>
                <a:chExt cx="696960" cy="3911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5856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9176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3828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7364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0900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5372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105280" y="1989000"/>
                <a:ext cx="694440" cy="3911400"/>
                <a:chOff x="2105280" y="1989000"/>
                <a:chExt cx="694440" cy="3911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10528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3776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8500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51784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65212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9792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940840" y="1989000"/>
                <a:ext cx="696240" cy="3911400"/>
                <a:chOff x="2940840" y="1989000"/>
                <a:chExt cx="696240" cy="3911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94084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296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221640" y="1989000"/>
                  <a:ext cx="180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5412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8912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634920" y="1989000"/>
                  <a:ext cx="2160" cy="39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975600" y="198900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8720" y="198900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25360" y="198900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8480" y="1989000"/>
                <a:ext cx="252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874320" y="1989000"/>
              <a:ext cx="200160" cy="3913920"/>
              <a:chOff x="3874320" y="1989000"/>
              <a:chExt cx="200160" cy="3913920"/>
            </a:xfrm>
          </p:grpSpPr>
          <p:sp>
            <p:nvSpPr>
              <p:cNvPr id="228" name=""/>
              <p:cNvSpPr/>
              <p:nvPr/>
            </p:nvSpPr>
            <p:spPr>
              <a:xfrm>
                <a:off x="3874320" y="1989000"/>
                <a:ext cx="200160" cy="39139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73680" y="1989000"/>
                <a:ext cx="1800" cy="39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812600" y="61149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66880" y="6114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1692360" y="3365640"/>
            <a:ext cx="236988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692360" y="3619080"/>
            <a:ext cx="2376360" cy="26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3875040"/>
            <a:ext cx="236988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4920" y="3429000"/>
            <a:ext cx="936360" cy="7920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3227400"/>
            <a:ext cx="2376360" cy="64764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408"/>
                </a:moveTo>
                <a:cubicBezTo>
                  <a:pt x="230" y="317"/>
                  <a:pt x="461" y="226"/>
                  <a:pt x="635" y="181"/>
                </a:cubicBezTo>
                <a:cubicBezTo>
                  <a:pt x="809" y="136"/>
                  <a:pt x="900" y="166"/>
                  <a:pt x="1043" y="136"/>
                </a:cubicBezTo>
                <a:cubicBezTo>
                  <a:pt x="1186" y="106"/>
                  <a:pt x="1341" y="53"/>
                  <a:pt x="149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3875040"/>
            <a:ext cx="1008000" cy="144360"/>
          </a:xfrm>
          <a:custGeom>
            <a:avLst/>
            <a:gdLst/>
            <a:ahLst/>
            <a:rect l="l" t="t" r="r" b="b"/>
            <a:pathLst>
              <a:path w="635" h="91">
                <a:moveTo>
                  <a:pt x="0" y="91"/>
                </a:moveTo>
                <a:cubicBezTo>
                  <a:pt x="173" y="75"/>
                  <a:pt x="347" y="60"/>
                  <a:pt x="453" y="45"/>
                </a:cubicBezTo>
                <a:cubicBezTo>
                  <a:pt x="559" y="30"/>
                  <a:pt x="597" y="15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60720" y="401940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47" y="102"/>
                  <a:pt x="136" y="13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3875040"/>
            <a:ext cx="2376360" cy="1224000"/>
          </a:xfrm>
          <a:custGeom>
            <a:avLst/>
            <a:gdLst/>
            <a:ahLst/>
            <a:rect l="l" t="t" r="r" b="b"/>
            <a:pathLst>
              <a:path w="1497" h="771">
                <a:moveTo>
                  <a:pt x="0" y="0"/>
                </a:moveTo>
                <a:cubicBezTo>
                  <a:pt x="272" y="57"/>
                  <a:pt x="544" y="114"/>
                  <a:pt x="725" y="182"/>
                </a:cubicBezTo>
                <a:cubicBezTo>
                  <a:pt x="906" y="250"/>
                  <a:pt x="959" y="310"/>
                  <a:pt x="1088" y="408"/>
                </a:cubicBezTo>
                <a:cubicBezTo>
                  <a:pt x="1217" y="506"/>
                  <a:pt x="1357" y="638"/>
                  <a:pt x="1497" y="77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60840" y="1930320"/>
            <a:ext cx="19836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9280" y="14842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見つけた飛跡情報によ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反応点探索方法を使い分け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280" y="386064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9640" y="3176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34680" y="6093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反応点付近を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-UTS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で読み出してニュートリ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反応点からの全飛跡情報を再構成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73960" y="2349360"/>
            <a:ext cx="39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Vertex Hunt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複数 か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精度良く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一点に収束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直接反応点を予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Back L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（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 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一点に収束しない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→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飛跡情報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を追い上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→　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追えなくなったとこ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反応点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5661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276640"/>
            <a:ext cx="4788000" cy="2952720"/>
          </a:xfrm>
          <a:prstGeom prst="rect">
            <a:avLst/>
          </a:prstGeom>
          <a:noFill/>
          <a:ln w="158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15280" y="5211720"/>
            <a:ext cx="170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枚続けて飛跡が確認でき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n</dc:creator>
  <dc:description/>
  <dc:language>en-US</dc:language>
  <cp:lastModifiedBy>kun</cp:lastModifiedBy>
  <dcterms:modified xsi:type="dcterms:W3CDTF">2010-02-26T02:25:01Z</dcterms:modified>
  <cp:revision>36</cp:revision>
  <dc:subject/>
  <dc:title>OPERA実験～反応点探索～</dc:title>
</cp:coreProperties>
</file>