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ＭＳ Ｐ明朝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ＭＳ Ｐ明朝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ＭＳ Ｐ明朝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A11957-B61E-45EF-BED8-57BDEE61DCA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"/>
          <p:cNvSpPr/>
          <p:nvPr/>
        </p:nvSpPr>
        <p:spPr>
          <a:xfrm>
            <a:off x="1260360" y="812880"/>
            <a:ext cx="504036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"/>
          <p:cNvSpPr/>
          <p:nvPr/>
        </p:nvSpPr>
        <p:spPr>
          <a:xfrm>
            <a:off x="1260360" y="812880"/>
            <a:ext cx="504036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1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"/>
          <p:cNvSpPr/>
          <p:nvPr/>
        </p:nvSpPr>
        <p:spPr>
          <a:xfrm>
            <a:off x="1260360" y="812880"/>
            <a:ext cx="504036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1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"/>
          <p:cNvSpPr/>
          <p:nvPr/>
        </p:nvSpPr>
        <p:spPr>
          <a:xfrm>
            <a:off x="1260360" y="812880"/>
            <a:ext cx="504036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1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"/>
          <p:cNvSpPr/>
          <p:nvPr/>
        </p:nvSpPr>
        <p:spPr>
          <a:xfrm>
            <a:off x="1260360" y="812880"/>
            <a:ext cx="504036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1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"/>
          <p:cNvSpPr/>
          <p:nvPr/>
        </p:nvSpPr>
        <p:spPr>
          <a:xfrm>
            <a:off x="1260360" y="812880"/>
            <a:ext cx="504036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1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"/>
          <p:cNvSpPr/>
          <p:nvPr/>
        </p:nvSpPr>
        <p:spPr>
          <a:xfrm>
            <a:off x="1260360" y="812880"/>
            <a:ext cx="504036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1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49009-692F-41ED-8A81-51757A52F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B280B-7C4D-4EC9-96DD-7B166A319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D6E53-839B-499F-BE76-82F19C8F6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86263-5A63-4C5C-B0FE-F99229FA0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1D131-C82C-47E8-88F6-A9AD5660A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A2334-086E-444C-BCD6-6F02E5E13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47600-35C9-42A2-908C-91745E38E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BE93E-A530-4769-BDC7-475378B0D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C6653-327E-4B29-9DC9-EF4EB618B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D00DE-AEC0-4056-97CF-95674F829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A09E9-843C-42A7-BAC8-E4F9D81CC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3ACA3-6084-42D7-8599-FF3A91DDC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ＭＳ Ｐ明朝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ＭＳ Ｐ明朝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ＭＳ Ｐ明朝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0EA31E-62CA-421C-AE36-F7E23A66E87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449360" y="1476360"/>
            <a:ext cx="4965480" cy="6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PERA</a:t>
            </a:r>
            <a:r>
              <a:rPr b="0" lang="ja-JP" sz="3600" spc="-1" strike="noStrike">
                <a:solidFill>
                  <a:srgbClr val="ffffff"/>
                </a:solidFill>
                <a:latin typeface="Arial"/>
              </a:rPr>
              <a:t>原子核乾板の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L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037560" y="6087960"/>
            <a:ext cx="2890080" cy="11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名古屋大学理学研究科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研究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1    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中塚裕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719280" y="900000"/>
            <a:ext cx="762948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ニュートリノ反応におけ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C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内でのニュートリノ反応地点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T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の探索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66640" y="3672000"/>
            <a:ext cx="8772480" cy="18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でのニュートリノ反応での生成粒子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c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解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C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へ繋ぐ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n Bac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で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c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地点から反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を突き止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TE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探索を行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S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の解析で、複数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ck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の描像がある一点に収束しているように見えるとき、直接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　　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CC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内の反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を予想し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TE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探索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60360" y="3492360"/>
            <a:ext cx="9180360" cy="23036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7067520" y="925560"/>
            <a:ext cx="108000" cy="627552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156440" y="925560"/>
            <a:ext cx="25560" cy="62755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851520" y="7215120"/>
            <a:ext cx="56520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652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L0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130800" y="7215120"/>
            <a:ext cx="56520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652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L0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483160" y="7215120"/>
            <a:ext cx="56520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652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L03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762440" y="7215120"/>
            <a:ext cx="56520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652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L04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103640" y="7215120"/>
            <a:ext cx="56520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652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L05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395520" y="7216920"/>
            <a:ext cx="56520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652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L06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746440" y="7216920"/>
            <a:ext cx="56520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652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L07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9655200" y="554040"/>
            <a:ext cx="4986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898200" y="539280"/>
            <a:ext cx="74520" cy="398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895320" y="719280"/>
            <a:ext cx="365040" cy="20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008000" y="717480"/>
            <a:ext cx="252360" cy="255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163520" y="539640"/>
            <a:ext cx="135576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72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emulsion:44micr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60360" y="291960"/>
            <a:ext cx="117792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72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base:200micr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31640" y="3419640"/>
            <a:ext cx="900360" cy="360360"/>
          </a:xfrm>
          <a:prstGeom prst="rightArrow">
            <a:avLst>
              <a:gd name="adj1" fmla="val 50000"/>
              <a:gd name="adj2" fmla="val 62463"/>
            </a:avLst>
          </a:prstGeom>
          <a:solidFill>
            <a:srgbClr val="ff420e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048440" y="925560"/>
            <a:ext cx="25560" cy="62755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383160" y="925560"/>
            <a:ext cx="108000" cy="627552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472080" y="925560"/>
            <a:ext cx="25560" cy="62755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364440" y="925560"/>
            <a:ext cx="25200" cy="62755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699160" y="925560"/>
            <a:ext cx="108000" cy="627552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788080" y="925560"/>
            <a:ext cx="25200" cy="62755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680080" y="925560"/>
            <a:ext cx="25560" cy="62755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016600" y="925560"/>
            <a:ext cx="108000" cy="627552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105520" y="925560"/>
            <a:ext cx="25200" cy="62755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997520" y="925560"/>
            <a:ext cx="25200" cy="62755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332240" y="925560"/>
            <a:ext cx="108000" cy="627552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421160" y="925560"/>
            <a:ext cx="25560" cy="62755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313160" y="925560"/>
            <a:ext cx="25560" cy="62755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648240" y="925560"/>
            <a:ext cx="107640" cy="627552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736800" y="925560"/>
            <a:ext cx="25560" cy="62755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629160" y="925560"/>
            <a:ext cx="25200" cy="62755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963880" y="925560"/>
            <a:ext cx="108000" cy="627552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052800" y="925560"/>
            <a:ext cx="25200" cy="62755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944800" y="925560"/>
            <a:ext cx="25560" cy="62755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279520" y="925560"/>
            <a:ext cx="108000" cy="627552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368440" y="925560"/>
            <a:ext cx="25560" cy="62755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260440" y="925560"/>
            <a:ext cx="25560" cy="62755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95520" y="925560"/>
            <a:ext cx="108000" cy="627552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684440" y="925560"/>
            <a:ext cx="25200" cy="62755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576440" y="925560"/>
            <a:ext cx="25200" cy="62755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911160" y="925560"/>
            <a:ext cx="108000" cy="627552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000080" y="925560"/>
            <a:ext cx="25560" cy="62755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885960" y="925560"/>
            <a:ext cx="25200" cy="62755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9883800" y="925560"/>
            <a:ext cx="108000" cy="627552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9972720" y="925560"/>
            <a:ext cx="25200" cy="62755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9864720" y="925560"/>
            <a:ext cx="25560" cy="62755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9756720" y="925560"/>
            <a:ext cx="108000" cy="627552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9845640" y="925560"/>
            <a:ext cx="25560" cy="62755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9737640" y="925560"/>
            <a:ext cx="25560" cy="62755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92000" y="2843280"/>
            <a:ext cx="103032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72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Pb:1m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2" name=""/>
          <p:cNvCxnSpPr/>
          <p:nvPr/>
        </p:nvCxnSpPr>
        <p:spPr>
          <a:xfrm flipV="1">
            <a:off x="1066680" y="3122280"/>
            <a:ext cx="4737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3" name=""/>
          <p:cNvSpPr/>
          <p:nvPr/>
        </p:nvSpPr>
        <p:spPr>
          <a:xfrm>
            <a:off x="0" y="385128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utri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027160" y="7236000"/>
            <a:ext cx="56520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652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L08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379520" y="7236000"/>
            <a:ext cx="56520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652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L09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47640" y="7236000"/>
            <a:ext cx="56520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652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L1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80360" y="5303880"/>
            <a:ext cx="53748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7067520" y="925560"/>
            <a:ext cx="108000" cy="627552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156440" y="925560"/>
            <a:ext cx="25560" cy="62755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851520" y="7215120"/>
            <a:ext cx="56520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652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L0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130800" y="7215120"/>
            <a:ext cx="56520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652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L0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483160" y="7215120"/>
            <a:ext cx="56520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652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L03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762440" y="7215120"/>
            <a:ext cx="56520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652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L04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103640" y="7215120"/>
            <a:ext cx="56520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652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L05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395520" y="7216920"/>
            <a:ext cx="56520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652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L06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746440" y="7216920"/>
            <a:ext cx="56520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652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L07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9655200" y="554040"/>
            <a:ext cx="4986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H="1" flipV="1">
            <a:off x="898200" y="539280"/>
            <a:ext cx="74520" cy="398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895320" y="719280"/>
            <a:ext cx="365040" cy="20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1008000" y="717480"/>
            <a:ext cx="252360" cy="255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163520" y="539640"/>
            <a:ext cx="135576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72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emulsion:44micr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60360" y="291960"/>
            <a:ext cx="117792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72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base:200micr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31640" y="3419640"/>
            <a:ext cx="900360" cy="360360"/>
          </a:xfrm>
          <a:prstGeom prst="rightArrow">
            <a:avLst>
              <a:gd name="adj1" fmla="val 50000"/>
              <a:gd name="adj2" fmla="val 62463"/>
            </a:avLst>
          </a:prstGeom>
          <a:solidFill>
            <a:srgbClr val="ff420e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7048440" y="925560"/>
            <a:ext cx="25560" cy="62755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383160" y="925560"/>
            <a:ext cx="108000" cy="627552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472080" y="925560"/>
            <a:ext cx="25560" cy="62755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364440" y="925560"/>
            <a:ext cx="25200" cy="62755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699160" y="925560"/>
            <a:ext cx="108000" cy="627552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788080" y="925560"/>
            <a:ext cx="25200" cy="62755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680080" y="925560"/>
            <a:ext cx="25560" cy="62755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016600" y="925560"/>
            <a:ext cx="108000" cy="627552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105520" y="925560"/>
            <a:ext cx="25200" cy="62755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997520" y="925560"/>
            <a:ext cx="25200" cy="62755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332240" y="925560"/>
            <a:ext cx="108000" cy="627552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421160" y="925560"/>
            <a:ext cx="25560" cy="62755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313160" y="925560"/>
            <a:ext cx="25560" cy="62755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648240" y="925560"/>
            <a:ext cx="107640" cy="627552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736800" y="925560"/>
            <a:ext cx="25560" cy="62755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629160" y="925560"/>
            <a:ext cx="25200" cy="62755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963880" y="925560"/>
            <a:ext cx="108000" cy="627552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052800" y="925560"/>
            <a:ext cx="25200" cy="62755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944800" y="925560"/>
            <a:ext cx="25560" cy="62755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279520" y="925560"/>
            <a:ext cx="108000" cy="627552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368440" y="925560"/>
            <a:ext cx="25560" cy="62755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260440" y="925560"/>
            <a:ext cx="25560" cy="62755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595520" y="925560"/>
            <a:ext cx="108000" cy="627552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684440" y="925560"/>
            <a:ext cx="25200" cy="62755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576440" y="925560"/>
            <a:ext cx="25200" cy="62755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911160" y="925560"/>
            <a:ext cx="108000" cy="627552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000080" y="925560"/>
            <a:ext cx="25560" cy="62755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885960" y="925560"/>
            <a:ext cx="25200" cy="62755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9883800" y="925560"/>
            <a:ext cx="108000" cy="627552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9972720" y="925560"/>
            <a:ext cx="25200" cy="62755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9864720" y="925560"/>
            <a:ext cx="25560" cy="62755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9756720" y="925560"/>
            <a:ext cx="108000" cy="627552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9845640" y="925560"/>
            <a:ext cx="25560" cy="62755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9737640" y="925560"/>
            <a:ext cx="25560" cy="62755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92000" y="2843280"/>
            <a:ext cx="103032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72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Pb:1m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/>
          <p:nvPr/>
        </p:nvCxnSpPr>
        <p:spPr>
          <a:xfrm flipV="1">
            <a:off x="1066680" y="3122280"/>
            <a:ext cx="4737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0" name=""/>
          <p:cNvSpPr/>
          <p:nvPr/>
        </p:nvSpPr>
        <p:spPr>
          <a:xfrm>
            <a:off x="0" y="385128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utri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27160" y="7236000"/>
            <a:ext cx="56520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652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L08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379520" y="7236000"/>
            <a:ext cx="56520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652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L09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47640" y="7236000"/>
            <a:ext cx="56520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652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L1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9972720" y="3222720"/>
            <a:ext cx="54000" cy="54000"/>
          </a:xfrm>
          <a:prstGeom prst="diamond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9864720" y="3259080"/>
            <a:ext cx="54000" cy="54000"/>
          </a:xfrm>
          <a:prstGeom prst="diamond">
            <a:avLst/>
          </a:prstGeom>
          <a:solidFill>
            <a:srgbClr val="ff66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9828360" y="3222720"/>
            <a:ext cx="54000" cy="54000"/>
          </a:xfrm>
          <a:prstGeom prst="diamond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9720360" y="3259080"/>
            <a:ext cx="54000" cy="54000"/>
          </a:xfrm>
          <a:prstGeom prst="diamond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80360" y="5303880"/>
            <a:ext cx="53748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H="1">
            <a:off x="9504000" y="3203640"/>
            <a:ext cx="1042920" cy="1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7067520" y="925560"/>
            <a:ext cx="108000" cy="627552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156440" y="925560"/>
            <a:ext cx="25560" cy="62755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851520" y="7215120"/>
            <a:ext cx="56520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652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L0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130800" y="7215120"/>
            <a:ext cx="56520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652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L0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483160" y="7215120"/>
            <a:ext cx="56520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652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L03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762440" y="7215120"/>
            <a:ext cx="56520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652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L04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103640" y="7215120"/>
            <a:ext cx="56520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652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L05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395520" y="7216920"/>
            <a:ext cx="56520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652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L06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746440" y="7216920"/>
            <a:ext cx="56520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652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L07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9655200" y="554040"/>
            <a:ext cx="4986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 flipH="1" flipV="1">
            <a:off x="898200" y="539280"/>
            <a:ext cx="74520" cy="398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flipV="1">
            <a:off x="895320" y="719280"/>
            <a:ext cx="365040" cy="20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 flipV="1">
            <a:off x="1008000" y="717480"/>
            <a:ext cx="252360" cy="255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163520" y="539640"/>
            <a:ext cx="135576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72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emulsion:44micr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60360" y="291960"/>
            <a:ext cx="117792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72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base:200micr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31640" y="3419640"/>
            <a:ext cx="900360" cy="360360"/>
          </a:xfrm>
          <a:prstGeom prst="rightArrow">
            <a:avLst>
              <a:gd name="adj1" fmla="val 50000"/>
              <a:gd name="adj2" fmla="val 62463"/>
            </a:avLst>
          </a:prstGeom>
          <a:solidFill>
            <a:srgbClr val="ff420e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7048440" y="925560"/>
            <a:ext cx="25560" cy="62755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383160" y="925560"/>
            <a:ext cx="108000" cy="627552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472080" y="925560"/>
            <a:ext cx="25560" cy="62755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364440" y="925560"/>
            <a:ext cx="25200" cy="62755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5699160" y="925560"/>
            <a:ext cx="108000" cy="627552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5788080" y="925560"/>
            <a:ext cx="25200" cy="62755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680080" y="925560"/>
            <a:ext cx="25560" cy="62755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016600" y="925560"/>
            <a:ext cx="108000" cy="627552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105520" y="925560"/>
            <a:ext cx="25200" cy="62755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997520" y="925560"/>
            <a:ext cx="25200" cy="62755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32240" y="925560"/>
            <a:ext cx="108000" cy="627552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421160" y="925560"/>
            <a:ext cx="25560" cy="62755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4313160" y="925560"/>
            <a:ext cx="25560" cy="62755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648240" y="925560"/>
            <a:ext cx="107640" cy="627552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736800" y="925560"/>
            <a:ext cx="25560" cy="62755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3629160" y="925560"/>
            <a:ext cx="25200" cy="62755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963880" y="925560"/>
            <a:ext cx="108000" cy="627552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052800" y="925560"/>
            <a:ext cx="25200" cy="62755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944800" y="925560"/>
            <a:ext cx="25560" cy="62755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279520" y="925560"/>
            <a:ext cx="108000" cy="627552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2368440" y="925560"/>
            <a:ext cx="25560" cy="62755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260440" y="925560"/>
            <a:ext cx="25560" cy="62755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595520" y="925560"/>
            <a:ext cx="108000" cy="627552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684440" y="925560"/>
            <a:ext cx="25200" cy="62755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1576440" y="925560"/>
            <a:ext cx="25200" cy="62755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911160" y="925560"/>
            <a:ext cx="108000" cy="627552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000080" y="925560"/>
            <a:ext cx="25560" cy="62755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885960" y="925560"/>
            <a:ext cx="25200" cy="62755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9883800" y="925560"/>
            <a:ext cx="108000" cy="627552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9972720" y="925560"/>
            <a:ext cx="25200" cy="62755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9864720" y="925560"/>
            <a:ext cx="25560" cy="62755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9756720" y="925560"/>
            <a:ext cx="108000" cy="627552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9845640" y="925560"/>
            <a:ext cx="25560" cy="62755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9737640" y="925560"/>
            <a:ext cx="25560" cy="62755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2000" y="2843280"/>
            <a:ext cx="103032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72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Pb:1m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1" name=""/>
          <p:cNvCxnSpPr/>
          <p:nvPr/>
        </p:nvCxnSpPr>
        <p:spPr>
          <a:xfrm flipV="1">
            <a:off x="1066680" y="3122280"/>
            <a:ext cx="4737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02" name=""/>
          <p:cNvSpPr/>
          <p:nvPr/>
        </p:nvSpPr>
        <p:spPr>
          <a:xfrm>
            <a:off x="0" y="385128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utri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27160" y="7236000"/>
            <a:ext cx="56520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652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L08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379520" y="7236000"/>
            <a:ext cx="56520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652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L09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47640" y="7236000"/>
            <a:ext cx="56520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652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L1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 flipH="1">
            <a:off x="2736360" y="3149640"/>
            <a:ext cx="8280360" cy="82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9972720" y="3222720"/>
            <a:ext cx="54000" cy="54000"/>
          </a:xfrm>
          <a:prstGeom prst="diamond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9864720" y="3259080"/>
            <a:ext cx="54000" cy="54000"/>
          </a:xfrm>
          <a:prstGeom prst="diamond">
            <a:avLst/>
          </a:prstGeom>
          <a:solidFill>
            <a:srgbClr val="ff66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9828360" y="3222720"/>
            <a:ext cx="54000" cy="54000"/>
          </a:xfrm>
          <a:prstGeom prst="diamond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9720360" y="3259080"/>
            <a:ext cx="54000" cy="54000"/>
          </a:xfrm>
          <a:prstGeom prst="diamond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7164360" y="3510000"/>
            <a:ext cx="54000" cy="54000"/>
          </a:xfrm>
          <a:prstGeom prst="diamond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7056360" y="3510000"/>
            <a:ext cx="54000" cy="54000"/>
          </a:xfrm>
          <a:prstGeom prst="diamond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6480000" y="3581280"/>
            <a:ext cx="54000" cy="54000"/>
          </a:xfrm>
          <a:prstGeom prst="diamond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6372360" y="3581280"/>
            <a:ext cx="54000" cy="54000"/>
          </a:xfrm>
          <a:prstGeom prst="diamond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5796000" y="3618000"/>
            <a:ext cx="54000" cy="54000"/>
          </a:xfrm>
          <a:prstGeom prst="diamond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5688000" y="3654360"/>
            <a:ext cx="54000" cy="54000"/>
          </a:xfrm>
          <a:prstGeom prst="diamond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5111640" y="3691080"/>
            <a:ext cx="54000" cy="54000"/>
          </a:xfrm>
          <a:prstGeom prst="diamond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968720" y="3726000"/>
            <a:ext cx="54000" cy="54000"/>
          </a:xfrm>
          <a:prstGeom prst="diamond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4427640" y="3762360"/>
            <a:ext cx="54000" cy="54000"/>
          </a:xfrm>
          <a:prstGeom prst="diamond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4282920" y="3797280"/>
            <a:ext cx="54000" cy="54000"/>
          </a:xfrm>
          <a:prstGeom prst="diamond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745080" y="3833640"/>
            <a:ext cx="53640" cy="54000"/>
          </a:xfrm>
          <a:prstGeom prst="diamond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600360" y="3870360"/>
            <a:ext cx="54000" cy="54000"/>
          </a:xfrm>
          <a:prstGeom prst="diamond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059280" y="3906720"/>
            <a:ext cx="53640" cy="54000"/>
          </a:xfrm>
          <a:prstGeom prst="diamond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2916360" y="3941640"/>
            <a:ext cx="54000" cy="54000"/>
          </a:xfrm>
          <a:prstGeom prst="diamond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180360" y="5303880"/>
            <a:ext cx="53748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H="1">
            <a:off x="7488000" y="3059280"/>
            <a:ext cx="1368360" cy="144360"/>
          </a:xfrm>
          <a:prstGeom prst="line">
            <a:avLst/>
          </a:prstGeom>
          <a:ln w="255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7067520" y="925560"/>
            <a:ext cx="108000" cy="627552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7156440" y="925560"/>
            <a:ext cx="25560" cy="62755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6851520" y="7215120"/>
            <a:ext cx="56520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652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L0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6130800" y="7215120"/>
            <a:ext cx="56520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652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L0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5483160" y="7215120"/>
            <a:ext cx="56520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652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L03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4762440" y="7215120"/>
            <a:ext cx="56520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652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L04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103640" y="7215120"/>
            <a:ext cx="56520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652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L05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3395520" y="7216920"/>
            <a:ext cx="56520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652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L06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746440" y="7216920"/>
            <a:ext cx="56520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652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L07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9655200" y="554040"/>
            <a:ext cx="4986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 flipV="1">
            <a:off x="898200" y="539280"/>
            <a:ext cx="74520" cy="398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 flipV="1">
            <a:off x="895320" y="719280"/>
            <a:ext cx="365040" cy="20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1008000" y="717480"/>
            <a:ext cx="252360" cy="255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1163520" y="539640"/>
            <a:ext cx="135576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72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emulsion:44micr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360360" y="291960"/>
            <a:ext cx="117792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72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base:200micr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431640" y="3419640"/>
            <a:ext cx="900360" cy="360360"/>
          </a:xfrm>
          <a:prstGeom prst="rightArrow">
            <a:avLst>
              <a:gd name="adj1" fmla="val 50000"/>
              <a:gd name="adj2" fmla="val 62463"/>
            </a:avLst>
          </a:prstGeom>
          <a:solidFill>
            <a:srgbClr val="ff420e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7048440" y="925560"/>
            <a:ext cx="25560" cy="62755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383160" y="925560"/>
            <a:ext cx="108000" cy="627552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6472080" y="925560"/>
            <a:ext cx="25560" cy="62755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6364440" y="925560"/>
            <a:ext cx="25200" cy="62755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5699160" y="925560"/>
            <a:ext cx="108000" cy="627552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788080" y="925560"/>
            <a:ext cx="25200" cy="62755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5680080" y="925560"/>
            <a:ext cx="25560" cy="62755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5016600" y="925560"/>
            <a:ext cx="108000" cy="627552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105520" y="925560"/>
            <a:ext cx="25200" cy="62755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997520" y="925560"/>
            <a:ext cx="25200" cy="62755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332240" y="925560"/>
            <a:ext cx="108000" cy="627552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4421160" y="925560"/>
            <a:ext cx="25560" cy="62755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4313160" y="925560"/>
            <a:ext cx="25560" cy="62755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648240" y="925560"/>
            <a:ext cx="107640" cy="627552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736800" y="925560"/>
            <a:ext cx="25560" cy="62755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629160" y="925560"/>
            <a:ext cx="25200" cy="62755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2963880" y="925560"/>
            <a:ext cx="108000" cy="627552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3052800" y="925560"/>
            <a:ext cx="25200" cy="62755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2944800" y="925560"/>
            <a:ext cx="25560" cy="62755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279520" y="925560"/>
            <a:ext cx="108000" cy="627552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2368440" y="925560"/>
            <a:ext cx="25560" cy="62755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2260440" y="925560"/>
            <a:ext cx="25560" cy="62755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1595520" y="925560"/>
            <a:ext cx="108000" cy="627552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1684440" y="925560"/>
            <a:ext cx="25200" cy="62755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1576440" y="925560"/>
            <a:ext cx="25200" cy="62755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911160" y="925560"/>
            <a:ext cx="108000" cy="627552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1000080" y="925560"/>
            <a:ext cx="25560" cy="62755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885960" y="925560"/>
            <a:ext cx="25200" cy="62755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9883800" y="925560"/>
            <a:ext cx="108000" cy="627552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9972720" y="925560"/>
            <a:ext cx="25200" cy="62755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9864720" y="925560"/>
            <a:ext cx="25560" cy="62755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9756720" y="925560"/>
            <a:ext cx="108000" cy="627552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9845640" y="925560"/>
            <a:ext cx="25560" cy="62755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9737640" y="925560"/>
            <a:ext cx="25560" cy="62755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792000" y="2843280"/>
            <a:ext cx="103032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72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Pb:1m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8" name=""/>
          <p:cNvCxnSpPr/>
          <p:nvPr/>
        </p:nvCxnSpPr>
        <p:spPr>
          <a:xfrm flipV="1">
            <a:off x="1066680" y="3122280"/>
            <a:ext cx="4737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79" name=""/>
          <p:cNvSpPr/>
          <p:nvPr/>
        </p:nvSpPr>
        <p:spPr>
          <a:xfrm>
            <a:off x="0" y="385128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utri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027160" y="7236000"/>
            <a:ext cx="56520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652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L08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1379520" y="7236000"/>
            <a:ext cx="56520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652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L09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47640" y="7236000"/>
            <a:ext cx="56520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652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L1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2736360" y="3149640"/>
            <a:ext cx="8280360" cy="82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9972720" y="3222720"/>
            <a:ext cx="54000" cy="54000"/>
          </a:xfrm>
          <a:prstGeom prst="diamond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9864720" y="3259080"/>
            <a:ext cx="54000" cy="54000"/>
          </a:xfrm>
          <a:prstGeom prst="diamond">
            <a:avLst/>
          </a:prstGeom>
          <a:solidFill>
            <a:srgbClr val="ff66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9828360" y="3222720"/>
            <a:ext cx="54000" cy="54000"/>
          </a:xfrm>
          <a:prstGeom prst="diamond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9720360" y="3259080"/>
            <a:ext cx="54000" cy="54000"/>
          </a:xfrm>
          <a:prstGeom prst="diamond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7164360" y="3510000"/>
            <a:ext cx="54000" cy="54000"/>
          </a:xfrm>
          <a:prstGeom prst="diamond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7056360" y="3510000"/>
            <a:ext cx="54000" cy="54000"/>
          </a:xfrm>
          <a:prstGeom prst="diamond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480000" y="3581280"/>
            <a:ext cx="54000" cy="54000"/>
          </a:xfrm>
          <a:prstGeom prst="diamond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372360" y="3581280"/>
            <a:ext cx="54000" cy="54000"/>
          </a:xfrm>
          <a:prstGeom prst="diamond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5796000" y="3618000"/>
            <a:ext cx="54000" cy="54000"/>
          </a:xfrm>
          <a:prstGeom prst="diamond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688000" y="3654360"/>
            <a:ext cx="54000" cy="54000"/>
          </a:xfrm>
          <a:prstGeom prst="diamond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5111640" y="3691080"/>
            <a:ext cx="54000" cy="54000"/>
          </a:xfrm>
          <a:prstGeom prst="diamond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4968720" y="3726000"/>
            <a:ext cx="54000" cy="54000"/>
          </a:xfrm>
          <a:prstGeom prst="diamond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4427640" y="3762360"/>
            <a:ext cx="54000" cy="54000"/>
          </a:xfrm>
          <a:prstGeom prst="diamond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4282920" y="3797280"/>
            <a:ext cx="54000" cy="54000"/>
          </a:xfrm>
          <a:prstGeom prst="diamond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3745080" y="3833640"/>
            <a:ext cx="53640" cy="54000"/>
          </a:xfrm>
          <a:prstGeom prst="diamond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3600360" y="3870360"/>
            <a:ext cx="54000" cy="54000"/>
          </a:xfrm>
          <a:prstGeom prst="diamond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3059280" y="3906720"/>
            <a:ext cx="53640" cy="54000"/>
          </a:xfrm>
          <a:prstGeom prst="diamond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2916360" y="3941640"/>
            <a:ext cx="54000" cy="54000"/>
          </a:xfrm>
          <a:prstGeom prst="diamond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180360" y="5303880"/>
            <a:ext cx="53748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 flipH="1">
            <a:off x="7488000" y="3059280"/>
            <a:ext cx="1368360" cy="144360"/>
          </a:xfrm>
          <a:prstGeom prst="line">
            <a:avLst/>
          </a:prstGeom>
          <a:ln w="255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7203960" y="2700360"/>
            <a:ext cx="246384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llowing up the tra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/>
          <p:nvPr/>
        </p:nvSpPr>
        <p:spPr>
          <a:xfrm>
            <a:off x="7067520" y="925560"/>
            <a:ext cx="108000" cy="627552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7156440" y="925560"/>
            <a:ext cx="25560" cy="62755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851520" y="7215120"/>
            <a:ext cx="56520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652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L0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6130800" y="7215120"/>
            <a:ext cx="56520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652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L0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5483160" y="7215120"/>
            <a:ext cx="56520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652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L03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4762440" y="7215120"/>
            <a:ext cx="56520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652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L04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103640" y="7215120"/>
            <a:ext cx="56520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652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L05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3395520" y="7216920"/>
            <a:ext cx="56520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652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L06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2746440" y="7216920"/>
            <a:ext cx="56520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652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L07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9655200" y="554040"/>
            <a:ext cx="4986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 flipH="1" flipV="1">
            <a:off x="898200" y="539280"/>
            <a:ext cx="74520" cy="398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 flipV="1">
            <a:off x="895320" y="719280"/>
            <a:ext cx="365040" cy="20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 flipV="1">
            <a:off x="1008000" y="717480"/>
            <a:ext cx="252360" cy="255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163520" y="539640"/>
            <a:ext cx="135576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72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emulsion:44micr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60360" y="291960"/>
            <a:ext cx="117792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72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base:200micr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431640" y="3419640"/>
            <a:ext cx="900360" cy="360360"/>
          </a:xfrm>
          <a:prstGeom prst="rightArrow">
            <a:avLst>
              <a:gd name="adj1" fmla="val 50000"/>
              <a:gd name="adj2" fmla="val 62463"/>
            </a:avLst>
          </a:prstGeom>
          <a:solidFill>
            <a:srgbClr val="ff420e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7048440" y="925560"/>
            <a:ext cx="25560" cy="62755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6383160" y="925560"/>
            <a:ext cx="108000" cy="627552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472080" y="925560"/>
            <a:ext cx="25560" cy="62755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64440" y="925560"/>
            <a:ext cx="25200" cy="62755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5699160" y="925560"/>
            <a:ext cx="108000" cy="627552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5788080" y="925560"/>
            <a:ext cx="25200" cy="62755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5680080" y="925560"/>
            <a:ext cx="25560" cy="62755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016600" y="925560"/>
            <a:ext cx="108000" cy="627552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105520" y="925560"/>
            <a:ext cx="25200" cy="62755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4997520" y="925560"/>
            <a:ext cx="25200" cy="62755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4332240" y="925560"/>
            <a:ext cx="108000" cy="627552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421160" y="925560"/>
            <a:ext cx="25560" cy="62755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4313160" y="925560"/>
            <a:ext cx="25560" cy="62755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648240" y="925560"/>
            <a:ext cx="107640" cy="627552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736800" y="925560"/>
            <a:ext cx="25560" cy="62755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3629160" y="925560"/>
            <a:ext cx="25200" cy="62755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963880" y="925560"/>
            <a:ext cx="108000" cy="627552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3052800" y="925560"/>
            <a:ext cx="25200" cy="62755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944800" y="925560"/>
            <a:ext cx="25560" cy="62755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279520" y="925560"/>
            <a:ext cx="108000" cy="627552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368440" y="925560"/>
            <a:ext cx="25560" cy="62755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260440" y="925560"/>
            <a:ext cx="25560" cy="62755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1595520" y="925560"/>
            <a:ext cx="108000" cy="627552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1684440" y="925560"/>
            <a:ext cx="25200" cy="62755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576440" y="925560"/>
            <a:ext cx="25200" cy="62755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911160" y="925560"/>
            <a:ext cx="108000" cy="627552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000080" y="925560"/>
            <a:ext cx="25560" cy="62755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85960" y="925560"/>
            <a:ext cx="25200" cy="62755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9883800" y="925560"/>
            <a:ext cx="108000" cy="627552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972720" y="925560"/>
            <a:ext cx="25200" cy="62755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9864720" y="925560"/>
            <a:ext cx="25560" cy="62755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9756720" y="925560"/>
            <a:ext cx="108000" cy="627552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9845640" y="925560"/>
            <a:ext cx="25560" cy="62755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9737640" y="925560"/>
            <a:ext cx="25560" cy="62755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792000" y="2843280"/>
            <a:ext cx="103032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72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Pb:1m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6" name=""/>
          <p:cNvCxnSpPr/>
          <p:nvPr/>
        </p:nvCxnSpPr>
        <p:spPr>
          <a:xfrm flipV="1">
            <a:off x="1066680" y="3122280"/>
            <a:ext cx="4737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57" name=""/>
          <p:cNvSpPr/>
          <p:nvPr/>
        </p:nvSpPr>
        <p:spPr>
          <a:xfrm>
            <a:off x="0" y="385128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utri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2027160" y="7236000"/>
            <a:ext cx="56520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652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L08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379520" y="7236000"/>
            <a:ext cx="56520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652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L09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647640" y="7236000"/>
            <a:ext cx="56520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652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L1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>
            <a:off x="2736360" y="3149640"/>
            <a:ext cx="8280360" cy="82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9972720" y="3222720"/>
            <a:ext cx="54000" cy="54000"/>
          </a:xfrm>
          <a:prstGeom prst="diamond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9864720" y="3259080"/>
            <a:ext cx="54000" cy="54000"/>
          </a:xfrm>
          <a:prstGeom prst="diamond">
            <a:avLst/>
          </a:prstGeom>
          <a:solidFill>
            <a:srgbClr val="ff66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9828360" y="3222720"/>
            <a:ext cx="54000" cy="54000"/>
          </a:xfrm>
          <a:prstGeom prst="diamond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9720360" y="3259080"/>
            <a:ext cx="54000" cy="54000"/>
          </a:xfrm>
          <a:prstGeom prst="diamond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7164360" y="3510000"/>
            <a:ext cx="54000" cy="54000"/>
          </a:xfrm>
          <a:prstGeom prst="diamond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7056360" y="3510000"/>
            <a:ext cx="54000" cy="54000"/>
          </a:xfrm>
          <a:prstGeom prst="diamond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6480000" y="3581280"/>
            <a:ext cx="54000" cy="54000"/>
          </a:xfrm>
          <a:prstGeom prst="diamond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6372360" y="3581280"/>
            <a:ext cx="54000" cy="54000"/>
          </a:xfrm>
          <a:prstGeom prst="diamond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5796000" y="3618000"/>
            <a:ext cx="54000" cy="54000"/>
          </a:xfrm>
          <a:prstGeom prst="diamond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5688000" y="3654360"/>
            <a:ext cx="54000" cy="54000"/>
          </a:xfrm>
          <a:prstGeom prst="diamond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5111640" y="3691080"/>
            <a:ext cx="54000" cy="54000"/>
          </a:xfrm>
          <a:prstGeom prst="diamond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4968720" y="3726000"/>
            <a:ext cx="54000" cy="54000"/>
          </a:xfrm>
          <a:prstGeom prst="diamond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4427640" y="3762360"/>
            <a:ext cx="54000" cy="54000"/>
          </a:xfrm>
          <a:prstGeom prst="diamond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4282920" y="3797280"/>
            <a:ext cx="54000" cy="54000"/>
          </a:xfrm>
          <a:prstGeom prst="diamond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3745080" y="3833640"/>
            <a:ext cx="53640" cy="54000"/>
          </a:xfrm>
          <a:prstGeom prst="diamond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3600360" y="3870360"/>
            <a:ext cx="54000" cy="54000"/>
          </a:xfrm>
          <a:prstGeom prst="diamond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3059280" y="3906720"/>
            <a:ext cx="53640" cy="54000"/>
          </a:xfrm>
          <a:prstGeom prst="diamond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916360" y="3941640"/>
            <a:ext cx="54000" cy="54000"/>
          </a:xfrm>
          <a:prstGeom prst="diamond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180360" y="5303880"/>
            <a:ext cx="53748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519280" y="684360"/>
            <a:ext cx="1008000" cy="792000"/>
          </a:xfrm>
          <a:prstGeom prst="irregularSeal1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668680" y="912960"/>
            <a:ext cx="71424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op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H="1">
            <a:off x="7488000" y="3059280"/>
            <a:ext cx="1368360" cy="144360"/>
          </a:xfrm>
          <a:prstGeom prst="line">
            <a:avLst/>
          </a:prstGeom>
          <a:ln w="255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203960" y="2700360"/>
            <a:ext cx="246384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llowing up the tra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 rot="2700000">
            <a:off x="2152440" y="3855960"/>
            <a:ext cx="436680" cy="420480"/>
          </a:xfrm>
          <a:prstGeom prst="plus">
            <a:avLst>
              <a:gd name="adj" fmla="val 4340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rot="2700000">
            <a:off x="1431720" y="3859200"/>
            <a:ext cx="436680" cy="420480"/>
          </a:xfrm>
          <a:prstGeom prst="plus">
            <a:avLst>
              <a:gd name="adj" fmla="val 4340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"/>
          <p:cNvSpPr/>
          <p:nvPr/>
        </p:nvSpPr>
        <p:spPr>
          <a:xfrm>
            <a:off x="1440000" y="2700360"/>
            <a:ext cx="5905440" cy="237636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067520" y="925560"/>
            <a:ext cx="108000" cy="627552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7156440" y="925560"/>
            <a:ext cx="25560" cy="62755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851520" y="7215120"/>
            <a:ext cx="56520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652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L0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6130800" y="7215120"/>
            <a:ext cx="56520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652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L0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5483160" y="7215120"/>
            <a:ext cx="56520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652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L03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4762440" y="7215120"/>
            <a:ext cx="56520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652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L04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4103640" y="7215120"/>
            <a:ext cx="56520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652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L05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3395520" y="7216920"/>
            <a:ext cx="56520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652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L06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746440" y="7216920"/>
            <a:ext cx="56520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652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L07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9655200" y="554040"/>
            <a:ext cx="4986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 flipH="1" flipV="1">
            <a:off x="898200" y="539280"/>
            <a:ext cx="74520" cy="398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V="1">
            <a:off x="895320" y="719280"/>
            <a:ext cx="365040" cy="20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 flipV="1">
            <a:off x="1008000" y="717480"/>
            <a:ext cx="252360" cy="255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1163520" y="539640"/>
            <a:ext cx="135576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72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emulsion:44micr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360360" y="291960"/>
            <a:ext cx="117792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72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base:200micr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431640" y="3419640"/>
            <a:ext cx="900360" cy="360360"/>
          </a:xfrm>
          <a:prstGeom prst="rightArrow">
            <a:avLst>
              <a:gd name="adj1" fmla="val 50000"/>
              <a:gd name="adj2" fmla="val 62463"/>
            </a:avLst>
          </a:prstGeom>
          <a:solidFill>
            <a:srgbClr val="ff420e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7048440" y="925560"/>
            <a:ext cx="25560" cy="62755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6383160" y="925560"/>
            <a:ext cx="108000" cy="627552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6472080" y="925560"/>
            <a:ext cx="25560" cy="62755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6364440" y="925560"/>
            <a:ext cx="25200" cy="62755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5699160" y="925560"/>
            <a:ext cx="108000" cy="627552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5788080" y="925560"/>
            <a:ext cx="25200" cy="62755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5680080" y="925560"/>
            <a:ext cx="25560" cy="62755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5016600" y="925560"/>
            <a:ext cx="108000" cy="627552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5105520" y="925560"/>
            <a:ext cx="25200" cy="62755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4997520" y="925560"/>
            <a:ext cx="25200" cy="62755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4332240" y="925560"/>
            <a:ext cx="108000" cy="627552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4421160" y="925560"/>
            <a:ext cx="25560" cy="62755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4313160" y="925560"/>
            <a:ext cx="25560" cy="62755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3648240" y="925560"/>
            <a:ext cx="107640" cy="627552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3736800" y="925560"/>
            <a:ext cx="25560" cy="62755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3629160" y="925560"/>
            <a:ext cx="25200" cy="62755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2963880" y="925560"/>
            <a:ext cx="108000" cy="627552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3052800" y="925560"/>
            <a:ext cx="25200" cy="62755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2944800" y="925560"/>
            <a:ext cx="25560" cy="62755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2279520" y="925560"/>
            <a:ext cx="108000" cy="627552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2368440" y="925560"/>
            <a:ext cx="25560" cy="62755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2260440" y="925560"/>
            <a:ext cx="25560" cy="62755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1595520" y="925560"/>
            <a:ext cx="108000" cy="627552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1684440" y="925560"/>
            <a:ext cx="25200" cy="62755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1576440" y="925560"/>
            <a:ext cx="25200" cy="62755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911160" y="925560"/>
            <a:ext cx="108000" cy="627552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000080" y="925560"/>
            <a:ext cx="25560" cy="62755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885960" y="925560"/>
            <a:ext cx="25200" cy="62755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9883800" y="925560"/>
            <a:ext cx="108000" cy="627552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9972720" y="925560"/>
            <a:ext cx="25200" cy="62755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9864720" y="925560"/>
            <a:ext cx="25560" cy="62755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9756720" y="925560"/>
            <a:ext cx="108000" cy="627552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9845640" y="925560"/>
            <a:ext cx="25560" cy="62755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9737640" y="925560"/>
            <a:ext cx="25560" cy="62755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792000" y="2843280"/>
            <a:ext cx="103032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72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Pb:1m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9" name=""/>
          <p:cNvCxnSpPr/>
          <p:nvPr/>
        </p:nvCxnSpPr>
        <p:spPr>
          <a:xfrm flipV="1">
            <a:off x="1066680" y="3122280"/>
            <a:ext cx="4737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40" name=""/>
          <p:cNvSpPr/>
          <p:nvPr/>
        </p:nvSpPr>
        <p:spPr>
          <a:xfrm>
            <a:off x="0" y="385128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utri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2027160" y="7236000"/>
            <a:ext cx="56520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652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L08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1379520" y="7236000"/>
            <a:ext cx="56520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652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L09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647640" y="7236000"/>
            <a:ext cx="56520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652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L1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 flipH="1">
            <a:off x="2736360" y="3149640"/>
            <a:ext cx="8280360" cy="82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9972720" y="3222720"/>
            <a:ext cx="54000" cy="54000"/>
          </a:xfrm>
          <a:prstGeom prst="diamond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9864720" y="3259080"/>
            <a:ext cx="54000" cy="54000"/>
          </a:xfrm>
          <a:prstGeom prst="diamond">
            <a:avLst/>
          </a:prstGeom>
          <a:solidFill>
            <a:srgbClr val="ff66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9828360" y="3222720"/>
            <a:ext cx="54000" cy="54000"/>
          </a:xfrm>
          <a:prstGeom prst="diamond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9720360" y="3259080"/>
            <a:ext cx="54000" cy="54000"/>
          </a:xfrm>
          <a:prstGeom prst="diamond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7164360" y="3510000"/>
            <a:ext cx="54000" cy="54000"/>
          </a:xfrm>
          <a:prstGeom prst="diamond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7056360" y="3510000"/>
            <a:ext cx="54000" cy="54000"/>
          </a:xfrm>
          <a:prstGeom prst="diamond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6480000" y="3581280"/>
            <a:ext cx="54000" cy="54000"/>
          </a:xfrm>
          <a:prstGeom prst="diamond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6372360" y="3581280"/>
            <a:ext cx="54000" cy="54000"/>
          </a:xfrm>
          <a:prstGeom prst="diamond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5796000" y="3618000"/>
            <a:ext cx="54000" cy="54000"/>
          </a:xfrm>
          <a:prstGeom prst="diamond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5688000" y="3654360"/>
            <a:ext cx="54000" cy="54000"/>
          </a:xfrm>
          <a:prstGeom prst="diamond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5111640" y="3691080"/>
            <a:ext cx="54000" cy="54000"/>
          </a:xfrm>
          <a:prstGeom prst="diamond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4968720" y="3726000"/>
            <a:ext cx="54000" cy="54000"/>
          </a:xfrm>
          <a:prstGeom prst="diamond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4427640" y="3762360"/>
            <a:ext cx="54000" cy="54000"/>
          </a:xfrm>
          <a:prstGeom prst="diamond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4282920" y="3797280"/>
            <a:ext cx="54000" cy="54000"/>
          </a:xfrm>
          <a:prstGeom prst="diamond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3745080" y="3833640"/>
            <a:ext cx="53640" cy="54000"/>
          </a:xfrm>
          <a:prstGeom prst="diamond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3600360" y="3870360"/>
            <a:ext cx="54000" cy="54000"/>
          </a:xfrm>
          <a:prstGeom prst="diamond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3059280" y="3906720"/>
            <a:ext cx="53640" cy="54000"/>
          </a:xfrm>
          <a:prstGeom prst="diamond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2916360" y="3941640"/>
            <a:ext cx="54000" cy="54000"/>
          </a:xfrm>
          <a:prstGeom prst="diamond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180360" y="5303880"/>
            <a:ext cx="53748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2519280" y="684360"/>
            <a:ext cx="1008000" cy="792000"/>
          </a:xfrm>
          <a:prstGeom prst="irregularSeal1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2668680" y="912960"/>
            <a:ext cx="71424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op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7488000" y="3059280"/>
            <a:ext cx="1368360" cy="144360"/>
          </a:xfrm>
          <a:prstGeom prst="line">
            <a:avLst/>
          </a:prstGeom>
          <a:ln w="255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7203960" y="2700360"/>
            <a:ext cx="246384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llowing up the tra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2808360" y="2843280"/>
            <a:ext cx="316872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3027600" y="2916360"/>
            <a:ext cx="285696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CAN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 rot="2700000">
            <a:off x="2152440" y="3855960"/>
            <a:ext cx="436680" cy="420480"/>
          </a:xfrm>
          <a:prstGeom prst="plus">
            <a:avLst>
              <a:gd name="adj" fmla="val 4340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 rot="2700000">
            <a:off x="1431720" y="3859200"/>
            <a:ext cx="436680" cy="420480"/>
          </a:xfrm>
          <a:prstGeom prst="plus">
            <a:avLst>
              <a:gd name="adj" fmla="val 4340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"/>
          <p:cNvSpPr/>
          <p:nvPr/>
        </p:nvSpPr>
        <p:spPr>
          <a:xfrm>
            <a:off x="1440000" y="2700360"/>
            <a:ext cx="5905440" cy="237636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7067520" y="925560"/>
            <a:ext cx="108000" cy="627552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7156440" y="925560"/>
            <a:ext cx="25560" cy="62755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6851520" y="7215120"/>
            <a:ext cx="56520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652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L0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6130800" y="7215120"/>
            <a:ext cx="56520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652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L0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5483160" y="7215120"/>
            <a:ext cx="56520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652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L03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4762440" y="7215120"/>
            <a:ext cx="56520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652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L04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4103640" y="7215120"/>
            <a:ext cx="56520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652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L05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3395520" y="7216920"/>
            <a:ext cx="56520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652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L06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2746440" y="7216920"/>
            <a:ext cx="56520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652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L07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9655200" y="554040"/>
            <a:ext cx="4986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 flipH="1" flipV="1">
            <a:off x="898200" y="539280"/>
            <a:ext cx="74520" cy="398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 flipV="1">
            <a:off x="895320" y="719280"/>
            <a:ext cx="365040" cy="20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 flipV="1">
            <a:off x="1008000" y="717480"/>
            <a:ext cx="252360" cy="255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1163520" y="539640"/>
            <a:ext cx="135576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72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emulsion:44micr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360360" y="291960"/>
            <a:ext cx="117792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72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base:200micr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431640" y="3419640"/>
            <a:ext cx="900360" cy="360360"/>
          </a:xfrm>
          <a:prstGeom prst="rightArrow">
            <a:avLst>
              <a:gd name="adj1" fmla="val 50000"/>
              <a:gd name="adj2" fmla="val 62463"/>
            </a:avLst>
          </a:prstGeom>
          <a:solidFill>
            <a:srgbClr val="ff420e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7048440" y="925560"/>
            <a:ext cx="25560" cy="62755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6383160" y="925560"/>
            <a:ext cx="108000" cy="627552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6472080" y="925560"/>
            <a:ext cx="25560" cy="62755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6364440" y="925560"/>
            <a:ext cx="25200" cy="62755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5699160" y="925560"/>
            <a:ext cx="108000" cy="627552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5788080" y="925560"/>
            <a:ext cx="25200" cy="62755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5680080" y="925560"/>
            <a:ext cx="25560" cy="62755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5016600" y="925560"/>
            <a:ext cx="108000" cy="627552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5105520" y="925560"/>
            <a:ext cx="25200" cy="62755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4997520" y="925560"/>
            <a:ext cx="25200" cy="62755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4332240" y="925560"/>
            <a:ext cx="108000" cy="627552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4421160" y="925560"/>
            <a:ext cx="25560" cy="62755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313160" y="925560"/>
            <a:ext cx="25560" cy="62755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3648240" y="925560"/>
            <a:ext cx="107640" cy="627552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3736800" y="925560"/>
            <a:ext cx="25560" cy="62755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3629160" y="925560"/>
            <a:ext cx="25200" cy="62755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2963880" y="925560"/>
            <a:ext cx="108000" cy="627552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3052800" y="925560"/>
            <a:ext cx="25200" cy="62755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2944800" y="925560"/>
            <a:ext cx="25560" cy="62755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2279520" y="925560"/>
            <a:ext cx="108000" cy="627552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2368440" y="925560"/>
            <a:ext cx="25560" cy="62755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2260440" y="925560"/>
            <a:ext cx="25560" cy="62755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1595520" y="925560"/>
            <a:ext cx="108000" cy="627552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1684440" y="925560"/>
            <a:ext cx="25200" cy="62755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1576440" y="925560"/>
            <a:ext cx="25200" cy="62755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911160" y="925560"/>
            <a:ext cx="108000" cy="627552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1000080" y="925560"/>
            <a:ext cx="25560" cy="62755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885960" y="925560"/>
            <a:ext cx="25200" cy="62755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9883800" y="925560"/>
            <a:ext cx="108000" cy="627552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9972720" y="925560"/>
            <a:ext cx="25200" cy="62755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9864720" y="925560"/>
            <a:ext cx="25560" cy="62755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9756720" y="925560"/>
            <a:ext cx="108000" cy="627552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9845640" y="925560"/>
            <a:ext cx="25560" cy="62755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9737640" y="925560"/>
            <a:ext cx="25560" cy="62755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792000" y="2843280"/>
            <a:ext cx="103032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72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Pb:1m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4" name=""/>
          <p:cNvCxnSpPr/>
          <p:nvPr/>
        </p:nvCxnSpPr>
        <p:spPr>
          <a:xfrm flipV="1">
            <a:off x="1066680" y="3122280"/>
            <a:ext cx="4737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625" name=""/>
          <p:cNvSpPr/>
          <p:nvPr/>
        </p:nvSpPr>
        <p:spPr>
          <a:xfrm>
            <a:off x="0" y="385128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utri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2027160" y="7236000"/>
            <a:ext cx="56520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652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L08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1379520" y="7236000"/>
            <a:ext cx="56520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652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L09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647640" y="7236000"/>
            <a:ext cx="56520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652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L1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 flipH="1">
            <a:off x="2736360" y="3149640"/>
            <a:ext cx="8280360" cy="82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9972720" y="3222720"/>
            <a:ext cx="54000" cy="54000"/>
          </a:xfrm>
          <a:prstGeom prst="diamond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9864720" y="3259080"/>
            <a:ext cx="54000" cy="54000"/>
          </a:xfrm>
          <a:prstGeom prst="diamond">
            <a:avLst/>
          </a:prstGeom>
          <a:solidFill>
            <a:srgbClr val="ff66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9828360" y="3222720"/>
            <a:ext cx="54000" cy="54000"/>
          </a:xfrm>
          <a:prstGeom prst="diamond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9720360" y="3259080"/>
            <a:ext cx="54000" cy="54000"/>
          </a:xfrm>
          <a:prstGeom prst="diamond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7164360" y="3510000"/>
            <a:ext cx="54000" cy="54000"/>
          </a:xfrm>
          <a:prstGeom prst="diamond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7056360" y="3510000"/>
            <a:ext cx="54000" cy="54000"/>
          </a:xfrm>
          <a:prstGeom prst="diamond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6480000" y="3581280"/>
            <a:ext cx="54000" cy="54000"/>
          </a:xfrm>
          <a:prstGeom prst="diamond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6372360" y="3581280"/>
            <a:ext cx="54000" cy="54000"/>
          </a:xfrm>
          <a:prstGeom prst="diamond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5796000" y="3618000"/>
            <a:ext cx="54000" cy="54000"/>
          </a:xfrm>
          <a:prstGeom prst="diamond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5688000" y="3654360"/>
            <a:ext cx="54000" cy="54000"/>
          </a:xfrm>
          <a:prstGeom prst="diamond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111640" y="3691080"/>
            <a:ext cx="54000" cy="54000"/>
          </a:xfrm>
          <a:prstGeom prst="diamond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4968720" y="3726000"/>
            <a:ext cx="54000" cy="54000"/>
          </a:xfrm>
          <a:prstGeom prst="diamond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4427640" y="3762360"/>
            <a:ext cx="54000" cy="54000"/>
          </a:xfrm>
          <a:prstGeom prst="diamond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4282920" y="3797280"/>
            <a:ext cx="54000" cy="54000"/>
          </a:xfrm>
          <a:prstGeom prst="diamond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3745080" y="3833640"/>
            <a:ext cx="53640" cy="54000"/>
          </a:xfrm>
          <a:prstGeom prst="diamond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3600360" y="3870360"/>
            <a:ext cx="54000" cy="54000"/>
          </a:xfrm>
          <a:prstGeom prst="diamond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3059280" y="3906720"/>
            <a:ext cx="53640" cy="54000"/>
          </a:xfrm>
          <a:prstGeom prst="diamond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2916360" y="3941640"/>
            <a:ext cx="54000" cy="54000"/>
          </a:xfrm>
          <a:prstGeom prst="diamond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180360" y="5303880"/>
            <a:ext cx="53748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2519280" y="684360"/>
            <a:ext cx="1008000" cy="792000"/>
          </a:xfrm>
          <a:prstGeom prst="irregularSeal1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2668680" y="912960"/>
            <a:ext cx="71424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op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 flipH="1">
            <a:off x="7488000" y="3059280"/>
            <a:ext cx="1368360" cy="144360"/>
          </a:xfrm>
          <a:prstGeom prst="line">
            <a:avLst/>
          </a:prstGeom>
          <a:ln w="255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7203960" y="2700360"/>
            <a:ext cx="246384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llowing up the tra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2808360" y="2843280"/>
            <a:ext cx="316872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3027600" y="2916360"/>
            <a:ext cx="285696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CAN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 rot="2700000">
            <a:off x="2152440" y="3855960"/>
            <a:ext cx="436680" cy="420480"/>
          </a:xfrm>
          <a:prstGeom prst="plus">
            <a:avLst>
              <a:gd name="adj" fmla="val 4340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 rot="2700000">
            <a:off x="1431720" y="3859200"/>
            <a:ext cx="436680" cy="420480"/>
          </a:xfrm>
          <a:prstGeom prst="plus">
            <a:avLst>
              <a:gd name="adj" fmla="val 4340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576360" y="5651640"/>
            <a:ext cx="813600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D Viewer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での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ERTEX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探索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3527280" y="3995640"/>
            <a:ext cx="1513080" cy="1440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"/>
          <p:cNvSpPr/>
          <p:nvPr/>
        </p:nvSpPr>
        <p:spPr>
          <a:xfrm>
            <a:off x="3743280" y="6443640"/>
            <a:ext cx="3168720" cy="79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2232000" y="1690560"/>
            <a:ext cx="6192720" cy="1081080"/>
          </a:xfrm>
          <a:prstGeom prst="flowChartAlternate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2232000" y="3130560"/>
            <a:ext cx="6192720" cy="1081080"/>
          </a:xfrm>
          <a:prstGeom prst="flowChartAlternate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2" name=""/>
          <p:cNvCxnSpPr>
            <a:stCxn id="660" idx="2"/>
            <a:endCxn id="661" idx="0"/>
          </p:cNvCxnSpPr>
          <p:nvPr/>
        </p:nvCxnSpPr>
        <p:spPr>
          <a:xfrm>
            <a:off x="5328720" y="2771280"/>
            <a:ext cx="1080" cy="359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63" name=""/>
          <p:cNvSpPr/>
          <p:nvPr/>
        </p:nvSpPr>
        <p:spPr>
          <a:xfrm>
            <a:off x="3429720" y="1835280"/>
            <a:ext cx="3601800" cy="11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L43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である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an Back track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L37-PL44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を飛跡読み取り装置で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AN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す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2736720" y="3319560"/>
            <a:ext cx="4896000" cy="125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飛跡読み取り装置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UT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よるデータ上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飛跡の再構成を行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362520" y="272880"/>
            <a:ext cx="2675520" cy="99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Arial"/>
              </a:rPr>
              <a:t>実際に自分が挑んだ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V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vent 901370,  Brick 4159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2016000" y="4753080"/>
            <a:ext cx="8209080" cy="176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飛跡を再構成すると、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ack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　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round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を含め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約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000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本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cm^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の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rack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候補が出てく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ほとんどは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ton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自由電子による飛跡が、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rack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と誤認識されたもの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CC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のフィルム間アライメント用の宇宙線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~100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本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cm^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4328280" y="6659640"/>
            <a:ext cx="199548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以下、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D Viewer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での実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"/>
          <p:cNvSpPr/>
          <p:nvPr/>
        </p:nvSpPr>
        <p:spPr>
          <a:xfrm>
            <a:off x="362520" y="272880"/>
            <a:ext cx="2675520" cy="99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Arial"/>
              </a:rPr>
              <a:t>実際に自分が挑んだ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V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vent 901370,  Brick 4159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9" name=""/>
          <p:cNvCxnSpPr/>
          <p:nvPr/>
        </p:nvCxnSpPr>
        <p:spPr>
          <a:xfrm>
            <a:off x="7632360" y="5576400"/>
            <a:ext cx="1080" cy="359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70" name=""/>
          <p:cNvSpPr/>
          <p:nvPr/>
        </p:nvSpPr>
        <p:spPr>
          <a:xfrm>
            <a:off x="2376360" y="4927680"/>
            <a:ext cx="5759640" cy="113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条件：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L43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よりもニュートリノ方向に対して上流で、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op track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対して再接近距離が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0micron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以内になるような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rack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だけを表示させ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2016000" y="3562200"/>
            <a:ext cx="6193080" cy="1081080"/>
          </a:xfrm>
          <a:prstGeom prst="flowChartAlternate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2016000" y="2122560"/>
            <a:ext cx="6193080" cy="1081080"/>
          </a:xfrm>
          <a:prstGeom prst="flowChartAlternate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2016000" y="5072040"/>
            <a:ext cx="6193080" cy="1081080"/>
          </a:xfrm>
          <a:prstGeom prst="flowChartAlternate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4" name=""/>
          <p:cNvCxnSpPr>
            <a:endCxn id="672" idx="0"/>
          </p:cNvCxnSpPr>
          <p:nvPr/>
        </p:nvCxnSpPr>
        <p:spPr>
          <a:xfrm>
            <a:off x="5113080" y="1763280"/>
            <a:ext cx="1080" cy="359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5" name=""/>
          <p:cNvCxnSpPr>
            <a:stCxn id="672" idx="2"/>
            <a:endCxn id="671" idx="0"/>
          </p:cNvCxnSpPr>
          <p:nvPr/>
        </p:nvCxnSpPr>
        <p:spPr>
          <a:xfrm>
            <a:off x="5113080" y="3203640"/>
            <a:ext cx="1080" cy="358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6" name=""/>
          <p:cNvCxnSpPr>
            <a:stCxn id="671" idx="2"/>
            <a:endCxn id="673" idx="0"/>
          </p:cNvCxnSpPr>
          <p:nvPr/>
        </p:nvCxnSpPr>
        <p:spPr>
          <a:xfrm>
            <a:off x="5113080" y="4642920"/>
            <a:ext cx="1080" cy="429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77" name=""/>
          <p:cNvSpPr/>
          <p:nvPr/>
        </p:nvSpPr>
        <p:spPr>
          <a:xfrm>
            <a:off x="2521080" y="2311560"/>
            <a:ext cx="4895640" cy="125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飛跡読み取り装置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UT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よるデータ上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op track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を探し出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2448000" y="3706920"/>
            <a:ext cx="5616360" cy="6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op track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情報を元にそれと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ERTEX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をつくる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ner Searc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を行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248120" y="1547640"/>
            <a:ext cx="7390440" cy="34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年生時・・・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PERA RUN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開始。届いた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lm CS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CC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eet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化する仕事を担当す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010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年現在までで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600CS,1000ECC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以上の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lm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eet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化してき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1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・・・イタリアで実験場、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ran Sasso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現地での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S,ECC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の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ndling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経験す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現在、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CC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の中での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RTEX Confirm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の作業をし始めたとこ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"/>
          <p:cNvSpPr/>
          <p:nvPr/>
        </p:nvSpPr>
        <p:spPr>
          <a:xfrm>
            <a:off x="362520" y="272880"/>
            <a:ext cx="2675520" cy="99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Arial"/>
              </a:rPr>
              <a:t>実際に自分が挑んだ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V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vent 901664,  Brick 2299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2376360" y="4927680"/>
            <a:ext cx="5759640" cy="6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TX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を見つけ出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2016000" y="3562200"/>
            <a:ext cx="6193080" cy="1081080"/>
          </a:xfrm>
          <a:prstGeom prst="flowChartAlternate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2016000" y="2122560"/>
            <a:ext cx="6193080" cy="1081080"/>
          </a:xfrm>
          <a:prstGeom prst="flowChartAlternate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2016000" y="5072040"/>
            <a:ext cx="6193080" cy="1081080"/>
          </a:xfrm>
          <a:prstGeom prst="flowChartAlternate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4" name=""/>
          <p:cNvCxnSpPr>
            <a:stCxn id="682" idx="2"/>
            <a:endCxn id="681" idx="0"/>
          </p:cNvCxnSpPr>
          <p:nvPr/>
        </p:nvCxnSpPr>
        <p:spPr>
          <a:xfrm>
            <a:off x="5113080" y="3203640"/>
            <a:ext cx="1080" cy="358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5" name=""/>
          <p:cNvCxnSpPr>
            <a:stCxn id="681" idx="2"/>
            <a:endCxn id="683" idx="0"/>
          </p:cNvCxnSpPr>
          <p:nvPr/>
        </p:nvCxnSpPr>
        <p:spPr>
          <a:xfrm>
            <a:off x="5113080" y="4642920"/>
            <a:ext cx="1080" cy="429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86" name=""/>
          <p:cNvSpPr/>
          <p:nvPr/>
        </p:nvSpPr>
        <p:spPr>
          <a:xfrm>
            <a:off x="2521080" y="2311560"/>
            <a:ext cx="4895640" cy="6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S track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の解析により直接に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TX Point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を予想し、その付近を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A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2448000" y="3706920"/>
            <a:ext cx="5616360" cy="6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D Viewer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で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TX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探索。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S track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の情報を元に、それに近い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rack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を選び出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"/>
          <p:cNvSpPr/>
          <p:nvPr/>
        </p:nvSpPr>
        <p:spPr>
          <a:xfrm>
            <a:off x="863640" y="755640"/>
            <a:ext cx="8569440" cy="238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3600" spc="-1" strike="noStrike">
                <a:solidFill>
                  <a:srgbClr val="ffffff"/>
                </a:solidFill>
                <a:latin typeface="Arial"/>
              </a:rPr>
              <a:t>課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何をもって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ocation 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したという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→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uon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付きの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ERTEX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はほぼそれで決着が付くが、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C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反応の場合、親粒子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VTX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の上に粒子がついているかどうか見ないといけない。中性の粒子の場合どうするか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→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物理的な条件、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lm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間の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lignment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の精度向上、飛跡読取装置の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ffciency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改善などによってさらに良く、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ocation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、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cay Searc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できるようにな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816360" y="3203640"/>
            <a:ext cx="6264360" cy="43927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0" y="-17640"/>
            <a:ext cx="4392720" cy="32212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5090760" y="1047600"/>
            <a:ext cx="424044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ran Sasso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から東濃スキャニングルー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に届いたフィルム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924920" y="4932360"/>
            <a:ext cx="159804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eet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化装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827520" y="3800520"/>
            <a:ext cx="203040" cy="5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827520" y="6737400"/>
            <a:ext cx="20304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857680" y="0"/>
            <a:ext cx="4343400" cy="637236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3188160" y="6732720"/>
            <a:ext cx="385992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東濃スキャニングルームでのシート化の様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87280" y="900000"/>
            <a:ext cx="9610920" cy="46357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4169160" y="6048360"/>
            <a:ext cx="167724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シート化され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C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16000" y="250920"/>
            <a:ext cx="8424720" cy="6318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603000" y="6816600"/>
            <a:ext cx="489492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ran Sasso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研究所　イタリア　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09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年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9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月～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1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月滞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513720" y="6732720"/>
            <a:ext cx="273168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tecter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から取り出され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C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179280"/>
            <a:ext cx="8425080" cy="631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1387440" y="569880"/>
          <a:ext cx="7543800" cy="6402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87440" y="569880"/>
                    <a:ext cx="7543800" cy="640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"/>
          <p:cNvSpPr/>
          <p:nvPr/>
        </p:nvSpPr>
        <p:spPr>
          <a:xfrm>
            <a:off x="1092240" y="168120"/>
            <a:ext cx="831672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1" lang="ja-JP" sz="2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ja-JP" sz="2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ECC </a:t>
            </a:r>
            <a:r>
              <a:rPr b="1" lang="ja-JP" sz="31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Emulsion Cloud  Chamber</a:t>
            </a:r>
            <a:r>
              <a:rPr b="1" lang="ja-JP" sz="31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354560" y="1190520"/>
            <a:ext cx="3038400" cy="1373400"/>
          </a:xfrm>
          <a:custGeom>
            <a:avLst/>
            <a:gdLst/>
            <a:ahLst/>
            <a:rect l="l" t="t" r="r" b="b"/>
            <a:pathLst>
              <a:path w="1736" h="785">
                <a:moveTo>
                  <a:pt x="1736" y="785"/>
                </a:moveTo>
                <a:lnTo>
                  <a:pt x="0" y="0"/>
                </a:lnTo>
              </a:path>
            </a:pathLst>
          </a:custGeom>
          <a:noFill/>
          <a:ln w="22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844600" y="1373040"/>
            <a:ext cx="13438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25m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510680" y="3648240"/>
            <a:ext cx="13438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00m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056360" y="2776680"/>
            <a:ext cx="465120" cy="1920600"/>
          </a:xfrm>
          <a:custGeom>
            <a:avLst/>
            <a:gdLst/>
            <a:ahLst/>
            <a:rect l="l" t="t" r="r" b="b"/>
            <a:pathLst>
              <a:path w="266" h="1097">
                <a:moveTo>
                  <a:pt x="0" y="1097"/>
                </a:moveTo>
                <a:lnTo>
                  <a:pt x="266" y="0"/>
                </a:lnTo>
              </a:path>
            </a:pathLst>
          </a:custGeom>
          <a:noFill/>
          <a:ln w="22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784520" y="1266840"/>
            <a:ext cx="150948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75.4m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585880" y="1204920"/>
            <a:ext cx="1548000" cy="979560"/>
          </a:xfrm>
          <a:custGeom>
            <a:avLst/>
            <a:gdLst/>
            <a:ahLst/>
            <a:rect l="l" t="t" r="r" b="b"/>
            <a:pathLst>
              <a:path w="884" h="559">
                <a:moveTo>
                  <a:pt x="884" y="0"/>
                </a:moveTo>
                <a:lnTo>
                  <a:pt x="0" y="559"/>
                </a:lnTo>
              </a:path>
            </a:pathLst>
          </a:custGeom>
          <a:noFill/>
          <a:ln w="22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416720" y="5148360"/>
            <a:ext cx="1288800" cy="63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8.3kg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515680" y="6659640"/>
            <a:ext cx="53366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57 emulsion films and 56 Pb pla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93720" y="5600880"/>
            <a:ext cx="200952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原子核乾板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鉛のサンドイッチ構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5111280" y="755640"/>
            <a:ext cx="3505320" cy="2411280"/>
            <a:chOff x="5111280" y="755640"/>
            <a:chExt cx="3505320" cy="2411280"/>
          </a:xfrm>
        </p:grpSpPr>
        <p:sp>
          <p:nvSpPr>
            <p:cNvPr id="78" name=""/>
            <p:cNvSpPr/>
            <p:nvPr/>
          </p:nvSpPr>
          <p:spPr>
            <a:xfrm>
              <a:off x="5198760" y="755640"/>
              <a:ext cx="3417840" cy="2340000"/>
            </a:xfrm>
            <a:prstGeom prst="roundRect">
              <a:avLst>
                <a:gd name="adj" fmla="val 6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127120" y="826920"/>
              <a:ext cx="3418200" cy="2340000"/>
            </a:xfrm>
            <a:prstGeom prst="roundRect">
              <a:avLst>
                <a:gd name="adj" fmla="val 6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 flipH="1">
              <a:off x="8529480" y="758880"/>
              <a:ext cx="85320" cy="68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flipH="1">
              <a:off x="8529480" y="3098880"/>
              <a:ext cx="85320" cy="68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flipH="1">
              <a:off x="5111280" y="758880"/>
              <a:ext cx="85320" cy="68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" name=""/>
          <p:cNvGrpSpPr/>
          <p:nvPr/>
        </p:nvGrpSpPr>
        <p:grpSpPr>
          <a:xfrm>
            <a:off x="4247640" y="1366920"/>
            <a:ext cx="3505320" cy="2410920"/>
            <a:chOff x="4247640" y="1366920"/>
            <a:chExt cx="3505320" cy="2410920"/>
          </a:xfrm>
        </p:grpSpPr>
        <p:sp>
          <p:nvSpPr>
            <p:cNvPr id="84" name=""/>
            <p:cNvSpPr/>
            <p:nvPr/>
          </p:nvSpPr>
          <p:spPr>
            <a:xfrm>
              <a:off x="4335120" y="1366920"/>
              <a:ext cx="3417840" cy="2338200"/>
            </a:xfrm>
            <a:prstGeom prst="roundRect">
              <a:avLst>
                <a:gd name="adj" fmla="val 6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263480" y="1439640"/>
              <a:ext cx="3418200" cy="2338200"/>
            </a:xfrm>
            <a:prstGeom prst="roundRect">
              <a:avLst>
                <a:gd name="adj" fmla="val 6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7665840" y="1371240"/>
              <a:ext cx="85320" cy="68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>
              <a:off x="7665840" y="3709800"/>
              <a:ext cx="85320" cy="68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>
              <a:off x="4247640" y="1371240"/>
              <a:ext cx="85320" cy="68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"/>
          <p:cNvGrpSpPr/>
          <p:nvPr/>
        </p:nvGrpSpPr>
        <p:grpSpPr>
          <a:xfrm>
            <a:off x="3239640" y="2124000"/>
            <a:ext cx="3505320" cy="2411280"/>
            <a:chOff x="3239640" y="2124000"/>
            <a:chExt cx="3505320" cy="2411280"/>
          </a:xfrm>
        </p:grpSpPr>
        <p:sp>
          <p:nvSpPr>
            <p:cNvPr id="90" name=""/>
            <p:cNvSpPr/>
            <p:nvPr/>
          </p:nvSpPr>
          <p:spPr>
            <a:xfrm>
              <a:off x="3328560" y="2124000"/>
              <a:ext cx="3416400" cy="2338560"/>
            </a:xfrm>
            <a:prstGeom prst="roundRect">
              <a:avLst>
                <a:gd name="adj" fmla="val 6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257280" y="2196720"/>
              <a:ext cx="3416040" cy="2338560"/>
            </a:xfrm>
            <a:prstGeom prst="roundRect">
              <a:avLst>
                <a:gd name="adj" fmla="val 6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6657480" y="2128320"/>
              <a:ext cx="85320" cy="68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>
              <a:off x="6657480" y="4467240"/>
              <a:ext cx="85320" cy="68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>
              <a:off x="3239640" y="2128320"/>
              <a:ext cx="85320" cy="68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2182320" y="2881440"/>
            <a:ext cx="3505320" cy="2411280"/>
            <a:chOff x="2182320" y="2881440"/>
            <a:chExt cx="3505320" cy="2411280"/>
          </a:xfrm>
        </p:grpSpPr>
        <p:sp>
          <p:nvSpPr>
            <p:cNvPr id="96" name=""/>
            <p:cNvSpPr/>
            <p:nvPr/>
          </p:nvSpPr>
          <p:spPr>
            <a:xfrm>
              <a:off x="2271240" y="2881440"/>
              <a:ext cx="3416400" cy="2340000"/>
            </a:xfrm>
            <a:prstGeom prst="roundRect">
              <a:avLst>
                <a:gd name="adj" fmla="val 6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199600" y="2952720"/>
              <a:ext cx="3416760" cy="2340000"/>
            </a:xfrm>
            <a:prstGeom prst="roundRect">
              <a:avLst>
                <a:gd name="adj" fmla="val 6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 flipH="1">
              <a:off x="5600520" y="2884320"/>
              <a:ext cx="85320" cy="6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 flipH="1">
              <a:off x="5600520" y="5224320"/>
              <a:ext cx="85320" cy="6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2182320" y="2886120"/>
              <a:ext cx="85320" cy="6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1318680" y="3780000"/>
            <a:ext cx="3505320" cy="2410920"/>
            <a:chOff x="1318680" y="3780000"/>
            <a:chExt cx="3505320" cy="2410920"/>
          </a:xfrm>
        </p:grpSpPr>
        <p:sp>
          <p:nvSpPr>
            <p:cNvPr id="102" name=""/>
            <p:cNvSpPr/>
            <p:nvPr/>
          </p:nvSpPr>
          <p:spPr>
            <a:xfrm>
              <a:off x="1405800" y="3780000"/>
              <a:ext cx="3418200" cy="2338200"/>
            </a:xfrm>
            <a:prstGeom prst="roundRect">
              <a:avLst>
                <a:gd name="adj" fmla="val 6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334520" y="3852720"/>
              <a:ext cx="3417840" cy="2338200"/>
            </a:xfrm>
            <a:prstGeom prst="roundRect">
              <a:avLst>
                <a:gd name="adj" fmla="val 6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flipH="1">
              <a:off x="4736520" y="3784320"/>
              <a:ext cx="85320" cy="68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flipH="1">
              <a:off x="4736520" y="6122880"/>
              <a:ext cx="85320" cy="68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 flipH="1">
              <a:off x="1318680" y="3784320"/>
              <a:ext cx="85320" cy="68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"/>
          <p:cNvSpPr/>
          <p:nvPr/>
        </p:nvSpPr>
        <p:spPr>
          <a:xfrm flipV="1">
            <a:off x="3132000" y="4427640"/>
            <a:ext cx="324000" cy="5428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3816360" y="3564000"/>
            <a:ext cx="144360" cy="216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3166920" y="4427640"/>
            <a:ext cx="578160" cy="504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4535640" y="3416400"/>
            <a:ext cx="395280" cy="363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543640" y="2517840"/>
            <a:ext cx="395280" cy="363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6372360" y="1725480"/>
            <a:ext cx="395280" cy="363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7128000" y="1006560"/>
            <a:ext cx="395280" cy="363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1979640" y="5362200"/>
            <a:ext cx="539640" cy="182520"/>
          </a:xfrm>
          <a:prstGeom prst="line">
            <a:avLst/>
          </a:prstGeom>
          <a:ln w="9360">
            <a:solidFill>
              <a:srgbClr val="000099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7813800" y="392040"/>
            <a:ext cx="395280" cy="363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4390920" y="2627280"/>
            <a:ext cx="144720" cy="216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4824360" y="1908000"/>
            <a:ext cx="144360" cy="216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327640" y="1116000"/>
            <a:ext cx="144360" cy="216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688000" y="539640"/>
            <a:ext cx="144360" cy="216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585440" y="5592600"/>
            <a:ext cx="100368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neutri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529080" y="6745320"/>
            <a:ext cx="345600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原子核乾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H="1" flipV="1">
            <a:off x="4032000" y="6227280"/>
            <a:ext cx="14436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024360" y="4859280"/>
            <a:ext cx="215640" cy="216000"/>
          </a:xfrm>
          <a:custGeom>
            <a:avLst/>
            <a:gdLst>
              <a:gd name="textAreaLeft" fmla="*/ 88920 w 215640"/>
              <a:gd name="textAreaRight" fmla="*/ 126720 w 215640"/>
              <a:gd name="textAreaTop" fmla="*/ 88920 h 216000"/>
              <a:gd name="textAreaBottom" fmla="*/ 127080 h 216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261240" y="5097600"/>
            <a:ext cx="72936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反応地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089080" y="2627280"/>
            <a:ext cx="165600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160720" y="2556000"/>
            <a:ext cx="266364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317960" y="2340000"/>
            <a:ext cx="72936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生成粒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0T19:30:28Z</dcterms:created>
  <dc:creator>児玉 康一</dc:creator>
  <dc:description/>
  <dc:language>en-US</dc:language>
  <cp:lastModifiedBy>mother</cp:lastModifiedBy>
  <dcterms:modified xsi:type="dcterms:W3CDTF">2010-02-24T02:11:45Z</dcterms:modified>
  <cp:revision>11</cp:revision>
  <dc:subject/>
  <dc:title>スライド 1</dc:title>
</cp:coreProperties>
</file>