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86920" y="982440"/>
            <a:ext cx="472140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-MinchoL-Su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98720" y="4868640"/>
            <a:ext cx="490536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233360" y="982800"/>
            <a:ext cx="46324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098720" y="4869000"/>
            <a:ext cx="490680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-MinchoL-Su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1" marL="861840" indent="-28548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2" marL="1293840" indent="-216000"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3" marL="1725480" indent="-214200">
              <a:lnSpc>
                <a:spcPct val="8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4" marL="2157480" indent="-216000"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5" marL="2157480" indent="-216000"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6" marL="2157480" indent="-216000"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18000"/>
              </a:lnSpc>
              <a:buNone/>
              <a:tabLst>
                <a:tab algn="l" pos="0"/>
                <a:tab algn="l" pos="214200"/>
                <a:tab algn="l" pos="932040"/>
                <a:tab algn="l" pos="1650960"/>
                <a:tab algn="l" pos="2370240"/>
                <a:tab algn="l" pos="3089160"/>
                <a:tab algn="l" pos="3808440"/>
                <a:tab algn="l" pos="4527720"/>
                <a:tab algn="l" pos="5246640"/>
                <a:tab algn="l" pos="5965920"/>
                <a:tab algn="l" pos="6684840"/>
                <a:tab algn="l" pos="7404120"/>
                <a:tab algn="l" pos="8123400"/>
                <a:tab algn="l" pos="8842320"/>
                <a:tab algn="l" pos="9561600"/>
                <a:tab algn="l" pos="10280520"/>
                <a:tab algn="l" pos="109998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TLAS07 Bulk Property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7640" y="2700000"/>
            <a:ext cx="8928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 Hara (U. Tsukuba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arizing the data fro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ukuba/KEK, Liverpool, UCSC on</a:t>
            </a: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-V, C-V, FDV of pre- and post-irradiated mini SSDs</a:t>
            </a: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1576800" y="2340000"/>
            <a:ext cx="62035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-MinchoL-Sun"/>
              </a:rPr>
              <a:t>ATLAS</a:t>
            </a:r>
            <a:r>
              <a:rPr b="0" lang="ja-JP" sz="2400" spc="-1" strike="noStrike">
                <a:solidFill>
                  <a:srgbClr val="ffffff"/>
                </a:solidFill>
                <a:latin typeface="HG-MinchoL-Sun"/>
              </a:rPr>
              <a:t>　</a:t>
            </a:r>
            <a:r>
              <a:rPr b="0" lang="en-US" sz="2400" spc="-1" strike="noStrike">
                <a:solidFill>
                  <a:srgbClr val="ffffff"/>
                </a:solidFill>
                <a:latin typeface="HG-MinchoL-Sun"/>
              </a:rPr>
              <a:t>Tracker</a:t>
            </a:r>
            <a:r>
              <a:rPr b="0" lang="ja-JP" sz="2400" spc="-1" strike="noStrike">
                <a:solidFill>
                  <a:srgbClr val="ffffff"/>
                </a:solidFill>
                <a:latin typeface="HG-MinchoL-Sun"/>
              </a:rPr>
              <a:t>　</a:t>
            </a:r>
            <a:r>
              <a:rPr b="0" lang="en-US" sz="2400" spc="-1" strike="noStrike">
                <a:solidFill>
                  <a:srgbClr val="ffffff"/>
                </a:solidFill>
                <a:latin typeface="HG-MinchoL-Sun"/>
              </a:rPr>
              <a:t>Upgrade Workshop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-MinchoL-Sun"/>
              </a:rPr>
              <a:t>NIKHFF 2008 Nov 5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6720" y="159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rge Collection Curves</a:t>
            </a: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FDV evaluation</a:t>
            </a:r>
            <a:endParaRPr b="1" lang="en-US" sz="2800" spc="-1" strike="noStrike">
              <a:solidFill>
                <a:srgbClr val="000000"/>
              </a:solidFill>
              <a:latin typeface="HG-MinchoL-Su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40360" y="2266920"/>
            <a:ext cx="5040360" cy="367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6600" y="2232000"/>
            <a:ext cx="4902120" cy="3706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184720" y="5940360"/>
            <a:ext cx="46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eutrons may induce non-annealable “damages” which enhance laser interaction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r, annealing is incomplete?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486920" y="1835280"/>
            <a:ext cx="219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79640" y="1547640"/>
            <a:ext cx="49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measurement based on 1064 nm laser.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after 80 min at 60</a:t>
            </a:r>
            <a:r>
              <a:rPr b="1" lang="en-US" sz="2000" spc="-1" strike="noStrike" baseline="30000">
                <a:solidFill>
                  <a:srgbClr val="000099"/>
                </a:solidFill>
                <a:latin typeface="Arial"/>
                <a:ea typeface="Arial Unicode MS"/>
              </a:rPr>
              <a:t>o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 annealing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76360" y="6732720"/>
            <a:ext cx="92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of absolute CCE with laser is limited in precision for this wafer where pre-irradiation laser response is ~1/2 wrt conventional FZ. 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6720" y="1774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ull Depletion Voltages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60720" y="1835280"/>
            <a:ext cx="5976720" cy="4570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096720" y="1187280"/>
            <a:ext cx="389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rom C-V and CC curves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44720" y="6516720"/>
            <a:ext cx="741672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FDVs evaluated from C-V and CC curves in agreement.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FDV evolution seems to quicker for neutron irradiation.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(damages are different. longer annealing necessary for n?)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99280" y="5075280"/>
            <a:ext cx="21924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720" y="1774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719280" y="2050920"/>
            <a:ext cx="878508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Irradiation tests of ATLAS07 are being carried out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p-type FZ wafer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(FZ_pure in ATLAS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 available to HPK are as good as n-type FZ in view of small initial leakage current and initial strip isolati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 Unicode MS"/>
              </a:rPr>
              <a:t>(Z1 works, not covered here)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No surprise in leak current increase, full depletion voltage evolution (n contributes quicker to FDV evolution?), bulk annealing 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 Unicode MS"/>
              </a:rPr>
              <a:t>FD or partial depleted operation remains an issue for charge collection time; Lorentz angle is being measured by Tsukuba/KEK group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07960" y="189000"/>
            <a:ext cx="8915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n Irradiation at CYRIC</a:t>
            </a:r>
            <a:endParaRPr b="0" lang="en-US" sz="4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81200" y="1706400"/>
            <a:ext cx="130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63640" y="900000"/>
            <a:ext cx="944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otron (70 MeV: e.g. 8h for 10</a:t>
            </a:r>
            <a:r>
              <a:rPr b="1" lang="en-US" sz="2000" spc="-1" strike="noStrike" baseline="33000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cm</a:t>
            </a:r>
            <a:r>
              <a:rPr b="1" lang="en-US" sz="2000" spc="-1" strike="noStrike" baseline="33000">
                <a:solidFill>
                  <a:srgbClr val="ffffff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radiati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20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ca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07960" y="1859040"/>
            <a:ext cx="3297240" cy="1609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641840" y="2651040"/>
            <a:ext cx="2925720" cy="238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6356520" y="4888080"/>
            <a:ext cx="3549600" cy="2415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4"/>
          <a:stretch/>
        </p:blipFill>
        <p:spPr>
          <a:xfrm>
            <a:off x="7839000" y="2146320"/>
            <a:ext cx="1816200" cy="2685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5"/>
          <a:stretch/>
        </p:blipFill>
        <p:spPr>
          <a:xfrm>
            <a:off x="193680" y="3446640"/>
            <a:ext cx="4605480" cy="3786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5191560" y="69372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profile @32line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722480" y="25797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older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98360" y="28670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842240" y="4379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ile monitor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099200" y="68025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fld id="{66088E91-9291-428B-98AA-41084DC4CAF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88960" y="6539040"/>
            <a:ext cx="44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s cooled to -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and biased,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ed to perform uniform irradiation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487440" y="1413000"/>
            <a:ext cx="3975120" cy="5655960"/>
            <a:chOff x="487440" y="1413000"/>
            <a:chExt cx="3975120" cy="56559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1413000"/>
              <a:ext cx="3975120" cy="56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"/>
            <p:cNvSpPr/>
            <p:nvPr/>
          </p:nvSpPr>
          <p:spPr>
            <a:xfrm>
              <a:off x="614160" y="1644120"/>
              <a:ext cx="106632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laser head</a:t>
              </a:r>
              <a:endParaRPr b="0" lang="en-US" sz="16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0" name="Line 4"/>
            <p:cNvSpPr/>
            <p:nvPr/>
          </p:nvSpPr>
          <p:spPr>
            <a:xfrm flipV="1">
              <a:off x="2355120" y="1493640"/>
              <a:ext cx="73800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573480" y="64371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XY-stage</a:t>
              </a:r>
              <a:endParaRPr b="0" lang="en-US" sz="16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1346040" y="51339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amps</a:t>
              </a:r>
              <a:endParaRPr b="0" lang="en-US" sz="16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610200" y="2390400"/>
              <a:ext cx="115164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ollimators</a:t>
              </a:r>
              <a:endParaRPr b="0" lang="en-US" sz="16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2301120" y="2621880"/>
              <a:ext cx="792000" cy="23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587160" y="3322080"/>
              <a:ext cx="1291680" cy="337320"/>
            </a:xfrm>
            <a:prstGeom prst="rect">
              <a:avLst/>
            </a:prstGeom>
            <a:solidFill>
              <a:srgbClr val="111111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focusing lens</a:t>
              </a:r>
              <a:endParaRPr b="0" lang="en-US" sz="16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>
              <a:off x="2015280" y="3738960"/>
              <a:ext cx="62352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</p:grpSp>
      <p:grpSp>
        <p:nvGrpSpPr>
          <p:cNvPr id="167" name="Group 11"/>
          <p:cNvGrpSpPr/>
          <p:nvPr/>
        </p:nvGrpSpPr>
        <p:grpSpPr>
          <a:xfrm>
            <a:off x="4549680" y="1430280"/>
            <a:ext cx="5104080" cy="2640240"/>
            <a:chOff x="4549680" y="1430280"/>
            <a:chExt cx="5104080" cy="2640240"/>
          </a:xfrm>
        </p:grpSpPr>
        <p:pic>
          <p:nvPicPr>
            <p:cNvPr id="168" name="Picture 12" descr=""/>
            <p:cNvPicPr/>
            <p:nvPr/>
          </p:nvPicPr>
          <p:blipFill>
            <a:blip r:embed="rId2"/>
            <a:stretch/>
          </p:blipFill>
          <p:spPr>
            <a:xfrm>
              <a:off x="4549680" y="1430280"/>
              <a:ext cx="510408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3"/>
            <p:cNvSpPr/>
            <p:nvPr/>
          </p:nvSpPr>
          <p:spPr>
            <a:xfrm>
              <a:off x="5866920" y="3613320"/>
              <a:ext cx="122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mp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5mV/fC</a:t>
              </a:r>
              <a:endParaRPr b="0" lang="en-US" sz="1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409680" y="404640"/>
            <a:ext cx="9480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 Collection Evaluation with Laser</a:t>
            </a:r>
            <a:endParaRPr b="0" lang="en-US" sz="32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467240" y="4365720"/>
            <a:ext cx="530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sed Nd:YAG(1064nm) laser can simulate passage of charge particle since it penetrates through Si. The above traces are for Fz samples irradiated to 0.2~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b=1kV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6360" y="250560"/>
            <a:ext cx="860724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-V pre-irradiation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grpSp>
        <p:nvGrpSpPr>
          <p:cNvPr id="50" name="Group 2"/>
          <p:cNvGrpSpPr/>
          <p:nvPr/>
        </p:nvGrpSpPr>
        <p:grpSpPr>
          <a:xfrm>
            <a:off x="1440000" y="1979640"/>
            <a:ext cx="5302440" cy="3527280"/>
            <a:chOff x="1440000" y="1979640"/>
            <a:chExt cx="5302440" cy="3527280"/>
          </a:xfrm>
        </p:grpSpPr>
        <p:pic>
          <p:nvPicPr>
            <p:cNvPr id="51" name="Picture 3" descr=""/>
            <p:cNvPicPr/>
            <p:nvPr/>
          </p:nvPicPr>
          <p:blipFill>
            <a:blip r:embed="rId1"/>
            <a:stretch/>
          </p:blipFill>
          <p:spPr>
            <a:xfrm>
              <a:off x="1440000" y="1979640"/>
              <a:ext cx="51861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2895480" y="4465800"/>
              <a:ext cx="5464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2400" spc="-1" strike="noStrike">
                  <a:solidFill>
                    <a:srgbClr val="33ccff"/>
                  </a:solidFill>
                  <a:latin typeface="HG-MinchoL-Sun"/>
                </a:rPr>
                <a:t>Z4</a:t>
              </a: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5792760" y="4506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HG-MinchoL-Sun"/>
                </a:rPr>
                <a:t>Z3</a:t>
              </a: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5892840" y="23497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HG-MinchoL-Sun"/>
                </a:rPr>
                <a:t>Z1</a:t>
              </a: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6195960" y="31561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17480"/>
                  <a:tab algn="l" pos="1436760"/>
                  <a:tab algn="l" pos="2155680"/>
                  <a:tab algn="l" pos="2874960"/>
                  <a:tab algn="l" pos="3594240"/>
                  <a:tab algn="l" pos="4313160"/>
                  <a:tab algn="l" pos="5032440"/>
                  <a:tab algn="l" pos="5751360"/>
                  <a:tab algn="l" pos="6470640"/>
                  <a:tab algn="l" pos="7189920"/>
                  <a:tab algn="l" pos="7908840"/>
                  <a:tab algn="l" pos="8628120"/>
                  <a:tab algn="l" pos="9347040"/>
                  <a:tab algn="l" pos="10066320"/>
                  <a:tab algn="l" pos="107856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HG-MinchoL-Sun"/>
                </a:rPr>
                <a:t>Z5</a:t>
              </a:r>
              <a:endParaRPr b="0" lang="en-US" sz="2400" spc="-1" strike="noStrike">
                <a:solidFill>
                  <a:srgbClr val="ffffff"/>
                </a:solidFill>
                <a:latin typeface="HG-MinchoL-Sun"/>
              </a:endParaRPr>
            </a:p>
          </p:txBody>
        </p:sp>
      </p:grpSp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295280" y="5580000"/>
            <a:ext cx="7128000" cy="1835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508800" y="2411280"/>
            <a:ext cx="356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&gt;@220V=7.5nA (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773760" y="2987640"/>
            <a:ext cx="330696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 current as low as of n-bulk FZ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HPK n-bulk microstrip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4 nA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281240" y="1473120"/>
            <a:ext cx="66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ies-I samples irradiated by 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360" y="250560"/>
            <a:ext cx="860724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rradiation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47640" y="1763640"/>
            <a:ext cx="9217080" cy="17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MeV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CYRIC, Tohoku U.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ew 10 min ~ a few h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, 6, 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-MeV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L factor (p/1-MeV n) = 1.3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nd biased at 100 V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47640" y="5508720"/>
            <a:ext cx="9217080" cy="17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utr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JSI, Ljubljana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1.9 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ec, to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, 5,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-MeV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L factor (&lt;n&gt;/1-MeV n) = 0.88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ias and at room temperature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47640" y="3635280"/>
            <a:ext cx="92170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 MeV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Los Alamos NL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ped at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0.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operator fault: TID=5 kGy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L factor (p/1-MeV n) = ~1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ias and at room temperature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485400" y="2987640"/>
            <a:ext cx="337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sukuba/KEK-Liverpool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485400" y="6732720"/>
            <a:ext cx="337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sukuba/KEK-Liverpool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8715960" y="4932360"/>
            <a:ext cx="1041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CSC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lk Annealing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2338560"/>
            <a:ext cx="594036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836080" y="2556000"/>
            <a:ext cx="219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506760" y="5002200"/>
            <a:ext cx="146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-MinchoL-Sun"/>
              </a:rPr>
              <a:t>ATLAS06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27040" y="6300720"/>
            <a:ext cx="9538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Z_pure (ATLAS06) and FZ (ATLAS07) are from the same batch.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rradiated Tsukuba/KEK data in the following pages are after 80min annealing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ealing in CCE is presented in different talk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23600" y="1979640"/>
            <a:ext cx="49964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radiated with 70 MeV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6553080" y="2340000"/>
            <a:ext cx="3527640" cy="3381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7516080" y="4462560"/>
            <a:ext cx="219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666840" y="1979640"/>
            <a:ext cx="2962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95360" y="1584360"/>
            <a:ext cx="703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nealing in FDV evaluated from C-V and laser CC-V curves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936720" y="971640"/>
            <a:ext cx="9144000" cy="57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224000" y="971640"/>
            <a:ext cx="8399520" cy="5256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-V  irradiat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ter annealing</a:t>
            </a:r>
            <a:endParaRPr b="1" lang="en-US" sz="2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985080" y="6264360"/>
            <a:ext cx="29527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13.2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10.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826160" y="6262560"/>
            <a:ext cx="20160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6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5.0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666880" y="6262560"/>
            <a:ext cx="194328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2.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2.0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87280" y="611280"/>
            <a:ext cx="17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Pstop only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87280" y="3492360"/>
            <a:ext cx="17161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8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Pstop+Pspray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6205680"/>
            <a:ext cx="1727280" cy="13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proton z1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3deb3d"/>
                </a:solidFill>
                <a:latin typeface="Arial"/>
              </a:rPr>
              <a:t>proton z3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proton z4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utron z3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Arial"/>
              </a:rPr>
              <a:t>neutr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ff"/>
                </a:solidFill>
                <a:latin typeface="Arial"/>
              </a:rPr>
              <a:t>z5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703280" y="1187280"/>
            <a:ext cx="21924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357640" y="6915240"/>
            <a:ext cx="58179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Many early breakdowns disappear, except one Z3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/n difference explained by the fluences (10,13)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-V  irradiated and breakdown</a:t>
            </a:r>
            <a:endParaRPr b="1" lang="en-US" sz="4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12680" y="3300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060800" y="375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482920"/>
            <a:ext cx="5329080" cy="345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9144000" y="611280"/>
            <a:ext cx="6793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76360" y="2050920"/>
            <a:ext cx="3886200" cy="48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ries I:  post-rad i-V @RT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5270400" y="2482920"/>
            <a:ext cx="4810320" cy="3095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264360" y="1979640"/>
            <a:ext cx="3382920" cy="48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down Pre-Series I: pre-rad / post-rad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519280" y="6156360"/>
            <a:ext cx="6272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st-rad marked improvement of break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767040" y="1258920"/>
            <a:ext cx="246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5 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375160" y="5711760"/>
            <a:ext cx="3568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rad IV measured up to 800V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78544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ak curren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@500/800V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ter annealing</a:t>
            </a:r>
            <a:endParaRPr b="1" lang="en-US" sz="24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012680" y="2868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060800" y="332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258920"/>
            <a:ext cx="7150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152360" y="1403280"/>
            <a:ext cx="5400720" cy="4971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271520" y="6588000"/>
            <a:ext cx="77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/n damages contribute similarly to leakage current increase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measurements at different sites agree within uncertainties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856200" y="2411280"/>
            <a:ext cx="296784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4x10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/cm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*10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/cm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*0.03 cm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3</a:t>
            </a:r>
            <a:r>
              <a:rPr b="0" lang="ja-JP" sz="2400" spc="-1" strike="noStrike" baseline="30000">
                <a:solidFill>
                  <a:srgbClr val="00cc99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(: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Arial"/>
              </a:rPr>
              <a:t>GEO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=1)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*0.018 (: I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Arial"/>
              </a:rPr>
              <a:t>-20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I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=22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16960" y="4392720"/>
            <a:ext cx="2814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rprise in damage!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727280" y="1187280"/>
            <a:ext cx="83534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160720" y="1763640"/>
            <a:ext cx="7561080" cy="4913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424240" y="1327320"/>
            <a:ext cx="610056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-V irradia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ter annealing</a:t>
            </a:r>
            <a:endParaRPr b="1" lang="en-US" sz="20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75640" y="1370160"/>
            <a:ext cx="30603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13.2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10.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×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427640" y="1368360"/>
            <a:ext cx="25207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6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5.0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87280" y="539640"/>
            <a:ext cx="1727280" cy="13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Arial"/>
              </a:rPr>
              <a:t>proton z1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3deb3d"/>
                </a:solidFill>
                <a:latin typeface="Arial"/>
              </a:rPr>
              <a:t>proton z3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proton z4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utron z3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Arial"/>
              </a:rPr>
              <a:t>neutr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ff"/>
                </a:solidFill>
                <a:latin typeface="Arial"/>
              </a:rPr>
              <a:t>z5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087640" y="1332000"/>
            <a:ext cx="25207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2.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n2.0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63960" y="2050920"/>
            <a:ext cx="160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top only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89080" y="5508720"/>
            <a:ext cx="1273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top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pspray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32000" y="6875640"/>
            <a:ext cx="73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DVs for neutron irradiated samples are apparently larger</a:t>
            </a:r>
            <a:endParaRPr b="0" lang="en-US" sz="20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161440" y="6300720"/>
            <a:ext cx="219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456720" y="1979640"/>
            <a:ext cx="127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-MinchoL-Sun"/>
              </a:rPr>
              <a:t>f=1kHz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6720" y="299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ull Depletion Voltages</a:t>
            </a: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from C-V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3600" spc="-1" strike="noStrike">
              <a:solidFill>
                <a:srgbClr val="000000"/>
              </a:solidFill>
              <a:latin typeface="HG-MinchoL-Su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6000" y="2195640"/>
            <a:ext cx="4681440" cy="4600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376720" y="5651640"/>
            <a:ext cx="1069200" cy="3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V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4968720" y="2195640"/>
            <a:ext cx="5112000" cy="4586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345800" y="5724360"/>
            <a:ext cx="1069200" cy="3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V</a:t>
            </a:r>
            <a:endParaRPr b="0" lang="en-US" sz="18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631280" y="1835280"/>
            <a:ext cx="21924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HG-MinchoL-Sun"/>
              </a:rPr>
              <a:t>Tsukuba/KEK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714880" y="3274920"/>
            <a:ext cx="121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utron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8642880" y="4356000"/>
            <a:ext cx="104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674160" y="3132000"/>
            <a:ext cx="104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ton</a:t>
            </a:r>
            <a:endParaRPr b="0" lang="en-US" sz="2400" spc="-1" strike="noStrike">
              <a:solidFill>
                <a:srgbClr val="ffffff"/>
              </a:solidFill>
              <a:latin typeface="HG-MinchoL-Su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</dc:creator>
  <dc:description>発展に向けての戦略法を提案します</dc:description>
  <dc:language>en-US</dc:language>
  <cp:lastModifiedBy>hara</cp:lastModifiedBy>
  <dcterms:modified xsi:type="dcterms:W3CDTF">2011-08-10T09:00:00Z</dcterms:modified>
  <cp:revision>7</cp:revision>
  <dc:subject/>
  <dc:title>戦略法の提案</dc:title>
</cp:coreProperties>
</file>