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68640" cy="503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484200"/>
                <a:tab algn="l" pos="971640"/>
                <a:tab algn="l" pos="1459080"/>
                <a:tab algn="l" pos="1944720"/>
                <a:tab algn="l" pos="2432160"/>
                <a:tab algn="l" pos="2917800"/>
                <a:tab algn="l" pos="3405240"/>
                <a:tab algn="l" pos="3890880"/>
                <a:tab algn="l" pos="4378320"/>
                <a:tab algn="l" pos="4863960"/>
                <a:tab algn="l" pos="5351400"/>
                <a:tab algn="l" pos="5837400"/>
                <a:tab algn="l" pos="6324480"/>
                <a:tab algn="l" pos="6811920"/>
                <a:tab algn="l" pos="7297560"/>
                <a:tab algn="l" pos="7785000"/>
                <a:tab algn="l" pos="8271000"/>
                <a:tab algn="l" pos="8758080"/>
                <a:tab algn="l" pos="9244080"/>
                <a:tab algn="l" pos="9731520"/>
                <a:tab algn="l" pos="9747360"/>
                <a:tab algn="l" pos="10234440"/>
                <a:tab algn="l" pos="107218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84200"/>
                <a:tab algn="l" pos="971640"/>
                <a:tab algn="l" pos="1459080"/>
                <a:tab algn="l" pos="1944720"/>
                <a:tab algn="l" pos="2432160"/>
                <a:tab algn="l" pos="2917800"/>
                <a:tab algn="l" pos="3405240"/>
                <a:tab algn="l" pos="3890880"/>
                <a:tab algn="l" pos="4378320"/>
                <a:tab algn="l" pos="4863960"/>
                <a:tab algn="l" pos="5351400"/>
                <a:tab algn="l" pos="5837400"/>
                <a:tab algn="l" pos="6324480"/>
                <a:tab algn="l" pos="6811920"/>
                <a:tab algn="l" pos="7297560"/>
                <a:tab algn="l" pos="7785000"/>
                <a:tab algn="l" pos="8271000"/>
                <a:tab algn="l" pos="8758080"/>
                <a:tab algn="l" pos="9244080"/>
                <a:tab algn="l" pos="9731520"/>
                <a:tab algn="l" pos="9747360"/>
                <a:tab algn="l" pos="10234440"/>
                <a:tab algn="l" pos="10721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779400" y="767880"/>
            <a:ext cx="5531040" cy="382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7560" rIns="9756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2160" cy="45972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68640" cy="501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484200"/>
                <a:tab algn="l" pos="971640"/>
                <a:tab algn="l" pos="1459080"/>
                <a:tab algn="l" pos="1944720"/>
                <a:tab algn="l" pos="2432160"/>
                <a:tab algn="l" pos="2917800"/>
                <a:tab algn="l" pos="3405240"/>
                <a:tab algn="l" pos="3890880"/>
                <a:tab algn="l" pos="4378320"/>
                <a:tab algn="l" pos="4863960"/>
                <a:tab algn="l" pos="5351400"/>
                <a:tab algn="l" pos="5837400"/>
                <a:tab algn="l" pos="6324480"/>
                <a:tab algn="l" pos="6811920"/>
                <a:tab algn="l" pos="7297560"/>
                <a:tab algn="l" pos="7785000"/>
                <a:tab algn="l" pos="8271000"/>
                <a:tab algn="l" pos="8758080"/>
                <a:tab algn="l" pos="9244080"/>
                <a:tab algn="l" pos="9731520"/>
                <a:tab algn="l" pos="9747360"/>
                <a:tab algn="l" pos="10234440"/>
                <a:tab algn="l" pos="107218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84200"/>
                <a:tab algn="l" pos="971640"/>
                <a:tab algn="l" pos="1459080"/>
                <a:tab algn="l" pos="1944720"/>
                <a:tab algn="l" pos="2432160"/>
                <a:tab algn="l" pos="2917800"/>
                <a:tab algn="l" pos="3405240"/>
                <a:tab algn="l" pos="3890880"/>
                <a:tab algn="l" pos="4378320"/>
                <a:tab algn="l" pos="4863960"/>
                <a:tab algn="l" pos="5351400"/>
                <a:tab algn="l" pos="5837400"/>
                <a:tab algn="l" pos="6324480"/>
                <a:tab algn="l" pos="6811920"/>
                <a:tab algn="l" pos="7297560"/>
                <a:tab algn="l" pos="7785000"/>
                <a:tab algn="l" pos="8271000"/>
                <a:tab algn="l" pos="8758080"/>
                <a:tab algn="l" pos="9244080"/>
                <a:tab algn="l" pos="9731520"/>
                <a:tab algn="l" pos="9747360"/>
                <a:tab algn="l" pos="10234440"/>
                <a:tab algn="l" pos="10721880"/>
              </a:tabLst>
            </a:pPr>
            <a:fld id="{8047A6F1-CEAE-492F-A0B1-99B5BED0F45E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8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tabLst>
                <a:tab algn="l" pos="0"/>
                <a:tab algn="l" pos="484200"/>
                <a:tab algn="l" pos="971640"/>
                <a:tab algn="l" pos="1459080"/>
                <a:tab algn="l" pos="1944720"/>
                <a:tab algn="l" pos="2432160"/>
                <a:tab algn="l" pos="2917800"/>
                <a:tab algn="l" pos="3405240"/>
                <a:tab algn="l" pos="3890880"/>
                <a:tab algn="l" pos="4378320"/>
                <a:tab algn="l" pos="4863960"/>
                <a:tab algn="l" pos="5351400"/>
                <a:tab algn="l" pos="5837400"/>
                <a:tab algn="l" pos="6324480"/>
                <a:tab algn="l" pos="6811920"/>
                <a:tab algn="l" pos="7297560"/>
                <a:tab algn="l" pos="7785000"/>
                <a:tab algn="l" pos="8271000"/>
                <a:tab algn="l" pos="8758080"/>
                <a:tab algn="l" pos="9244080"/>
                <a:tab algn="l" pos="9731520"/>
                <a:tab algn="l" pos="9747360"/>
                <a:tab algn="l" pos="10234440"/>
                <a:tab algn="l" pos="10721880"/>
              </a:tabLst>
            </a:pPr>
            <a:fld id="{6C4984FF-3DBF-4E09-B1F6-8E20BCC624D9}" type="slidenum">
              <a:rPr b="1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FFF8-601A-4A0C-B79F-B75183DF5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1680" y="1125360"/>
            <a:ext cx="89074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680" y="3686040"/>
            <a:ext cx="89074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AAC5-9E4C-422B-9227-6497FCB07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1680" y="112536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6120" y="112536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680" y="368604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6120" y="368604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1456-89F8-43FB-911A-7B6B53031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1680" y="1125360"/>
            <a:ext cx="28681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3440" y="1125360"/>
            <a:ext cx="28681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85560" y="1125360"/>
            <a:ext cx="28681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1680" y="3686040"/>
            <a:ext cx="28681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3440" y="3686040"/>
            <a:ext cx="28681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85560" y="3686040"/>
            <a:ext cx="28681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8F8D-F24A-4ABF-A433-94C9B9371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61680" y="1125360"/>
            <a:ext cx="890748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61680" y="1125360"/>
            <a:ext cx="89074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1680" y="1125360"/>
            <a:ext cx="434664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6120" y="1125360"/>
            <a:ext cx="434664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7600" y="-152280"/>
            <a:ext cx="890604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61680" y="112536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6120" y="1125360"/>
            <a:ext cx="434664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1680" y="368604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1680" y="1125360"/>
            <a:ext cx="890748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C192-713F-4CB2-BEE4-B258AFC96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1680" y="1125360"/>
            <a:ext cx="434664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6120" y="112536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6120" y="368604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1680" y="112536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6120" y="112536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61680" y="3686040"/>
            <a:ext cx="89074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1680" y="1125360"/>
            <a:ext cx="89074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1680" y="3686040"/>
            <a:ext cx="89074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1680" y="112536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26120" y="112536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1680" y="368604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26120" y="368604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1680" y="1125360"/>
            <a:ext cx="28681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3440" y="1125360"/>
            <a:ext cx="28681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85560" y="1125360"/>
            <a:ext cx="28681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61680" y="3686040"/>
            <a:ext cx="28681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3440" y="3686040"/>
            <a:ext cx="28681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85560" y="3686040"/>
            <a:ext cx="28681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1680" y="1125360"/>
            <a:ext cx="89074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2452-1B00-4B87-AB43-AA42BDC32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1680" y="1125360"/>
            <a:ext cx="434664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6120" y="1125360"/>
            <a:ext cx="434664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6BF0-8F1D-4A49-A967-112CF5BF0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6AAF-0254-4A0A-9E9C-A06ADD65D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7600" y="-152280"/>
            <a:ext cx="890604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9FA7-B198-4D93-96D3-A0789CF5C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1680" y="112536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6120" y="1125360"/>
            <a:ext cx="434664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1680" y="368604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E28C-6E07-444A-9047-548A97FBA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1680" y="1125360"/>
            <a:ext cx="434664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6120" y="112536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6120" y="368604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5711-81C3-4E44-8BEA-764B6D3B6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1680" y="112536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6120" y="1125360"/>
            <a:ext cx="43466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680" y="3686040"/>
            <a:ext cx="89074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660E-B022-4C99-9D4C-AD36DD1CA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7960" y="115920"/>
            <a:ext cx="8890200" cy="720720"/>
          </a:xfrm>
          <a:prstGeom prst="rect">
            <a:avLst/>
          </a:prstGeom>
          <a:noFill/>
          <a:ln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61680" y="1125360"/>
            <a:ext cx="89074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39640" indent="-26820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1432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8900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359640" y="6597720"/>
            <a:ext cx="538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US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EDC77-A8D7-4D99-8682-B029F4D3FB64}" type="slidenum">
              <a:rPr b="1" lang="en-US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600" y="6648480"/>
            <a:ext cx="5499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dde9ec"/>
                </a:solidFill>
                <a:latin typeface="Arial"/>
              </a:rPr>
              <a:t>K. Hara, IEEE NSS Dresden, 19-25 October 2008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367920" y="103320"/>
            <a:ext cx="266760" cy="73332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68200" y="93600"/>
            <a:ext cx="266760" cy="73332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9264600" y="6640560"/>
            <a:ext cx="71280" cy="233280"/>
          </a:xfrm>
          <a:prstGeom prst="triangle">
            <a:avLst>
              <a:gd name="adj" fmla="val 50000"/>
            </a:avLst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61680" y="1125360"/>
            <a:ext cx="89074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39640" indent="-26820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1432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8900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6933960" y="6354360"/>
            <a:ext cx="24685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US" sz="1400" spc="-1" strike="noStrike">
                <a:solidFill>
                  <a:srgbClr val="dde9ec"/>
                </a:solidFill>
                <a:latin typeface="Times New Roman"/>
                <a:ea typeface="ＭＳ Ｐ明朝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dde9ec"/>
                </a:solidFill>
                <a:latin typeface="Times New Roman"/>
                <a:ea typeface="ＭＳ Ｐ明朝"/>
              </a:rPr>
              <a:t>10/07/0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39920" y="6354360"/>
            <a:ext cx="3756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US" sz="1400" spc="-1" strike="noStrike">
                <a:solidFill>
                  <a:srgbClr val="dde9ec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dde9ec"/>
                </a:solidFill>
                <a:latin typeface="Times New Roman"/>
                <a:ea typeface="ＭＳ Ｐ明朝"/>
              </a:rPr>
              <a:t>&lt;footer&gt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30200" y="1125360"/>
            <a:ext cx="86565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dde9ec"/>
                </a:solidFill>
                <a:latin typeface="Arial Black"/>
              </a:rPr>
              <a:t>Characteristics of the Irradiated Hamamatsu p-Bulk </a:t>
            </a:r>
            <a:br>
              <a:rPr sz="3200"/>
            </a:br>
            <a:r>
              <a:rPr b="1" lang="en-US" sz="3200" spc="-1" strike="noStrike">
                <a:solidFill>
                  <a:srgbClr val="dde9ec"/>
                </a:solidFill>
                <a:latin typeface="Arial Black"/>
              </a:rPr>
              <a:t>Silicon Microstrip Sens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1000" y="4005360"/>
            <a:ext cx="9283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K. Hara</a:t>
            </a:r>
            <a:r>
              <a:rPr b="1" lang="en-US" sz="2000" spc="-1" strike="noStrike" u="sng" baseline="30000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H. Hatano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. Meguro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S. Mitsui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. Okuyam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M. Yamad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. Ikegami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. Kohriki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S. Terad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Y. Unno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. Yamamur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S. Kamat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IPAS, University of Tsukub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INPS, K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olid State Div., Hamamatsu Photon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38400" y="4786200"/>
            <a:ext cx="199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49960" y="182520"/>
            <a:ext cx="783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EE NSS Dresden, N19-2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Radiation Damage Effects on Detection Materials II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A683-A9B8-4DC0-AD67-3B9AF0F914B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5360" y="7920"/>
            <a:ext cx="8915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PTP Implementation  </a:t>
            </a:r>
            <a:r>
              <a:rPr b="1" lang="en-US" sz="2000" spc="-1" strike="noStrike">
                <a:solidFill>
                  <a:srgbClr val="dde9ec"/>
                </a:solidFill>
                <a:latin typeface="Arial"/>
              </a:rPr>
              <a:t>- ATLAS07 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71440" y="836640"/>
            <a:ext cx="3327120" cy="2520720"/>
            <a:chOff x="271440" y="836640"/>
            <a:chExt cx="3327120" cy="2520720"/>
          </a:xfrm>
        </p:grpSpPr>
        <p:graphicFrame>
          <p:nvGraphicFramePr>
            <p:cNvPr id="293" name=""/>
            <p:cNvGraphicFramePr/>
            <p:nvPr/>
          </p:nvGraphicFramePr>
          <p:xfrm>
            <a:off x="1607760" y="886320"/>
            <a:ext cx="1869840" cy="247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7760" y="886320"/>
                      <a:ext cx="1869840" cy="247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271440" y="886320"/>
              <a:ext cx="1260360" cy="24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24360" y="83664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Arial"/>
                </a:rPr>
                <a:t>no structur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43560" y="836640"/>
              <a:ext cx="175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Arial"/>
                </a:rPr>
                <a:t>narrow common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 rot="16200000">
            <a:off x="1158120" y="144612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P-ST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14920" y="2736720"/>
            <a:ext cx="4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9680" y="274320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30400" y="2660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1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10040" y="16286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1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879640" y="1952640"/>
            <a:ext cx="447840" cy="460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17960" y="1700280"/>
            <a:ext cx="58881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rent across a strip to bias-ring at V</a:t>
            </a:r>
            <a:r>
              <a:rPr b="0" lang="en-US" sz="1800" spc="-1" strike="noStrike" baseline="-20000">
                <a:solidFill>
                  <a:srgbClr val="ffffff"/>
                </a:solidFill>
                <a:latin typeface="Arial"/>
              </a:rPr>
              <a:t>bia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300V (bias resistor :  ~1.5M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83920" y="29894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Z1 (PT)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77800" y="29894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Z3 (PT)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34800" y="1052640"/>
            <a:ext cx="50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TAS07 irradiated with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0MeV prot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96440" y="2571840"/>
            <a:ext cx="43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ller PT shifts in negative volt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beam splash creates negative signal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28520" y="3789360"/>
            <a:ext cx="1698840" cy="2455920"/>
            <a:chOff x="128520" y="3789360"/>
            <a:chExt cx="1698840" cy="2455920"/>
          </a:xfrm>
        </p:grpSpPr>
        <p:grpSp>
          <p:nvGrpSpPr>
            <p:cNvPr id="310" name=""/>
            <p:cNvGrpSpPr/>
            <p:nvPr/>
          </p:nvGrpSpPr>
          <p:grpSpPr>
            <a:xfrm>
              <a:off x="1307160" y="4363920"/>
              <a:ext cx="310680" cy="1223640"/>
              <a:chOff x="1307160" y="4363920"/>
              <a:chExt cx="310680" cy="1223640"/>
            </a:xfrm>
          </p:grpSpPr>
          <p:sp>
            <p:nvSpPr>
              <p:cNvPr id="311" name=""/>
              <p:cNvSpPr/>
              <p:nvPr/>
            </p:nvSpPr>
            <p:spPr>
              <a:xfrm rot="5400000">
                <a:off x="1318680" y="4352040"/>
                <a:ext cx="287280" cy="310680"/>
              </a:xfrm>
              <a:prstGeom prst="rect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5400000">
                <a:off x="1356840" y="4678920"/>
                <a:ext cx="288720" cy="233280"/>
              </a:xfrm>
              <a:custGeom>
                <a:avLst/>
                <a:gdLst/>
                <a:ahLst/>
                <a:rect l="l" t="t" r="r" b="b"/>
                <a:pathLst>
                  <a:path w="182" h="136">
                    <a:moveTo>
                      <a:pt x="0" y="136"/>
                    </a:moveTo>
                    <a:lnTo>
                      <a:pt x="46" y="136"/>
                    </a:lnTo>
                    <a:lnTo>
                      <a:pt x="46" y="0"/>
                    </a:lnTo>
                    <a:lnTo>
                      <a:pt x="91" y="0"/>
                    </a:lnTo>
                    <a:lnTo>
                      <a:pt x="91" y="136"/>
                    </a:lnTo>
                    <a:lnTo>
                      <a:pt x="136" y="136"/>
                    </a:lnTo>
                    <a:lnTo>
                      <a:pt x="136" y="0"/>
                    </a:lnTo>
                    <a:lnTo>
                      <a:pt x="182" y="0"/>
                    </a:lnTo>
                    <a:lnTo>
                      <a:pt x="182" y="136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400000">
                <a:off x="1356840" y="4966200"/>
                <a:ext cx="288720" cy="233280"/>
              </a:xfrm>
              <a:custGeom>
                <a:avLst/>
                <a:gdLst/>
                <a:ahLst/>
                <a:rect l="l" t="t" r="r" b="b"/>
                <a:pathLst>
                  <a:path w="182" h="136">
                    <a:moveTo>
                      <a:pt x="0" y="136"/>
                    </a:moveTo>
                    <a:lnTo>
                      <a:pt x="46" y="136"/>
                    </a:lnTo>
                    <a:lnTo>
                      <a:pt x="46" y="0"/>
                    </a:lnTo>
                    <a:lnTo>
                      <a:pt x="91" y="0"/>
                    </a:lnTo>
                    <a:lnTo>
                      <a:pt x="91" y="136"/>
                    </a:lnTo>
                    <a:lnTo>
                      <a:pt x="136" y="136"/>
                    </a:lnTo>
                    <a:lnTo>
                      <a:pt x="136" y="0"/>
                    </a:lnTo>
                    <a:lnTo>
                      <a:pt x="182" y="0"/>
                    </a:lnTo>
                    <a:lnTo>
                      <a:pt x="182" y="136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400000">
                <a:off x="1356480" y="5254920"/>
                <a:ext cx="289080" cy="233280"/>
              </a:xfrm>
              <a:custGeom>
                <a:avLst/>
                <a:gdLst/>
                <a:ahLst/>
                <a:rect l="l" t="t" r="r" b="b"/>
                <a:pathLst>
                  <a:path w="182" h="136">
                    <a:moveTo>
                      <a:pt x="0" y="136"/>
                    </a:moveTo>
                    <a:lnTo>
                      <a:pt x="46" y="136"/>
                    </a:lnTo>
                    <a:lnTo>
                      <a:pt x="46" y="0"/>
                    </a:lnTo>
                    <a:lnTo>
                      <a:pt x="91" y="0"/>
                    </a:lnTo>
                    <a:lnTo>
                      <a:pt x="91" y="136"/>
                    </a:lnTo>
                    <a:lnTo>
                      <a:pt x="136" y="136"/>
                    </a:lnTo>
                    <a:lnTo>
                      <a:pt x="136" y="0"/>
                    </a:lnTo>
                    <a:lnTo>
                      <a:pt x="182" y="0"/>
                    </a:lnTo>
                    <a:lnTo>
                      <a:pt x="182" y="136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384560" y="5516280"/>
                <a:ext cx="0" cy="71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rot="5400000">
              <a:off x="1118880" y="5075280"/>
              <a:ext cx="144720" cy="11700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761760" y="4363920"/>
              <a:ext cx="311400" cy="1223640"/>
              <a:chOff x="761760" y="4363920"/>
              <a:chExt cx="311400" cy="1223640"/>
            </a:xfrm>
          </p:grpSpPr>
          <p:sp>
            <p:nvSpPr>
              <p:cNvPr id="318" name=""/>
              <p:cNvSpPr/>
              <p:nvPr/>
            </p:nvSpPr>
            <p:spPr>
              <a:xfrm rot="5400000">
                <a:off x="773640" y="4351680"/>
                <a:ext cx="287280" cy="311400"/>
              </a:xfrm>
              <a:prstGeom prst="rect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5400000">
                <a:off x="811800" y="4678560"/>
                <a:ext cx="288720" cy="234000"/>
              </a:xfrm>
              <a:custGeom>
                <a:avLst/>
                <a:gdLst/>
                <a:ahLst/>
                <a:rect l="l" t="t" r="r" b="b"/>
                <a:pathLst>
                  <a:path w="182" h="136">
                    <a:moveTo>
                      <a:pt x="0" y="136"/>
                    </a:moveTo>
                    <a:lnTo>
                      <a:pt x="46" y="136"/>
                    </a:lnTo>
                    <a:lnTo>
                      <a:pt x="46" y="0"/>
                    </a:lnTo>
                    <a:lnTo>
                      <a:pt x="91" y="0"/>
                    </a:lnTo>
                    <a:lnTo>
                      <a:pt x="91" y="136"/>
                    </a:lnTo>
                    <a:lnTo>
                      <a:pt x="136" y="136"/>
                    </a:lnTo>
                    <a:lnTo>
                      <a:pt x="136" y="0"/>
                    </a:lnTo>
                    <a:lnTo>
                      <a:pt x="182" y="0"/>
                    </a:lnTo>
                    <a:lnTo>
                      <a:pt x="182" y="136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5400000">
                <a:off x="811800" y="4965840"/>
                <a:ext cx="288720" cy="234000"/>
              </a:xfrm>
              <a:custGeom>
                <a:avLst/>
                <a:gdLst/>
                <a:ahLst/>
                <a:rect l="l" t="t" r="r" b="b"/>
                <a:pathLst>
                  <a:path w="182" h="136">
                    <a:moveTo>
                      <a:pt x="0" y="136"/>
                    </a:moveTo>
                    <a:lnTo>
                      <a:pt x="46" y="136"/>
                    </a:lnTo>
                    <a:lnTo>
                      <a:pt x="46" y="0"/>
                    </a:lnTo>
                    <a:lnTo>
                      <a:pt x="91" y="0"/>
                    </a:lnTo>
                    <a:lnTo>
                      <a:pt x="91" y="136"/>
                    </a:lnTo>
                    <a:lnTo>
                      <a:pt x="136" y="136"/>
                    </a:lnTo>
                    <a:lnTo>
                      <a:pt x="136" y="0"/>
                    </a:lnTo>
                    <a:lnTo>
                      <a:pt x="182" y="0"/>
                    </a:lnTo>
                    <a:lnTo>
                      <a:pt x="182" y="136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5400000">
                <a:off x="811440" y="5254560"/>
                <a:ext cx="289080" cy="234000"/>
              </a:xfrm>
              <a:custGeom>
                <a:avLst/>
                <a:gdLst/>
                <a:ahLst/>
                <a:rect l="l" t="t" r="r" b="b"/>
                <a:pathLst>
                  <a:path w="182" h="136">
                    <a:moveTo>
                      <a:pt x="0" y="136"/>
                    </a:moveTo>
                    <a:lnTo>
                      <a:pt x="46" y="136"/>
                    </a:lnTo>
                    <a:lnTo>
                      <a:pt x="46" y="0"/>
                    </a:lnTo>
                    <a:lnTo>
                      <a:pt x="91" y="0"/>
                    </a:lnTo>
                    <a:lnTo>
                      <a:pt x="91" y="136"/>
                    </a:lnTo>
                    <a:lnTo>
                      <a:pt x="136" y="136"/>
                    </a:lnTo>
                    <a:lnTo>
                      <a:pt x="136" y="0"/>
                    </a:lnTo>
                    <a:lnTo>
                      <a:pt x="182" y="0"/>
                    </a:lnTo>
                    <a:lnTo>
                      <a:pt x="182" y="136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39160" y="5516280"/>
                <a:ext cx="0" cy="71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404280" y="587700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ias-ring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37200" y="5661000"/>
              <a:ext cx="122040" cy="2890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4080" y="378936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C pad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16240" y="4149720"/>
              <a:ext cx="77400" cy="3589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28520" y="4653000"/>
              <a:ext cx="428040" cy="360360"/>
              <a:chOff x="128520" y="4653000"/>
              <a:chExt cx="428040" cy="360360"/>
            </a:xfrm>
          </p:grpSpPr>
          <p:sp>
            <p:nvSpPr>
              <p:cNvPr id="328" name=""/>
              <p:cNvSpPr/>
              <p:nvPr/>
            </p:nvSpPr>
            <p:spPr>
              <a:xfrm>
                <a:off x="128520" y="4653000"/>
                <a:ext cx="42804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46960" y="4798800"/>
                <a:ext cx="15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67760" y="4870440"/>
                <a:ext cx="351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246960" y="4679280"/>
                <a:ext cx="2077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24360" y="4508640"/>
              <a:ext cx="547200" cy="1152360"/>
            </a:xfrm>
            <a:custGeom>
              <a:avLst/>
              <a:gdLst/>
              <a:ahLst/>
              <a:rect l="l" t="t" r="r" b="b"/>
              <a:pathLst>
                <a:path w="318" h="726">
                  <a:moveTo>
                    <a:pt x="318" y="0"/>
                  </a:moveTo>
                  <a:lnTo>
                    <a:pt x="0" y="46"/>
                  </a:lnTo>
                  <a:lnTo>
                    <a:pt x="0" y="635"/>
                  </a:lnTo>
                  <a:lnTo>
                    <a:pt x="227" y="72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67760" y="5157720"/>
              <a:ext cx="351000" cy="28728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1987560" y="3359160"/>
            <a:ext cx="7918560" cy="349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C426-2E10-475D-B947-8B4C3F7F63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PT under </a:t>
            </a:r>
            <a:r>
              <a:rPr b="1" lang="en-US" sz="2800" spc="-1" strike="noStrike" baseline="30000">
                <a:solidFill>
                  <a:srgbClr val="dde9ec"/>
                </a:solidFill>
                <a:latin typeface="Arial"/>
              </a:rPr>
              <a:t>60</a:t>
            </a: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Co at low rate</a:t>
            </a: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‏</a:t>
            </a: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9600" y="1484280"/>
            <a:ext cx="9906120" cy="38433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507960" y="5589000"/>
            <a:ext cx="82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ilar PT voltages w/ and w/o P-spray after some irrad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058640" y="1773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Z3 (PT)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5CB5-1C2B-4837-8418-DF127E4F8B4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28760" y="115920"/>
            <a:ext cx="89154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4520" y="1071720"/>
            <a:ext cx="9194760" cy="50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are developing non-inverting n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on-p microstrip sensors, fabricated by Hamamatsu Photonics using commercially available p-type FZ and MCZ waf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Z_pure wafer is selected for ATLAS07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ip isola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24"/>
              </a:spcAft>
              <a:buClr>
                <a:srgbClr val="ffffff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igh density 2x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1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/c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p-stop preferred for irradiation exceeding 1x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/c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nd  ~1kGy/h (beyond sLHC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24"/>
              </a:spcAft>
              <a:buClr>
                <a:srgbClr val="ffffff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structure – only p-spray of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x1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1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/c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owed worse isolation than p-stop at 100Gy/h (~sLHC)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need to examine these with real size sensors with readout electronics connec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nch-through protection is implemented, which turns on around 40 V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characteristics are being evalua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C0D6-9854-4AC8-A4DA-F4AFD2CDC4D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428760" y="115920"/>
            <a:ext cx="89154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ＢＡＣＫ　Ｕ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01A4-39CF-4342-BFE2-A6F65F2A1C6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Charge Collection Efficiency</a:t>
            </a: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843200" y="1179360"/>
            <a:ext cx="6151320" cy="22402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1847880" y="3419640"/>
            <a:ext cx="6146640" cy="29556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548960" y="119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05/0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AE9C-7D1A-4318-88C7-7B0BD8A0A2B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Proton Irradiation at CYRIC</a:t>
            </a: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81200" y="1260360"/>
            <a:ext cx="1307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1440" y="907920"/>
            <a:ext cx="944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yclotron (70 MeV: e.g. 8h for 10</a:t>
            </a:r>
            <a:r>
              <a:rPr b="1" lang="en-US" sz="2000" spc="-1" strike="noStrike" baseline="33000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cm</a:t>
            </a:r>
            <a:r>
              <a:rPr b="1" lang="en-US" sz="2000" spc="-1" strike="noStrike" baseline="33000">
                <a:solidFill>
                  <a:srgbClr val="ffffff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radiatio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20c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ca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07960" y="1413000"/>
            <a:ext cx="3297240" cy="16095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641840" y="2205000"/>
            <a:ext cx="2925720" cy="23875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6356520" y="4441680"/>
            <a:ext cx="3549600" cy="24163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7839000" y="1700280"/>
            <a:ext cx="1816200" cy="26859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193680" y="3071880"/>
            <a:ext cx="4605480" cy="3786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5223240" y="649116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M profile @32lin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37600" y="213372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old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9520" y="2492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32880" y="393372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file moni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D56BB-1EB6-4673-99E7-3D8DB24AD36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9160" y="6093000"/>
            <a:ext cx="44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s cooled to -1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and bias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nned to perform uniform irrad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B55B-3510-4598-A805-79AB347D565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71440" y="1197000"/>
            <a:ext cx="3976200" cy="5657760"/>
            <a:chOff x="271440" y="1197000"/>
            <a:chExt cx="3976200" cy="565776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271440" y="1197000"/>
              <a:ext cx="3976200" cy="56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98160" y="1428480"/>
              <a:ext cx="1066320" cy="337320"/>
            </a:xfrm>
            <a:prstGeom prst="rect">
              <a:avLst/>
            </a:prstGeom>
            <a:solidFill>
              <a:srgbClr val="111111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laser head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140200" y="1279080"/>
              <a:ext cx="737640" cy="249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7480" y="622296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XY-stag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30040" y="49197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amp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5640" y="2174400"/>
              <a:ext cx="1151640" cy="337320"/>
            </a:xfrm>
            <a:prstGeom prst="rect">
              <a:avLst/>
            </a:prstGeom>
            <a:solidFill>
              <a:srgbClr val="111111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ollimator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85120" y="2405880"/>
              <a:ext cx="792360" cy="23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1160" y="3106080"/>
              <a:ext cx="1291680" cy="337320"/>
            </a:xfrm>
            <a:prstGeom prst="rect">
              <a:avLst/>
            </a:prstGeom>
            <a:solidFill>
              <a:srgbClr val="111111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focusing len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9640" y="3524760"/>
              <a:ext cx="62388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334040" y="1214280"/>
            <a:ext cx="5104800" cy="2641680"/>
            <a:chOff x="4334040" y="1214280"/>
            <a:chExt cx="5104800" cy="2641680"/>
          </a:xfrm>
        </p:grpSpPr>
        <p:pic>
          <p:nvPicPr>
            <p:cNvPr id="371" name="" descr=""/>
            <p:cNvPicPr/>
            <p:nvPr/>
          </p:nvPicPr>
          <p:blipFill>
            <a:blip r:embed="rId2"/>
            <a:stretch/>
          </p:blipFill>
          <p:spPr>
            <a:xfrm>
              <a:off x="4334040" y="1214280"/>
              <a:ext cx="5104800" cy="26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651280" y="3398760"/>
              <a:ext cx="122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amp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5mV/f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193680" y="189000"/>
            <a:ext cx="9480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Charge Collection Evaluation with Las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51240" y="4149720"/>
            <a:ext cx="530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lsed Nd:YAG(1064nm) laser can simulate passage of charge particle since it penetrates through Si. The above traces are for Fz samples irradiated to 0.2~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15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/c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Vb=1kV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C7CE-DD8F-4A28-ADC8-4B99F440D67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Full Depletion Voltage</a:t>
            </a: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676520" y="1413000"/>
            <a:ext cx="6786360" cy="47210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548960" y="1700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05/0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7C1B-E753-4806-9D4E-DA2371C73AC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507960" y="189000"/>
            <a:ext cx="89154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ATLAS07 Zone 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84280" y="1413000"/>
            <a:ext cx="8737560" cy="43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C21C-ED83-4B47-AD4C-692A5730CAE0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23720" y="3035160"/>
            <a:ext cx="8198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e are developing non-inverting n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on-p sen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ck of experience with sensor-quality p-type Si (wafer availability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ll depletion voltage &amp; collectable charg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strip iso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nch through (for sensor protection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nealing proper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Lorentz angle – measurement started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aluate these of irradiated sen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de with p-wafer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vailable to HP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1840" y="214200"/>
            <a:ext cx="94028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dde9ec"/>
                </a:solidFill>
                <a:latin typeface="Arial"/>
              </a:rPr>
              <a:t>Development of p-Bulk Sens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95320" y="981000"/>
            <a:ext cx="850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trip sensors at SuperLHC will receive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/c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type FZ Si inverts into p-type after &lt;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/c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ccumulates donor type impurities by irradiation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1000" y="2205000"/>
            <a:ext cx="866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on-n (present ATLAS microstrip)         p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on-p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ed fully deple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on-n (present ATLAS pixel         n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on-p )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ed double-side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37240" y="2278080"/>
            <a:ext cx="546120" cy="287280"/>
          </a:xfrm>
          <a:prstGeom prst="rightArrow">
            <a:avLst>
              <a:gd name="adj1" fmla="val 50000"/>
              <a:gd name="adj2" fmla="val 47525"/>
            </a:avLst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16520" y="2565360"/>
            <a:ext cx="544320" cy="287280"/>
          </a:xfrm>
          <a:prstGeom prst="rightArrow">
            <a:avLst>
              <a:gd name="adj1" fmla="val 50000"/>
              <a:gd name="adj2" fmla="val 47368"/>
            </a:avLst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76760" y="5753160"/>
            <a:ext cx="4329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letion develops from strip sid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ill work at partial depletion, if V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xceeds the applicable voltage 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15080" y="4479840"/>
            <a:ext cx="3902040" cy="1069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15080" y="4498920"/>
            <a:ext cx="3902040" cy="503280"/>
          </a:xfrm>
          <a:prstGeom prst="roundRect">
            <a:avLst>
              <a:gd name="adj" fmla="val 16667"/>
            </a:avLst>
          </a:prstGeom>
          <a:solidFill>
            <a:srgbClr val="46465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92880" y="4941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-bulk stays 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34080" y="450216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15080" y="5462640"/>
            <a:ext cx="3902040" cy="87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67360" y="544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50200" y="46530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47080" y="4522680"/>
            <a:ext cx="312840" cy="68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53240" y="4522680"/>
            <a:ext cx="312840" cy="68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61280" y="4522680"/>
            <a:ext cx="312840" cy="68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68880" y="4522680"/>
            <a:ext cx="312840" cy="68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29640" y="4522680"/>
            <a:ext cx="312840" cy="68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15080" y="4473720"/>
            <a:ext cx="3902040" cy="66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6760" y="4089240"/>
            <a:ext cx="4278600" cy="2652840"/>
          </a:xfrm>
          <a:prstGeom prst="roundRect">
            <a:avLst>
              <a:gd name="adj" fmla="val 6343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37320" y="3884760"/>
            <a:ext cx="2203560" cy="411120"/>
          </a:xfrm>
          <a:prstGeom prst="roundRect">
            <a:avLst>
              <a:gd name="adj" fmla="val 16667"/>
            </a:avLst>
          </a:prstGeom>
          <a:solidFill>
            <a:srgbClr val="727ca3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9600" y="3884760"/>
            <a:ext cx="19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on-p sens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9640" y="6165720"/>
            <a:ext cx="42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V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500 V to re-use ATLAS system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739B-6764-44AE-8443-3D6E85C9D81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84280" y="142920"/>
            <a:ext cx="8786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Evaluated Samp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770040"/>
            <a:ext cx="403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45000" y="981000"/>
            <a:ext cx="544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oat Zone:    FZ   – 6”,   FZp – 6”,  FZ – 4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gnetic Cz: MCZ - 6”,                    MCZ – 4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8760" y="1700280"/>
            <a:ext cx="49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b292ca"/>
                </a:solidFill>
                <a:latin typeface="Arial"/>
              </a:rPr>
              <a:t>FZp has fewer </a:t>
            </a:r>
            <a:r>
              <a:rPr b="1" lang="en-US" sz="2000" spc="-1" strike="noStrike">
                <a:solidFill>
                  <a:srgbClr val="b292ca"/>
                </a:solidFill>
                <a:latin typeface="Arial"/>
              </a:rPr>
              <a:t>defects</a:t>
            </a:r>
            <a:r>
              <a:rPr b="1" lang="en-US" sz="1800" spc="-1" strike="noStrike">
                <a:solidFill>
                  <a:srgbClr val="b292ca"/>
                </a:solidFill>
                <a:latin typeface="Arial"/>
              </a:rPr>
              <a:t> than standard F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1040" y="9446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af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5600" y="274644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rip iso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5000" y="3033720"/>
            <a:ext cx="718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-stop   … with different widths &amp; three doping dens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-spray … added to low density P-stop, or P-spray on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P-stop, no P-spr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6280" y="2384280"/>
            <a:ext cx="74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niatur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10 mm x 10 mm, with 100 strips at ~80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 pit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4560" y="5479920"/>
            <a:ext cx="625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st 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evaluate punch-through proper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7720" y="4005360"/>
            <a:ext cx="84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unch-through design </a:t>
            </a:r>
            <a:r>
              <a:rPr b="1" lang="en-US" sz="2000" spc="-1" strike="noStrike">
                <a:solidFill>
                  <a:srgbClr val="dde9ec"/>
                </a:solidFill>
                <a:latin typeface="Arial"/>
              </a:rPr>
              <a:t>(distance between n</a:t>
            </a:r>
            <a:r>
              <a:rPr b="1" lang="en-US" sz="2000" spc="-1" strike="noStrike" baseline="30000">
                <a:solidFill>
                  <a:srgbClr val="dde9e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dde9ec"/>
                </a:solidFill>
                <a:latin typeface="Arial"/>
              </a:rPr>
              <a:t> electrode and biasring )</a:t>
            </a:r>
            <a:r>
              <a:rPr b="1" lang="en-US" sz="2000" spc="-1" strike="noStrike">
                <a:solidFill>
                  <a:srgbClr val="dde9ec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85920" y="4437000"/>
            <a:ext cx="862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case of beam splash causing many charges created, the voltage across AC oxide may exceed its rating (~100V for HPK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 route to discharge by punch-through mechanis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43160" y="5113440"/>
            <a:ext cx="546120" cy="287280"/>
          </a:xfrm>
          <a:prstGeom prst="rightArrow">
            <a:avLst>
              <a:gd name="adj1" fmla="val 50000"/>
              <a:gd name="adj2" fmla="val 47525"/>
            </a:avLst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2B2F-9ADE-477C-9C66-78653F4A03C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93680" y="2924280"/>
            <a:ext cx="2549520" cy="360360"/>
          </a:xfrm>
          <a:prstGeom prst="rect">
            <a:avLst/>
          </a:prstGeom>
          <a:solidFill>
            <a:srgbClr val="996633">
              <a:alpha val="74000"/>
            </a:srgbClr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TLAS0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HPK6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Parameters in Detail</a:t>
            </a: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93680" y="1125360"/>
            <a:ext cx="5538600" cy="1784160"/>
            <a:chOff x="193680" y="1125360"/>
            <a:chExt cx="5538600" cy="1784160"/>
          </a:xfrm>
        </p:grpSpPr>
        <p:sp>
          <p:nvSpPr>
            <p:cNvPr id="138" name=""/>
            <p:cNvSpPr/>
            <p:nvPr/>
          </p:nvSpPr>
          <p:spPr>
            <a:xfrm>
              <a:off x="4723200" y="2350080"/>
              <a:ext cx="100764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&lt;100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80720" y="2350080"/>
              <a:ext cx="94248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&lt;100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68040" y="2350080"/>
              <a:ext cx="101412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&lt;100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3680" y="2350080"/>
              <a:ext cx="2574360" cy="556560"/>
            </a:xfrm>
            <a:prstGeom prst="rect">
              <a:avLst/>
            </a:prstGeom>
            <a:solidFill>
              <a:srgbClr val="ac7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Microsoft Sans Serif"/>
                </a:rPr>
                <a:t>ATLAS06</a:t>
              </a: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 HPK6”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23200" y="1753560"/>
              <a:ext cx="10076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n/a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80720" y="1753560"/>
              <a:ext cx="942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&lt;100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0.8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68040" y="1753560"/>
              <a:ext cx="10141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&lt;111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6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3680" y="1753560"/>
              <a:ext cx="2574360" cy="596160"/>
            </a:xfrm>
            <a:prstGeom prst="rect">
              <a:avLst/>
            </a:prstGeom>
            <a:solidFill>
              <a:srgbClr val="a278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Microsoft Sans Serif"/>
                </a:rPr>
                <a:t>ATLAS05</a:t>
              </a: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 HPK4”*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23200" y="1125360"/>
              <a:ext cx="1007640" cy="628200"/>
            </a:xfrm>
            <a:prstGeom prst="rect">
              <a:avLst/>
            </a:prstGeom>
            <a:solidFill>
              <a:srgbClr val="b29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60000"/>
                </a:lnSpc>
                <a:spcBef>
                  <a:spcPts val="1349"/>
                </a:spcBef>
                <a:spcAft>
                  <a:spcPts val="2024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FZp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80720" y="1125360"/>
              <a:ext cx="942480" cy="628200"/>
            </a:xfrm>
            <a:prstGeom prst="rect">
              <a:avLst/>
            </a:prstGeom>
            <a:solidFill>
              <a:srgbClr val="b29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60000"/>
                </a:lnSpc>
                <a:spcBef>
                  <a:spcPts val="1349"/>
                </a:spcBef>
                <a:spcAft>
                  <a:spcPts val="2024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MCZ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68040" y="1125360"/>
              <a:ext cx="1014120" cy="628200"/>
            </a:xfrm>
            <a:prstGeom prst="rect">
              <a:avLst/>
            </a:prstGeom>
            <a:solidFill>
              <a:srgbClr val="b29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60000"/>
                </a:lnSpc>
                <a:spcBef>
                  <a:spcPts val="1349"/>
                </a:spcBef>
                <a:spcAft>
                  <a:spcPts val="2024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FZ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3680" y="1125360"/>
              <a:ext cx="2574360" cy="628200"/>
            </a:xfrm>
            <a:prstGeom prst="rect">
              <a:avLst/>
            </a:prstGeom>
            <a:solidFill>
              <a:srgbClr val="ac7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60000"/>
                </a:lnSpc>
                <a:spcBef>
                  <a:spcPts val="1650"/>
                </a:spcBef>
                <a:spcAft>
                  <a:spcPts val="2475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Gill Sans MT"/>
                </a:rPr>
                <a:t>process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3680" y="1125360"/>
              <a:ext cx="5537160" cy="14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3680" y="1753560"/>
              <a:ext cx="5537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3680" y="2350080"/>
              <a:ext cx="5537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3680" y="2908440"/>
              <a:ext cx="5537160" cy="10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3680" y="1125360"/>
              <a:ext cx="1800" cy="17830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68040" y="1125360"/>
              <a:ext cx="1440" cy="178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80720" y="1125360"/>
              <a:ext cx="1440" cy="178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23200" y="1125360"/>
              <a:ext cx="1440" cy="178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30840" y="1125360"/>
              <a:ext cx="1440" cy="17830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7360" y="3357720"/>
            <a:ext cx="5695920" cy="328608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3193920" y="1125360"/>
            <a:ext cx="6359400" cy="2543040"/>
            <a:chOff x="3193920" y="1125360"/>
            <a:chExt cx="6359400" cy="2543040"/>
          </a:xfrm>
        </p:grpSpPr>
        <p:sp>
          <p:nvSpPr>
            <p:cNvPr id="161" name=""/>
            <p:cNvSpPr/>
            <p:nvPr/>
          </p:nvSpPr>
          <p:spPr>
            <a:xfrm>
              <a:off x="8109360" y="2339280"/>
              <a:ext cx="14410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8x10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icrosoft Sans Serif"/>
                </a:rPr>
                <a:t>1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( 2x10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icrosoft Sans Serif"/>
                </a:rPr>
                <a:t>12  </a:t>
              </a: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)</a:t>
              </a: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‏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83280" y="2339280"/>
              <a:ext cx="1127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10x10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icrosoft Sans Serif"/>
                </a:rPr>
                <a:t>1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01480" y="2339280"/>
              <a:ext cx="10814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20x10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icrosoft Sans Serif"/>
                </a:rPr>
                <a:t>1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09360" y="1758600"/>
              <a:ext cx="144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2x10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icrosoft Sans Serif"/>
                </a:rPr>
                <a:t>1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( 2x10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icrosoft Sans Serif"/>
                </a:rPr>
                <a:t>12  </a:t>
              </a: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)</a:t>
              </a: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‏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83280" y="1758600"/>
              <a:ext cx="1127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5x10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icrosoft Sans Serif"/>
                </a:rPr>
                <a:t>1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1480" y="1758600"/>
              <a:ext cx="1081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20x10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icrosoft Sans Serif"/>
                </a:rPr>
                <a:t>1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09360" y="1125360"/>
              <a:ext cx="1441080" cy="634680"/>
            </a:xfrm>
            <a:prstGeom prst="rect">
              <a:avLst/>
            </a:prstGeom>
            <a:solidFill>
              <a:srgbClr val="b29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P-stop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( P-spray )</a:t>
              </a: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‏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83280" y="1125360"/>
              <a:ext cx="1127880" cy="634680"/>
            </a:xfrm>
            <a:prstGeom prst="rect">
              <a:avLst/>
            </a:prstGeom>
            <a:solidFill>
              <a:srgbClr val="b29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P-stop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LO/Mid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01480" y="1125360"/>
              <a:ext cx="1081440" cy="634680"/>
            </a:xfrm>
            <a:prstGeom prst="rect">
              <a:avLst/>
            </a:prstGeom>
            <a:solidFill>
              <a:srgbClr val="b29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P-stop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icrosoft Sans Serif"/>
                </a:rPr>
                <a:t>HI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01480" y="1125360"/>
              <a:ext cx="3650040" cy="14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01480" y="1758600"/>
              <a:ext cx="3650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01480" y="2339280"/>
              <a:ext cx="3650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01480" y="2921400"/>
              <a:ext cx="3650040" cy="14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01480" y="1125360"/>
              <a:ext cx="1800" cy="17960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83280" y="1125360"/>
              <a:ext cx="1440" cy="179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09360" y="1125360"/>
              <a:ext cx="1800" cy="179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551880" y="1125360"/>
              <a:ext cx="1440" cy="17960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8" name=""/>
            <p:cNvGraphicFramePr/>
            <p:nvPr/>
          </p:nvGraphicFramePr>
          <p:xfrm>
            <a:off x="3193920" y="2856600"/>
            <a:ext cx="3521160" cy="8118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93920" y="2856600"/>
                      <a:ext cx="3521160" cy="81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0" name=""/>
          <p:cNvSpPr/>
          <p:nvPr/>
        </p:nvSpPr>
        <p:spPr>
          <a:xfrm>
            <a:off x="6961320" y="800280"/>
            <a:ext cx="27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ping density (/cm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19520" y="765000"/>
            <a:ext cx="37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rystal orientation &amp;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(k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m)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88160" y="3357720"/>
            <a:ext cx="413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ign revised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buClr>
                <a:srgbClr val="ffffff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 at 4” is too lo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buClr>
                <a:srgbClr val="ffffff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eld plates are not effici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buClr>
                <a:srgbClr val="ffffff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ll common is lea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11840" y="4724280"/>
            <a:ext cx="39402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TLAS07 is evaluated by a wider collaboration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repor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rrow common p-stop (~Z3)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structure (~Z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elivery: modified samples are arriv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760" y="2349360"/>
            <a:ext cx="583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327320"/>
            <a:ext cx="200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25160" y="57214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TLAS05/06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948200" y="342432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948200" y="342432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030640" y="2924280"/>
            <a:ext cx="412920" cy="361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140240" y="2997360"/>
            <a:ext cx="24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HPK4” is not avail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8F3C-62F4-4FA3-A686-C7D754ED090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07960" y="115920"/>
            <a:ext cx="8915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Annealing (ATLAS06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911240" y="1844640"/>
            <a:ext cx="6255000" cy="3867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68600" y="1052640"/>
            <a:ext cx="7790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ples: 6” FZ/FZp/MCZ irradiated with protons to 2x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/c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F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valuated from C-V and laser CC curv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67000" y="5877000"/>
            <a:ext cx="703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acteristics similar to n-bulk sensors (min. at 80 min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CZ shows a larger incre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8EC5-29F5-4F9A-B357-AA5D8B48E4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600" y="-152280"/>
            <a:ext cx="8906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Strip Isolation (ATLAS06 results)</a:t>
            </a: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‏</a:t>
            </a: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-1817" r="0" b="-1817"/>
          <a:stretch/>
        </p:blipFill>
        <p:spPr>
          <a:xfrm>
            <a:off x="1052640" y="765000"/>
            <a:ext cx="8269200" cy="4927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18840000">
            <a:off x="7322760" y="3461400"/>
            <a:ext cx="22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-spray (+P-stop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8840000">
            <a:off x="4981680" y="35218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-stop (mi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8840000">
            <a:off x="2450880" y="365040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-stop (H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740000">
            <a:off x="8027640" y="10317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z_p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740000">
            <a:off x="8204040" y="23331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z_st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740000">
            <a:off x="8270280" y="41673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CZ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1040" y="5589720"/>
            <a:ext cx="85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Z_pure &amp; p-spray better below  2x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4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Z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CZ better in entire ra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d &amp; P-spray degrade above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5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/c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solation achieved below ~200V bias (&lt;operation voltage) also for Z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20671200">
            <a:off x="7980120" y="595008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these real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-1608480" y="2973600"/>
            <a:ext cx="45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ion voltage (Vb@Rinterstrip&gt;10Rbia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A212-BD43-4498-A566-F987558FAEA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Strip Isolation (</a:t>
            </a:r>
            <a:r>
              <a:rPr b="1" lang="en-US" sz="2800" spc="-1" strike="noStrike" baseline="30000">
                <a:solidFill>
                  <a:srgbClr val="dde9ec"/>
                </a:solidFill>
                <a:latin typeface="Arial"/>
              </a:rPr>
              <a:t>60</a:t>
            </a: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Co at low rate)</a:t>
            </a: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‏</a:t>
            </a: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87040" y="981000"/>
            <a:ext cx="716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ip isolation primarily determined by surface cond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be testable with </a:t>
            </a:r>
            <a:r>
              <a:rPr b="0" lang="en-US" sz="1800" spc="-1" strike="noStrike" baseline="33000">
                <a:solidFill>
                  <a:srgbClr val="ffffff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 irradi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0" y="2133720"/>
            <a:ext cx="2538000" cy="1881000"/>
            <a:chOff x="0" y="2133720"/>
            <a:chExt cx="2538000" cy="1881000"/>
          </a:xfrm>
        </p:grpSpPr>
        <p:sp>
          <p:nvSpPr>
            <p:cNvPr id="209" name=""/>
            <p:cNvSpPr/>
            <p:nvPr/>
          </p:nvSpPr>
          <p:spPr>
            <a:xfrm>
              <a:off x="0" y="3284640"/>
              <a:ext cx="42804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196200" y="2133720"/>
              <a:ext cx="2341800" cy="1881000"/>
              <a:chOff x="196200" y="2133720"/>
              <a:chExt cx="2341800" cy="188100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622080" y="2638440"/>
                <a:ext cx="1325160" cy="287280"/>
                <a:chOff x="622080" y="2638440"/>
                <a:chExt cx="1325160" cy="2872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22080" y="2638440"/>
                  <a:ext cx="311040" cy="287280"/>
                </a:xfrm>
                <a:prstGeom prst="rect">
                  <a:avLst/>
                </a:prstGeom>
                <a:solidFill>
                  <a:srgbClr val="00b8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933120" y="2638440"/>
                  <a:ext cx="312480" cy="215640"/>
                </a:xfrm>
                <a:custGeom>
                  <a:avLst/>
                  <a:gdLst/>
                  <a:ahLst/>
                  <a:rect l="l" t="t" r="r" b="b"/>
                  <a:pathLst>
                    <a:path w="182" h="136">
                      <a:moveTo>
                        <a:pt x="0" y="136"/>
                      </a:moveTo>
                      <a:lnTo>
                        <a:pt x="46" y="136"/>
                      </a:lnTo>
                      <a:lnTo>
                        <a:pt x="46" y="0"/>
                      </a:lnTo>
                      <a:lnTo>
                        <a:pt x="91" y="0"/>
                      </a:lnTo>
                      <a:lnTo>
                        <a:pt x="91" y="136"/>
                      </a:lnTo>
                      <a:lnTo>
                        <a:pt x="136" y="136"/>
                      </a:lnTo>
                      <a:lnTo>
                        <a:pt x="136" y="0"/>
                      </a:lnTo>
                      <a:lnTo>
                        <a:pt x="182" y="0"/>
                      </a:lnTo>
                      <a:lnTo>
                        <a:pt x="182" y="136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244160" y="2638440"/>
                  <a:ext cx="312480" cy="215640"/>
                </a:xfrm>
                <a:custGeom>
                  <a:avLst/>
                  <a:gdLst/>
                  <a:ahLst/>
                  <a:rect l="l" t="t" r="r" b="b"/>
                  <a:pathLst>
                    <a:path w="182" h="136">
                      <a:moveTo>
                        <a:pt x="0" y="136"/>
                      </a:moveTo>
                      <a:lnTo>
                        <a:pt x="46" y="136"/>
                      </a:lnTo>
                      <a:lnTo>
                        <a:pt x="46" y="0"/>
                      </a:lnTo>
                      <a:lnTo>
                        <a:pt x="91" y="0"/>
                      </a:lnTo>
                      <a:lnTo>
                        <a:pt x="91" y="136"/>
                      </a:lnTo>
                      <a:lnTo>
                        <a:pt x="136" y="136"/>
                      </a:lnTo>
                      <a:lnTo>
                        <a:pt x="136" y="0"/>
                      </a:lnTo>
                      <a:lnTo>
                        <a:pt x="182" y="0"/>
                      </a:lnTo>
                      <a:lnTo>
                        <a:pt x="182" y="136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557000" y="2638440"/>
                  <a:ext cx="312840" cy="215640"/>
                </a:xfrm>
                <a:custGeom>
                  <a:avLst/>
                  <a:gdLst/>
                  <a:ahLst/>
                  <a:rect l="l" t="t" r="r" b="b"/>
                  <a:pathLst>
                    <a:path w="182" h="136">
                      <a:moveTo>
                        <a:pt x="0" y="136"/>
                      </a:moveTo>
                      <a:lnTo>
                        <a:pt x="46" y="136"/>
                      </a:lnTo>
                      <a:lnTo>
                        <a:pt x="46" y="0"/>
                      </a:lnTo>
                      <a:lnTo>
                        <a:pt x="91" y="0"/>
                      </a:lnTo>
                      <a:lnTo>
                        <a:pt x="91" y="136"/>
                      </a:lnTo>
                      <a:lnTo>
                        <a:pt x="136" y="136"/>
                      </a:lnTo>
                      <a:lnTo>
                        <a:pt x="136" y="0"/>
                      </a:lnTo>
                      <a:lnTo>
                        <a:pt x="182" y="0"/>
                      </a:lnTo>
                      <a:lnTo>
                        <a:pt x="182" y="136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70200" y="2854080"/>
                  <a:ext cx="770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1947960" y="2494080"/>
                <a:ext cx="156240" cy="1079280"/>
              </a:xfrm>
              <a:prstGeom prst="rect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22080" y="3141720"/>
                <a:ext cx="1325160" cy="287280"/>
                <a:chOff x="622080" y="3141720"/>
                <a:chExt cx="1325160" cy="287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22080" y="3141720"/>
                  <a:ext cx="311040" cy="287280"/>
                </a:xfrm>
                <a:prstGeom prst="rect">
                  <a:avLst/>
                </a:prstGeom>
                <a:solidFill>
                  <a:srgbClr val="00b8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933120" y="3141720"/>
                  <a:ext cx="312480" cy="215640"/>
                </a:xfrm>
                <a:custGeom>
                  <a:avLst/>
                  <a:gdLst/>
                  <a:ahLst/>
                  <a:rect l="l" t="t" r="r" b="b"/>
                  <a:pathLst>
                    <a:path w="182" h="136">
                      <a:moveTo>
                        <a:pt x="0" y="136"/>
                      </a:moveTo>
                      <a:lnTo>
                        <a:pt x="46" y="136"/>
                      </a:lnTo>
                      <a:lnTo>
                        <a:pt x="46" y="0"/>
                      </a:lnTo>
                      <a:lnTo>
                        <a:pt x="91" y="0"/>
                      </a:lnTo>
                      <a:lnTo>
                        <a:pt x="91" y="136"/>
                      </a:lnTo>
                      <a:lnTo>
                        <a:pt x="136" y="136"/>
                      </a:lnTo>
                      <a:lnTo>
                        <a:pt x="136" y="0"/>
                      </a:lnTo>
                      <a:lnTo>
                        <a:pt x="182" y="0"/>
                      </a:lnTo>
                      <a:lnTo>
                        <a:pt x="182" y="136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244160" y="3141720"/>
                  <a:ext cx="312480" cy="215640"/>
                </a:xfrm>
                <a:custGeom>
                  <a:avLst/>
                  <a:gdLst/>
                  <a:ahLst/>
                  <a:rect l="l" t="t" r="r" b="b"/>
                  <a:pathLst>
                    <a:path w="182" h="136">
                      <a:moveTo>
                        <a:pt x="0" y="136"/>
                      </a:moveTo>
                      <a:lnTo>
                        <a:pt x="46" y="136"/>
                      </a:lnTo>
                      <a:lnTo>
                        <a:pt x="46" y="0"/>
                      </a:lnTo>
                      <a:lnTo>
                        <a:pt x="91" y="0"/>
                      </a:lnTo>
                      <a:lnTo>
                        <a:pt x="91" y="136"/>
                      </a:lnTo>
                      <a:lnTo>
                        <a:pt x="136" y="136"/>
                      </a:lnTo>
                      <a:lnTo>
                        <a:pt x="136" y="0"/>
                      </a:lnTo>
                      <a:lnTo>
                        <a:pt x="182" y="0"/>
                      </a:lnTo>
                      <a:lnTo>
                        <a:pt x="182" y="136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557000" y="3141720"/>
                  <a:ext cx="312840" cy="215640"/>
                </a:xfrm>
                <a:custGeom>
                  <a:avLst/>
                  <a:gdLst/>
                  <a:ahLst/>
                  <a:rect l="l" t="t" r="r" b="b"/>
                  <a:pathLst>
                    <a:path w="182" h="136">
                      <a:moveTo>
                        <a:pt x="0" y="136"/>
                      </a:moveTo>
                      <a:lnTo>
                        <a:pt x="46" y="136"/>
                      </a:lnTo>
                      <a:lnTo>
                        <a:pt x="46" y="0"/>
                      </a:lnTo>
                      <a:lnTo>
                        <a:pt x="91" y="0"/>
                      </a:lnTo>
                      <a:lnTo>
                        <a:pt x="91" y="136"/>
                      </a:lnTo>
                      <a:lnTo>
                        <a:pt x="136" y="136"/>
                      </a:lnTo>
                      <a:lnTo>
                        <a:pt x="136" y="0"/>
                      </a:lnTo>
                      <a:lnTo>
                        <a:pt x="182" y="0"/>
                      </a:lnTo>
                      <a:lnTo>
                        <a:pt x="182" y="136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870200" y="3357360"/>
                  <a:ext cx="770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1560240" y="3646440"/>
                <a:ext cx="97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iasring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27160" y="3430800"/>
                <a:ext cx="154800" cy="287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6200" y="2133720"/>
                <a:ext cx="95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C pad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44680" y="2422440"/>
                <a:ext cx="154080" cy="2876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194040" y="2781360"/>
              <a:ext cx="546840" cy="1008000"/>
            </a:xfrm>
            <a:custGeom>
              <a:avLst/>
              <a:gdLst/>
              <a:ahLst/>
              <a:rect l="l" t="t" r="r" b="b"/>
              <a:pathLst>
                <a:path w="318" h="771">
                  <a:moveTo>
                    <a:pt x="318" y="0"/>
                  </a:moveTo>
                  <a:lnTo>
                    <a:pt x="0" y="318"/>
                  </a:lnTo>
                  <a:lnTo>
                    <a:pt x="0" y="771"/>
                  </a:lnTo>
                  <a:lnTo>
                    <a:pt x="318" y="45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1440" y="2781360"/>
              <a:ext cx="350280" cy="28728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6640" y="3429000"/>
              <a:ext cx="154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800" y="3500280"/>
              <a:ext cx="350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16640" y="3309840"/>
              <a:ext cx="207720" cy="26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460240" y="1773360"/>
            <a:ext cx="66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olation data taken while irradiated with 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 at 100 Gy/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90640" y="2133720"/>
            <a:ext cx="6891120" cy="4503600"/>
            <a:chOff x="2690640" y="2133720"/>
            <a:chExt cx="6891120" cy="450360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2690640" y="2133720"/>
              <a:ext cx="6891120" cy="45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1336800">
              <a:off x="5654880" y="4870440"/>
              <a:ext cx="1793880" cy="792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40240" y="551844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no structure (Z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2838240" y="462096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99000" y="4221360"/>
              <a:ext cx="46800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406400" y="3141720"/>
              <a:ext cx="85788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43280" y="429444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Z/MCZ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19520" y="4365720"/>
            <a:ext cx="24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100 Gy/h expected 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30cm 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c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4 Gy/h if mip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406400" y="4149360"/>
            <a:ext cx="3891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13480" y="6093000"/>
            <a:ext cx="466920" cy="4316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08800" y="3716280"/>
            <a:ext cx="76320" cy="504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7659360" y="381924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ATLAS07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81DB-ACAC-4461-AA9A-8455D5A5955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737240" y="1773360"/>
            <a:ext cx="4968720" cy="3592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00160" y="1844640"/>
            <a:ext cx="4464000" cy="35193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Strip Isolation (</a:t>
            </a:r>
            <a:r>
              <a:rPr b="1" lang="en-US" sz="2800" spc="-1" strike="noStrike" baseline="30000">
                <a:solidFill>
                  <a:srgbClr val="dde9ec"/>
                </a:solidFill>
                <a:latin typeface="Arial"/>
              </a:rPr>
              <a:t>60</a:t>
            </a: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Co at low rate)</a:t>
            </a: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‏</a:t>
            </a:r>
            <a:endParaRPr b="1" lang="en-US" sz="28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3400" y="1341360"/>
            <a:ext cx="45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ong wafers (Z3, ave of 2 samples each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52120" y="3716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Vbi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09960" y="13413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Zp waf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1000" y="552456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Zp better than others, but isolation voltage increases for all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19600" y="5516640"/>
            <a:ext cx="49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structure (Z1)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haves wo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density p-stop is better than p-spray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92880" y="1986120"/>
            <a:ext cx="3492360" cy="2522520"/>
          </a:xfrm>
          <a:custGeom>
            <a:avLst/>
            <a:gdLst/>
            <a:ahLst/>
            <a:rect l="l" t="t" r="r" b="b"/>
            <a:pathLst>
              <a:path w="2087" h="1500">
                <a:moveTo>
                  <a:pt x="0" y="320"/>
                </a:moveTo>
                <a:lnTo>
                  <a:pt x="20" y="1032"/>
                </a:lnTo>
                <a:lnTo>
                  <a:pt x="672" y="1028"/>
                </a:lnTo>
                <a:lnTo>
                  <a:pt x="672" y="0"/>
                </a:lnTo>
                <a:lnTo>
                  <a:pt x="681" y="1045"/>
                </a:lnTo>
                <a:lnTo>
                  <a:pt x="692" y="1016"/>
                </a:lnTo>
                <a:lnTo>
                  <a:pt x="1736" y="1016"/>
                </a:lnTo>
                <a:lnTo>
                  <a:pt x="1732" y="1500"/>
                </a:lnTo>
                <a:lnTo>
                  <a:pt x="2087" y="1499"/>
                </a:ln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52640" y="1916280"/>
            <a:ext cx="2965320" cy="2520720"/>
          </a:xfrm>
          <a:custGeom>
            <a:avLst/>
            <a:gdLst/>
            <a:ahLst/>
            <a:rect l="l" t="t" r="r" b="b"/>
            <a:pathLst>
              <a:path w="2087" h="1500">
                <a:moveTo>
                  <a:pt x="0" y="320"/>
                </a:moveTo>
                <a:lnTo>
                  <a:pt x="20" y="1032"/>
                </a:lnTo>
                <a:lnTo>
                  <a:pt x="672" y="1028"/>
                </a:lnTo>
                <a:lnTo>
                  <a:pt x="672" y="0"/>
                </a:lnTo>
                <a:lnTo>
                  <a:pt x="681" y="1045"/>
                </a:lnTo>
                <a:lnTo>
                  <a:pt x="692" y="1016"/>
                </a:lnTo>
                <a:lnTo>
                  <a:pt x="1736" y="1016"/>
                </a:lnTo>
                <a:lnTo>
                  <a:pt x="1732" y="1500"/>
                </a:lnTo>
                <a:lnTo>
                  <a:pt x="2087" y="1499"/>
                </a:ln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9CDE-732D-49E6-92B2-04CC57B5DFA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938760" y="981000"/>
            <a:ext cx="3544560" cy="2298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51000" y="981000"/>
            <a:ext cx="3492360" cy="2322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93680" y="3141720"/>
            <a:ext cx="9594720" cy="29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960" y="115920"/>
            <a:ext cx="8915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dde9ec"/>
                </a:solidFill>
                <a:latin typeface="Arial"/>
              </a:rPr>
              <a:t>Punch Through </a:t>
            </a:r>
            <a:r>
              <a:rPr b="1" lang="en-US" sz="2000" spc="-1" strike="noStrike">
                <a:solidFill>
                  <a:srgbClr val="dde9ec"/>
                </a:solidFill>
                <a:latin typeface="Arial"/>
              </a:rPr>
              <a:t>- ATLAS06 test structure 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51000" y="3357720"/>
            <a:ext cx="9010440" cy="26874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880200" y="6021360"/>
            <a:ext cx="766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ll difference among wafers (~7V larger for irradiated MCZ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significant difference between w/ and w/o spr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38760" y="4365720"/>
            <a:ext cx="2028600" cy="1224000"/>
          </a:xfrm>
          <a:custGeom>
            <a:avLst/>
            <a:gdLst/>
            <a:ahLst/>
            <a:rect l="l" t="t" r="r" b="b"/>
            <a:pathLst>
              <a:path w="1180" h="771">
                <a:moveTo>
                  <a:pt x="0" y="771"/>
                </a:moveTo>
                <a:lnTo>
                  <a:pt x="318" y="90"/>
                </a:lnTo>
                <a:lnTo>
                  <a:pt x="590" y="0"/>
                </a:lnTo>
                <a:lnTo>
                  <a:pt x="908" y="45"/>
                </a:lnTo>
                <a:lnTo>
                  <a:pt x="118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46760" y="4581360"/>
            <a:ext cx="2028960" cy="360360"/>
          </a:xfrm>
          <a:custGeom>
            <a:avLst/>
            <a:gdLst/>
            <a:ahLst/>
            <a:rect l="l" t="t" r="r" b="b"/>
            <a:pathLst>
              <a:path w="1180" h="227">
                <a:moveTo>
                  <a:pt x="0" y="227"/>
                </a:moveTo>
                <a:lnTo>
                  <a:pt x="318" y="0"/>
                </a:lnTo>
                <a:lnTo>
                  <a:pt x="590" y="0"/>
                </a:lnTo>
                <a:lnTo>
                  <a:pt x="907" y="0"/>
                </a:lnTo>
                <a:lnTo>
                  <a:pt x="118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13920" y="3141720"/>
            <a:ext cx="2155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z :Pstop+spr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6200" y="3141720"/>
            <a:ext cx="20750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V]@R=0.9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26880" y="422100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CZ 4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225000" y="4653000"/>
            <a:ext cx="5191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62640" y="43657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8928000" y="4797360"/>
            <a:ext cx="32400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8921520" y="5436720"/>
            <a:ext cx="339480" cy="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761240" y="1125360"/>
            <a:ext cx="1867680" cy="1650960"/>
            <a:chOff x="7761240" y="1125360"/>
            <a:chExt cx="1867680" cy="1650960"/>
          </a:xfrm>
        </p:grpSpPr>
        <p:grpSp>
          <p:nvGrpSpPr>
            <p:cNvPr id="273" name=""/>
            <p:cNvGrpSpPr/>
            <p:nvPr/>
          </p:nvGrpSpPr>
          <p:grpSpPr>
            <a:xfrm>
              <a:off x="7761240" y="1125360"/>
              <a:ext cx="1867680" cy="1650960"/>
              <a:chOff x="7761240" y="1125360"/>
              <a:chExt cx="1867680" cy="1650960"/>
            </a:xfrm>
          </p:grpSpPr>
          <p:sp>
            <p:nvSpPr>
              <p:cNvPr id="274" name=""/>
              <p:cNvSpPr/>
              <p:nvPr/>
            </p:nvSpPr>
            <p:spPr>
              <a:xfrm>
                <a:off x="7761240" y="1842480"/>
                <a:ext cx="1867680" cy="9338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761240" y="1842480"/>
                <a:ext cx="1867680" cy="432720"/>
              </a:xfrm>
              <a:prstGeom prst="rect">
                <a:avLst/>
              </a:prstGeom>
              <a:solidFill>
                <a:srgbClr val="46465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(p-stop)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‏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616960" y="1842480"/>
                <a:ext cx="233640" cy="144000"/>
              </a:xfrm>
              <a:custGeom>
                <a:avLst/>
                <a:gdLst>
                  <a:gd name="textAreaLeft" fmla="*/ 51120 w 233640"/>
                  <a:gd name="textAreaRight" fmla="*/ 182520 w 233640"/>
                  <a:gd name="textAreaTop" fmla="*/ 31680 h 144000"/>
                  <a:gd name="textAreaBottom" fmla="*/ 112320 h 14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61240" y="1842480"/>
                <a:ext cx="544680" cy="144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161640" y="1842480"/>
                <a:ext cx="233640" cy="144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61240" y="1772640"/>
                <a:ext cx="544680" cy="70920"/>
              </a:xfrm>
              <a:prstGeom prst="rect">
                <a:avLst/>
              </a:prstGeom>
              <a:solidFill>
                <a:srgbClr val="727ca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9161640" y="1772640"/>
                <a:ext cx="467280" cy="70920"/>
              </a:xfrm>
              <a:prstGeom prst="rect">
                <a:avLst/>
              </a:prstGeom>
              <a:solidFill>
                <a:srgbClr val="727ca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994880" y="1341000"/>
                <a:ext cx="1477800" cy="431280"/>
              </a:xfrm>
              <a:custGeom>
                <a:avLst/>
                <a:gdLst/>
                <a:ahLst/>
                <a:rect l="l" t="t" r="r" b="b"/>
                <a:pathLst>
                  <a:path w="861" h="272">
                    <a:moveTo>
                      <a:pt x="0" y="272"/>
                    </a:moveTo>
                    <a:lnTo>
                      <a:pt x="0" y="0"/>
                    </a:lnTo>
                    <a:lnTo>
                      <a:pt x="861" y="0"/>
                    </a:lnTo>
                    <a:lnTo>
                      <a:pt x="861" y="272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616960" y="1269720"/>
                <a:ext cx="1800" cy="1425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694360" y="1125360"/>
                <a:ext cx="1440" cy="3603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005400" y="1196640"/>
                <a:ext cx="312480" cy="28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8306640" y="1989000"/>
              <a:ext cx="1440" cy="43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164880" y="1989000"/>
              <a:ext cx="1800" cy="43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385840" y="2421000"/>
              <a:ext cx="70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8231760" y="2421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,12,2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8760" y="4292640"/>
            <a:ext cx="23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23680" y="1413000"/>
            <a:ext cx="10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” wi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8A2E-A42E-4AF9-81FC-25230BE546A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ネモ</dc:creator>
  <dc:description/>
  <dc:language>en-US</dc:language>
  <cp:lastModifiedBy>K Hara</cp:lastModifiedBy>
  <dcterms:modified xsi:type="dcterms:W3CDTF">2008-10-21T05:45:49Z</dcterms:modified>
  <cp:revision>18</cp:revision>
  <dc:subject/>
  <dc:title>ATLAS07 陽子線照射サンプルまとめ</dc:title>
</cp:coreProperties>
</file>