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2923-6EA4-44B2-B7DE-0F323252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6E96-D2C4-43A0-BBB9-25E3B181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4B13-ABA2-4554-885B-92E24D68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0B55-2D85-4D36-B3D6-EBB4B0EB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451C-8578-4930-B5B2-D89DED19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F25F-34C7-45D6-8B86-20204FA6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66B3-A0F4-4841-AF34-E989186B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ED0A-796E-45CE-96CF-FFB3ACC1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C362-4D38-423B-A08F-48E10A54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2493-734B-4754-8A11-6CCAED31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85AA-3184-4041-9013-444AD233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B835-5A2B-47F6-AF88-9617711F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827B-900D-4B50-849B-9C06B091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F2D0-12C0-478F-AAD8-81E03222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A3F0-BF92-42CF-B9E5-31A1D752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2625-03DD-4666-93BD-265893C1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C81A-3764-4F65-BB4B-6E9FEA8E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585E-CF98-4DF3-82E7-250061F3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1874-0CE9-4A16-92DC-9BB1C5F3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741A-E016-4486-8587-82B26847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472-5C71-4039-A610-5C5BA881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8F5-E745-4DDB-84A8-CA683CB7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DD2-13B5-480D-B64F-ED333D6B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A77B-1220-4707-99DB-197CC979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CE02-489D-40AA-94CA-2899B7592A16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FC5E-784F-4F1D-BECA-F9BFADFA6184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5905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future of the E391a experi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743200" y="3809880"/>
            <a:ext cx="3200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.Y.Li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NS,K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181480"/>
            <a:ext cx="594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S行書体"/>
                <a:ea typeface="HGS行書体"/>
              </a:rPr>
              <a:t>質量起源と超対称性物理の研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S行書体"/>
                <a:ea typeface="HGS行書体"/>
              </a:rPr>
              <a:t>筑波大、</a:t>
            </a:r>
            <a:r>
              <a:rPr b="1" lang="ja-JP" sz="1800" spc="-1" strike="noStrike">
                <a:solidFill>
                  <a:srgbClr val="000000"/>
                </a:solidFill>
                <a:latin typeface="HGS行書体"/>
                <a:ea typeface="HGS行書体"/>
              </a:rPr>
              <a:t>2003</a:t>
            </a:r>
            <a:r>
              <a:rPr b="1" lang="ja-JP" sz="1800" spc="-1" strike="noStrike">
                <a:solidFill>
                  <a:srgbClr val="000000"/>
                </a:solidFill>
                <a:latin typeface="HGS行書体"/>
                <a:ea typeface="HGS行書体"/>
              </a:rPr>
              <a:t>年</a:t>
            </a:r>
            <a:r>
              <a:rPr b="1" lang="ja-JP" sz="1800" spc="-1" strike="noStrike">
                <a:solidFill>
                  <a:srgbClr val="000000"/>
                </a:solidFill>
                <a:latin typeface="HGS行書体"/>
                <a:ea typeface="HGS行書体"/>
              </a:rPr>
              <a:t>3</a:t>
            </a:r>
            <a:r>
              <a:rPr b="1" lang="ja-JP" sz="1800" spc="-1" strike="noStrike">
                <a:solidFill>
                  <a:srgbClr val="000000"/>
                </a:solidFill>
                <a:latin typeface="HGS行書体"/>
                <a:ea typeface="HGS行書体"/>
              </a:rPr>
              <a:t>月</a:t>
            </a:r>
            <a:r>
              <a:rPr b="1" lang="ja-JP" sz="1800" spc="-1" strike="noStrike">
                <a:solidFill>
                  <a:srgbClr val="000000"/>
                </a:solidFill>
                <a:latin typeface="HGS行書体"/>
                <a:ea typeface="HGS行書体"/>
              </a:rPr>
              <a:t>4</a:t>
            </a:r>
            <a:r>
              <a:rPr b="1" lang="ja-JP" sz="1800" spc="-1" strike="noStrike">
                <a:solidFill>
                  <a:srgbClr val="000000"/>
                </a:solidFill>
                <a:latin typeface="HGS行書体"/>
                <a:ea typeface="HGS行書体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2209680"/>
            <a:ext cx="4343400" cy="17528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4114800"/>
            <a:ext cx="4384440" cy="1752480"/>
          </a:xfrm>
          <a:prstGeom prst="rect">
            <a:avLst/>
          </a:prstGeom>
          <a:solidFill>
            <a:srgbClr val="f8d4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1142640"/>
            <a:ext cx="695160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ecise measurement of Br(K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333399"/>
                </a:solidFill>
                <a:latin typeface="Wingdings 3"/>
                <a:ea typeface="Wingdings 3"/>
              </a:rPr>
              <a:t>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333399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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4191120"/>
            <a:ext cx="5334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　　　　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a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sitivity &lt;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Model events &gt; 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 5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lot2" descr=""/>
          <p:cNvPicPr/>
          <p:nvPr/>
        </p:nvPicPr>
        <p:blipFill>
          <a:blip r:embed="rId1"/>
          <a:stretch/>
        </p:blipFill>
        <p:spPr>
          <a:xfrm>
            <a:off x="5070600" y="2101680"/>
            <a:ext cx="3876480" cy="4030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465880" y="4756320"/>
            <a:ext cx="3273480" cy="792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72080" y="2798640"/>
            <a:ext cx="54000" cy="55800"/>
          </a:xfrm>
          <a:prstGeom prst="rect">
            <a:avLst/>
          </a:prstGeom>
          <a:solidFill>
            <a:srgbClr val="bb27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8120" y="3147840"/>
            <a:ext cx="52560" cy="57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13320" y="3286080"/>
            <a:ext cx="51120" cy="57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58160" y="3649680"/>
            <a:ext cx="54000" cy="55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03960" y="3747960"/>
            <a:ext cx="52560" cy="57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55040" y="4511520"/>
            <a:ext cx="50760" cy="57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42200" y="5137200"/>
            <a:ext cx="52560" cy="554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94840" y="5438880"/>
            <a:ext cx="54000" cy="554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7880" y="4406760"/>
            <a:ext cx="8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Times New Roman"/>
              </a:rPr>
              <a:t>E39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95840" y="4546440"/>
            <a:ext cx="166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f01"/>
                </a:solidFill>
                <a:latin typeface="Times New Roman"/>
              </a:rPr>
              <a:t>SM Expec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90080" y="5035680"/>
            <a:ext cx="6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OP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28000" y="5943600"/>
            <a:ext cx="91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95840" y="2590920"/>
            <a:ext cx="105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L. Littenbe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56280" y="2940120"/>
            <a:ext cx="7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7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74080" y="3498840"/>
            <a:ext cx="59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T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84960" y="3147840"/>
            <a:ext cx="72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7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367520" y="2565000"/>
            <a:ext cx="13665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R(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L</a:t>
            </a:r>
            <a:r>
              <a:rPr b="0" i="1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o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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01000" y="53341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JH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2286000"/>
            <a:ext cx="441936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irect CP violation (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 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lean measurement of Im(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ahoma"/>
              </a:rPr>
              <a:t>td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ja-JP" sz="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Kaon unitarity tri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lue for the new physic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6172200"/>
            <a:ext cx="66294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6172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actical test of the methodology by the E39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For the high sensitivity experi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362320"/>
            <a:ext cx="4190760" cy="33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99"/>
                </a:solidFill>
                <a:latin typeface="Tahoma"/>
              </a:rPr>
              <a:t>Smooth extension (E391a</a:t>
            </a:r>
            <a:r>
              <a:rPr b="0" lang="ja-JP" sz="2000" spc="-1" strike="noStrike">
                <a:solidFill>
                  <a:srgbClr val="ff3399"/>
                </a:solidFill>
                <a:latin typeface="Wingdings"/>
                <a:ea typeface="Wingdings"/>
              </a:rPr>
              <a:t></a:t>
            </a:r>
            <a:r>
              <a:rPr b="0" lang="ja-JP" sz="2000" spc="-1" strike="noStrike">
                <a:solidFill>
                  <a:srgbClr val="ff3399"/>
                </a:solidFill>
                <a:latin typeface="Tahoma"/>
              </a:rPr>
              <a:t> JHF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ja-JP" sz="1800" spc="-1" strike="noStrike">
                <a:solidFill>
                  <a:srgbClr val="3333cc"/>
                </a:solidFill>
                <a:latin typeface="Tahoma"/>
              </a:rPr>
              <a:t>High flux of K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ja-JP" sz="1800" spc="-1" strike="noStrike">
                <a:solidFill>
                  <a:srgbClr val="008080"/>
                </a:solidFill>
                <a:latin typeface="Tahoma"/>
              </a:rPr>
              <a:t>500 times larger K</a:t>
            </a:r>
            <a:r>
              <a:rPr b="0" lang="ja-JP" sz="1800" spc="-1" strike="noStrike" baseline="-25000">
                <a:solidFill>
                  <a:srgbClr val="008080"/>
                </a:solidFill>
                <a:latin typeface="Tahoma"/>
              </a:rPr>
              <a:t>L</a:t>
            </a:r>
            <a:r>
              <a:rPr b="0" lang="ja-JP" sz="1800" spc="-1" strike="noStrike">
                <a:solidFill>
                  <a:srgbClr val="008080"/>
                </a:solidFill>
                <a:latin typeface="Tahoma"/>
              </a:rPr>
              <a:t> Fl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8080"/>
                </a:solidFill>
                <a:latin typeface="Tahoma"/>
              </a:rPr>
              <a:t>      </a:t>
            </a:r>
            <a:r>
              <a:rPr b="0" lang="ja-JP" sz="1800" spc="-1" strike="noStrike">
                <a:solidFill>
                  <a:srgbClr val="008080"/>
                </a:solidFill>
                <a:latin typeface="Tahoma"/>
              </a:rPr>
              <a:t>3 orders higher sensi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ja-JP" sz="1800" spc="-1" strike="noStrike">
                <a:solidFill>
                  <a:srgbClr val="3333cc"/>
                </a:solidFill>
                <a:latin typeface="Tahoma"/>
              </a:rPr>
              <a:t>Sufficient background rej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ja-JP" sz="1800" spc="-1" strike="noStrike">
                <a:solidFill>
                  <a:srgbClr val="008080"/>
                </a:solidFill>
                <a:latin typeface="Tahoma"/>
              </a:rPr>
              <a:t> </a:t>
            </a:r>
            <a:r>
              <a:rPr b="0" lang="ja-JP" sz="1800" spc="-1" strike="noStrike">
                <a:solidFill>
                  <a:srgbClr val="008080"/>
                </a:solidFill>
                <a:latin typeface="Tahoma"/>
              </a:rPr>
              <a:t>Same principle of beamline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8080"/>
                </a:solidFill>
                <a:latin typeface="Tahoma"/>
              </a:rPr>
              <a:t>      </a:t>
            </a:r>
            <a:r>
              <a:rPr b="0" lang="ja-JP" sz="1800" spc="-1" strike="noStrike">
                <a:solidFill>
                  <a:srgbClr val="008080"/>
                </a:solidFill>
                <a:latin typeface="Tahoma"/>
              </a:rPr>
              <a:t>Minor up-grade of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8080"/>
                </a:solidFill>
                <a:latin typeface="Tahoma"/>
              </a:rPr>
              <a:t>      </a:t>
            </a:r>
            <a:r>
              <a:rPr b="0" lang="ja-JP" sz="1800" spc="-1" strike="noStrike">
                <a:solidFill>
                  <a:srgbClr val="008080"/>
                </a:solidFill>
                <a:latin typeface="Tahoma"/>
              </a:rPr>
              <a:t>Background study at the E39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other%20experiment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191120" cy="3884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343400" y="5791320"/>
            <a:ext cx="4343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25200" y="5791320"/>
            <a:ext cx="269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T.Inagaki</a:t>
            </a:r>
            <a:r>
              <a:rPr b="1" lang="zh-CN" sz="1200" spc="-1" strike="noStrike">
                <a:solidFill>
                  <a:srgbClr val="800080"/>
                </a:solidFill>
                <a:latin typeface="Times New Roman"/>
              </a:rPr>
              <a:t>　</a:t>
            </a:r>
            <a:r>
              <a:rPr b="1" lang="en-US" sz="1200" spc="-1" strike="noStrike">
                <a:solidFill>
                  <a:srgbClr val="800080"/>
                </a:solidFill>
                <a:latin typeface="Times New Roman"/>
              </a:rPr>
              <a:t>CP Violation in K  (199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181480" y="2209680"/>
            <a:ext cx="3581640" cy="10670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2133720"/>
            <a:ext cx="4724280" cy="1447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5249880" cy="5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eriment at the JHF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truction an extraction line (B-lin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centration on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roduct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fficult to become time-zero experimen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budgetary condition / other progr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jhf-ver1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3353040" cy="2378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181480" y="2362320"/>
            <a:ext cx="3657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the target station (A-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mpt starting o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K-arean-Dec-2002" descr=""/>
          <p:cNvPicPr/>
          <p:nvPr/>
        </p:nvPicPr>
        <p:blipFill>
          <a:blip r:embed="rId2"/>
          <a:stretch/>
        </p:blipFill>
        <p:spPr>
          <a:xfrm>
            <a:off x="5334120" y="3581280"/>
            <a:ext cx="325728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ompt starting op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rit and Demer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Tahoma"/>
              </a:rPr>
              <a:t>We can share the bea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Tahoma"/>
              </a:rPr>
              <a:t>Prompt access the SM expec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Tahoma"/>
              </a:rPr>
              <a:t>Clearer understanding the B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Tahoma"/>
              </a:rPr>
              <a:t>Make sure for precise measur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Large ang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smaller K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fl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d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Proton energy : 30 Ge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Proton intensity : 2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・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Production angle : 16</a:t>
            </a:r>
            <a:r>
              <a:rPr b="0" lang="ja-JP" sz="18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5715000" y="23623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2286000"/>
            <a:ext cx="3962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gh Est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oton intensity : 1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oduction yield : 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eam acceptance :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eam line optimization : 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onger data taking :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petition time : 1.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5105520"/>
            <a:ext cx="3276720" cy="3808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 SM events for 3 Y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5181480"/>
            <a:ext cx="655308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ooth extension to the JH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p-by-step approach to t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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itional two stages of experi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ally we will measure the Br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with accuracy less than 1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ibute the CPV stu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for new physics eff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I for the JHF locates a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psux1.kek.jp/~e391/documents/paper/loi-jhf.pd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2T04:31:08Z</dcterms:created>
  <dc:creator>G.Y.Lim</dc:creator>
  <dc:description/>
  <dc:language>en-US</dc:language>
  <cp:lastModifiedBy>GeiYoub</cp:lastModifiedBy>
  <dcterms:modified xsi:type="dcterms:W3CDTF">2003-03-04T02:55:46Z</dcterms:modified>
  <cp:revision>9</cp:revision>
  <dc:subject/>
  <dc:title>Measurement of Br(KLgp0nn)  at 50 GeV PS in the Joint Proj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13587911</vt:r8>
  </property>
  <property fmtid="{D5CDD505-2E9C-101B-9397-08002B2CF9AE}" pid="3" name="_AuthorEmail">
    <vt:lpwstr>gylim@post.kek.jp</vt:lpwstr>
  </property>
  <property fmtid="{D5CDD505-2E9C-101B-9397-08002B2CF9AE}" pid="4" name="_AuthorEmailDisplayName">
    <vt:lpwstr>GeiYoub, LIM</vt:lpwstr>
  </property>
  <property fmtid="{D5CDD505-2E9C-101B-9397-08002B2CF9AE}" pid="5" name="_EmailSubject">
    <vt:lpwstr>Transparencies</vt:lpwstr>
  </property>
</Properties>
</file>