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4825" cy="9942513"/>
</p:presentation>
</file>

<file path=ppt/commentAuthors.xml><?xml version="1.0" encoding="utf-8"?>
<p:cmAuthorLst xmlns:p="http://schemas.openxmlformats.org/presentationml/2006/main">
  <p:cmAuthor id="0" name="Kinoshita" initials="K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<Relationship Id="rId29" Type="http://schemas.openxmlformats.org/officeDocument/2006/relationships/commentAuthors" Target="commentAuthors.xml"/>
</Relationships>
</file>

<file path=ppt/comments/comment6.xml><?xml version="1.0" encoding="utf-8"?>
<p:cmLst xmlns:p="http://schemas.openxmlformats.org/presentationml/2006/main">
  <p:cm authorId="0" dt="2003-01-24T18:03:02.452000000" idx="1">
    <p:pos x="4157" y="201"/>
    <p:text>・順方向電圧降下が小さい
(PN接合で0.6～0.8V,ショットキーバリアで0.4V程度)
・接合容量がないため逆回復時間が大変短い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44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41040" y="746280"/>
            <a:ext cx="497196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440" y="4722480"/>
            <a:ext cx="54831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9445680"/>
            <a:ext cx="2970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2600" y="9445680"/>
            <a:ext cx="2970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51C7-2712-4388-91A3-ABC39B26E7C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440" y="4722480"/>
            <a:ext cx="54831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タイト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440" y="4722480"/>
            <a:ext cx="54831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チャージセンシティブプリアンプ：ホウシン電子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N012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シェイパーアンプ：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G&amp;G ORTEC 6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440" y="4722480"/>
            <a:ext cx="54831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ias Source:KEITHLEY 2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DualTracking Power Supply: KIKUSUI PDM 35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440" y="4722480"/>
            <a:ext cx="54831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半導体検出器概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高分解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半導体検出器　数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V Ge:2.96, Si:3.62, SiC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気体検出器　数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10eV He 42.3, Ne 36.6, O2,3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検出効率が高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半導体検出器　密度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i:2.34, SiC:3.2 g/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気体検出器　密度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:0.1785 , Ne 0.9002:, O2:1.42904  g/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時間分解能が良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電子移動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半導体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i:1500, Si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数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100 cm2/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気体　数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m2/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絶縁破壊電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半導体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i:0.3, SiC:3 MeV/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気体　数十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V/c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1A00-FB2C-4D44-88E1-C1AD0D1B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FDF8-DCBD-4C0C-9C7B-49A6BBEC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1B34-B1FF-43A5-BE26-1198EFD4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C12C-C2CE-49A5-A581-DBAD2530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1563-50CB-4A4A-BB3D-94D5F46B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D62E-E02A-40B7-BEAB-FDEFB80F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DE0B-E92F-42AC-9325-846469F2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4E8E-BC06-428B-B58A-AD78C34B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2BC9-F553-412B-90C5-9C750B61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0300-CFAC-458B-BAAC-24C7D8BB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23E6-7981-4E0E-9F20-C76A5B1D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6292-37D5-4E62-8135-DCE1BD3C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0B2B-48EE-422F-A9D6-2B46E2D4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7DBA-D97E-4B32-95FA-2D13A844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A1E0-04D8-4140-A568-D284F309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8C76-E421-4968-A20F-5617058F0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B25D-0953-4DBF-9D12-6D710216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71CB-0476-4541-B9F4-8DF9D9B0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5745-1BFF-431F-8079-A05AD0D9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8D01-05C0-4A8C-8145-8C4ED0A0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8FEC-B42D-4818-8800-D6B2CA3F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8F44-AB00-4294-8B81-37FC9AB9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1EE3-B810-4863-9069-E21DE808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C2AD-0E90-4796-8441-29C3207E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096C-A0D6-49AE-9D70-4450C116DE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CD8B-E82D-4711-AB0F-1A4A268F9F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9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iC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半導体による放射線検出器の開発・研究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木下明将、栗田峰生、乘松健治、中野逸夫、田中礼三郎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岩見基弘、大井暁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大島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神谷富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福島靖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岡山大学、原研高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K**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測定（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岡山大学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静特性（半導体検出器＝ダイオード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-V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特性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整流性評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-V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特性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空乏層評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信号検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D(UV:3.3e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-V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測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0576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整流性の評価　→　ダイオー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試料：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iC①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，②，③，④，浜松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PIN-Si S1723, S307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V: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093080" y="3789360"/>
            <a:ext cx="1457280" cy="25988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50920" y="3130560"/>
            <a:ext cx="662616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-V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測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0576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キャパシタンスの電圧依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試料：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iC①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，②，③，④，浜松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PIN-Si S1723, S307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V: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00 (C∝1/V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ahoma"/>
              </a:rPr>
              <a:t>1/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093080" y="3789360"/>
            <a:ext cx="1457280" cy="2598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258920" y="3181320"/>
            <a:ext cx="540072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測定方法（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α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線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7672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線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Am241-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5.48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Me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動作確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453708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セットアップ（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α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線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042920" y="2843280"/>
            <a:ext cx="8101080" cy="3510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912960" cy="7905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863640" y="40291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α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線測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612612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プリアンプの出力信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試料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℃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40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:100m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:25μ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00000" y="4125960"/>
            <a:ext cx="3646440" cy="27320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003640" y="4127400"/>
            <a:ext cx="368316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測定方法（ＬＥＤ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78764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紫外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ＬＥ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波長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375 n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エネルギー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3.31 e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印加電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0 ~ 145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信号強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40320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セットアップ（紫外線：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3eV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182600" y="2205000"/>
            <a:ext cx="7961400" cy="4438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79280" y="4149720"/>
            <a:ext cx="912960" cy="790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042920" y="43894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V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測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シェイパーアンプ（上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プリアンプ（下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試料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室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:100m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:50μ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140360" y="3068640"/>
            <a:ext cx="482436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バイアスと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C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分布（試料②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8609040" cy="34988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991640" y="630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ADC[ch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78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84720" y="4076640"/>
            <a:ext cx="6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43700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012000" y="4437000"/>
            <a:ext cx="288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932000" y="4437000"/>
            <a:ext cx="115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半導体検出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高分解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１対の電子正孔を作るエネルギーが小さ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検出効率が高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密度が大き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時間分解能が良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キャリア移動度が大き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高電界に耐えられ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i ▼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放射線・高温・高電圧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結果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860436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静特性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④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-V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漏洩電流） 大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 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 大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 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-V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空乏層）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 ▲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 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 ▲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 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信号検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 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 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 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 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紫外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 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 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 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 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066680" y="5410080"/>
            <a:ext cx="1238400" cy="1160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971800" y="5410080"/>
            <a:ext cx="1114560" cy="11383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724280" y="5410080"/>
            <a:ext cx="1319400" cy="1143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6629400" y="5410080"/>
            <a:ext cx="129528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今年度のまと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ダイオードとしての動作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○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整流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○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可変容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定量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検出器としての能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線検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○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紫外線検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定量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×MIP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は見れな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来年度の予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国際学会発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SiC &amp; Related Materia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ICDS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International conference on defects in semiconductors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材料国際会議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MRS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のミーティン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NSRE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Nuclear &amp; Space Radiation Effects Conference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；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IEE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・・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論文投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Nuclear Instruments and Method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Journal of Surface Scien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Journal of Crystal Growt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pplied Physics Let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J. Applied  Physic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pplied Physics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Electron Devices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IEEE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・・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今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品質の向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漏洩電流の減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理想的な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-V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特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温度変化による安定動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定量分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線検出による信号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D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光検出による信号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iC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v.s. Si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禁制帯幅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bandgap)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i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２～３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絶縁破壊電界が一桁大き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飽和電子速度が２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熱伝導率３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動作温度の上限が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500-600℃(Si:150℃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くらい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耐放射線性も高い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各種半導体の特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24000" y="2276640"/>
          <a:ext cx="8582040" cy="3673440"/>
        </p:xfrm>
        <a:graphic>
          <a:graphicData uri="http://schemas.openxmlformats.org/drawingml/2006/table">
            <a:tbl>
              <a:tblPr/>
              <a:tblGrid>
                <a:gridCol w="2917800"/>
                <a:gridCol w="811080"/>
                <a:gridCol w="808200"/>
                <a:gridCol w="809640"/>
                <a:gridCol w="809280"/>
                <a:gridCol w="808200"/>
                <a:gridCol w="809640"/>
                <a:gridCol w="808200"/>
              </a:tblGrid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項　目　／　材　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C-S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H-S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H-S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amo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バンドギャップ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電子移動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㎝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/V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絶縁破壊電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V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㎝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電子飽和速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×10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㎝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/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熱伝導率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W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㎝･℃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比誘電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0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0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ohnson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指数（高速・大電力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ey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指数（高速・高集積素子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熱伝導率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×Johnson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指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3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3579480" y="6091560"/>
            <a:ext cx="365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Johnso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指数　＝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絶縁破壊電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電子飽和速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指数　＝　熱伝導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×(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電子飽和速度／誘電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84720" y="2846520"/>
            <a:ext cx="4859280" cy="40114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Polytype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（結晶多系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16000" y="4724280"/>
            <a:ext cx="2535120" cy="1400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95280" y="1989000"/>
            <a:ext cx="822960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２００種類以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nH-SiC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exagonal: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六方晶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nR-SiC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rhombohedral: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菱面体晶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3C-SiC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ubic: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立方晶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半導体検出器の種類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n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接合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高耐圧品が作れ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一般的に検出器で使われ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ショットキー接合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順方向電圧降下が小さ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接合容量がないため逆回復時間が大変短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試料（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iC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検出器）　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made i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原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16360" y="20606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(epi)/p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substra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RE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社より購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6H-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オン注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イオ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×10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ahoma"/>
              </a:rPr>
              <a:t>19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3.3×10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ahoma"/>
              </a:rPr>
              <a:t>18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)[/cm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サ構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電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Al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（オーミック接合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3573360"/>
            <a:ext cx="2735280" cy="792360"/>
          </a:xfrm>
          <a:prstGeom prst="rect">
            <a:avLst/>
          </a:prstGeom>
          <a:solidFill>
            <a:srgbClr val="6d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4365720"/>
            <a:ext cx="2735280" cy="1368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76360" y="3573360"/>
            <a:ext cx="2303640" cy="287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249200" y="3559320"/>
            <a:ext cx="2755440" cy="436320"/>
            <a:chOff x="1249200" y="3559320"/>
            <a:chExt cx="2755440" cy="436320"/>
          </a:xfrm>
        </p:grpSpPr>
        <p:grpSp>
          <p:nvGrpSpPr>
            <p:cNvPr id="127" name=""/>
            <p:cNvGrpSpPr/>
            <p:nvPr/>
          </p:nvGrpSpPr>
          <p:grpSpPr>
            <a:xfrm>
              <a:off x="1249200" y="3559320"/>
              <a:ext cx="509400" cy="436320"/>
              <a:chOff x="1249200" y="3559320"/>
              <a:chExt cx="509400" cy="436320"/>
            </a:xfrm>
          </p:grpSpPr>
          <p:sp>
            <p:nvSpPr>
              <p:cNvPr id="128" name=""/>
              <p:cNvSpPr/>
              <p:nvPr/>
            </p:nvSpPr>
            <p:spPr>
              <a:xfrm flipH="1">
                <a:off x="1471320" y="3563640"/>
                <a:ext cx="28728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1253880" y="3995640"/>
                <a:ext cx="21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249200" y="3559320"/>
                <a:ext cx="504720" cy="431640"/>
              </a:xfrm>
              <a:custGeom>
                <a:avLst/>
                <a:gdLst/>
                <a:ahLst/>
                <a:rect l="l" t="t" r="r" b="b"/>
                <a:pathLst>
                  <a:path w="318" h="272">
                    <a:moveTo>
                      <a:pt x="318" y="0"/>
                    </a:moveTo>
                    <a:lnTo>
                      <a:pt x="137" y="272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3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497400" y="3559320"/>
              <a:ext cx="507240" cy="436320"/>
              <a:chOff x="3497400" y="3559320"/>
              <a:chExt cx="507240" cy="436320"/>
            </a:xfrm>
          </p:grpSpPr>
          <p:sp>
            <p:nvSpPr>
              <p:cNvPr id="132" name=""/>
              <p:cNvSpPr/>
              <p:nvPr/>
            </p:nvSpPr>
            <p:spPr>
              <a:xfrm>
                <a:off x="3497400" y="3563640"/>
                <a:ext cx="28728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784680" y="3995640"/>
                <a:ext cx="21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3501360" y="3559320"/>
                <a:ext cx="502920" cy="431640"/>
              </a:xfrm>
              <a:custGeom>
                <a:avLst/>
                <a:gdLst/>
                <a:ahLst/>
                <a:rect l="l" t="t" r="r" b="b"/>
                <a:pathLst>
                  <a:path w="318" h="272">
                    <a:moveTo>
                      <a:pt x="318" y="0"/>
                    </a:moveTo>
                    <a:lnTo>
                      <a:pt x="137" y="272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3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1835280" y="3429000"/>
            <a:ext cx="158436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dddddd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32000" y="5734080"/>
            <a:ext cx="2592360" cy="1429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dddddd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50920" y="386064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50920" y="436572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50920" y="57340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50920" y="357336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680" y="35481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0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9000" y="39258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5 μ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8000" y="486252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368±75 μ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試料写真　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ade in </a:t>
            </a: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原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716360" y="20606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(epi)/p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substra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RE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社より購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6H-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オン注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イオ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×10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ahoma"/>
              </a:rPr>
              <a:t>19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3.3×10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ahoma"/>
              </a:rPr>
              <a:t>18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)[/cm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サ構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電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Al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（オーミック接合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42483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評価試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試料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ｐｎ接合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試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試料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試作①の改良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漏洩電流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試料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試料②の追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試料④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検出面の工夫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表面電極による吸収を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04:18:49Z</dcterms:created>
  <dc:creator>Kinoshita</dc:creator>
  <dc:description/>
  <dc:language>en-US</dc:language>
  <cp:lastModifiedBy>Kinoshita</cp:lastModifiedBy>
  <dcterms:modified xsi:type="dcterms:W3CDTF">2003-03-11T02:52:11Z</dcterms:modified>
  <cp:revision>49</cp:revision>
  <dc:subject/>
  <dc:title>SiC検出器</dc:title>
</cp:coreProperties>
</file>