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EBC-5D91-4A55-9B33-3D9197FF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E8C-6F80-4E11-8689-5806B153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B23-E432-4443-A455-4D572F49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276-23BC-4B30-9386-83ED6A4E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0AF-B567-4040-AD25-5A30D60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A62-169F-4B74-A102-927118D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072-CCA0-4DA5-ABAF-8042424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D62-981F-4A84-BC32-7EE9FEF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5C5-9FD2-42E4-9114-E949AE4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615-B4D6-42AD-ACE5-00FE480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217-92D9-4F25-973D-B1F54FA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644-54C1-46B3-A7AC-9032FB8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B592-3864-400F-976F-0A2A8AF27A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ep.phys.s.u-tokyo.ac.jp/publish/tokutei/index.html" TargetMode="External"/><Relationship Id="rId2" Type="http://schemas.openxmlformats.org/officeDocument/2006/relationships/hyperlink" Target="http://hep.phys.s.u-tokyo.ac.jp/publish/tokutei/index.html" TargetMode="External"/><Relationship Id="rId3" Type="http://schemas.openxmlformats.org/officeDocument/2006/relationships/hyperlink" Target="http://www.hepl.phys.nara-wu.ac.jp/%7Ehayashii/tokutei/h14results-a03.html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特定領域研究</a:t>
            </a:r>
            <a:br>
              <a:rPr sz="3600"/>
            </a:br>
            <a:r>
              <a:rPr b="0" lang="ja-JP" sz="36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「質量起源と超対称性物理の研究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8702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c0c0"/>
                </a:solidFill>
                <a:latin typeface="ＭＳ ゴシック"/>
                <a:ea typeface="ＭＳ ゴシック"/>
              </a:rPr>
              <a:t>　　　　　　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第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回研究会　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003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年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月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4-5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日　筑波大学大学会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研究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「物質に質量があるのはなぜ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物質の質量を決めている物理法則は何か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c0c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〇ヒッグス粒子の直接探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CDF</a:t>
            </a: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実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〇標準理論からのずれ</a:t>
            </a: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(</a:t>
            </a: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新しい物理の手がか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　　　ファクトリー加速器を用いた精密実験</a:t>
            </a:r>
            <a:br>
              <a:rPr sz="2400"/>
            </a:b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　　　　（トップ･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B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･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τ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･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K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ファクトリー）</a:t>
            </a:r>
            <a:br>
              <a:rPr sz="2400"/>
            </a:b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〇</a:t>
            </a:r>
            <a:r>
              <a:rPr b="1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次世代の加速器実験の提案と開発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　　　　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JHF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加速器， 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LHC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実験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, JLC</a:t>
            </a:r>
            <a:r>
              <a:rPr b="0" lang="ja-JP" sz="24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実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理論と実験の密接な共同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63800" y="22860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003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年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月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4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日　金　信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計画研究・公募研究（平成</a:t>
            </a:r>
            <a:r>
              <a:rPr b="0" lang="ja-JP" sz="32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14</a:t>
            </a:r>
            <a:r>
              <a:rPr b="0" lang="ja-JP" sz="32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年度発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2120"/>
            <a:ext cx="853452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ttp://www.tsukuba.jp.hep.net/~skim/tokutei/h14kenkyuu-tokute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平成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年度 研究一覧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計画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計画研究名　　　研究項目番号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代表研究者（所属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高エネルギー陽子・反陽子衝突によるヒッグス粒子の探索</a:t>
            </a: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CDF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実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金 信弘（筑波大学物理学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"/>
              </a:rPr>
              <a:t>B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2"/>
              </a:rPr>
              <a:t>ファクトリーを用いた質量起源の探求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2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ELLE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実験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相原博昭（東京大学大学院理学系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3"/>
              </a:rPr>
              <a:t>タウレプトンの物理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3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　　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ELLE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実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大島隆義（名古屋大学大学院理学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クトリーを用いた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</a:t>
            </a:r>
            <a:r>
              <a:rPr b="1" lang="ja-JP" sz="1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0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→π</a:t>
            </a:r>
            <a:r>
              <a:rPr b="1" lang="ja-JP" sz="1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0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νν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崩壊の測定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4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K Decay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KEK-E391a, J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山中 卓（大阪大学大学院理学系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荷電および中性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間子の稀崩壊の精密測定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5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K Decay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NL-E949, K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杉本章二郎（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EK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素粒子原子核研究所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ヒッグスセクターと超対称理論ダイナミックスの現象論的研究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6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理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日笠健一（東北大学大学院理学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公募研究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次世代の加速器実験の提案と開発研究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JHF,LHC,JLC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（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公募研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総括班（平成</a:t>
            </a:r>
            <a:r>
              <a:rPr b="0" lang="ja-JP" sz="32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13</a:t>
            </a:r>
            <a:r>
              <a:rPr b="0" lang="ja-JP" sz="32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年度発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2320" y="1066680"/>
            <a:ext cx="58802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総括班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X0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質量起源と超対称性物理の研究計画調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班長　金 信弘　　　筑波大学物理学系　　　　　　　教授　　　素粒子実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相原 博昭　　東京大学大学院理学系研究科　　助教授　　素粒子実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大島 隆義　　名古屋大学大学院理学研究科　　教授　　　素粒子実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山口 晃　　　東北大学大学院理学研究科　　　教授　　　素粒子実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杉本 章二郎　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EK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素粒子原子核研究所 　　　　教授　　　素粒子実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稲垣 隆雄　　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EK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素粒子原子核研究所 　　　　教授　　　素粒子実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山中 卓　　　大阪大学大学院理学研究科　　　助教授　　素粒子実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野村 正　　　京都大学大学院理学研究科　　　助手　　　素粒子実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日笠 健一　　東北大学大学院理学研究科　　　教授　　　素粒子理論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三田 一郎　　名古屋大学大学院理学研究科　　教授　　　素粒子理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以上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総括班は４年間におよぶ本領域研究の実施期間中に各研究の調整をとり、 とく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研究について指揮をとると同時に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理論と実験の密接な交流</a:t>
            </a: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をはかる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研究会</a:t>
            </a: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等のミーティングを実施し報告書を適宜編集しコミュニケーションと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情報の開示を統括する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4:36:00Z</dcterms:created>
  <dc:creator>skim</dc:creator>
  <dc:description/>
  <dc:language>en-US</dc:language>
  <cp:lastModifiedBy>skim</cp:lastModifiedBy>
  <dcterms:modified xsi:type="dcterms:W3CDTF">2003-02-28T06:28:31Z</dcterms:modified>
  <cp:revision>6</cp:revision>
  <dc:subject/>
  <dc:title>特定領域研究 「質量起源と超対称性物理の研究」</dc:title>
</cp:coreProperties>
</file>