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32588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50A8B-C470-4D81-A68D-3E8C40B92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792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280" y="1523880"/>
            <a:ext cx="51055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2280" y="3912120"/>
            <a:ext cx="51055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837AF-61DA-46EE-9FB3-9950530FA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792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52280" y="1523880"/>
            <a:ext cx="2491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768400" y="1523880"/>
            <a:ext cx="2491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52280" y="3912120"/>
            <a:ext cx="2491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2768400" y="3912120"/>
            <a:ext cx="2491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B4D70-BD78-4697-843D-A667AACBF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792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2280" y="1523880"/>
            <a:ext cx="16437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1878480" y="1523880"/>
            <a:ext cx="16437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3605040" y="1523880"/>
            <a:ext cx="16437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52280" y="3912120"/>
            <a:ext cx="16437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1878480" y="3912120"/>
            <a:ext cx="16437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3605040" y="3912120"/>
            <a:ext cx="16437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F88D9-DE9C-4F42-9B2C-74E35C482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C1867-6DFD-47DB-8387-CF80C5D8D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792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52280" y="1523880"/>
            <a:ext cx="51055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D7047-C3A0-4D27-99FB-40A86CFCD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792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2280" y="1523880"/>
            <a:ext cx="51055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0B1D0-5700-447A-A598-D954E44F3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792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52280" y="1523880"/>
            <a:ext cx="2491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2768400" y="1523880"/>
            <a:ext cx="2491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B7AF1-8DC2-448D-8177-58AFB3220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792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0CF80-2511-4DEB-9532-25A1B8033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533160" y="0"/>
            <a:ext cx="77929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FCCF2-AA24-4E29-8955-97B32AB51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792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2280" y="1523880"/>
            <a:ext cx="2491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768400" y="1523880"/>
            <a:ext cx="2491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2280" y="3912120"/>
            <a:ext cx="2491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DBA44-9713-401D-9B3A-02FB33F4D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792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52280" y="1523880"/>
            <a:ext cx="51055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F3071-C818-4C6B-B8ED-99ACF06B2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792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280" y="1523880"/>
            <a:ext cx="2491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768400" y="1523880"/>
            <a:ext cx="2491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768400" y="3912120"/>
            <a:ext cx="2491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96709-FB69-4684-BF9F-2F6003117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792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280" y="1523880"/>
            <a:ext cx="2491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768400" y="1523880"/>
            <a:ext cx="2491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52280" y="3912120"/>
            <a:ext cx="51055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AAD77-390C-48F9-A1FD-15DB6AF27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792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280" y="1523880"/>
            <a:ext cx="51055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52280" y="3912120"/>
            <a:ext cx="51055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3B792-BAC3-4042-8CFA-018F0C744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792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52280" y="1523880"/>
            <a:ext cx="2491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8400" y="1523880"/>
            <a:ext cx="2491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52280" y="3912120"/>
            <a:ext cx="2491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2768400" y="3912120"/>
            <a:ext cx="2491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678CD-C027-404A-88AE-86369452C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792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52280" y="1523880"/>
            <a:ext cx="16437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1878480" y="1523880"/>
            <a:ext cx="16437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605040" y="1523880"/>
            <a:ext cx="16437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52280" y="3912120"/>
            <a:ext cx="16437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1878480" y="3912120"/>
            <a:ext cx="16437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3605040" y="3912120"/>
            <a:ext cx="16437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9A5E8-01BD-4913-84AD-3CFA9E322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792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52280" y="1523880"/>
            <a:ext cx="51055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67FB3-53E1-4497-AC6D-A10BF3345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792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52280" y="1523880"/>
            <a:ext cx="2491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2768400" y="1523880"/>
            <a:ext cx="2491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6CF8C-6287-4404-B218-EC106EDA0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792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B15F5-96BF-4577-A422-0082C2044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533160" y="0"/>
            <a:ext cx="77929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22F47-2B2F-45BD-8A91-1947261A8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792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52280" y="1523880"/>
            <a:ext cx="2491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2768400" y="1523880"/>
            <a:ext cx="2491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52280" y="3912120"/>
            <a:ext cx="2491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AD2B5-4175-4A44-B328-72993B4FD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792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2280" y="1523880"/>
            <a:ext cx="2491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2768400" y="1523880"/>
            <a:ext cx="2491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768400" y="3912120"/>
            <a:ext cx="2491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7E564-C940-4354-927D-55A6DB8C1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792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2280" y="1523880"/>
            <a:ext cx="2491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768400" y="1523880"/>
            <a:ext cx="2491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52280" y="3912120"/>
            <a:ext cx="51055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52E81-BFC9-4FB0-A532-98EB5E0D8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04920" y="99072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792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52280" y="1523880"/>
            <a:ext cx="51055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ＭＳ Ｐゴシック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ＭＳ Ｐゴシック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  <a:p>
            <a:pPr lvl="2" marL="1085760" indent="-217080">
              <a:spcBef>
                <a:spcPts val="700"/>
              </a:spcBef>
              <a:buClr>
                <a:srgbClr val="000000"/>
              </a:buClr>
              <a:buSzPct val="60000"/>
              <a:buFont typeface="HGｺﾞｼｯｸM"/>
              <a:buChar char="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ＭＳ Ｐゴシック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  <a:p>
            <a:pPr lvl="3" marL="1519920" indent="-217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ＭＳ Ｐゴシック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  <a:p>
            <a:pPr lvl="4" marL="1954440" indent="-217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ＭＳ Ｐゴシック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  <a:p>
            <a:pPr lvl="5" marL="1954440" indent="-217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ＭＳ Ｐゴシック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  <a:p>
            <a:pPr lvl="6" marL="1954440" indent="-217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ＭＳ Ｐゴシック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6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5640" y="6324480"/>
            <a:ext cx="4724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848360" y="6324480"/>
            <a:ext cx="1143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2A9D7-4CC0-479D-AB88-F225E9BE3564}" type="slidenum">
              <a:rPr b="0" lang="ja-JP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" name=""/>
          <p:cNvGraphicFramePr/>
          <p:nvPr/>
        </p:nvGraphicFramePr>
        <p:xfrm>
          <a:off x="8496360" y="0"/>
          <a:ext cx="647640" cy="407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96360" y="0"/>
                    <a:ext cx="64764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 flipV="1">
            <a:off x="450720" y="2665800"/>
            <a:ext cx="8693280" cy="55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9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152280" y="6248520"/>
            <a:ext cx="1447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2057400" y="6248520"/>
            <a:ext cx="4648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11DB9-BF32-420F-A0FA-FC8FCAD45C56}" type="slidenum">
              <a:rPr b="0" lang="ja-JP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ＭＳ Ｐゴシック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SzPct val="60000"/>
              <a:buFont typeface="HGｺﾞｼｯｸM"/>
              <a:buChar char="―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0.png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6160" y="1523520"/>
            <a:ext cx="464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KOPIO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実験の開発と現状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819160" y="29714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京都大学 高エネルギー研究室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森井　秀樹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88" name=""/>
          <p:cNvSpPr/>
          <p:nvPr/>
        </p:nvSpPr>
        <p:spPr>
          <a:xfrm>
            <a:off x="3946680" y="39830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572000" y="4648320"/>
            <a:ext cx="434340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KOPIO</a:t>
            </a: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実験とは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日本グループによる </a:t>
            </a: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R&amp;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KOPIO</a:t>
            </a: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実験の展望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997080" y="4267080"/>
            <a:ext cx="125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Cont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科研費特定領域研究会「質量起源と超対称性物理の研究」@エポカルつくば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03FE9-1A11-48F5-859D-1F1E27B5A079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4/03/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am Catcher Prototyp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"/>
          <p:cNvSpPr/>
          <p:nvPr/>
        </p:nvSpPr>
        <p:spPr>
          <a:xfrm>
            <a:off x="3139920" y="0"/>
            <a:ext cx="257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ＭＳ Ｐゴシック"/>
              </a:rPr>
              <a:t>Beam Catcher R&amp;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52280" y="1371600"/>
            <a:ext cx="5943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第２次プロトタイプを製作</a:t>
            </a:r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Cherenkov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発光量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ハドロン反応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　　→これらがシミュレーションの予測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        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と一致するか？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Beam Test</a:t>
            </a:r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KEK PS T1 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ビームラインでテスト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4495680" y="1295280"/>
            <a:ext cx="4648320" cy="4496040"/>
            <a:chOff x="4495680" y="1295280"/>
            <a:chExt cx="4648320" cy="4496040"/>
          </a:xfrm>
        </p:grpSpPr>
        <p:graphicFrame>
          <p:nvGraphicFramePr>
            <p:cNvPr id="169" name=""/>
            <p:cNvGraphicFramePr/>
            <p:nvPr/>
          </p:nvGraphicFramePr>
          <p:xfrm>
            <a:off x="4495680" y="1295280"/>
            <a:ext cx="4648320" cy="44960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7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495680" y="1295280"/>
                      <a:ext cx="4648320" cy="4496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71" name=""/>
            <p:cNvSpPr/>
            <p:nvPr/>
          </p:nvSpPr>
          <p:spPr>
            <a:xfrm>
              <a:off x="5156280" y="4402080"/>
              <a:ext cx="820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000000"/>
                  </a:solidFill>
                  <a:latin typeface="Tahoma"/>
                </a:rPr>
                <a:t>2mm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5751000" y="5791320"/>
            <a:ext cx="140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11mmt×5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科研費特定領域研究会「質量起源と超対称性物理の研究」@エポカルつくば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9C088-DCDD-4B8B-84DA-CD1D5A2B0596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4/03/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Prototype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による性能評価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1 :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発光量の評価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5562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Cherenkov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発光量測定</a:t>
            </a:r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γ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線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(or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電子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)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の代わりに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π</a:t>
            </a:r>
            <a:r>
              <a:rPr b="0" lang="ja-JP" sz="2000" spc="-1" strike="noStrike" baseline="30000">
                <a:solidFill>
                  <a:srgbClr val="000000"/>
                </a:solidFill>
                <a:latin typeface="ＭＳ Ｐゴシック"/>
              </a:rPr>
              <a:t>+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を使用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測定結果</a:t>
            </a:r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シミュレーションによる予測の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0.89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倍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β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依存性はよく一致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75" name=""/>
          <p:cNvSpPr/>
          <p:nvPr/>
        </p:nvSpPr>
        <p:spPr>
          <a:xfrm>
            <a:off x="3139920" y="0"/>
            <a:ext cx="257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ＭＳ Ｐゴシック"/>
              </a:rPr>
              <a:t>Beam Catcher R&amp;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4876920" y="2819520"/>
            <a:ext cx="3918240" cy="3277800"/>
            <a:chOff x="4876920" y="2819520"/>
            <a:chExt cx="3918240" cy="3277800"/>
          </a:xfrm>
        </p:grpSpPr>
        <p:graphicFrame>
          <p:nvGraphicFramePr>
            <p:cNvPr id="177" name=""/>
            <p:cNvGraphicFramePr/>
            <p:nvPr/>
          </p:nvGraphicFramePr>
          <p:xfrm>
            <a:off x="4876920" y="2891520"/>
            <a:ext cx="3918240" cy="32058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7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876920" y="2891520"/>
                      <a:ext cx="3918240" cy="3205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79" name=""/>
            <p:cNvSpPr/>
            <p:nvPr/>
          </p:nvSpPr>
          <p:spPr>
            <a:xfrm>
              <a:off x="5695200" y="2819520"/>
              <a:ext cx="884520" cy="3070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400" spc="-1" strike="noStrike">
                  <a:solidFill>
                    <a:srgbClr val="000000"/>
                  </a:solidFill>
                  <a:latin typeface="Tahoma"/>
                </a:rPr>
                <a:t>1/β</a:t>
              </a:r>
              <a:r>
                <a:rPr b="0" lang="ja-JP" sz="1400" spc="-1" strike="noStrike" baseline="30000">
                  <a:solidFill>
                    <a:srgbClr val="000000"/>
                  </a:solidFill>
                  <a:latin typeface="Tahoma"/>
                </a:rPr>
                <a:t>2</a:t>
              </a:r>
              <a:r>
                <a:rPr b="0" lang="ja-JP" sz="1400" spc="-1" strike="noStrike">
                  <a:solidFill>
                    <a:srgbClr val="000000"/>
                  </a:solidFill>
                  <a:latin typeface="Tahoma"/>
                </a:rPr>
                <a:t>依存性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033320" y="3756240"/>
              <a:ext cx="1685880" cy="3070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400" spc="-1" strike="noStrike">
                  <a:solidFill>
                    <a:srgbClr val="000000"/>
                  </a:solidFill>
                  <a:latin typeface="Tahoma"/>
                </a:rPr>
                <a:t>シミュレーションの</a:t>
              </a:r>
              <a:r>
                <a:rPr b="0" lang="ja-JP" sz="1400" spc="-1" strike="noStrike">
                  <a:solidFill>
                    <a:srgbClr val="000000"/>
                  </a:solidFill>
                  <a:latin typeface="Tahoma"/>
                </a:rPr>
                <a:t>0.89</a:t>
              </a:r>
              <a:r>
                <a:rPr b="0" lang="ja-JP" sz="1400" spc="-1" strike="noStrike">
                  <a:solidFill>
                    <a:srgbClr val="000000"/>
                  </a:solidFill>
                  <a:latin typeface="Tahoma"/>
                </a:rPr>
                <a:t>倍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62480" y="4692600"/>
              <a:ext cx="358920" cy="3070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400" spc="-1" strike="noStrike">
                  <a:solidFill>
                    <a:srgbClr val="000000"/>
                  </a:solidFill>
                  <a:latin typeface="Tahoma"/>
                </a:rPr>
                <a:t>屈折率は一致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2" name=""/>
          <p:cNvSpPr/>
          <p:nvPr/>
        </p:nvSpPr>
        <p:spPr>
          <a:xfrm>
            <a:off x="762120" y="3276720"/>
            <a:ext cx="304560" cy="1752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62120" y="5562720"/>
            <a:ext cx="304560" cy="53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科研費特定領域研究会「質量起源と超対称性物理の研究」@エポカルつくば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D2037-00E0-4FFA-8326-8B494E2835AD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4/03/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Prototype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による性能評価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2 :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ハドロン反応測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-360" y="1143000"/>
            <a:ext cx="8915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ハドロン反応測定</a:t>
            </a:r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中性子の代わりに陽子を使用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陽子に対する検出効率</a:t>
            </a:r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ガスシンチレーションを含めると</a:t>
            </a:r>
            <a:r>
              <a:rPr b="1" lang="ja-JP" sz="2000" spc="-1" strike="noStrike" u="sng">
                <a:solidFill>
                  <a:srgbClr val="ff0000"/>
                </a:solidFill>
                <a:uFillTx/>
                <a:latin typeface="ＭＳ Ｐゴシック"/>
              </a:rPr>
              <a:t>シミュレーションによる予測と一致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　</a:t>
            </a: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86" name=""/>
          <p:cNvSpPr/>
          <p:nvPr/>
        </p:nvSpPr>
        <p:spPr>
          <a:xfrm>
            <a:off x="3139920" y="0"/>
            <a:ext cx="257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ＭＳ Ｐゴシック"/>
              </a:rPr>
              <a:t>Beam Catcher R&amp;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844560" y="2971800"/>
            <a:ext cx="6852240" cy="3324600"/>
            <a:chOff x="844560" y="2971800"/>
            <a:chExt cx="6852240" cy="3324600"/>
          </a:xfrm>
        </p:grpSpPr>
        <p:graphicFrame>
          <p:nvGraphicFramePr>
            <p:cNvPr id="188" name=""/>
            <p:cNvGraphicFramePr/>
            <p:nvPr/>
          </p:nvGraphicFramePr>
          <p:xfrm>
            <a:off x="1820880" y="2971800"/>
            <a:ext cx="5875920" cy="3214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8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820880" y="2971800"/>
                      <a:ext cx="5875920" cy="3214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90" name=""/>
            <p:cNvSpPr/>
            <p:nvPr/>
          </p:nvSpPr>
          <p:spPr>
            <a:xfrm flipH="1" flipV="1">
              <a:off x="3157200" y="4309200"/>
              <a:ext cx="703800" cy="8445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998520" y="5083200"/>
              <a:ext cx="383400" cy="3373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600" spc="-1" strike="noStrike">
                  <a:solidFill>
                    <a:srgbClr val="000000"/>
                  </a:solidFill>
                  <a:latin typeface="Tahoma"/>
                </a:rPr>
                <a:t>ほぼ一致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44560" y="2971800"/>
              <a:ext cx="1765800" cy="3373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600" spc="-1" strike="noStrike">
                  <a:solidFill>
                    <a:srgbClr val="000000"/>
                  </a:solidFill>
                  <a:latin typeface="Tahoma"/>
                </a:rPr>
                <a:t>陽子検出効率の運動量依存性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942280" y="5928120"/>
              <a:ext cx="174564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000000"/>
                  </a:solidFill>
                  <a:latin typeface="Tahoma"/>
                </a:rPr>
                <a:t>陽子運動量 </a:t>
              </a:r>
              <a:r>
                <a:rPr b="0" lang="ja-JP" sz="1800" spc="-1" strike="noStrike">
                  <a:solidFill>
                    <a:srgbClr val="000000"/>
                  </a:solidFill>
                  <a:latin typeface="Tahoma"/>
                </a:rPr>
                <a:t>(GeV/c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897880" y="5928120"/>
              <a:ext cx="174564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000000"/>
                  </a:solidFill>
                  <a:latin typeface="Tahoma"/>
                </a:rPr>
                <a:t>陽子運動量 </a:t>
              </a:r>
              <a:r>
                <a:rPr b="0" lang="ja-JP" sz="1800" spc="-1" strike="noStrike">
                  <a:solidFill>
                    <a:srgbClr val="000000"/>
                  </a:solidFill>
                  <a:latin typeface="Tahoma"/>
                </a:rPr>
                <a:t>(GeV/c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科研費特定領域研究会「質量起源と超対称性物理の研究」@エポカルつくば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291F3-FE6E-4F5F-AB7E-64DED8E200DF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4/03/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　シミュレーションを用いた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Beam Catcher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の設計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設計の指標</a:t>
            </a:r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プロトタイプの約２倍のサイズ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HGｺﾞｼｯｸM"/>
              <a:buChar char="―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均一かつ高い光子検出効率を持つこと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約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500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モジュールを分散配置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HGｺﾞｼｯｸM"/>
              <a:buChar char="―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量産が容易であること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設計の手順</a:t>
            </a:r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光学系の設計 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(1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モジュールでの最適化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HGｺﾞｼｯｸM"/>
              <a:buChar char="―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均一で高い集光率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HGｺﾞｼｯｸM"/>
              <a:buChar char="―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シンプルなデザイン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分散配置での最適化 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(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多数モジュールでの最適化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HGｺﾞｼｯｸM"/>
              <a:buChar char="―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Ｐゴシック"/>
              </a:rPr>
              <a:t>高透過率エアロジェルの採用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HGｺﾞｼｯｸM"/>
              <a:buChar char="―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コンバータ配置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HGｺﾞｼｯｸM"/>
              <a:buChar char="―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レイヤー数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HGｺﾞｼｯｸM"/>
              <a:buChar char="―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検出条件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  <a:p>
            <a:pPr lvl="2" marL="1131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  <a:p>
            <a:pPr lvl="2" marL="1131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97" name=""/>
          <p:cNvSpPr/>
          <p:nvPr/>
        </p:nvSpPr>
        <p:spPr>
          <a:xfrm>
            <a:off x="3187800" y="0"/>
            <a:ext cx="257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ＭＳ Ｐゴシック"/>
              </a:rPr>
              <a:t>Beam Catcher R&amp;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267080" y="4191120"/>
            <a:ext cx="762120" cy="0"/>
          </a:xfrm>
          <a:prstGeom prst="line">
            <a:avLst/>
          </a:prstGeom>
          <a:ln w="316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29240" y="3962520"/>
            <a:ext cx="1552320" cy="3682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光子検出効率を高め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276800" y="5486400"/>
            <a:ext cx="761760" cy="0"/>
          </a:xfrm>
          <a:prstGeom prst="line">
            <a:avLst/>
          </a:prstGeom>
          <a:ln w="316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538960" y="5029200"/>
            <a:ext cx="1552320" cy="916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光子検出効率を高め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and/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中性子感度を落と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5562720" y="1752480"/>
          <a:ext cx="3201840" cy="183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62720" y="1752480"/>
                    <a:ext cx="3201840" cy="183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4" name=""/>
          <p:cNvSpPr/>
          <p:nvPr/>
        </p:nvSpPr>
        <p:spPr>
          <a:xfrm>
            <a:off x="5334120" y="1523880"/>
            <a:ext cx="1752480" cy="5202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</a:rPr>
              <a:t>従来のエアロジェル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</a:rPr>
              <a:t>SP-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162920" y="1523880"/>
            <a:ext cx="1981080" cy="5202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</a:rPr>
              <a:t>高透過率エアロジェル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</a:rPr>
              <a:t>IY-4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科研費特定領域研究会「質量起源と超対称性物理の研究」@エポカルつくば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A712B-8547-4424-8428-EF76E8699511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4/03/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シミュレーションによる性能評価 ─ 光子検出効率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-360" y="1143000"/>
            <a:ext cx="5334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光子検出効率</a:t>
            </a: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入射位置依存性</a:t>
            </a:r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60000"/>
              <a:buFont typeface="HGｺﾞｼｯｸM"/>
              <a:buChar char="―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鉛直方向が問題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←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電磁シャワーが上下に漏れる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60000"/>
              <a:buFont typeface="HGｺﾞｼｯｸM"/>
              <a:buChar char="―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鉛直方向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±10cm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でほぼ均一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08" name=""/>
          <p:cNvSpPr/>
          <p:nvPr/>
        </p:nvSpPr>
        <p:spPr>
          <a:xfrm>
            <a:off x="3171960" y="0"/>
            <a:ext cx="257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ＭＳ Ｐゴシック"/>
              </a:rPr>
              <a:t>Beam Catcher R&amp;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191120" y="1066680"/>
            <a:ext cx="533376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エネルギー依存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　　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鉛直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±10cm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の範囲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　　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99% @ 300 Me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　　　　　</a:t>
            </a:r>
            <a:r>
              <a:rPr b="1" lang="ja-JP" sz="2000" spc="-1" strike="noStrike">
                <a:solidFill>
                  <a:srgbClr val="ff0000"/>
                </a:solidFill>
                <a:latin typeface="ＭＳ Ｐゴシック"/>
                <a:ea typeface="ＭＳ Ｐゴシック"/>
              </a:rPr>
              <a:t>→</a:t>
            </a:r>
            <a:r>
              <a:rPr b="1" lang="ja-JP" sz="2000" spc="-1" strike="noStrike" u="sng">
                <a:solidFill>
                  <a:srgbClr val="ff0000"/>
                </a:solidFill>
                <a:uFillTx/>
                <a:latin typeface="ＭＳ Ｐゴシック"/>
                <a:ea typeface="ＭＳ Ｐゴシック"/>
              </a:rPr>
              <a:t>要求を十分満たす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5684760" y="3200400"/>
          <a:ext cx="2989440" cy="342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84760" y="3200400"/>
                    <a:ext cx="2989440" cy="342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2" name=""/>
          <p:cNvGraphicFramePr/>
          <p:nvPr/>
        </p:nvGraphicFramePr>
        <p:xfrm>
          <a:off x="1219320" y="3048120"/>
          <a:ext cx="3105000" cy="3124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19320" y="3048120"/>
                    <a:ext cx="3105000" cy="31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4114800" y="495288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20160" y="4800600"/>
            <a:ext cx="668520" cy="3373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0000"/>
                </a:solidFill>
                <a:latin typeface="Tahoma"/>
              </a:rPr>
              <a:t>高透過率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038480" y="5486400"/>
            <a:ext cx="30492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479480" y="5334120"/>
            <a:ext cx="546480" cy="3373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ff"/>
                </a:solidFill>
                <a:latin typeface="Tahoma"/>
              </a:rPr>
              <a:t>従来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2286000" y="3352680"/>
            <a:ext cx="0" cy="2438640"/>
          </a:xfrm>
          <a:prstGeom prst="line">
            <a:avLst/>
          </a:prstGeom>
          <a:ln w="255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3657600" y="3657240"/>
            <a:ext cx="0" cy="2133720"/>
          </a:xfrm>
          <a:prstGeom prst="line">
            <a:avLst/>
          </a:prstGeom>
          <a:ln w="255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科研費特定領域研究会「質量起源と超対称性物理の研究」@エポカルつくば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A0D7B-1917-4423-B196-F2458B1A657E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4/03/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シミュレーションによる性能評価 ─ 中性子不感性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-360" y="1066680"/>
            <a:ext cx="5334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中性子に対する検出効率</a:t>
            </a: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エネルギー依存性</a:t>
            </a:r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       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0.3% @ 0.8 GeV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     </a:t>
            </a:r>
            <a:r>
              <a:rPr b="0" lang="ja-JP" sz="2000" spc="-1" strike="noStrike">
                <a:solidFill>
                  <a:srgbClr val="0000ff"/>
                </a:solidFill>
                <a:latin typeface="ＭＳ Ｐゴシック"/>
              </a:rPr>
              <a:t>→</a:t>
            </a:r>
            <a:r>
              <a:rPr b="0" lang="ja-JP" sz="2000" spc="-1" strike="noStrike">
                <a:solidFill>
                  <a:srgbClr val="0000ff"/>
                </a:solidFill>
                <a:latin typeface="ＭＳ Ｐゴシック"/>
              </a:rPr>
              <a:t>要求をやや上回る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22" name=""/>
          <p:cNvSpPr/>
          <p:nvPr/>
        </p:nvSpPr>
        <p:spPr>
          <a:xfrm>
            <a:off x="3171960" y="0"/>
            <a:ext cx="257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ＭＳ Ｐゴシック"/>
              </a:rPr>
              <a:t>Beam Catcher R&amp;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33520" y="3048120"/>
            <a:ext cx="41907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 u="sng">
                <a:solidFill>
                  <a:srgbClr val="000000"/>
                </a:solidFill>
                <a:uFillTx/>
                <a:latin typeface="Tahoma"/>
              </a:rPr>
              <a:t>→</a:t>
            </a:r>
            <a:r>
              <a:rPr b="1" lang="ja-JP" sz="1800" spc="-1" strike="noStrike" u="sng">
                <a:solidFill>
                  <a:srgbClr val="000000"/>
                </a:solidFill>
                <a:uFillTx/>
                <a:latin typeface="Tahoma"/>
              </a:rPr>
              <a:t>要改善 </a:t>
            </a:r>
            <a:r>
              <a:rPr b="1" lang="ja-JP" sz="1800" spc="-1" strike="noStrike" u="sng">
                <a:solidFill>
                  <a:srgbClr val="000000"/>
                </a:solidFill>
                <a:uFillTx/>
                <a:latin typeface="Tahoma"/>
              </a:rPr>
              <a:t>:</a:t>
            </a:r>
            <a:r>
              <a:rPr b="1" lang="ja-JP" sz="1800" spc="-1" strike="noStrike" u="sng">
                <a:solidFill>
                  <a:srgbClr val="000000"/>
                </a:solidFill>
                <a:uFillTx/>
                <a:latin typeface="Tahoma"/>
              </a:rPr>
              <a:t>　時間分解能の向上な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4952880" y="1981080"/>
          <a:ext cx="388620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2880" y="1981080"/>
                    <a:ext cx="38862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科研費特定領域研究会「質量起源と超対称性物理の研究」@エポカルつくば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88781-A556-4C9F-96A3-20498DD4BD14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4/03/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Beam Catcher R&amp;D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のまとめ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1440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第二次プロトタイプ</a:t>
            </a:r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チェレンコフ発光量測定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60000"/>
              <a:buFont typeface="HGｺﾞｼｯｸM"/>
              <a:buChar char="―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シミュレーションによる予想と概ね一致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ハドロン反応測定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60000"/>
              <a:buFont typeface="HGｺﾞｼｯｸM"/>
              <a:buChar char="―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ガスシンチレーションを含めると予想に一致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シミュレーションを用いた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Beam Catcher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の設計</a:t>
            </a:r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光子検出効率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60000"/>
              <a:buFont typeface="HGｺﾞｼｯｸM"/>
              <a:buChar char="―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十分要求を満たす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中性子検出効率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60000"/>
              <a:buFont typeface="HGｺﾞｼｯｸM"/>
              <a:buChar char="―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やや要求を上回る → 時間分解能の向上で補える範囲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28" name=""/>
          <p:cNvSpPr/>
          <p:nvPr/>
        </p:nvSpPr>
        <p:spPr>
          <a:xfrm>
            <a:off x="3192480" y="0"/>
            <a:ext cx="257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ＭＳ Ｐゴシック"/>
              </a:rPr>
              <a:t>Beam Catcher R&amp;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743520" y="2514600"/>
            <a:ext cx="1460880" cy="459720"/>
          </a:xfrm>
          <a:prstGeom prst="rect">
            <a:avLst/>
          </a:pr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0000"/>
                </a:solidFill>
                <a:latin typeface="Tahoma"/>
              </a:rPr>
              <a:t>原理テスト完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427520" y="4724280"/>
            <a:ext cx="912240" cy="459720"/>
          </a:xfrm>
          <a:prstGeom prst="rect">
            <a:avLst/>
          </a:pr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0000"/>
                </a:solidFill>
                <a:latin typeface="Tahoma"/>
              </a:rPr>
              <a:t>ほぼ完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科研費特定領域研究会「質量起源と超対称性物理の研究」@エポカルつくば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1EE5B-0F53-4516-9371-F56655FAAE13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4/03/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KOPIO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実験の現状と今後の展望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1440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米国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NSF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予算要求</a:t>
            </a:r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RSVP(KOPIO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を含む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)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は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2005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米国年度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(2004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年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10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月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)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から建設開始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日本グループ</a:t>
            </a:r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2004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年度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60000"/>
              <a:buFont typeface="HGｺﾞｼｯｸM"/>
              <a:buChar char="―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実機サイズプロトタイプによる性能評価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2005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年度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60000"/>
              <a:buFont typeface="HGｺﾞｼｯｸM"/>
              <a:buChar char="―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プロトタイプアレイ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(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小規模量産試験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2006-2007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年度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60000"/>
              <a:buFont typeface="HGｺﾞｼｯｸM"/>
              <a:buChar char="―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Beam Catcher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量産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2008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年度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60000"/>
              <a:buFont typeface="HGｺﾞｼｯｸM"/>
              <a:buChar char="―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インストール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33" name=""/>
          <p:cNvSpPr/>
          <p:nvPr/>
        </p:nvSpPr>
        <p:spPr>
          <a:xfrm>
            <a:off x="3199320" y="0"/>
            <a:ext cx="255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 u="sng">
                <a:solidFill>
                  <a:srgbClr val="000000"/>
                </a:solidFill>
                <a:uFillTx/>
                <a:latin typeface="ＭＳ Ｐゴシック"/>
              </a:rPr>
              <a:t>KOPIO</a:t>
            </a:r>
            <a:r>
              <a:rPr b="1" lang="ja-JP" sz="2000" spc="-1" strike="noStrike" u="sng">
                <a:solidFill>
                  <a:srgbClr val="000000"/>
                </a:solidFill>
                <a:uFillTx/>
                <a:latin typeface="ＭＳ Ｐゴシック"/>
              </a:rPr>
              <a:t>実験</a:t>
            </a:r>
            <a:r>
              <a:rPr b="1" lang="ja-JP" sz="2000" spc="-1" strike="noStrike" u="sng">
                <a:solidFill>
                  <a:srgbClr val="000000"/>
                </a:solidFill>
                <a:uFillTx/>
                <a:latin typeface="ＭＳ Ｐゴシック"/>
              </a:rPr>
              <a:t>Prosp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743200" y="6075360"/>
            <a:ext cx="990720" cy="0"/>
          </a:xfrm>
          <a:prstGeom prst="line">
            <a:avLst/>
          </a:prstGeom>
          <a:ln w="316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87760" y="586728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エンジニアリングラン、物理ラン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876920" y="2438280"/>
            <a:ext cx="42670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KOPIO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全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2004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年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ＭＳ ゴシック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検出器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R&amp;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2005-2006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年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ＭＳ ゴシック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ビームライン建設開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ＭＳ ゴシック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検出器量産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2007-2008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年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ＭＳ ゴシック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検出器インストール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ＭＳ ゴシック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610720" y="5492880"/>
            <a:ext cx="180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　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2009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年度～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科研費特定領域研究会「質量起源と超対称性物理の研究」@エポカルつくば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BE624-EFA8-4F0F-9B97-FE96389EDED5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4/03/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792504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KOPIO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実験 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: K</a:t>
            </a:r>
            <a:r>
              <a:rPr b="0" lang="ja-JP" sz="2400" spc="-1" strike="noStrike" baseline="-25000">
                <a:solidFill>
                  <a:srgbClr val="000000"/>
                </a:solidFill>
                <a:latin typeface="ＭＳ Ｐゴシック"/>
              </a:rPr>
              <a:t>L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→π</a:t>
            </a:r>
            <a:r>
              <a:rPr b="0" lang="ja-JP" sz="2400" spc="-1" strike="noStrike" baseline="30000">
                <a:solidFill>
                  <a:srgbClr val="000000"/>
                </a:solidFill>
                <a:latin typeface="ＭＳ Ｐゴシック"/>
              </a:rPr>
              <a:t>0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νν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測定実験</a:t>
            </a:r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日本グループは検出器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R&amp;D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を進行中</a:t>
            </a:r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Beam Catcher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の開発</a:t>
            </a:r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プロトタイプを用いた性能評価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シミュレーションによる具体的な設計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→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　検出器の量産に向けて順調に準備を進めている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今後</a:t>
            </a:r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日本グループは今年度に実機プロトタイプの製作を行い、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その後少数量産試験を経て検出器の量産を行う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KOPIO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全体では来年度から検出器の量産、ビームラインの建設を開始する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40" name=""/>
          <p:cNvSpPr/>
          <p:nvPr/>
        </p:nvSpPr>
        <p:spPr>
          <a:xfrm>
            <a:off x="3772080" y="0"/>
            <a:ext cx="140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ＭＳ Ｐゴシック"/>
              </a:rPr>
              <a:t>Summ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科研費特定領域研究会「質量起源と超対称性物理の研究」@エポカルつくば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A0F19-2B74-4A5C-AC18-704DC3919E01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4/03/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Beam Catcher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の設計 ─ 光学系の設計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-360" y="1142640"/>
            <a:ext cx="60958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“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Base Design”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60000"/>
              <a:buFont typeface="HGｺﾞｼｯｸM"/>
              <a:buChar char="―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平面鏡 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+ Winston cone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ファネル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　 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+ 5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インチ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PMT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60000"/>
              <a:buFont typeface="HGｺﾞｼｯｸM"/>
              <a:buChar char="―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平均集光率約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23%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Top-and-Bottom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型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60000"/>
              <a:buFont typeface="HGｺﾞｼｯｸM"/>
              <a:buChar char="―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集光率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　　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Base design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の約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1.35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倍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60000"/>
              <a:buFont typeface="HGｺﾞｼｯｸM"/>
              <a:buChar char="―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欠点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費用が約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2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倍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2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軸パラボラ型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60000"/>
              <a:buFont typeface="HGｺﾞｼｯｸM"/>
              <a:buChar char="―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集光率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        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Base design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の約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1.7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倍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60000"/>
              <a:buFont typeface="HGｺﾞｼｯｸM"/>
              <a:buChar char="―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欠点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  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光学系が複雑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 u="sng">
                <a:solidFill>
                  <a:srgbClr val="000000"/>
                </a:solidFill>
                <a:uFillTx/>
                <a:latin typeface="ＭＳ Ｐゴシック"/>
              </a:rPr>
              <a:t>→</a:t>
            </a:r>
            <a:r>
              <a:rPr b="1" lang="ja-JP" sz="1800" spc="-1" strike="noStrike" u="sng">
                <a:solidFill>
                  <a:srgbClr val="000000"/>
                </a:solidFill>
                <a:uFillTx/>
                <a:latin typeface="ＭＳ Ｐゴシック"/>
              </a:rPr>
              <a:t>量産性を考慮して“</a:t>
            </a:r>
            <a:r>
              <a:rPr b="1" lang="ja-JP" sz="1800" spc="-1" strike="noStrike" u="sng">
                <a:solidFill>
                  <a:srgbClr val="000000"/>
                </a:solidFill>
                <a:uFillTx/>
                <a:latin typeface="ＭＳ Ｐゴシック"/>
              </a:rPr>
              <a:t>Base-design”</a:t>
            </a:r>
            <a:r>
              <a:rPr b="1" lang="ja-JP" sz="1800" spc="-1" strike="noStrike" u="sng">
                <a:solidFill>
                  <a:srgbClr val="000000"/>
                </a:solidFill>
                <a:uFillTx/>
                <a:latin typeface="ＭＳ Ｐゴシック"/>
              </a:rPr>
              <a:t>を採用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43" name=""/>
          <p:cNvSpPr/>
          <p:nvPr/>
        </p:nvSpPr>
        <p:spPr>
          <a:xfrm>
            <a:off x="3083400" y="0"/>
            <a:ext cx="278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ＭＳ Ｐゴシック"/>
              </a:rPr>
              <a:t>Beam Catcher R&amp;D 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6810480" y="609480"/>
          <a:ext cx="2333520" cy="274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10480" y="609480"/>
                    <a:ext cx="2333520" cy="27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6" name=""/>
          <p:cNvGraphicFramePr/>
          <p:nvPr/>
        </p:nvGraphicFramePr>
        <p:xfrm>
          <a:off x="5029200" y="3276720"/>
          <a:ext cx="1757520" cy="29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29200" y="3276720"/>
                    <a:ext cx="175752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8" name=""/>
          <p:cNvGraphicFramePr/>
          <p:nvPr/>
        </p:nvGraphicFramePr>
        <p:xfrm>
          <a:off x="6921360" y="3657600"/>
          <a:ext cx="2222640" cy="2514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4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921360" y="3657600"/>
                    <a:ext cx="2222640" cy="25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0" name=""/>
          <p:cNvSpPr/>
          <p:nvPr/>
        </p:nvSpPr>
        <p:spPr>
          <a:xfrm>
            <a:off x="5715000" y="1295280"/>
            <a:ext cx="1339920" cy="580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se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800600" y="6248520"/>
            <a:ext cx="1752480" cy="3373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op-and-Bott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781680" y="6248520"/>
            <a:ext cx="1339920" cy="3373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軸パラボ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科研費特定領域研究会「質量起源と超対称性物理の研究」@エポカルつくば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029D3-446E-4B8A-83F5-6F26BF5694F0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4/03/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792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KOPIO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実験の物理と目的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-360" y="1371240"/>
            <a:ext cx="845820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KOPIO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：</a:t>
            </a:r>
            <a:r>
              <a:rPr b="1" lang="ja-JP" sz="2400" spc="-1" strike="noStrike">
                <a:solidFill>
                  <a:srgbClr val="ff0000"/>
                </a:solidFill>
                <a:latin typeface="ＭＳ Ｐゴシック"/>
              </a:rPr>
              <a:t>K</a:t>
            </a:r>
            <a:r>
              <a:rPr b="1" lang="ja-JP" sz="2400" spc="-1" strike="noStrike" baseline="-25000">
                <a:solidFill>
                  <a:srgbClr val="ff0000"/>
                </a:solidFill>
                <a:latin typeface="ＭＳ Ｐゴシック"/>
              </a:rPr>
              <a:t>L</a:t>
            </a:r>
            <a:r>
              <a:rPr b="1" lang="ja-JP" sz="2400" spc="-1" strike="noStrike">
                <a:solidFill>
                  <a:srgbClr val="ff0000"/>
                </a:solidFill>
                <a:latin typeface="ＭＳ Ｐゴシック"/>
              </a:rPr>
              <a:t>→π</a:t>
            </a:r>
            <a:r>
              <a:rPr b="1" lang="ja-JP" sz="2400" spc="-1" strike="noStrike" baseline="30000">
                <a:solidFill>
                  <a:srgbClr val="ff0000"/>
                </a:solidFill>
                <a:latin typeface="ＭＳ Ｐゴシック"/>
              </a:rPr>
              <a:t>0</a:t>
            </a:r>
            <a:r>
              <a:rPr b="1" lang="ja-JP" sz="2400" spc="-1" strike="noStrike">
                <a:solidFill>
                  <a:srgbClr val="ff0000"/>
                </a:solidFill>
                <a:latin typeface="ＭＳ Ｐゴシック"/>
              </a:rPr>
              <a:t>νν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測定実験＠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BNL</a:t>
            </a:r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990720" indent="-533520"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小林･益川行列の複素パラメータ決定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　</a:t>
            </a:r>
            <a:r>
              <a:rPr b="0" lang="ja-JP" sz="2200" spc="-1" strike="noStrike">
                <a:solidFill>
                  <a:srgbClr val="000000"/>
                </a:solidFill>
                <a:latin typeface="ＭＳ Ｐゴシック"/>
              </a:rPr>
              <a:t>    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Br(K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ＭＳ Ｐゴシック"/>
              </a:rPr>
              <a:t>L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→π</a:t>
            </a:r>
            <a:r>
              <a:rPr b="0" lang="ja-JP" sz="2000" spc="-1" strike="noStrike" baseline="30000">
                <a:solidFill>
                  <a:srgbClr val="000000"/>
                </a:solidFill>
                <a:latin typeface="ＭＳ Ｐゴシック"/>
              </a:rPr>
              <a:t>0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νν) ∝ η</a:t>
            </a:r>
            <a:r>
              <a:rPr b="0" lang="ja-JP" sz="2000" spc="-1" strike="noStrike" baseline="30000">
                <a:solidFill>
                  <a:srgbClr val="000000"/>
                </a:solidFill>
                <a:latin typeface="ＭＳ Ｐゴシック"/>
              </a:rPr>
              <a:t>2</a:t>
            </a:r>
            <a:r>
              <a:rPr b="0" lang="ja-JP" sz="2000" spc="-1" strike="noStrike" baseline="30000">
                <a:solidFill>
                  <a:srgbClr val="000000"/>
                </a:solidFill>
                <a:latin typeface="ＭＳ Ｐゴシック"/>
              </a:rPr>
              <a:t>　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～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3×10</a:t>
            </a:r>
            <a:r>
              <a:rPr b="0" lang="ja-JP" sz="2000" spc="-1" strike="noStrike" baseline="30000">
                <a:solidFill>
                  <a:srgbClr val="000000"/>
                </a:solidFill>
                <a:latin typeface="ＭＳ Ｐゴシック"/>
              </a:rPr>
              <a:t>-11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(SM)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lvl="2" marL="13716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－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CP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対称性の破れを特徴づける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lvl="2" marL="13716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－理論的不定性の少ない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lvl="3" marL="17524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スーパークリーンモードの一つ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990720" indent="-533520"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K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中間子系のみでユニタリ三角形を構成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lvl="2" marL="1371600" indent="-457200">
              <a:spcBef>
                <a:spcPts val="499"/>
              </a:spcBef>
              <a:buClr>
                <a:srgbClr val="000000"/>
              </a:buClr>
              <a:buSzPct val="60000"/>
              <a:buFont typeface="HGｺﾞｼｯｸM"/>
              <a:buChar char="―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荷電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K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中間子の結果と合わせることで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990720" indent="-533520"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標準模型を越える物理に感度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lvl="2" marL="1371600" indent="-457200">
              <a:spcBef>
                <a:spcPts val="499"/>
              </a:spcBef>
              <a:buClr>
                <a:srgbClr val="000000"/>
              </a:buClr>
              <a:buSzPct val="60000"/>
              <a:buFont typeface="HGｺﾞｼｯｸM"/>
              <a:buChar char="―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K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中間子系と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B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中間子系での比較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5715000" y="3505320"/>
            <a:ext cx="3247920" cy="2681280"/>
            <a:chOff x="5715000" y="3505320"/>
            <a:chExt cx="3247920" cy="2681280"/>
          </a:xfrm>
        </p:grpSpPr>
        <p:graphicFrame>
          <p:nvGraphicFramePr>
            <p:cNvPr id="94" name=""/>
            <p:cNvGraphicFramePr/>
            <p:nvPr/>
          </p:nvGraphicFramePr>
          <p:xfrm>
            <a:off x="5715000" y="3505320"/>
            <a:ext cx="3247920" cy="26812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9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715000" y="3505320"/>
                      <a:ext cx="3247920" cy="2681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6" name=""/>
            <p:cNvSpPr/>
            <p:nvPr/>
          </p:nvSpPr>
          <p:spPr>
            <a:xfrm>
              <a:off x="6705720" y="5029200"/>
              <a:ext cx="1143000" cy="304920"/>
            </a:xfrm>
            <a:prstGeom prst="ellipse">
              <a:avLst/>
            </a:prstGeom>
            <a:noFill/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5943600" y="1600200"/>
            <a:ext cx="3200400" cy="1859040"/>
            <a:chOff x="5943600" y="1600200"/>
            <a:chExt cx="3200400" cy="1859040"/>
          </a:xfrm>
        </p:grpSpPr>
        <p:graphicFrame>
          <p:nvGraphicFramePr>
            <p:cNvPr id="98" name=""/>
            <p:cNvGraphicFramePr/>
            <p:nvPr/>
          </p:nvGraphicFramePr>
          <p:xfrm>
            <a:off x="5943600" y="1600200"/>
            <a:ext cx="3200400" cy="18590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9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943600" y="1600200"/>
                      <a:ext cx="3200400" cy="1859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0" name=""/>
            <p:cNvSpPr/>
            <p:nvPr/>
          </p:nvSpPr>
          <p:spPr>
            <a:xfrm>
              <a:off x="6324480" y="3124080"/>
              <a:ext cx="1143000" cy="304920"/>
            </a:xfrm>
            <a:prstGeom prst="ellipse">
              <a:avLst/>
            </a:prstGeom>
            <a:noFill/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" name=""/>
          <p:cNvSpPr/>
          <p:nvPr/>
        </p:nvSpPr>
        <p:spPr>
          <a:xfrm>
            <a:off x="3758760" y="0"/>
            <a:ext cx="138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 u="sng">
                <a:solidFill>
                  <a:srgbClr val="000000"/>
                </a:solidFill>
                <a:uFillTx/>
                <a:latin typeface="ＭＳ Ｐゴシック"/>
              </a:rPr>
              <a:t>KOPIO</a:t>
            </a:r>
            <a:r>
              <a:rPr b="1" lang="ja-JP" sz="2000" spc="-1" strike="noStrike" u="sng">
                <a:solidFill>
                  <a:srgbClr val="000000"/>
                </a:solidFill>
                <a:uFillTx/>
                <a:latin typeface="ＭＳ Ｐゴシック"/>
              </a:rPr>
              <a:t>実験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科研費特定領域研究会「質量起源と超対称性物理の研究」@エポカルつくば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19D8A-8ACA-4973-AACE-E4EB04491D2B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4/03/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Beam Catcher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の設計 ─ 配置のパラメータと検出条件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6781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基本デザイン</a:t>
            </a: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屈折率</a:t>
            </a:r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HGｺﾞｼｯｸM"/>
              <a:buChar char="―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屈折率を高くすると 光量が増加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　　　　　　　　　　　　　　低速粒子に対して感度上昇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          →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中性子不感性は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HGｺﾞｼｯｸM"/>
              <a:buChar char="―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1.03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と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1.05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で中性子不感性はほとんど同じ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検出条件</a:t>
            </a:r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コインシデンスに使用するモジュール数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ＭＳ Ｐゴシック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ビーム方向に広げると光量が増加？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   →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直後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1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層の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2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モジュールの和で十分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検出の閾値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　前段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: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後段 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= 4pe:2pe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が最適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55" name=""/>
          <p:cNvSpPr/>
          <p:nvPr/>
        </p:nvSpPr>
        <p:spPr>
          <a:xfrm>
            <a:off x="3069000" y="0"/>
            <a:ext cx="278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ＭＳ Ｐゴシック"/>
              </a:rPr>
              <a:t>Beam Catcher R&amp;D 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858000" y="2209680"/>
            <a:ext cx="1035000" cy="3373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検出条件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7" name=""/>
          <p:cNvGraphicFramePr/>
          <p:nvPr/>
        </p:nvGraphicFramePr>
        <p:xfrm>
          <a:off x="5961240" y="2819520"/>
          <a:ext cx="2877840" cy="102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61240" y="2819520"/>
                    <a:ext cx="2877840" cy="102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9" name=""/>
          <p:cNvGraphicFramePr/>
          <p:nvPr/>
        </p:nvGraphicFramePr>
        <p:xfrm>
          <a:off x="5943600" y="4191120"/>
          <a:ext cx="2878200" cy="1020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943600" y="4191120"/>
                    <a:ext cx="2878200" cy="102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1" name=""/>
          <p:cNvGraphicFramePr/>
          <p:nvPr/>
        </p:nvGraphicFramePr>
        <p:xfrm>
          <a:off x="5943600" y="5562720"/>
          <a:ext cx="3011400" cy="1060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6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943600" y="5562720"/>
                    <a:ext cx="3011400" cy="106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3" name=""/>
          <p:cNvSpPr/>
          <p:nvPr/>
        </p:nvSpPr>
        <p:spPr>
          <a:xfrm>
            <a:off x="6019920" y="2666880"/>
            <a:ext cx="2438280" cy="336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ahoma"/>
              </a:rPr>
              <a:t>後段</a:t>
            </a:r>
            <a:r>
              <a:rPr b="0" lang="ja-JP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ja-JP" sz="1400" spc="-1" strike="noStrike">
                <a:solidFill>
                  <a:srgbClr val="000000"/>
                </a:solidFill>
                <a:latin typeface="Tahoma"/>
              </a:rPr>
              <a:t>層 </a:t>
            </a:r>
            <a:r>
              <a:rPr b="0" lang="ja-JP" sz="1400" spc="-1" strike="noStrike">
                <a:solidFill>
                  <a:srgbClr val="000000"/>
                </a:solidFill>
                <a:latin typeface="Tahoma"/>
              </a:rPr>
              <a:t>: A</a:t>
            </a:r>
            <a:r>
              <a:rPr b="0" lang="ja-JP" sz="1400" spc="-1" strike="noStrike">
                <a:solidFill>
                  <a:srgbClr val="000000"/>
                </a:solidFill>
                <a:latin typeface="Tahoma"/>
              </a:rPr>
              <a:t>かつ</a:t>
            </a:r>
            <a:r>
              <a:rPr b="0" lang="ja-JP" sz="1400" spc="-1" strike="noStrike">
                <a:solidFill>
                  <a:srgbClr val="000000"/>
                </a:solidFill>
                <a:latin typeface="Tahoma"/>
              </a:rPr>
              <a:t>(B</a:t>
            </a:r>
            <a:r>
              <a:rPr b="0" lang="ja-JP" sz="1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ja-JP" sz="1400" spc="-1" strike="noStrike">
                <a:solidFill>
                  <a:srgbClr val="000000"/>
                </a:solidFill>
                <a:latin typeface="Tahoma"/>
              </a:rPr>
              <a:t>+B</a:t>
            </a:r>
            <a:r>
              <a:rPr b="0" lang="ja-JP" sz="1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ja-JP" sz="1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19920" y="3962520"/>
            <a:ext cx="2438280" cy="336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ahoma"/>
              </a:rPr>
              <a:t>後段</a:t>
            </a:r>
            <a:r>
              <a:rPr b="0" lang="ja-JP" sz="14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ja-JP" sz="1400" spc="-1" strike="noStrike">
                <a:solidFill>
                  <a:srgbClr val="000000"/>
                </a:solidFill>
                <a:latin typeface="Tahoma"/>
              </a:rPr>
              <a:t>層</a:t>
            </a:r>
            <a:r>
              <a:rPr b="0" lang="ja-JP" sz="1400" spc="-1" strike="noStrike">
                <a:solidFill>
                  <a:srgbClr val="000000"/>
                </a:solidFill>
                <a:latin typeface="Tahoma"/>
              </a:rPr>
              <a:t>: A</a:t>
            </a:r>
            <a:r>
              <a:rPr b="0" lang="ja-JP" sz="1400" spc="-1" strike="noStrike">
                <a:solidFill>
                  <a:srgbClr val="000000"/>
                </a:solidFill>
                <a:latin typeface="Tahoma"/>
              </a:rPr>
              <a:t>かつ</a:t>
            </a:r>
            <a:r>
              <a:rPr b="0" lang="ja-JP" sz="1400" spc="-1" strike="noStrike">
                <a:solidFill>
                  <a:srgbClr val="000000"/>
                </a:solidFill>
                <a:latin typeface="Tahoma"/>
              </a:rPr>
              <a:t>(B</a:t>
            </a:r>
            <a:r>
              <a:rPr b="0" lang="ja-JP" sz="1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ja-JP" sz="1400" spc="-1" strike="noStrike">
                <a:solidFill>
                  <a:srgbClr val="000000"/>
                </a:solidFill>
                <a:latin typeface="Tahoma"/>
              </a:rPr>
              <a:t>+B</a:t>
            </a:r>
            <a:r>
              <a:rPr b="0" lang="ja-JP" sz="1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ja-JP" sz="1400" spc="-1" strike="noStrike">
                <a:solidFill>
                  <a:srgbClr val="000000"/>
                </a:solidFill>
                <a:latin typeface="Tahoma"/>
              </a:rPr>
              <a:t>+C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943600" y="5334120"/>
            <a:ext cx="3200400" cy="336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ahoma"/>
              </a:rPr>
              <a:t>後段</a:t>
            </a:r>
            <a:r>
              <a:rPr b="0" lang="ja-JP" sz="14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ja-JP" sz="1400" spc="-1" strike="noStrike">
                <a:solidFill>
                  <a:srgbClr val="000000"/>
                </a:solidFill>
                <a:latin typeface="Tahoma"/>
              </a:rPr>
              <a:t>層 </a:t>
            </a:r>
            <a:r>
              <a:rPr b="0" lang="ja-JP" sz="1400" spc="-1" strike="noStrike">
                <a:solidFill>
                  <a:srgbClr val="000000"/>
                </a:solidFill>
                <a:latin typeface="Tahoma"/>
              </a:rPr>
              <a:t>: A</a:t>
            </a:r>
            <a:r>
              <a:rPr b="0" lang="ja-JP" sz="1400" spc="-1" strike="noStrike">
                <a:solidFill>
                  <a:srgbClr val="000000"/>
                </a:solidFill>
                <a:latin typeface="Tahoma"/>
              </a:rPr>
              <a:t>かつ</a:t>
            </a:r>
            <a:r>
              <a:rPr b="0" lang="ja-JP" sz="1400" spc="-1" strike="noStrike">
                <a:solidFill>
                  <a:srgbClr val="000000"/>
                </a:solidFill>
                <a:latin typeface="Tahoma"/>
              </a:rPr>
              <a:t>(B</a:t>
            </a:r>
            <a:r>
              <a:rPr b="0" lang="ja-JP" sz="1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ja-JP" sz="1400" spc="-1" strike="noStrike">
                <a:solidFill>
                  <a:srgbClr val="000000"/>
                </a:solidFill>
                <a:latin typeface="Tahoma"/>
              </a:rPr>
              <a:t>+B</a:t>
            </a:r>
            <a:r>
              <a:rPr b="0" lang="ja-JP" sz="1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ja-JP" sz="1400" spc="-1" strike="noStrike">
                <a:solidFill>
                  <a:srgbClr val="000000"/>
                </a:solidFill>
                <a:latin typeface="Tahoma"/>
              </a:rPr>
              <a:t>+C+D</a:t>
            </a:r>
            <a:r>
              <a:rPr b="0" lang="ja-JP" sz="1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ja-JP" sz="1400" spc="-1" strike="noStrike">
                <a:solidFill>
                  <a:srgbClr val="000000"/>
                </a:solidFill>
                <a:latin typeface="Tahoma"/>
              </a:rPr>
              <a:t>+D</a:t>
            </a:r>
            <a:r>
              <a:rPr b="0" lang="ja-JP" sz="1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ja-JP" sz="1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科研費特定領域研究会「質量起源と超対称性物理の研究」@エポカルつくば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5A5D6-F3F6-4FC2-A320-0BBCE18CB24C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4/03/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最終デザインでの性能評価 ─ 最終デザイン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-360" y="1143000"/>
            <a:ext cx="8991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Beam Catcher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の最終デザイン</a:t>
            </a:r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モジュールサイズ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lvl="2" marL="1062720" indent="-212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HGｺﾞｼｯｸM"/>
              <a:buChar char="―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30cm×30cm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　　←鉛直方向にアクセプタンスを持たせるため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光学系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lvl="2" marL="1062720" indent="-212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HGｺﾞｼｯｸM"/>
              <a:buChar char="―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Base-design (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平面鏡 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+ Winston cone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ファネル 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+ 5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インチ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PMT)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エアロジェル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lvl="2" marL="1062720" indent="-212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HGｺﾞｼｯｸM"/>
              <a:buChar char="―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高透過率エアロジェル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IY-46    ←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光量増加によって光子検出効率を高めるため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  <a:p>
            <a:pPr lvl="3" marL="1487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透過率 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82% @ 470nm (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従来品 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68% @ 470nm)  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鉛コンバータ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lvl="2" marL="1062720" indent="-212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HGｺﾞｼｯｸM"/>
              <a:buChar char="―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各層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2mm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厚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モジュール数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lvl="2" marL="1062720" indent="-212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HGｺﾞｼｯｸM"/>
              <a:buChar char="―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横方向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14/15×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ビーム方向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25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層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検出条件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lvl="2" marL="1062720" indent="-212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HGｺﾞｼｯｸM"/>
              <a:buChar char="―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前段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4pe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以上、かつ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  <a:p>
            <a:pPr lvl="2" marL="1062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　　後段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2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モジュールの和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2pe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以上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  <a:p>
            <a:pPr lvl="2" marL="1062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68" name=""/>
          <p:cNvSpPr/>
          <p:nvPr/>
        </p:nvSpPr>
        <p:spPr>
          <a:xfrm>
            <a:off x="3067560" y="0"/>
            <a:ext cx="278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ＭＳ Ｐゴシック"/>
              </a:rPr>
              <a:t>Beam Catcher R&amp;D 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4572000" y="3962520"/>
            <a:ext cx="4419720" cy="2340000"/>
            <a:chOff x="4572000" y="3962520"/>
            <a:chExt cx="4419720" cy="2340000"/>
          </a:xfrm>
        </p:grpSpPr>
        <p:graphicFrame>
          <p:nvGraphicFramePr>
            <p:cNvPr id="270" name=""/>
            <p:cNvGraphicFramePr/>
            <p:nvPr/>
          </p:nvGraphicFramePr>
          <p:xfrm>
            <a:off x="4800600" y="4038840"/>
            <a:ext cx="3953160" cy="22636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7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800600" y="4038840"/>
                      <a:ext cx="3953160" cy="2263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72" name=""/>
            <p:cNvSpPr/>
            <p:nvPr/>
          </p:nvSpPr>
          <p:spPr>
            <a:xfrm>
              <a:off x="4572000" y="3962520"/>
              <a:ext cx="1981440" cy="580680"/>
            </a:xfrm>
            <a:prstGeom prst="rect">
              <a:avLst/>
            </a:prstGeom>
            <a:solidFill>
              <a:srgbClr val="ffffff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600" spc="-1" strike="noStrike">
                  <a:solidFill>
                    <a:srgbClr val="000000"/>
                  </a:solidFill>
                  <a:latin typeface="Tahoma"/>
                </a:rPr>
                <a:t>従来のエアロジェル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600" spc="-1" strike="noStrike">
                  <a:solidFill>
                    <a:srgbClr val="000000"/>
                  </a:solidFill>
                  <a:latin typeface="Tahoma"/>
                </a:rPr>
                <a:t>SP-5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858000" y="3962520"/>
              <a:ext cx="2133720" cy="580680"/>
            </a:xfrm>
            <a:prstGeom prst="rect">
              <a:avLst/>
            </a:prstGeom>
            <a:solidFill>
              <a:srgbClr val="ffffff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600" spc="-1" strike="noStrike">
                  <a:solidFill>
                    <a:srgbClr val="000000"/>
                  </a:solidFill>
                  <a:latin typeface="Tahoma"/>
                </a:rPr>
                <a:t>高透過率エアロジェル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600" spc="-1" strike="noStrike">
                  <a:solidFill>
                    <a:srgbClr val="000000"/>
                  </a:solidFill>
                  <a:latin typeface="Tahoma"/>
                </a:rPr>
                <a:t>IY-4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科研費特定領域研究会「質量起源と超対称性物理の研究」@エポカルつくば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5F743-327F-4DC6-A001-7716B0395211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4/03/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最終デザインでの性能評価 ─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ja-JP" sz="2800" spc="-1" strike="noStrike" baseline="-25000">
                <a:solidFill>
                  <a:srgbClr val="000000"/>
                </a:solidFill>
                <a:latin typeface="Tahoma"/>
              </a:rPr>
              <a:t>L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不感性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-360" y="1066680"/>
            <a:ext cx="5334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K</a:t>
            </a:r>
            <a:r>
              <a:rPr b="0" lang="ja-JP" sz="2800" spc="-1" strike="noStrike" baseline="-25000">
                <a:solidFill>
                  <a:srgbClr val="000000"/>
                </a:solidFill>
                <a:latin typeface="ＭＳ Ｐゴシック"/>
              </a:rPr>
              <a:t>L</a:t>
            </a: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に対する検出効率</a:t>
            </a: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運動量依存性</a:t>
            </a:r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60000"/>
              <a:buFont typeface="HGｺﾞｼｯｸM"/>
              <a:buChar char="―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0.14% @ 1GeV/c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崩壊による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γ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線が検出の原因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76" name=""/>
          <p:cNvSpPr/>
          <p:nvPr/>
        </p:nvSpPr>
        <p:spPr>
          <a:xfrm>
            <a:off x="3067560" y="0"/>
            <a:ext cx="278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ＭＳ Ｐゴシック"/>
              </a:rPr>
              <a:t>Beam Catcher R&amp;D 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7" name=""/>
          <p:cNvGraphicFramePr/>
          <p:nvPr/>
        </p:nvGraphicFramePr>
        <p:xfrm>
          <a:off x="762120" y="3124080"/>
          <a:ext cx="3422520" cy="342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3124080"/>
                    <a:ext cx="3422520" cy="342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9" name=""/>
          <p:cNvGraphicFramePr/>
          <p:nvPr/>
        </p:nvGraphicFramePr>
        <p:xfrm>
          <a:off x="5105520" y="3200400"/>
          <a:ext cx="3771720" cy="3327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05520" y="3200400"/>
                    <a:ext cx="3771720" cy="332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1" name=""/>
          <p:cNvSpPr/>
          <p:nvPr/>
        </p:nvSpPr>
        <p:spPr>
          <a:xfrm>
            <a:off x="4191120" y="990720"/>
            <a:ext cx="533376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K</a:t>
            </a:r>
            <a:r>
              <a:rPr b="0" lang="ja-JP" sz="2400" spc="-1" strike="noStrike" baseline="-25000">
                <a:solidFill>
                  <a:srgbClr val="000000"/>
                </a:solidFill>
                <a:latin typeface="ＭＳ Ｐゴシック"/>
                <a:ea typeface="ＭＳ Ｐゴシック"/>
              </a:rPr>
              <a:t>L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による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False veto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確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　検出数 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: 0.24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イベント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/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マイクロバン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  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On-Timing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条件 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3ns/24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→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false veto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確率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3.0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科研費特定領域研究会「質量起源と超対称性物理の研究」@エポカルつくば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1293E-64FF-4F30-A6CE-022C15DF0F1E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4/03/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792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KOPIO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実験の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Conce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45820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イベントの同定</a:t>
            </a:r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K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ＭＳ Ｐゴシック"/>
              </a:rPr>
              <a:t>L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→π</a:t>
            </a:r>
            <a:r>
              <a:rPr b="0" lang="ja-JP" sz="2000" spc="-1" strike="noStrike" baseline="30000">
                <a:solidFill>
                  <a:srgbClr val="000000"/>
                </a:solidFill>
                <a:latin typeface="ＭＳ Ｐゴシック"/>
              </a:rPr>
              <a:t>0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νν     </a:t>
            </a:r>
            <a:r>
              <a:rPr b="1" lang="ja-JP" sz="2000" spc="-1" strike="noStrike" u="sng">
                <a:solidFill>
                  <a:srgbClr val="ff0000"/>
                </a:solidFill>
                <a:uFillTx/>
                <a:latin typeface="ＭＳ Ｐゴシック"/>
              </a:rPr>
              <a:t>「</a:t>
            </a:r>
            <a:r>
              <a:rPr b="1" lang="ja-JP" sz="2000" spc="-1" strike="noStrike" u="sng">
                <a:solidFill>
                  <a:srgbClr val="ff0000"/>
                </a:solidFill>
                <a:uFillTx/>
                <a:latin typeface="ＭＳ Ｐゴシック"/>
              </a:rPr>
              <a:t>π</a:t>
            </a:r>
            <a:r>
              <a:rPr b="1" lang="ja-JP" sz="2000" spc="-1" strike="noStrike" u="sng" baseline="30000">
                <a:solidFill>
                  <a:srgbClr val="ff0000"/>
                </a:solidFill>
                <a:uFillTx/>
                <a:latin typeface="ＭＳ Ｐゴシック"/>
              </a:rPr>
              <a:t>0</a:t>
            </a:r>
            <a:r>
              <a:rPr b="1" lang="ja-JP" sz="2000" spc="-1" strike="noStrike" u="sng">
                <a:solidFill>
                  <a:srgbClr val="ff0000"/>
                </a:solidFill>
                <a:uFillTx/>
                <a:latin typeface="ＭＳ Ｐゴシック"/>
              </a:rPr>
              <a:t>からの</a:t>
            </a:r>
            <a:r>
              <a:rPr b="1" lang="ja-JP" sz="2000" spc="-1" strike="noStrike" u="sng">
                <a:solidFill>
                  <a:srgbClr val="ff0000"/>
                </a:solidFill>
                <a:uFillTx/>
                <a:latin typeface="ＭＳ Ｐゴシック"/>
              </a:rPr>
              <a:t>2γ</a:t>
            </a:r>
            <a:r>
              <a:rPr b="1" lang="ja-JP" sz="2000" spc="-1" strike="noStrike" u="sng">
                <a:solidFill>
                  <a:srgbClr val="ff0000"/>
                </a:solidFill>
                <a:uFillTx/>
                <a:latin typeface="ＭＳ Ｐゴシック"/>
              </a:rPr>
              <a:t>」</a:t>
            </a:r>
            <a:r>
              <a:rPr b="1" lang="ja-JP" sz="2000" spc="-1" strike="noStrike" u="sng">
                <a:solidFill>
                  <a:srgbClr val="000000"/>
                </a:solidFill>
                <a:uFillTx/>
                <a:latin typeface="ＭＳ Ｐゴシック"/>
              </a:rPr>
              <a:t> かつ </a:t>
            </a:r>
            <a:r>
              <a:rPr b="1" lang="ja-JP" sz="2000" spc="-1" strike="noStrike" u="sng">
                <a:solidFill>
                  <a:srgbClr val="00cc00"/>
                </a:solidFill>
                <a:uFillTx/>
                <a:latin typeface="ＭＳ Ｐゴシック"/>
              </a:rPr>
              <a:t>「他は何も検出しない」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  </a:t>
            </a:r>
            <a:r>
              <a:rPr b="0" lang="ja-JP" sz="2000" spc="-1" strike="noStrike">
                <a:solidFill>
                  <a:srgbClr val="ff0000"/>
                </a:solidFill>
                <a:latin typeface="ＭＳ Ｐゴシック"/>
              </a:rPr>
              <a:t>→</a:t>
            </a:r>
            <a:r>
              <a:rPr b="0" lang="ja-JP" sz="2000" spc="-1" strike="noStrike">
                <a:solidFill>
                  <a:srgbClr val="ff0000"/>
                </a:solidFill>
                <a:latin typeface="ＭＳ Ｐゴシック"/>
              </a:rPr>
              <a:t>2γ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稀崩壊事象 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&amp; 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終状態に検出可能な粒子が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π</a:t>
            </a:r>
            <a:r>
              <a:rPr b="0" lang="ja-JP" sz="2000" spc="-1" strike="noStrike" baseline="30000">
                <a:solidFill>
                  <a:srgbClr val="000000"/>
                </a:solidFill>
                <a:latin typeface="ＭＳ Ｐゴシック"/>
              </a:rPr>
              <a:t>0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のみ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→</a:t>
            </a:r>
            <a:r>
              <a:rPr b="1" lang="ja-JP" sz="2000" spc="-1" strike="noStrike" u="sng">
                <a:solidFill>
                  <a:srgbClr val="000000"/>
                </a:solidFill>
                <a:uFillTx/>
                <a:latin typeface="ＭＳ Ｐゴシック"/>
              </a:rPr>
              <a:t>バックグラウンドの除去が重要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　　　例えば…  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K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ＭＳ Ｐゴシック"/>
              </a:rPr>
              <a:t>L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→2π</a:t>
            </a:r>
            <a:r>
              <a:rPr b="0" lang="ja-JP" sz="2000" spc="-1" strike="noStrike" baseline="30000">
                <a:solidFill>
                  <a:srgbClr val="000000"/>
                </a:solidFill>
                <a:latin typeface="ＭＳ Ｐゴシック"/>
              </a:rPr>
              <a:t>0 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→γγγγ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7543800" y="3276360"/>
            <a:ext cx="533520" cy="2286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758760" y="0"/>
            <a:ext cx="138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 u="sng">
                <a:solidFill>
                  <a:srgbClr val="000000"/>
                </a:solidFill>
                <a:uFillTx/>
                <a:latin typeface="ＭＳ Ｐゴシック"/>
              </a:rPr>
              <a:t>KOPIO</a:t>
            </a:r>
            <a:r>
              <a:rPr b="1" lang="ja-JP" sz="2000" spc="-1" strike="noStrike" u="sng">
                <a:solidFill>
                  <a:srgbClr val="000000"/>
                </a:solidFill>
                <a:uFillTx/>
                <a:latin typeface="ＭＳ Ｐゴシック"/>
              </a:rPr>
              <a:t>実験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1752480"/>
            <a:ext cx="304920" cy="38124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1752480" y="1828440"/>
            <a:ext cx="457200" cy="228600"/>
          </a:xfrm>
          <a:prstGeom prst="line">
            <a:avLst/>
          </a:prstGeom>
          <a:ln w="3168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311400" y="3429000"/>
            <a:ext cx="8505720" cy="2881440"/>
            <a:chOff x="311400" y="3429000"/>
            <a:chExt cx="8505720" cy="2881440"/>
          </a:xfrm>
        </p:grpSpPr>
        <p:graphicFrame>
          <p:nvGraphicFramePr>
            <p:cNvPr id="109" name=""/>
            <p:cNvGraphicFramePr/>
            <p:nvPr/>
          </p:nvGraphicFramePr>
          <p:xfrm>
            <a:off x="1447920" y="3551400"/>
            <a:ext cx="5181480" cy="27590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1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447920" y="3551400"/>
                      <a:ext cx="5181480" cy="2759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1" name=""/>
            <p:cNvSpPr/>
            <p:nvPr/>
          </p:nvSpPr>
          <p:spPr>
            <a:xfrm>
              <a:off x="1150200" y="3429000"/>
              <a:ext cx="2757600" cy="4597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400" spc="-1" strike="noStrike">
                  <a:solidFill>
                    <a:srgbClr val="ff0000"/>
                  </a:solidFill>
                  <a:latin typeface="ＭＳ Ｐゴシック"/>
                </a:rPr>
                <a:t>崩壊領域を完全に覆う</a:t>
              </a:r>
              <a:r>
                <a:rPr b="1" lang="ja-JP" sz="2400" spc="-1" strike="noStrike">
                  <a:solidFill>
                    <a:srgbClr val="ff0000"/>
                  </a:solidFill>
                  <a:latin typeface="ＭＳ Ｐゴシック"/>
                </a:rPr>
                <a:t>vet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38120" y="5029200"/>
              <a:ext cx="2855160" cy="7038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ＭＳ Ｐゴシック"/>
                </a:rPr>
                <a:t>“</a:t>
              </a:r>
              <a:r>
                <a:rPr b="0" lang="en-US" sz="2000" spc="-1" strike="noStrike">
                  <a:solidFill>
                    <a:srgbClr val="000000"/>
                  </a:solidFill>
                  <a:latin typeface="ＭＳ Ｐゴシック"/>
                </a:rPr>
                <a:t>microbunch” be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ＭＳ Ｐゴシック"/>
                </a:rPr>
                <a:t>(25MHz</a:t>
              </a:r>
              <a:r>
                <a:rPr b="0" lang="zh-CN" sz="2000" spc="-1" strike="noStrike">
                  <a:solidFill>
                    <a:srgbClr val="000000"/>
                  </a:solidFill>
                  <a:latin typeface="ＭＳ Ｐゴシック"/>
                </a:rPr>
                <a:t>、</a:t>
              </a:r>
              <a:r>
                <a:rPr b="0" lang="en-US" sz="2000" spc="-1" strike="noStrike">
                  <a:solidFill>
                    <a:srgbClr val="000000"/>
                  </a:solidFill>
                  <a:latin typeface="ＭＳ Ｐゴシック"/>
                </a:rPr>
                <a:t>width 200p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705720" y="4191120"/>
              <a:ext cx="2111400" cy="1313640"/>
            </a:xfrm>
            <a:prstGeom prst="rect">
              <a:avLst/>
            </a:prstGeom>
            <a:solidFill>
              <a:srgbClr val="ffffff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000000"/>
                  </a:solidFill>
                  <a:latin typeface="ＭＳ Ｐゴシック"/>
                </a:rPr>
                <a:t>光子の位置、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000000"/>
                  </a:solidFill>
                  <a:latin typeface="ＭＳ Ｐゴシック"/>
                </a:rPr>
                <a:t>エネルギー、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 u="sng">
                  <a:solidFill>
                    <a:srgbClr val="000000"/>
                  </a:solidFill>
                  <a:uFillTx/>
                  <a:latin typeface="ＭＳ Ｐゴシック"/>
                </a:rPr>
                <a:t>角度</a:t>
              </a:r>
              <a:r>
                <a:rPr b="0" lang="ja-JP" sz="2000" spc="-1" strike="noStrike">
                  <a:solidFill>
                    <a:srgbClr val="000000"/>
                  </a:solidFill>
                  <a:latin typeface="ＭＳ Ｐゴシック"/>
                </a:rPr>
                <a:t>、時間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000000"/>
                  </a:solidFill>
                  <a:latin typeface="ＭＳ Ｐゴシック"/>
                </a:rPr>
                <a:t>を測定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1400" y="4648320"/>
              <a:ext cx="1357200" cy="5101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ＭＳ Ｐゴシック"/>
                </a:rPr>
                <a:t>K</a:t>
              </a:r>
              <a:r>
                <a:rPr b="0" lang="en-US" sz="2400" spc="-1" strike="noStrike" baseline="-25000">
                  <a:solidFill>
                    <a:srgbClr val="0000ff"/>
                  </a:solidFill>
                  <a:latin typeface="ＭＳ Ｐゴシック"/>
                </a:rPr>
                <a:t>L</a:t>
              </a:r>
              <a:r>
                <a:rPr b="0" lang="zh-CN" sz="2400" spc="-1" strike="noStrike">
                  <a:solidFill>
                    <a:srgbClr val="0000ff"/>
                  </a:solidFill>
                  <a:latin typeface="ＭＳ Ｐゴシック"/>
                </a:rPr>
                <a:t>の</a:t>
              </a:r>
              <a:r>
                <a:rPr b="0" lang="en-US" sz="2400" spc="-1" strike="noStrike">
                  <a:solidFill>
                    <a:srgbClr val="0000ff"/>
                  </a:solidFill>
                  <a:latin typeface="ＭＳ Ｐゴシック"/>
                </a:rPr>
                <a:t>TO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045480" y="3733920"/>
              <a:ext cx="2241000" cy="4597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ff"/>
                  </a:solidFill>
                  <a:latin typeface="ＭＳ Ｐゴシック"/>
                </a:rPr>
                <a:t>π</a:t>
              </a:r>
              <a:r>
                <a:rPr b="0" lang="ja-JP" sz="2400" spc="-1" strike="noStrike" baseline="30000">
                  <a:solidFill>
                    <a:srgbClr val="0000ff"/>
                  </a:solidFill>
                  <a:latin typeface="ＭＳ Ｐゴシック"/>
                </a:rPr>
                <a:t>0</a:t>
              </a:r>
              <a:r>
                <a:rPr b="0" lang="ja-JP" sz="2400" spc="-1" strike="noStrike">
                  <a:solidFill>
                    <a:srgbClr val="0000ff"/>
                  </a:solidFill>
                  <a:latin typeface="ＭＳ Ｐゴシック"/>
                </a:rPr>
                <a:t>→2γ</a:t>
              </a:r>
              <a:r>
                <a:rPr b="0" lang="ja-JP" sz="2400" spc="-1" strike="noStrike">
                  <a:solidFill>
                    <a:srgbClr val="0000ff"/>
                  </a:solidFill>
                  <a:latin typeface="ＭＳ Ｐゴシック"/>
                </a:rPr>
                <a:t>崩壊の再構成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401080" y="5791320"/>
              <a:ext cx="1643760" cy="4597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400" spc="-1" strike="noStrike">
                  <a:solidFill>
                    <a:srgbClr val="0000ff"/>
                  </a:solidFill>
                  <a:latin typeface="ＭＳ Ｐゴシック"/>
                </a:rPr>
                <a:t>運動学的なカット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7" name=""/>
            <p:cNvCxnSpPr>
              <a:stCxn id="112" idx="2"/>
              <a:endCxn id="116" idx="1"/>
            </p:cNvCxnSpPr>
            <p:nvPr/>
          </p:nvCxnSpPr>
          <p:spPr>
            <a:xfrm flipH="1" rot="16200000">
              <a:off x="3303360" y="4320000"/>
              <a:ext cx="273960" cy="3151800"/>
            </a:xfrm>
            <a:prstGeom prst="bentConnector2">
              <a:avLst/>
            </a:prstGeom>
            <a:ln w="31680">
              <a:solidFill>
                <a:srgbClr val="0000ff"/>
              </a:solidFill>
              <a:miter/>
            </a:ln>
          </p:spPr>
        </p:cxnSp>
        <p:cxnSp>
          <p:nvCxnSpPr>
            <p:cNvPr id="118" name=""/>
            <p:cNvCxnSpPr>
              <a:stCxn id="116" idx="3"/>
              <a:endCxn id="113" idx="2"/>
            </p:cNvCxnSpPr>
            <p:nvPr/>
          </p:nvCxnSpPr>
          <p:spPr>
            <a:xfrm flipV="1">
              <a:off x="7429320" y="5535360"/>
              <a:ext cx="332280" cy="497520"/>
            </a:xfrm>
            <a:prstGeom prst="bentConnector2">
              <a:avLst/>
            </a:prstGeom>
            <a:ln w="31680">
              <a:solidFill>
                <a:srgbClr val="0000ff"/>
              </a:solidFill>
              <a:miter/>
            </a:ln>
          </p:spPr>
        </p:cxn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科研費特定領域研究会「質量起源と超対称性物理の研究」@エポカルつくば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A4839-2836-4DB8-BA1A-CB8555C180C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4/03/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OPIO Detect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45820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21" name=""/>
          <p:cNvSpPr/>
          <p:nvPr/>
        </p:nvSpPr>
        <p:spPr>
          <a:xfrm>
            <a:off x="3758760" y="0"/>
            <a:ext cx="138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 u="sng">
                <a:solidFill>
                  <a:srgbClr val="000000"/>
                </a:solidFill>
                <a:uFillTx/>
                <a:latin typeface="ＭＳ Ｐゴシック"/>
              </a:rPr>
              <a:t>KOPIO</a:t>
            </a:r>
            <a:r>
              <a:rPr b="1" lang="ja-JP" sz="2000" spc="-1" strike="noStrike" u="sng">
                <a:solidFill>
                  <a:srgbClr val="000000"/>
                </a:solidFill>
                <a:uFillTx/>
                <a:latin typeface="ＭＳ Ｐゴシック"/>
              </a:rPr>
              <a:t>実験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609480" y="1447920"/>
          <a:ext cx="805968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447920"/>
                    <a:ext cx="805968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科研費特定領域研究会「質量起源と超対称性物理の研究」@エポカルつくば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442CD-23C3-4D30-B11C-3AD0083FE5C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4/03/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4" name=""/>
          <p:cNvGraphicFramePr/>
          <p:nvPr/>
        </p:nvGraphicFramePr>
        <p:xfrm>
          <a:off x="762120" y="1066680"/>
          <a:ext cx="7164360" cy="524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066680"/>
                    <a:ext cx="7164360" cy="524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"/>
          <p:cNvSpPr/>
          <p:nvPr/>
        </p:nvSpPr>
        <p:spPr>
          <a:xfrm flipH="1" flipV="1">
            <a:off x="6248160" y="2819520"/>
            <a:ext cx="990360" cy="121896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KOPIO Detector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ー 日本グループの役割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45820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29" name=""/>
          <p:cNvSpPr/>
          <p:nvPr/>
        </p:nvSpPr>
        <p:spPr>
          <a:xfrm>
            <a:off x="3758760" y="0"/>
            <a:ext cx="138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 u="sng">
                <a:solidFill>
                  <a:srgbClr val="000000"/>
                </a:solidFill>
                <a:uFillTx/>
                <a:latin typeface="ＭＳ Ｐゴシック"/>
              </a:rPr>
              <a:t>KOPIO</a:t>
            </a:r>
            <a:r>
              <a:rPr b="1" lang="ja-JP" sz="2000" spc="-1" strike="noStrike" u="sng">
                <a:solidFill>
                  <a:srgbClr val="000000"/>
                </a:solidFill>
                <a:uFillTx/>
                <a:latin typeface="ＭＳ Ｐゴシック"/>
              </a:rPr>
              <a:t>実験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687720" y="3505320"/>
            <a:ext cx="2312640" cy="11304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 u="sng">
                <a:solidFill>
                  <a:srgbClr val="ff0000"/>
                </a:solidFill>
                <a:uFillTx/>
                <a:latin typeface="ＭＳ Ｐゴシック"/>
              </a:rPr>
              <a:t>Beam C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  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中性ビーム中の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  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γ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線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veto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検出器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2971440" y="4114800"/>
            <a:ext cx="2971800" cy="1447920"/>
          </a:xfrm>
          <a:prstGeom prst="line">
            <a:avLst/>
          </a:prstGeom>
          <a:ln w="3168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742720" y="5105520"/>
            <a:ext cx="223956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 u="sng">
                <a:solidFill>
                  <a:srgbClr val="00cc00"/>
                </a:solidFill>
                <a:uFillTx/>
                <a:latin typeface="ＭＳ Ｐゴシック"/>
              </a:rPr>
              <a:t>Eye-Pipe Ve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カロリメータ内壁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荷電粒子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veto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検出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239160" y="464832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0000"/>
                </a:solidFill>
                <a:latin typeface="Tahoma"/>
              </a:rPr>
              <a:t>日本グループの担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科研費特定領域研究会「質量起源と超対称性物理の研究」@エポカルつくば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A1901-1E03-46DF-8EC1-BB7E1FA8639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4/03/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4" name=""/>
          <p:cNvGraphicFramePr/>
          <p:nvPr/>
        </p:nvGraphicFramePr>
        <p:xfrm>
          <a:off x="4952880" y="2971800"/>
          <a:ext cx="3915000" cy="280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2880" y="2971800"/>
                    <a:ext cx="3915000" cy="280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792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KOPIO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実験の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Go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45820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約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40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信号イベントの観測</a:t>
            </a:r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S/N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比 ～２</a:t>
            </a:r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   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バックグラウンド</a:t>
            </a:r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	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K</a:t>
            </a:r>
            <a:r>
              <a:rPr b="0" lang="ja-JP" sz="2400" spc="-1" strike="noStrike" baseline="-25000">
                <a:solidFill>
                  <a:srgbClr val="000000"/>
                </a:solidFill>
                <a:latin typeface="ＭＳ Ｐゴシック"/>
              </a:rPr>
              <a:t>L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 → π</a:t>
            </a:r>
            <a:r>
              <a:rPr b="0" lang="ja-JP" sz="2400" spc="-1" strike="noStrike" baseline="30000">
                <a:solidFill>
                  <a:srgbClr val="000000"/>
                </a:solidFill>
                <a:latin typeface="ＭＳ Ｐゴシック"/>
              </a:rPr>
              <a:t>0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π</a:t>
            </a:r>
            <a:r>
              <a:rPr b="0" lang="ja-JP" sz="2400" spc="-1" strike="noStrike" baseline="30000">
                <a:solidFill>
                  <a:srgbClr val="000000"/>
                </a:solidFill>
                <a:latin typeface="ＭＳ Ｐゴシック"/>
              </a:rPr>
              <a:t>0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	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	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	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K</a:t>
            </a:r>
            <a:r>
              <a:rPr b="0" lang="ja-JP" sz="2400" spc="-1" strike="noStrike" baseline="-25000">
                <a:solidFill>
                  <a:srgbClr val="000000"/>
                </a:solidFill>
                <a:latin typeface="ＭＳ Ｐゴシック"/>
              </a:rPr>
              <a:t>L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 → π</a:t>
            </a:r>
            <a:r>
              <a:rPr b="0" lang="ja-JP" sz="2400" spc="-1" strike="noStrike" baseline="30000">
                <a:solidFill>
                  <a:srgbClr val="000000"/>
                </a:solidFill>
                <a:latin typeface="ＭＳ Ｐゴシック"/>
              </a:rPr>
              <a:t>0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π</a:t>
            </a:r>
            <a:r>
              <a:rPr b="0" lang="ja-JP" sz="2400" spc="-1" strike="noStrike" baseline="30000">
                <a:solidFill>
                  <a:srgbClr val="000000"/>
                </a:solidFill>
                <a:latin typeface="ＭＳ Ｐゴシック"/>
              </a:rPr>
              <a:t>+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π</a:t>
            </a:r>
            <a:r>
              <a:rPr b="0" lang="ja-JP" sz="2400" spc="-1" strike="noStrike" baseline="30000">
                <a:solidFill>
                  <a:srgbClr val="000000"/>
                </a:solidFill>
                <a:latin typeface="ＭＳ Ｐゴシック"/>
              </a:rPr>
              <a:t>-</a:t>
            </a:r>
            <a:r>
              <a:rPr b="0" lang="ja-JP" sz="2400" spc="-1" strike="noStrike" baseline="30000">
                <a:solidFill>
                  <a:srgbClr val="000000"/>
                </a:solidFill>
                <a:latin typeface="ＭＳ Ｐゴシック"/>
              </a:rPr>
              <a:t>	</a:t>
            </a:r>
            <a:r>
              <a:rPr b="0" lang="ja-JP" sz="2400" spc="-1" strike="noStrike" baseline="30000">
                <a:solidFill>
                  <a:srgbClr val="000000"/>
                </a:solidFill>
                <a:latin typeface="ＭＳ Ｐゴシック"/>
              </a:rPr>
              <a:t>   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	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K</a:t>
            </a:r>
            <a:r>
              <a:rPr b="0" lang="ja-JP" sz="2400" spc="-1" strike="noStrike" baseline="-25000">
                <a:solidFill>
                  <a:srgbClr val="000000"/>
                </a:solidFill>
                <a:latin typeface="ＭＳ Ｐゴシック"/>
              </a:rPr>
              <a:t>L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 → π</a:t>
            </a:r>
            <a:r>
              <a:rPr b="0" lang="ja-JP" sz="2400" spc="-1" strike="noStrike" baseline="30000">
                <a:solidFill>
                  <a:srgbClr val="000000"/>
                </a:solidFill>
                <a:latin typeface="ＭＳ Ｐゴシック"/>
              </a:rPr>
              <a:t>-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e</a:t>
            </a:r>
            <a:r>
              <a:rPr b="0" lang="ja-JP" sz="2400" spc="-1" strike="noStrike" baseline="30000">
                <a:solidFill>
                  <a:srgbClr val="000000"/>
                </a:solidFill>
                <a:latin typeface="ＭＳ Ｐゴシック"/>
              </a:rPr>
              <a:t>+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νγ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	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  4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　　</a:t>
            </a:r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38" name=""/>
          <p:cNvSpPr/>
          <p:nvPr/>
        </p:nvSpPr>
        <p:spPr>
          <a:xfrm>
            <a:off x="3758760" y="0"/>
            <a:ext cx="138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 u="sng">
                <a:solidFill>
                  <a:srgbClr val="000000"/>
                </a:solidFill>
                <a:uFillTx/>
                <a:latin typeface="ＭＳ Ｐゴシック"/>
              </a:rPr>
              <a:t>KOPIO</a:t>
            </a:r>
            <a:r>
              <a:rPr b="1" lang="ja-JP" sz="2000" spc="-1" strike="noStrike" u="sng">
                <a:solidFill>
                  <a:srgbClr val="000000"/>
                </a:solidFill>
                <a:uFillTx/>
                <a:latin typeface="ＭＳ Ｐゴシック"/>
              </a:rPr>
              <a:t>実験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科研費特定領域研究会「質量起源と超対称性物理の研究」@エポカルつくば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30645-AED2-41B2-B671-9A1C77C9783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4/03/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792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日本グループの活動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2002-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45820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Beam Catcher</a:t>
            </a:r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990720" indent="-533520"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第二次プロトタイプによる原理テスト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990720" indent="-533520"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シミュレーションによる具体的な設計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990720" indent="-533520"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エアロジェル品質管理システムの開発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lvl="2" marL="1371600" indent="-457200">
              <a:spcBef>
                <a:spcPts val="451"/>
              </a:spcBef>
              <a:buClr>
                <a:srgbClr val="000000"/>
              </a:buClr>
              <a:buSzPct val="60000"/>
              <a:buFont typeface="HGｺﾞｼｯｸM"/>
              <a:buChar char="―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透過率測定システム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  <a:p>
            <a:pPr lvl="2" marL="1371600" indent="-457200">
              <a:spcBef>
                <a:spcPts val="451"/>
              </a:spcBef>
              <a:buClr>
                <a:srgbClr val="000000"/>
              </a:buClr>
              <a:buSzPct val="60000"/>
              <a:buFont typeface="HGｺﾞｼｯｸM"/>
              <a:buChar char="―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チェレンコフ発光量測定システム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  <a:p>
            <a:pPr lvl="2" marL="13716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荷電粒子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Veto</a:t>
            </a:r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990720" indent="-533520"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高量子効率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PMT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の性能評価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990720" indent="-533520"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シンチレータ 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+ 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波長変換ファイバーでの光量測定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41" name=""/>
          <p:cNvSpPr/>
          <p:nvPr/>
        </p:nvSpPr>
        <p:spPr>
          <a:xfrm>
            <a:off x="3677400" y="0"/>
            <a:ext cx="155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 u="sng">
                <a:solidFill>
                  <a:srgbClr val="000000"/>
                </a:solidFill>
                <a:uFillTx/>
                <a:latin typeface="ＭＳ Ｐゴシック"/>
              </a:rPr>
              <a:t>日本グループの活動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科研費特定領域研究会「質量起源と超対称性物理の研究」@エポカルつくば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90853-B4CC-4E78-98F9-B671ED5ADE8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4/03/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99760" y="0"/>
            <a:ext cx="8543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am Catcher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とは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6172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　ビームホールを覆う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γ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線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veto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検出器</a:t>
            </a:r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光子に対しては高検出率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HGｺﾞｼｯｸM"/>
              <a:buChar char="―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300MeV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の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γ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に対して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98%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以上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高レート中性ビーム中に置かれる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Ｐゴシック"/>
              </a:rPr>
              <a:t>→</a:t>
            </a:r>
            <a:r>
              <a:rPr b="1" lang="ja-JP" sz="2000" spc="-1" strike="noStrike" u="sng">
                <a:solidFill>
                  <a:srgbClr val="000000"/>
                </a:solidFill>
                <a:uFillTx/>
                <a:latin typeface="ＭＳ Ｐゴシック"/>
              </a:rPr>
              <a:t>ビーム中に大量にある中性子に対して不感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HGｺﾞｼｯｸM"/>
              <a:buChar char="―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0.8GeV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の中性子に対して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0.2%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以下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　このような要求を満たすため…</a:t>
            </a:r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	</a:t>
            </a:r>
            <a:r>
              <a:rPr b="1" lang="ja-JP" sz="2400" spc="-1" strike="noStrike">
                <a:solidFill>
                  <a:srgbClr val="ff0000"/>
                </a:solidFill>
                <a:latin typeface="ＭＳ Ｐゴシック"/>
              </a:rPr>
              <a:t>チェレンコフ閾値型カウンタを分散配置</a:t>
            </a:r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鉛コンバータ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+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エアロジェル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HGｺﾞｼｯｸM"/>
              <a:buChar char="―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エアロジェルを用いることで低速粒子に不感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モジュールを多数配置し、ビーム方向に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Coincidence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をとる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→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中性子からの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Background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を落とす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44" name=""/>
          <p:cNvSpPr/>
          <p:nvPr/>
        </p:nvSpPr>
        <p:spPr>
          <a:xfrm>
            <a:off x="3460680" y="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ＭＳ Ｐゴシック"/>
              </a:rPr>
              <a:t>Beam Catch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5884920" y="380880"/>
          <a:ext cx="3122640" cy="3378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84920" y="380880"/>
                    <a:ext cx="3122640" cy="337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7" name=""/>
          <p:cNvGraphicFramePr/>
          <p:nvPr/>
        </p:nvGraphicFramePr>
        <p:xfrm>
          <a:off x="5867280" y="3733920"/>
          <a:ext cx="3276720" cy="2590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67280" y="3733920"/>
                    <a:ext cx="3276720" cy="259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" name=""/>
          <p:cNvSpPr/>
          <p:nvPr/>
        </p:nvSpPr>
        <p:spPr>
          <a:xfrm>
            <a:off x="5730120" y="3733920"/>
            <a:ext cx="1086120" cy="368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op vie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768280" y="5410080"/>
            <a:ext cx="1163880" cy="368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e vie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科研費特定領域研究会「質量起源と超対称性物理の研究」@エポカルつくば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B0F65-D9A1-4AAF-AFD5-CBEE561E12ED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4/03/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99760" y="0"/>
            <a:ext cx="8543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am Catcher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とは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"/>
          <p:cNvSpPr/>
          <p:nvPr/>
        </p:nvSpPr>
        <p:spPr>
          <a:xfrm>
            <a:off x="3460680" y="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ＭＳ Ｐゴシック"/>
              </a:rPr>
              <a:t>Beam Catch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0" y="2146320"/>
          <a:ext cx="5029200" cy="424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146320"/>
                    <a:ext cx="5029200" cy="424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" name=""/>
          <p:cNvSpPr/>
          <p:nvPr/>
        </p:nvSpPr>
        <p:spPr>
          <a:xfrm>
            <a:off x="291240" y="2209680"/>
            <a:ext cx="1086120" cy="368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op vie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65760" y="4876920"/>
            <a:ext cx="1163880" cy="368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e vie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4572000" y="2057400"/>
          <a:ext cx="4878360" cy="4073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2057400"/>
                    <a:ext cx="4878360" cy="407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" name=""/>
          <p:cNvSpPr/>
          <p:nvPr/>
        </p:nvSpPr>
        <p:spPr>
          <a:xfrm>
            <a:off x="4710960" y="2209680"/>
            <a:ext cx="1086120" cy="368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op vie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785480" y="4800600"/>
            <a:ext cx="1163880" cy="368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e vie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66360" y="1380960"/>
            <a:ext cx="293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ja-JP" sz="2000" spc="-1" strike="noStrike" u="sng">
                <a:solidFill>
                  <a:srgbClr val="000000"/>
                </a:solidFill>
                <a:uFillTx/>
                <a:latin typeface="Tahoma"/>
              </a:rPr>
              <a:t>γ</a:t>
            </a:r>
            <a:r>
              <a:rPr b="1" lang="ja-JP" sz="2000" spc="-1" strike="noStrike" u="sng">
                <a:solidFill>
                  <a:srgbClr val="000000"/>
                </a:solidFill>
                <a:uFillTx/>
                <a:latin typeface="Tahoma"/>
              </a:rPr>
              <a:t>線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に対するイベントディスプレイ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087520" y="1380960"/>
            <a:ext cx="309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ja-JP" sz="2000" spc="-1" strike="noStrike" u="sng">
                <a:solidFill>
                  <a:srgbClr val="000000"/>
                </a:solidFill>
                <a:uFillTx/>
                <a:latin typeface="Tahoma"/>
              </a:rPr>
              <a:t>中性子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に対するイベントディスプレイ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865520" y="4114800"/>
            <a:ext cx="1983600" cy="580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電磁シャワーは前方へ広がる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ビーム方向にコインシデン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254640" y="4191120"/>
            <a:ext cx="2349360" cy="580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次粒子は等方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ビーム方向にコインシデンス確率低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科研費特定領域研究会「質量起源と超対称性物理の研究」@エポカルつくば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C6BED-FDCB-4DA3-B37A-673BAFE4BF72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4/03/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8T16:14:03Z</dcterms:created>
  <dc:creator>森井秀樹</dc:creator>
  <dc:description/>
  <dc:language>en-US</dc:language>
  <cp:lastModifiedBy>moriih</cp:lastModifiedBy>
  <dcterms:modified xsi:type="dcterms:W3CDTF">2004-03-04T09:55:02Z</dcterms:modified>
  <cp:revision>93</cp:revision>
  <dc:subject/>
  <dc:title>KOPIO実験のための中性子不感型光子</dc:title>
</cp:coreProperties>
</file>