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5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7.png" ContentType="image/png"/>
  <Override PartName="/ppt/media/image9.jpeg" ContentType="image/jpeg"/>
  <Override PartName="/ppt/media/image40.png" ContentType="image/pn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2.png" ContentType="image/png"/>
  <Override PartName="/ppt/media/image37.jpeg" ContentType="image/jpeg"/>
  <Override PartName="/ppt/media/image39.png" ContentType="image/pn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6B3-4607-4B8C-871A-2116787A10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AE58-78B0-40FF-B710-4980383B3B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80C-0947-44FA-9783-71A50CE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93B-C4AC-499D-A0A5-1FF3EA8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369-7057-4C67-9BB4-2DB38B0A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3E0-9DB9-4003-B795-DD700EA2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2F6-9F11-46D2-83DF-76401F3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828-70F1-4026-BC71-07726894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FF3-1BA6-47E0-9A8A-F7B8559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D3F-7967-4A77-8CDC-7043D3F0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955-B41C-4756-B39D-866474A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28A-94DD-4154-BF2D-6075F312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30A-6CF7-49E4-8D80-B066D9D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182-6ED0-439E-963E-0960B1A6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3F1-59FC-4901-B593-8350235682E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632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ff"/>
                </a:solidFill>
                <a:latin typeface="Arial"/>
              </a:rPr>
              <a:t>SiC</a:t>
            </a:r>
            <a:r>
              <a:rPr b="0" lang="ja-JP" sz="4000" spc="-1" strike="noStrike">
                <a:solidFill>
                  <a:srgbClr val="3333ff"/>
                </a:solidFill>
                <a:latin typeface="Arial"/>
              </a:rPr>
              <a:t>半導体による放射線検出器の</a:t>
            </a:r>
            <a:br>
              <a:rPr sz="4000"/>
            </a:br>
            <a:r>
              <a:rPr b="0" lang="ja-JP" sz="4000" spc="-1" strike="noStrike">
                <a:solidFill>
                  <a:srgbClr val="3333ff"/>
                </a:solidFill>
                <a:latin typeface="Arial"/>
              </a:rPr>
              <a:t>開発・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9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２００４年　３月　９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岡山大学・理学部　　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中野　逸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，岩見　基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　　　　　　　 木下　明将，小林　健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　　　　　　　 田中　礼三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原研高崎　　　　　　　 大井　暁彦，大島　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　　　　　 　　神谷　富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　　　　 　福島　靖孝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測定試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4764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0132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784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48120" y="246384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79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6520" y="247968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1976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5760" y="25290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5μ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25280" y="3063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300μ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4184640"/>
            <a:ext cx="1447920" cy="870120"/>
            <a:chOff x="914400" y="4184640"/>
            <a:chExt cx="1447920" cy="870120"/>
          </a:xfrm>
        </p:grpSpPr>
        <p:sp>
          <p:nvSpPr>
            <p:cNvPr id="137" name=""/>
            <p:cNvSpPr/>
            <p:nvPr/>
          </p:nvSpPr>
          <p:spPr>
            <a:xfrm>
              <a:off x="914400" y="4267080"/>
              <a:ext cx="22860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4495680"/>
              <a:ext cx="552600" cy="225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4184640"/>
              <a:ext cx="914400" cy="87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4572000"/>
              <a:ext cx="401760" cy="15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838080" y="3013200"/>
            <a:ext cx="205740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479680"/>
            <a:ext cx="20574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774960"/>
            <a:ext cx="20574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479680"/>
            <a:ext cx="11430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mic Sans MS"/>
              </a:rPr>
              <a:t>SiCn</a:t>
            </a:r>
            <a:r>
              <a:rPr b="0" lang="ja-JP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86000"/>
            <a:ext cx="533520" cy="19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289240"/>
            <a:ext cx="533160" cy="18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060640"/>
            <a:ext cx="22860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362320"/>
            <a:ext cx="914400" cy="117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209680"/>
            <a:ext cx="309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209680"/>
            <a:ext cx="7632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7040" y="15685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873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38680" y="123840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4100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原子力研究所高崎研究所の協力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により製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有効有感面積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707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9480" y="15238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300μm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441440"/>
            <a:ext cx="914400" cy="615960"/>
          </a:xfrm>
          <a:custGeom>
            <a:avLst/>
            <a:gdLst/>
            <a:ahLst/>
            <a:rect l="l" t="t" r="r" b="b"/>
            <a:pathLst>
              <a:path w="576" h="388">
                <a:moveTo>
                  <a:pt x="576" y="388"/>
                </a:moveTo>
                <a:cubicBezTo>
                  <a:pt x="556" y="332"/>
                  <a:pt x="523" y="290"/>
                  <a:pt x="475" y="255"/>
                </a:cubicBezTo>
                <a:cubicBezTo>
                  <a:pt x="456" y="225"/>
                  <a:pt x="435" y="211"/>
                  <a:pt x="409" y="188"/>
                </a:cubicBezTo>
                <a:cubicBezTo>
                  <a:pt x="350" y="135"/>
                  <a:pt x="286" y="71"/>
                  <a:pt x="208" y="46"/>
                </a:cubicBezTo>
                <a:cubicBezTo>
                  <a:pt x="141" y="0"/>
                  <a:pt x="81" y="4"/>
                  <a:pt x="0" y="4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080" y="8794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711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130480"/>
            <a:ext cx="0" cy="2441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130480"/>
            <a:ext cx="0" cy="2593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160" y="2178000"/>
            <a:ext cx="61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3680" y="255888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C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7360" y="32004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C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040" y="37530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2767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72800" y="5730840"/>
            <a:ext cx="31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3071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浜松ホトニクス社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有効有感面積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.6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71000" y="1143000"/>
            <a:ext cx="212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N-SiC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ダイオー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40840" y="3429000"/>
            <a:ext cx="26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i PIN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フォトダイオー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638680" y="3984480"/>
            <a:ext cx="2438640" cy="1731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105520" y="3276720"/>
            <a:ext cx="373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48120" y="2361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 of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1880" y="2914560"/>
            <a:ext cx="3084480" cy="3119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2340000" y="3213000"/>
            <a:ext cx="144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87280" y="2779560"/>
            <a:ext cx="1800" cy="176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2413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電極（ボンディング用パッ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28465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電極（検出部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272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74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2720" y="616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19440" y="63025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00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930920" y="3141720"/>
            <a:ext cx="3456000" cy="3133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299280" y="3645000"/>
            <a:ext cx="576360" cy="576000"/>
          </a:xfrm>
          <a:prstGeom prst="ellips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292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2656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83520" y="2644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55000" y="37101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248160" cy="4236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7560" y="304560"/>
            <a:ext cx="5624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４．静特性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I-V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1139760"/>
            <a:ext cx="8892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696080" y="152280"/>
            <a:ext cx="1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2400" y="127008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逆バイア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53280" y="-25920"/>
            <a:ext cx="42372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mic Sans MS"/>
              </a:rPr>
              <a:t>漏れ電流</a:t>
            </a:r>
            <a:r>
              <a:rPr b="0" lang="ja-JP" sz="1600" spc="-1" strike="noStrike">
                <a:solidFill>
                  <a:srgbClr val="000000"/>
                </a:solidFill>
                <a:latin typeface="Comic Sans MS"/>
              </a:rPr>
              <a:t>[n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571640" y="3429000"/>
            <a:ext cx="1066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28760" y="2743200"/>
            <a:ext cx="2777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試料の良否を判断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漏れ電流値の低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これらの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iC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試料を評価し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990720" cy="1752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9718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129440" cy="5257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81080" y="5335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I-V </a:t>
            </a:r>
            <a:r>
              <a:rPr b="1" lang="zh-CN" sz="4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181480" y="4005360"/>
            <a:ext cx="3775320" cy="2547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194440" y="1143000"/>
            <a:ext cx="3813120" cy="2573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7680" y="151920"/>
            <a:ext cx="85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-V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空乏層厚評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9000" y="3429000"/>
            <a:ext cx="1371600" cy="838080"/>
            <a:chOff x="3429000" y="3429000"/>
            <a:chExt cx="1371600" cy="838080"/>
          </a:xfrm>
        </p:grpSpPr>
        <p:sp>
          <p:nvSpPr>
            <p:cNvPr id="208" name=""/>
            <p:cNvSpPr/>
            <p:nvPr/>
          </p:nvSpPr>
          <p:spPr>
            <a:xfrm>
              <a:off x="3429000" y="3429000"/>
              <a:ext cx="137160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3429000" y="3429000"/>
                  <a:ext cx="13082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/>
          <p:cNvSpPr/>
          <p:nvPr/>
        </p:nvSpPr>
        <p:spPr>
          <a:xfrm>
            <a:off x="4191120" y="4800600"/>
            <a:ext cx="8380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133720"/>
            <a:ext cx="0" cy="711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158920"/>
            <a:ext cx="8380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2616120"/>
            <a:ext cx="0" cy="812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4267080"/>
            <a:ext cx="0" cy="533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38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3840" y="2514600"/>
            <a:ext cx="24400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3840" y="1616040"/>
            <a:ext cx="2440080" cy="8985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9800" y="21337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C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8240" y="2666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C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1612800"/>
            <a:ext cx="2438640" cy="60984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81240" y="1612800"/>
            <a:ext cx="243828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C 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9376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0920" y="1720800"/>
            <a:ext cx="546480" cy="337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空乏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600200"/>
            <a:ext cx="21600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09680"/>
            <a:ext cx="3049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5029200"/>
          <a:ext cx="4419720" cy="1365120"/>
        </p:xfrm>
        <a:graphic>
          <a:graphicData uri="http://schemas.openxmlformats.org/drawingml/2006/table">
            <a:tbl>
              <a:tblPr/>
              <a:tblGrid>
                <a:gridCol w="2667240"/>
                <a:gridCol w="175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空乏層厚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μ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PIN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ォトダイオー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-SiC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ダイオー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5930640" y="4038480"/>
            <a:ext cx="11970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空乏層厚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分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342900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22880" y="1295280"/>
            <a:ext cx="3524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10280" y="4038480"/>
            <a:ext cx="35244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6324480"/>
            <a:ext cx="3657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72120" y="3578400"/>
            <a:ext cx="888840" cy="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172120" y="259056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74280" y="370836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逆バイアス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[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9320" y="2530080"/>
            <a:ext cx="42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omic Sans MS"/>
              </a:rPr>
              <a:t>容量</a:t>
            </a:r>
            <a:r>
              <a:rPr b="1" lang="ja-JP" sz="1600" spc="-1" strike="noStrike">
                <a:solidFill>
                  <a:srgbClr val="000000"/>
                </a:solidFill>
                <a:latin typeface="Comic Sans MS"/>
              </a:rPr>
              <a:t>[p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6397560"/>
            <a:ext cx="889200" cy="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095800" y="5410080"/>
            <a:ext cx="180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97960" y="65278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逆バイアス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[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3000" y="5247720"/>
            <a:ext cx="423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空乏層厚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[u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8360" y="1066680"/>
            <a:ext cx="864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-V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696080" y="1143000"/>
            <a:ext cx="1111320" cy="1380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728120" y="3962520"/>
            <a:ext cx="11109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11" descr=""/>
          <p:cNvPicPr/>
          <p:nvPr/>
        </p:nvPicPr>
        <p:blipFill>
          <a:blip r:embed="rId1"/>
          <a:stretch/>
        </p:blipFill>
        <p:spPr>
          <a:xfrm>
            <a:off x="0" y="1447920"/>
            <a:ext cx="2819520" cy="3047760"/>
          </a:xfrm>
          <a:prstGeom prst="rect">
            <a:avLst/>
          </a:prstGeom>
          <a:ln w="0">
            <a:noFill/>
          </a:ln>
        </p:spPr>
      </p:pic>
      <p:pic>
        <p:nvPicPr>
          <p:cNvPr id="244" name="p33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245" name="sic" descr=""/>
          <p:cNvPicPr/>
          <p:nvPr/>
        </p:nvPicPr>
        <p:blipFill>
          <a:blip r:embed="rId3"/>
          <a:stretch/>
        </p:blipFill>
        <p:spPr>
          <a:xfrm>
            <a:off x="6248520" y="16002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浮遊容量を補正した　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C-V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　曲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3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照射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照射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84360" y="1700280"/>
            <a:ext cx="3527280" cy="3958920"/>
            <a:chOff x="684360" y="1700280"/>
            <a:chExt cx="3527280" cy="3958920"/>
          </a:xfrm>
        </p:grpSpPr>
        <p:sp>
          <p:nvSpPr>
            <p:cNvPr id="250" name=""/>
            <p:cNvSpPr/>
            <p:nvPr/>
          </p:nvSpPr>
          <p:spPr>
            <a:xfrm>
              <a:off x="684360" y="4811040"/>
              <a:ext cx="3527280" cy="8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Fig. 4. Pulse height distributions of the pn-SiC detector sample at different reverse bias voltages for UV light of 1μs width pulses at 100Hz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3495960" cy="344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"/>
          <p:cNvGrpSpPr/>
          <p:nvPr/>
        </p:nvGrpSpPr>
        <p:grpSpPr>
          <a:xfrm>
            <a:off x="4932360" y="1557360"/>
            <a:ext cx="3672000" cy="4535640"/>
            <a:chOff x="4932360" y="1557360"/>
            <a:chExt cx="3672000" cy="4535640"/>
          </a:xfrm>
        </p:grpSpPr>
        <p:sp>
          <p:nvSpPr>
            <p:cNvPr id="253" name=""/>
            <p:cNvSpPr/>
            <p:nvPr/>
          </p:nvSpPr>
          <p:spPr>
            <a:xfrm>
              <a:off x="4953960" y="4839480"/>
              <a:ext cx="3616920" cy="125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Fig. 5. For experimental data, the open circles for 1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s pulse width are distribution of mean pulse height normalized by that at the reverse bias voltages of -200V. For theoretical data, the solid line, broken line and dash-dotted line are distribution of intensity normalized by that at reverse bias voltages of -200V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4932360" y="1557360"/>
              <a:ext cx="3672000" cy="35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762120" y="1522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５．動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D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応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541008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効果を考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Bulk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影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(4.4M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50 Mrad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635280" y="981000"/>
            <a:ext cx="2559240" cy="1741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372360" y="981000"/>
            <a:ext cx="2558880" cy="1741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39640" y="2997360"/>
            <a:ext cx="4416480" cy="3539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79600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570560" y="2997360"/>
            <a:ext cx="4573440" cy="35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(~2M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50 Mrad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2559240" cy="174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558880" cy="1741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96720" y="2914560"/>
            <a:ext cx="4415040" cy="3538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327560" y="2914560"/>
            <a:ext cx="4565520" cy="3538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nsitive Are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薄い（５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ｍ）た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821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６．放射線照射</a:t>
            </a:r>
            <a:br>
              <a:rPr sz="3700"/>
            </a:b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　　　　放射線耐性の研究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原子力研究所高崎研究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514600"/>
            <a:ext cx="685476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照射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吸収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線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β(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電子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線・・・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[Me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.0×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 1.0×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14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.0×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[e/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-2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γ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線･･･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.173, 1.333[MeV] (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線源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60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.3, 6.3, 15.2, 29.1, 43.1, 150.4 [Mra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181480"/>
            <a:ext cx="3733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</a:rPr>
              <a:t>最初の試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</a:rPr>
              <a:t>　　制御のしやす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1" lang="ja-JP" sz="2000" spc="-1" strike="noStrike">
                <a:solidFill>
                  <a:srgbClr val="3333ff"/>
                </a:solidFill>
                <a:latin typeface="Arial"/>
              </a:rPr>
              <a:t>Access</a:t>
            </a:r>
            <a:r>
              <a:rPr b="1" lang="ja-JP" sz="2000" spc="-1" strike="noStrike">
                <a:solidFill>
                  <a:srgbClr val="3333ff"/>
                </a:solidFill>
                <a:latin typeface="Arial"/>
              </a:rPr>
              <a:t>のしやす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　　　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4465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１．動機と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C stu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簡単な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４．静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５．動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６．放射線照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７．現状の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238400" cy="116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268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308720" y="3357720"/>
            <a:ext cx="1295640" cy="112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580000" y="4869000"/>
            <a:ext cx="14382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332160" cy="41767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7680" y="151920"/>
            <a:ext cx="595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-V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性（放射線照射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3332160" cy="4302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564000" y="1371600"/>
            <a:ext cx="1236600" cy="1219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086600" y="1828800"/>
            <a:ext cx="1312920" cy="922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2720" y="1484280"/>
            <a:ext cx="6836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Comic Sans MS"/>
              </a:rPr>
              <a:t>Si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6200" y="3573360"/>
            <a:ext cx="87552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C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73800" y="765000"/>
            <a:ext cx="893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↓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β</a:t>
            </a:r>
            <a:r>
              <a:rPr b="1" lang="zh-CN" sz="2400" spc="-1" strike="noStrike">
                <a:solidFill>
                  <a:srgbClr val="663300"/>
                </a:solidFill>
                <a:latin typeface="Comic Sans MS"/>
              </a:rPr>
              <a:t>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762120"/>
            <a:ext cx="86652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逆バイアス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[V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3960" y="4069440"/>
            <a:ext cx="48528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漏れ電流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[nA</a:t>
            </a:r>
            <a:r>
              <a:rPr b="0" lang="ja-JP" sz="16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0080" y="1371600"/>
            <a:ext cx="309600" cy="644400"/>
          </a:xfrm>
          <a:prstGeom prst="upArrow">
            <a:avLst>
              <a:gd name="adj1" fmla="val 50000"/>
              <a:gd name="adj2" fmla="val 52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75240" y="1406520"/>
            <a:ext cx="1155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漏れ電流値の増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60640" y="1447920"/>
            <a:ext cx="309600" cy="450720"/>
          </a:xfrm>
          <a:prstGeom prst="upArrow">
            <a:avLst>
              <a:gd name="adj1" fmla="val 50000"/>
              <a:gd name="adj2" fmla="val 363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3640" y="1557360"/>
            <a:ext cx="3524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3640" y="2997360"/>
            <a:ext cx="306072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 20 40 60    100         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3640" y="3716280"/>
            <a:ext cx="3524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700280"/>
            <a:ext cx="40824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789360"/>
            <a:ext cx="4287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5157720"/>
            <a:ext cx="33526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 20 40 60    100         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4000" y="5229360"/>
            <a:ext cx="3249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  20 40 60   100        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306864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  20 40 60   100         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S3071D.gif"/>
          <p:cNvPicPr/>
          <p:nvPr/>
        </p:nvPicPr>
        <p:blipFill>
          <a:blip r:embed="rId1"/>
          <a:stretch/>
        </p:blipFill>
        <p:spPr>
          <a:xfrm>
            <a:off x="1981080" y="380880"/>
            <a:ext cx="4565880" cy="3245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P4.gif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28656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P33.gif"/>
          <p:cNvPicPr/>
          <p:nvPr/>
        </p:nvPicPr>
        <p:blipFill>
          <a:blip r:embed="rId3"/>
          <a:stretch/>
        </p:blipFill>
        <p:spPr>
          <a:xfrm>
            <a:off x="611280" y="371628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581280" y="1066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4343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4343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現状のまと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に耐えるサンプル作りができるようになってき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放射線検出器として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定性的に理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始め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方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より</a:t>
            </a:r>
            <a:r>
              <a:rPr b="0" lang="ja-JP" sz="3200" spc="-1" strike="noStrike">
                <a:solidFill>
                  <a:srgbClr val="3333ff"/>
                </a:solidFill>
                <a:latin typeface="Arial"/>
              </a:rPr>
              <a:t>耐放射線はよさそ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ある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より深い理解のために更なる研究と経験が必要である．そのためには、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epi-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層を厚く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する必要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→→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IP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924360" cy="31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48300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4105440" cy="28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450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宇宙空間物理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558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子炉物理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29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素粒子物理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8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．動機と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耐環境デバイスとして高速スィッチング・デバイス，パワー・デバイス等として開発・研究されている新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耐放射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耐環境　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RD42    Diamond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RD50    4H-SiC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につい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　　　　各種半導体の特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2276640"/>
          <a:ext cx="8582040" cy="3673440"/>
        </p:xfrm>
        <a:graphic>
          <a:graphicData uri="http://schemas.openxmlformats.org/drawingml/2006/table">
            <a:tbl>
              <a:tblPr/>
              <a:tblGrid>
                <a:gridCol w="2917800"/>
                <a:gridCol w="811080"/>
                <a:gridCol w="808200"/>
                <a:gridCol w="809640"/>
                <a:gridCol w="809280"/>
                <a:gridCol w="808200"/>
                <a:gridCol w="809640"/>
                <a:gridCol w="80820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項　目　／　材　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H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H-S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バンドギャップ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電子移動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V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絶縁破壊電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V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電子飽和速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×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熱伝導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･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誘電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数（高速・大電力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数（高速・高集積素子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熱伝導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Johnson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579480" y="6091560"/>
            <a:ext cx="365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Johns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指数　＝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絶縁破壊電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電子飽和速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指数　＝　熱伝導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電子飽和速度／誘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vs Si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060640"/>
            <a:ext cx="482436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029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禁制帯幅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band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～３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絶縁破壊電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桁大き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飽和電子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熱伝導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３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動作温度の上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500-600℃(Si:150℃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くらい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耐放射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OSFE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で１～２桁強い耐放射線性：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859280" cy="4011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lytyp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結晶多系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2535120" cy="140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1484280"/>
            <a:ext cx="511308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２００種類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H-SiC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xagonal: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六方晶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R-SiC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hombohedral: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菱面体晶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C-SiC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ubic: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立方晶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iC Stud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簡単な歴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~200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年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プロトタイプの作成　３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m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低温におけ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線検出の確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年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漏洩電流軽減により常温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動作確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UV-LE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375nm;3.31e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）による反応を確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年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放射線損傷（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線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線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24720" y="907920"/>
            <a:ext cx="1238400" cy="116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1121040" cy="1189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524720" y="4005360"/>
            <a:ext cx="1152720" cy="99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940360" y="5373720"/>
            <a:ext cx="1438200" cy="130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738036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51640" y="364500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451640" y="515772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iC detecto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made in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原研（高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1964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(epi)/p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subst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社より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H-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オン注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オ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3.3×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[/cm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電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オーミック接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6720" y="2630520"/>
            <a:ext cx="15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ルミニウ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8960" y="277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酸化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8560" y="3740040"/>
            <a:ext cx="2108160" cy="843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8560" y="3459240"/>
            <a:ext cx="2108160" cy="280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3745080"/>
            <a:ext cx="506520" cy="282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68560" y="4583160"/>
            <a:ext cx="2108160" cy="169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560" y="4751280"/>
            <a:ext cx="2108160" cy="1699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3459240"/>
            <a:ext cx="3826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3573360"/>
            <a:ext cx="382680" cy="1666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1200" y="3178080"/>
            <a:ext cx="642960" cy="28116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59000" y="29988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1680" y="29988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9988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31161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7600" y="514368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ルミニウ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5832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金化アル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55832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オン注入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56000" y="407052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92360" y="4933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646520"/>
            <a:ext cx="287280" cy="93672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272"/>
                </a:moveTo>
                <a:lnTo>
                  <a:pt x="0" y="0"/>
                </a:lnTo>
                <a:lnTo>
                  <a:pt x="49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74004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0291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214880"/>
            <a:ext cx="410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344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9988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H-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403440" y="3747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44840" y="3710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760" y="4229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07320" y="3701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04880" y="377496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92360" y="35730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5480" y="34290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317484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34545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92360" y="31665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77240" y="3141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0~200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4160" y="3289320"/>
            <a:ext cx="87120" cy="2840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1:43:11Z</dcterms:created>
  <dc:creator>Itsuo Nakano</dc:creator>
  <dc:description/>
  <dc:language>en-US</dc:language>
  <cp:lastModifiedBy>nakano</cp:lastModifiedBy>
  <dcterms:modified xsi:type="dcterms:W3CDTF">2004-03-08T23:42:29Z</dcterms:modified>
  <cp:revision>45</cp:revision>
  <dc:subject/>
  <dc:title>SiCを用いた 半導体検出器の 研究・開発</dc:title>
</cp:coreProperties>
</file>