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5.png" ContentType="image/png"/>
  <Override PartName="/ppt/media/image6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3.png" ContentType="image/png"/>
  <Override PartName="/ppt/media/image22.wmf" ContentType="image/x-wmf"/>
  <Override PartName="/ppt/media/image20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6.wmf" ContentType="image/x-wmf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C963-6C02-45D4-832D-BAD5694FEE7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83BA-8729-4377-B2A7-8EC6C30EFDD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5580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9149-101E-4D0A-9C22-0D1067B0866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5580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C443-9CA8-46BD-AC7F-08D0EA80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23436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8001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754440"/>
            <a:ext cx="8001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0DF-1E88-49D9-8370-EAB034BE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23436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39042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197000"/>
            <a:ext cx="39042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754440"/>
            <a:ext cx="39042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754440"/>
            <a:ext cx="39042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2ACA-B17B-4A61-ACF0-0DFE0464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23436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2576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197000"/>
            <a:ext cx="2576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197000"/>
            <a:ext cx="2576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754440"/>
            <a:ext cx="2576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754440"/>
            <a:ext cx="2576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754440"/>
            <a:ext cx="2576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32E-D0BC-4FBE-A521-CA29AB62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EDDB-C7EA-4694-8CD1-7EB05CBD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3436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19700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6547-E8D5-4D88-A9C8-8790BD09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3436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1E2B-5EF9-4D22-8EF7-26AAC5F7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23436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39042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197000"/>
            <a:ext cx="39042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BB45-547F-4AC3-9240-1948D575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3436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C7D9-3A13-47CD-8F24-71A107B5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8001000" cy="27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B85E-3AA3-4B0B-AE59-87477897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23436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39042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197000"/>
            <a:ext cx="39042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754440"/>
            <a:ext cx="39042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8D73-19CA-4EF1-A017-147FAA1B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23436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19700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4C0-9FA7-42C3-A0F0-7B4AB4A0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23436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39042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197000"/>
            <a:ext cx="39042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754440"/>
            <a:ext cx="39042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391F-4793-448D-BD78-0C17995F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23436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39042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197000"/>
            <a:ext cx="39042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754440"/>
            <a:ext cx="8001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503D-AAFE-4396-B9ED-CA056AEE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23436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8001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754440"/>
            <a:ext cx="8001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70C7-7925-4B52-847E-2A466AF6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23436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39042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197000"/>
            <a:ext cx="39042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754440"/>
            <a:ext cx="39042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754440"/>
            <a:ext cx="39042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DF62-4867-4540-8A6D-9B290B7F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23436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2576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197000"/>
            <a:ext cx="2576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197000"/>
            <a:ext cx="2576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754440"/>
            <a:ext cx="2576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754440"/>
            <a:ext cx="2576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754440"/>
            <a:ext cx="25761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A322-952B-42D7-BDD4-1365E617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23436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3967-472F-4134-B3DC-8EE53219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23436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39042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197000"/>
            <a:ext cx="39042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5102-56C6-4F5E-8836-D81B8EB0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23436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980-6B1F-4CB5-934A-75F67D7F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8001000" cy="27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096-E242-41D9-8EAE-C76D37C5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23436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39042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197000"/>
            <a:ext cx="39042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754440"/>
            <a:ext cx="39042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00C-A2BB-45B2-976B-2546C878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23436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39042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197000"/>
            <a:ext cx="39042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754440"/>
            <a:ext cx="39042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0C6F-8F4C-48E8-B232-D6678C59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23436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39042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197000"/>
            <a:ext cx="39042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754440"/>
            <a:ext cx="8001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E045-F8B3-4AB5-B0A9-33B71A59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19700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11280" y="98100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BC71-EEF3-47AC-83B5-EA82C2971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236000" y="-27000"/>
            <a:ext cx="1908000" cy="154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3D9D-B9F5-4CC4-B12B-28E2DAE90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236000" y="-27000"/>
            <a:ext cx="1908000" cy="1549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  <a:ea typeface="HG創英ﾌﾟﾚｾﾞﾝｽEB"/>
              </a:rPr>
              <a:t>τ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HG創英ﾌﾟﾚｾﾞﾝｽEB"/>
              </a:rPr>
              <a:t>物理解析の現状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HG創英ﾌﾟﾚｾﾞﾝｽEB"/>
              </a:rPr>
              <a:t>名古屋大学大学院理学研究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HG創英ﾌﾟﾚｾﾞﾝｽEB"/>
              </a:rPr>
              <a:t>早坂　圭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科研費特定領域第二回研究会　　　　　　「質量起源と超対称性物理の研究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8E2A-38EF-4FCD-BC23-727D414072D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２００４／３／８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τ→μγ</a:t>
            </a: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（ＭＣ）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001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Verdana"/>
              </a:rPr>
              <a:t>背景事象（ＢＧ）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の評価→ＭＣデータで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ＭＣによって生成されたデー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信号事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一般の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τ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対生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対生成、Ｂｈａｂｈａ過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クォーク対生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２Ｐｈｏｔｏｎ　過程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4724280"/>
            <a:ext cx="79912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これらを利用して背景事象を徹底的に落と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53942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信号数の評価→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Unbinned Maximum Likelihood f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→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信号とＢＧの分布関数が必要→ＭＣ利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第二回研究会　　　　　　「質量起源と超対称性物理の研究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3F16-593C-47D3-B0B7-8531F53DE6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２００４／３／８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τ→μγ</a:t>
            </a: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（ＢＧ：</a:t>
            </a: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μμ</a:t>
            </a: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001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主な背景事象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対生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835280" y="1125360"/>
            <a:ext cx="3689280" cy="4556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11280" y="55738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荷電粒子のエネルギー＋光子のエネルギー＠ＣＭ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873680" y="1265400"/>
            <a:ext cx="4306680" cy="432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第二回研究会　　　　　　「質量起源と超対称性物理の研究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B41-007C-41D2-9CAB-7920B04ECF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２００４／３／８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4920" y="1393920"/>
            <a:ext cx="3689280" cy="45561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τ→μγ</a:t>
            </a: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（ＢＧ：</a:t>
            </a: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ττ</a:t>
            </a: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主な背景事象：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τ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対生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529240" y="1413000"/>
            <a:ext cx="3614760" cy="5151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132000" y="3141720"/>
            <a:ext cx="25210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Verdana"/>
              </a:rPr>
              <a:t>欠損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運動量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Verdana"/>
              </a:rPr>
              <a:t>欠損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質量の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布を利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第二回研究会　　　　　　「質量起源と超対称性物理の研究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4BC-9623-43D3-959D-1B1C41A4DDF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２００４／３／８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τ→μγ</a:t>
            </a: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：信号事象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640" y="1196640"/>
            <a:ext cx="4005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000000"/>
                </a:solidFill>
                <a:latin typeface="Verdana"/>
              </a:rPr>
              <a:t>信号数の評価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cc0000"/>
                </a:solidFill>
                <a:latin typeface="Verdana"/>
              </a:rPr>
              <a:t>Ｍ</a:t>
            </a:r>
            <a:r>
              <a:rPr b="1" lang="ja-JP" sz="3000" spc="-1" strike="noStrike" baseline="-25000">
                <a:solidFill>
                  <a:srgbClr val="cc0000"/>
                </a:solidFill>
                <a:latin typeface="Verdana"/>
              </a:rPr>
              <a:t>inv</a:t>
            </a:r>
            <a:r>
              <a:rPr b="1" lang="ja-JP" sz="3000" spc="-1" strike="noStrike">
                <a:solidFill>
                  <a:srgbClr val="cc0000"/>
                </a:solidFill>
                <a:latin typeface="Verdana"/>
              </a:rPr>
              <a:t>-Δ</a:t>
            </a:r>
            <a:r>
              <a:rPr b="1" lang="ja-JP" sz="3000" spc="-1" strike="noStrike">
                <a:solidFill>
                  <a:srgbClr val="cc0000"/>
                </a:solidFill>
                <a:latin typeface="Verdana"/>
              </a:rPr>
              <a:t>Ｅ</a:t>
            </a:r>
            <a:r>
              <a:rPr b="1" lang="ja-JP" sz="3000" spc="-1" strike="noStrike">
                <a:solidFill>
                  <a:srgbClr val="000000"/>
                </a:solidFill>
                <a:latin typeface="Verdana"/>
              </a:rPr>
              <a:t>平面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000000"/>
                </a:solidFill>
                <a:latin typeface="Verdana"/>
              </a:rPr>
              <a:t>信号事象ＭＣによ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cc0000"/>
                </a:solidFill>
                <a:latin typeface="Verdana"/>
              </a:rPr>
              <a:t>分解能</a:t>
            </a:r>
            <a:r>
              <a:rPr b="1" lang="ja-JP" sz="3000" spc="-1" strike="noStrike">
                <a:solidFill>
                  <a:srgbClr val="000000"/>
                </a:solidFill>
                <a:latin typeface="Verdana"/>
              </a:rPr>
              <a:t>の評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:75.4/33.7M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:23.1/15.0MeV/c</a:t>
            </a:r>
            <a:r>
              <a:rPr b="1" lang="ja-JP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cc0000"/>
                </a:solidFill>
                <a:latin typeface="Tahoma"/>
              </a:rPr>
              <a:t>中心値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Verdana"/>
              </a:rPr>
              <a:t>inv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=1.777GeV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/c</a:t>
            </a:r>
            <a:r>
              <a:rPr b="1" lang="ja-JP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ΔE=-1.1M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５</a:t>
            </a: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領域で評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211640" y="105264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第二回研究会　　　　　　「質量起源と超対称性物理の研究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194F-3398-407B-8565-72DFB69DD2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２００４／３／８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τ→μγ</a:t>
            </a: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：背景事象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主な背景事象→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ττ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事象、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μμ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事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218440" cy="3295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9640" y="5013360"/>
            <a:ext cx="66963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背景事象の分布を関数の形で評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ガウス関数＋ランダウ関数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843280" y="1700280"/>
            <a:ext cx="0" cy="30970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6156360" y="1773360"/>
            <a:ext cx="0" cy="3024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第二回研究会　　　　　　「質量起源と超対称性物理の研究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7A3-1336-4787-8C30-4C00E3AD44E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２００４／３／８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τ→μγ</a:t>
            </a: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：信号領域のＢＧ分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4284720" cy="4157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0" y="1844640"/>
            <a:ext cx="4716360" cy="2619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5280" y="2013120"/>
            <a:ext cx="32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</a:rPr>
              <a:t>1.71&lt;M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Verdana"/>
              </a:rPr>
              <a:t>inv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</a:rPr>
              <a:t>&lt;1.82GeV/c</a:t>
            </a:r>
            <a:r>
              <a:rPr b="0" lang="ja-JP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6948360" y="1916280"/>
            <a:ext cx="0" cy="3600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7740720" y="1916280"/>
            <a:ext cx="0" cy="3600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435640" y="3249720"/>
            <a:ext cx="3635280" cy="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4653000"/>
            <a:ext cx="417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非常によく</a:t>
            </a:r>
            <a:r>
              <a:rPr b="1" lang="zh-CN" sz="3600" spc="-1" strike="noStrike">
                <a:solidFill>
                  <a:srgbClr val="cc0000"/>
                </a:solidFill>
                <a:latin typeface="Comic Sans MS"/>
              </a:rPr>
              <a:t>一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信号は</a:t>
            </a:r>
            <a:r>
              <a:rPr b="1" lang="zh-CN" sz="3600" spc="-1" strike="noStrike">
                <a:solidFill>
                  <a:srgbClr val="cc0000"/>
                </a:solidFill>
                <a:latin typeface="Comic Sans MS"/>
              </a:rPr>
              <a:t>０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1197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実際のデータとの比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第二回研究会　　　　　　「質量起源と超対称性物理の研究」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188F-9D6A-4A9C-85B0-D7DE6EE779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２００４／３／８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τ→μγ</a:t>
            </a: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：信号数の評価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640" y="1413000"/>
            <a:ext cx="8577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Unbinned Extended Maximum Likelihood f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5σ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の領域で評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000" spc="-1" strike="noStrike">
                <a:solidFill>
                  <a:srgbClr val="000000"/>
                </a:solidFill>
                <a:latin typeface="Verdana"/>
              </a:rPr>
              <a:t>ｓ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：信号事象の数、</a:t>
            </a:r>
            <a:r>
              <a:rPr b="1" i="1" lang="ja-JP" sz="3000" spc="-1" strike="noStrike">
                <a:solidFill>
                  <a:srgbClr val="000000"/>
                </a:solidFill>
                <a:latin typeface="Verdana"/>
              </a:rPr>
              <a:t>ｂ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：背景事象の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000" spc="-1" strike="noStrike">
                <a:solidFill>
                  <a:srgbClr val="000000"/>
                </a:solidFill>
                <a:latin typeface="Verdana"/>
              </a:rPr>
              <a:t>Ｓｉ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：信号事象分布関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000" spc="-1" strike="noStrike">
                <a:solidFill>
                  <a:srgbClr val="000000"/>
                </a:solidFill>
                <a:latin typeface="Verdana"/>
              </a:rPr>
              <a:t>Ｂｉ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：背景事象分布関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0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i="1" lang="ja-JP" sz="30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i="1" lang="ja-JP" sz="3000" spc="-1" strike="noStrike">
                <a:solidFill>
                  <a:srgbClr val="cc0000"/>
                </a:solidFill>
                <a:latin typeface="Verdana"/>
              </a:rPr>
              <a:t>ｓ＝０，ｂ＝５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68360" y="1949400"/>
            <a:ext cx="5076720" cy="1335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264360" y="1628640"/>
            <a:ext cx="2879640" cy="2880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264360" y="37893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4284720" y="414972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55640" y="5300640"/>
            <a:ext cx="720720" cy="485640"/>
          </a:xfrm>
          <a:prstGeom prst="rightArrow">
            <a:avLst>
              <a:gd name="adj1" fmla="val 50000"/>
              <a:gd name="adj2" fmla="val 3710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第二回研究会　　　　　　「質量起源と超対称性物理の研究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792-FAEC-4894-B8AE-989441E0C7C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２００４／３／８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τ→μγ</a:t>
            </a: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：上限値の評価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信号事象数の上限値</a:t>
            </a:r>
            <a:r>
              <a:rPr b="1" i="1" lang="zh-CN" sz="3000" spc="-1" strike="noStrike">
                <a:solidFill>
                  <a:srgbClr val="000000"/>
                </a:solidFill>
                <a:latin typeface="Verdana"/>
              </a:rPr>
              <a:t>ｓ</a:t>
            </a:r>
            <a:r>
              <a:rPr b="1" i="1" lang="zh-CN" sz="3000" spc="-1" strike="noStrike" baseline="-25000">
                <a:solidFill>
                  <a:srgbClr val="000000"/>
                </a:solidFill>
                <a:latin typeface="Verdana"/>
              </a:rPr>
              <a:t>０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の評価←ＴｏｙＭ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信号／背景事象分布関数に基づいて生成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i="1" lang="en-US" sz="30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i="1" lang="zh-CN" sz="3000" spc="-1" strike="noStrike">
                <a:solidFill>
                  <a:srgbClr val="cc0000"/>
                </a:solidFill>
                <a:latin typeface="Verdana"/>
              </a:rPr>
              <a:t>ｓ</a:t>
            </a:r>
            <a:r>
              <a:rPr b="1" i="1" lang="zh-CN" sz="3000" spc="-1" strike="noStrike" baseline="-25000">
                <a:solidFill>
                  <a:srgbClr val="cc0000"/>
                </a:solidFill>
                <a:latin typeface="Verdana"/>
              </a:rPr>
              <a:t>０</a:t>
            </a:r>
            <a:r>
              <a:rPr b="1" lang="zh-CN" sz="3000" spc="-1" strike="noStrike">
                <a:solidFill>
                  <a:srgbClr val="cc0000"/>
                </a:solidFill>
                <a:latin typeface="Verdana"/>
              </a:rPr>
              <a:t>＝５．１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＠</a:t>
            </a:r>
            <a:r>
              <a:rPr b="1" lang="zh-CN" sz="3000" spc="-1" strike="noStrike">
                <a:solidFill>
                  <a:srgbClr val="cc0000"/>
                </a:solidFill>
                <a:latin typeface="Verdana"/>
              </a:rPr>
              <a:t>９０％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信頼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岐比の上限値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2349360"/>
            <a:ext cx="649440" cy="486000"/>
          </a:xfrm>
          <a:prstGeom prst="rightArrow">
            <a:avLst>
              <a:gd name="adj1" fmla="val 50000"/>
              <a:gd name="adj2" fmla="val 334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88840" y="3108240"/>
            <a:ext cx="4619880" cy="1257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042920" y="4005360"/>
            <a:ext cx="4464000" cy="11206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900000" y="5157720"/>
            <a:ext cx="453708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ahoma"/>
              </a:rPr>
              <a:t>Br(</a:t>
            </a:r>
            <a:r>
              <a:rPr b="1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</a:t>
            </a:r>
            <a:r>
              <a:rPr b="1" lang="ja-JP" sz="3200" spc="-1" strike="noStrike">
                <a:solidFill>
                  <a:srgbClr val="000000"/>
                </a:solidFill>
                <a:latin typeface="Tahoma"/>
              </a:rPr>
              <a:t>)&lt;</a:t>
            </a:r>
            <a:r>
              <a:rPr b="1" lang="ja-JP" sz="3200" spc="-1" strike="noStrike">
                <a:solidFill>
                  <a:srgbClr val="ff0000"/>
                </a:solidFill>
                <a:latin typeface="Tahoma"/>
              </a:rPr>
              <a:t>3.1</a:t>
            </a:r>
            <a:r>
              <a:rPr b="1" lang="ja-JP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ja-JP" sz="3200" spc="-1" strike="noStrike">
                <a:solidFill>
                  <a:srgbClr val="ff0000"/>
                </a:solidFill>
                <a:latin typeface="Tahoma"/>
              </a:rPr>
              <a:t>10</a:t>
            </a:r>
            <a:r>
              <a:rPr b="1" lang="ja-JP" sz="3200" spc="-1" strike="noStrike" baseline="30000">
                <a:solidFill>
                  <a:srgbClr val="ff0000"/>
                </a:solidFill>
                <a:latin typeface="Tahoma"/>
              </a:rPr>
              <a:t>-7</a:t>
            </a:r>
            <a:r>
              <a:rPr b="1" lang="ja-JP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＠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90%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信頼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5508720" y="2205000"/>
            <a:ext cx="3816360" cy="46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</a:rPr>
              <a:t>Systematic uncertain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gnal yield : </a:t>
            </a:r>
            <a:r>
              <a:rPr b="1" i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1" i="1" lang="ja-JP" sz="16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even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uon-ID ineff.+0.06/-0.11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G function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　　　　　　　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±0.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it region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　　　　　　</a:t>
            </a:r>
            <a:r>
              <a:rPr b="1" lang="ja-JP" sz="1600" spc="-1" strike="noStrike">
                <a:solidFill>
                  <a:srgbClr val="cc0000"/>
                </a:solidFill>
                <a:latin typeface="Verdana"/>
                <a:ea typeface="ＭＳ Ｐゴシック"/>
              </a:rPr>
              <a:t>±0.0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fficienc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        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amp; Luminosity : </a:t>
            </a:r>
            <a:r>
              <a:rPr b="1" i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εN</a:t>
            </a:r>
            <a:r>
              <a:rPr b="1" i="1" lang="ja-JP" sz="16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ττ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rack rec. eff.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.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hoton rec. eff.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.8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lection criteria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.2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uminosity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.4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rigger eff.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ja-JP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.6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MC statistics</a:t>
            </a:r>
            <a:r>
              <a:rPr b="1" lang="ja-JP" sz="16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	</a:t>
            </a:r>
            <a:r>
              <a:rPr b="1" lang="ja-JP" sz="16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	</a:t>
            </a:r>
            <a:r>
              <a:rPr b="1" lang="ja-JP" sz="16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0.8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Total</a:t>
            </a:r>
            <a:r>
              <a:rPr b="1" lang="ja-JP" sz="16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	</a:t>
            </a:r>
            <a:r>
              <a:rPr b="1" lang="ja-JP" sz="16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	</a:t>
            </a:r>
            <a:r>
              <a:rPr b="1" lang="ja-JP" sz="16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4.7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第二回研究会　　　　　　「質量起源と超対称性物理の研究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169-462B-4DDA-A96C-C19E438FA8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２００４／３／８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4268880" cy="4138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τ→</a:t>
            </a:r>
            <a:r>
              <a:rPr b="0" i="1" lang="zh-CN" sz="3800" spc="-1" strike="noStrike">
                <a:solidFill>
                  <a:srgbClr val="000000"/>
                </a:solidFill>
                <a:latin typeface="Verdana"/>
              </a:rPr>
              <a:t>ｅ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γ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：上限値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448308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zh-CN" sz="3000" spc="-1" strike="noStrike">
                <a:solidFill>
                  <a:srgbClr val="000000"/>
                </a:solidFill>
                <a:latin typeface="Symbol"/>
                <a:ea typeface="Symbol"/>
              </a:rPr>
              <a:t>領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事象観測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検出効率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3.8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＠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信頼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538200" y="4005360"/>
            <a:ext cx="4394160" cy="113760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ahoma"/>
              </a:rPr>
              <a:t>Br(</a:t>
            </a:r>
            <a:r>
              <a:rPr b="1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</a:t>
            </a:r>
            <a:r>
              <a:rPr b="1" lang="ja-JP" sz="3200" spc="-1" strike="noStrike">
                <a:solidFill>
                  <a:srgbClr val="000000"/>
                </a:solidFill>
                <a:latin typeface="Century"/>
              </a:rPr>
              <a:t>e</a:t>
            </a:r>
            <a:r>
              <a:rPr b="1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ja-JP" sz="3200" spc="-1" strike="noStrike">
                <a:solidFill>
                  <a:srgbClr val="000000"/>
                </a:solidFill>
                <a:latin typeface="Tahoma"/>
              </a:rPr>
              <a:t>)&lt;</a:t>
            </a:r>
            <a:r>
              <a:rPr b="1" lang="ja-JP" sz="3200" spc="-1" strike="noStrike">
                <a:solidFill>
                  <a:srgbClr val="cc0000"/>
                </a:solidFill>
                <a:latin typeface="Tahoma"/>
              </a:rPr>
              <a:t>3.6</a:t>
            </a:r>
            <a:r>
              <a:rPr b="1" lang="ja-JP" sz="32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1" lang="ja-JP" sz="3200" spc="-1" strike="noStrike">
                <a:solidFill>
                  <a:srgbClr val="cc0000"/>
                </a:solidFill>
                <a:latin typeface="Tahoma"/>
              </a:rPr>
              <a:t>10</a:t>
            </a:r>
            <a:r>
              <a:rPr b="1" lang="ja-JP" sz="3200" spc="-1" strike="noStrike" baseline="30000">
                <a:solidFill>
                  <a:srgbClr val="cc0000"/>
                </a:solidFill>
                <a:latin typeface="Tahoma"/>
              </a:rPr>
              <a:t>-7</a:t>
            </a:r>
            <a:r>
              <a:rPr b="1" lang="ja-JP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＠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90%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信頼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1054080"/>
            <a:ext cx="25909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</a:t>
            </a: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e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ja-JP" sz="2400" spc="-1" strike="noStrike">
                <a:solidFill>
                  <a:srgbClr val="336699"/>
                </a:solidFill>
                <a:latin typeface="Tahoma"/>
              </a:rPr>
              <a:t>prelimin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2340000" y="530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投稿準備中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第二回研究会　　　　　　「質量起源と超対称性物理の研究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DD71-6B07-41D7-9B2F-41E1C67FB01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２００４／３／８</a:t>
            </a:r>
          </a:p>
        </p:txBody>
      </p:sp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809880" y="1647720"/>
            <a:ext cx="5288040" cy="3510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ＬＦＶ探索のまと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125360"/>
            <a:ext cx="84582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"/>
              </a:rPr>
              <a:t>約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8x10</a:t>
            </a:r>
            <a:r>
              <a:rPr b="1" lang="ja-JP" sz="24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個の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τ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のデータを使った解析の結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6699"/>
                </a:solidFill>
                <a:latin typeface="Verdana"/>
              </a:rPr>
              <a:t>Br(</a:t>
            </a:r>
            <a:r>
              <a:rPr b="1" lang="ja-JP" sz="2400" spc="-1" strike="noStrike">
                <a:solidFill>
                  <a:srgbClr val="336699"/>
                </a:solidFill>
                <a:latin typeface="Symbol"/>
                <a:ea typeface="Symbol"/>
              </a:rPr>
              <a:t></a:t>
            </a:r>
            <a:r>
              <a:rPr b="1" lang="ja-JP" sz="2400" spc="-1" strike="noStrike">
                <a:solidFill>
                  <a:srgbClr val="336699"/>
                </a:solidFill>
                <a:latin typeface="Verdana"/>
              </a:rPr>
              <a:t>)&lt;3.1</a:t>
            </a:r>
            <a:r>
              <a:rPr b="1" lang="ja-JP" sz="2400" spc="-1" strike="noStrike">
                <a:solidFill>
                  <a:srgbClr val="336699"/>
                </a:solidFill>
                <a:latin typeface="Symbol"/>
                <a:ea typeface="Symbol"/>
              </a:rPr>
              <a:t></a:t>
            </a:r>
            <a:r>
              <a:rPr b="1" lang="ja-JP" sz="2400" spc="-1" strike="noStrike">
                <a:solidFill>
                  <a:srgbClr val="336699"/>
                </a:solidFill>
                <a:latin typeface="Verdana"/>
              </a:rPr>
              <a:t>10</a:t>
            </a:r>
            <a:r>
              <a:rPr b="1" lang="ja-JP" sz="2400" spc="-1" strike="noStrike" baseline="30000">
                <a:solidFill>
                  <a:srgbClr val="336699"/>
                </a:solidFill>
                <a:latin typeface="Verdana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6699"/>
                </a:solidFill>
                <a:latin typeface="Verdana"/>
              </a:rPr>
              <a:t>Br(</a:t>
            </a:r>
            <a:r>
              <a:rPr b="1" lang="ja-JP" sz="2400" spc="-1" strike="noStrike">
                <a:solidFill>
                  <a:srgbClr val="336699"/>
                </a:solidFill>
                <a:latin typeface="Symbol"/>
                <a:ea typeface="Symbol"/>
              </a:rPr>
              <a:t></a:t>
            </a:r>
            <a:r>
              <a:rPr b="1" i="1" lang="ja-JP" sz="2400" spc="-1" strike="noStrike">
                <a:solidFill>
                  <a:srgbClr val="336699"/>
                </a:solidFill>
                <a:latin typeface="Century"/>
              </a:rPr>
              <a:t>e</a:t>
            </a:r>
            <a:r>
              <a:rPr b="1" lang="ja-JP" sz="2400" spc="-1" strike="noStrike">
                <a:solidFill>
                  <a:srgbClr val="336699"/>
                </a:solidFill>
                <a:latin typeface="Symbol"/>
                <a:ea typeface="Symbol"/>
              </a:rPr>
              <a:t></a:t>
            </a:r>
            <a:r>
              <a:rPr b="1" lang="ja-JP" sz="2400" spc="-1" strike="noStrike">
                <a:solidFill>
                  <a:srgbClr val="336699"/>
                </a:solidFill>
                <a:latin typeface="Verdana"/>
              </a:rPr>
              <a:t>)&lt;3.6</a:t>
            </a:r>
            <a:r>
              <a:rPr b="1" lang="ja-JP" sz="2400" spc="-1" strike="noStrike">
                <a:solidFill>
                  <a:srgbClr val="336699"/>
                </a:solidFill>
                <a:latin typeface="Symbol"/>
                <a:ea typeface="Symbol"/>
              </a:rPr>
              <a:t></a:t>
            </a:r>
            <a:r>
              <a:rPr b="1" lang="ja-JP" sz="2400" spc="-1" strike="noStrike">
                <a:solidFill>
                  <a:srgbClr val="336699"/>
                </a:solidFill>
                <a:latin typeface="Verdana"/>
              </a:rPr>
              <a:t>10</a:t>
            </a:r>
            <a:r>
              <a:rPr b="1" lang="ja-JP" sz="2400" spc="-1" strike="noStrike" baseline="30000">
                <a:solidFill>
                  <a:srgbClr val="336699"/>
                </a:solidFill>
                <a:latin typeface="Verdana"/>
              </a:rPr>
              <a:t>-7</a:t>
            </a:r>
            <a:r>
              <a:rPr b="1" lang="ja-JP" sz="24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6699"/>
                </a:solidFill>
                <a:latin typeface="Verdana"/>
              </a:rPr>
              <a:t>Br(</a:t>
            </a:r>
            <a:r>
              <a:rPr b="1" lang="ja-JP" sz="2400" spc="-1" strike="noStrike">
                <a:solidFill>
                  <a:srgbClr val="336699"/>
                </a:solidFill>
                <a:latin typeface="Symbol"/>
                <a:ea typeface="Symbol"/>
              </a:rPr>
              <a:t></a:t>
            </a:r>
            <a:r>
              <a:rPr b="1" lang="ja-JP" sz="2400" spc="-1" strike="noStrike">
                <a:solidFill>
                  <a:srgbClr val="336699"/>
                </a:solidFill>
                <a:latin typeface="Verdana"/>
              </a:rPr>
              <a:t>)&lt;3.4</a:t>
            </a:r>
            <a:r>
              <a:rPr b="1" lang="ja-JP" sz="2400" spc="-1" strike="noStrike">
                <a:solidFill>
                  <a:srgbClr val="336699"/>
                </a:solidFill>
                <a:latin typeface="Symbol"/>
                <a:ea typeface="Symbol"/>
              </a:rPr>
              <a:t></a:t>
            </a:r>
            <a:r>
              <a:rPr b="1" lang="ja-JP" sz="2400" spc="-1" strike="noStrike">
                <a:solidFill>
                  <a:srgbClr val="336699"/>
                </a:solidFill>
                <a:latin typeface="Verdana"/>
              </a:rPr>
              <a:t>10</a:t>
            </a:r>
            <a:r>
              <a:rPr b="1" lang="ja-JP" sz="2400" spc="-1" strike="noStrike" baseline="30000">
                <a:solidFill>
                  <a:srgbClr val="336699"/>
                </a:solidFill>
                <a:latin typeface="Verdana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6699"/>
                </a:solidFill>
                <a:latin typeface="Verdana"/>
              </a:rPr>
              <a:t>Br(</a:t>
            </a:r>
            <a:r>
              <a:rPr b="1" lang="ja-JP" sz="2400" spc="-1" strike="noStrike">
                <a:solidFill>
                  <a:srgbClr val="336699"/>
                </a:solidFill>
                <a:latin typeface="Symbol"/>
                <a:ea typeface="Symbol"/>
              </a:rPr>
              <a:t></a:t>
            </a:r>
            <a:r>
              <a:rPr b="1" i="1" lang="ja-JP" sz="2400" spc="-1" strike="noStrike">
                <a:solidFill>
                  <a:srgbClr val="336699"/>
                </a:solidFill>
                <a:latin typeface="Century"/>
              </a:rPr>
              <a:t>e</a:t>
            </a:r>
            <a:r>
              <a:rPr b="1" lang="ja-JP" sz="2400" spc="-1" strike="noStrike">
                <a:solidFill>
                  <a:srgbClr val="336699"/>
                </a:solidFill>
                <a:latin typeface="Symbol"/>
                <a:ea typeface="Symbol"/>
              </a:rPr>
              <a:t></a:t>
            </a:r>
            <a:r>
              <a:rPr b="1" lang="ja-JP" sz="2400" spc="-1" strike="noStrike">
                <a:solidFill>
                  <a:srgbClr val="336699"/>
                </a:solidFill>
                <a:latin typeface="Verdana"/>
              </a:rPr>
              <a:t>)&lt;6.9</a:t>
            </a:r>
            <a:r>
              <a:rPr b="1" lang="ja-JP" sz="2400" spc="-1" strike="noStrike">
                <a:solidFill>
                  <a:srgbClr val="336699"/>
                </a:solidFill>
                <a:latin typeface="Symbol"/>
                <a:ea typeface="Symbol"/>
              </a:rPr>
              <a:t></a:t>
            </a:r>
            <a:r>
              <a:rPr b="1" lang="ja-JP" sz="2400" spc="-1" strike="noStrike">
                <a:solidFill>
                  <a:srgbClr val="336699"/>
                </a:solidFill>
                <a:latin typeface="Verdana"/>
              </a:rPr>
              <a:t>10</a:t>
            </a:r>
            <a:r>
              <a:rPr b="1" lang="ja-JP" sz="2400" spc="-1" strike="noStrike" baseline="30000">
                <a:solidFill>
                  <a:srgbClr val="336699"/>
                </a:solidFill>
                <a:latin typeface="Verdana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6699"/>
                </a:solidFill>
                <a:latin typeface="Verdana"/>
              </a:rPr>
              <a:t>Br(</a:t>
            </a:r>
            <a:r>
              <a:rPr b="1" lang="ja-JP" sz="2400" spc="-1" strike="noStrike">
                <a:solidFill>
                  <a:srgbClr val="336699"/>
                </a:solidFill>
                <a:latin typeface="Symbol"/>
                <a:ea typeface="Symbol"/>
              </a:rPr>
              <a:t></a:t>
            </a:r>
            <a:r>
              <a:rPr b="1" lang="ja-JP" sz="2400" spc="-1" strike="noStrike">
                <a:solidFill>
                  <a:srgbClr val="336699"/>
                </a:solidFill>
                <a:latin typeface="Century"/>
              </a:rPr>
              <a:t>lll</a:t>
            </a:r>
            <a:r>
              <a:rPr b="1" lang="ja-JP" sz="2400" spc="-1" strike="noStrike">
                <a:solidFill>
                  <a:srgbClr val="336699"/>
                </a:solidFill>
                <a:latin typeface="Verdana"/>
              </a:rPr>
              <a:t>)&lt;1.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6699"/>
                </a:solidFill>
                <a:latin typeface="Verdana"/>
              </a:rPr>
              <a:t>                   </a:t>
            </a:r>
            <a:r>
              <a:rPr b="1" lang="ja-JP" sz="2400" spc="-1" strike="noStrike">
                <a:solidFill>
                  <a:srgbClr val="336699"/>
                </a:solidFill>
                <a:latin typeface="Verdana"/>
              </a:rPr>
              <a:t>~3.5</a:t>
            </a:r>
            <a:r>
              <a:rPr b="1" lang="ja-JP" sz="2400" spc="-1" strike="noStrike">
                <a:solidFill>
                  <a:srgbClr val="336699"/>
                </a:solidFill>
                <a:latin typeface="Symbol"/>
                <a:ea typeface="Symbol"/>
              </a:rPr>
              <a:t></a:t>
            </a:r>
            <a:r>
              <a:rPr b="1" lang="ja-JP" sz="2400" spc="-1" strike="noStrike">
                <a:solidFill>
                  <a:srgbClr val="336699"/>
                </a:solidFill>
                <a:latin typeface="Verdana"/>
              </a:rPr>
              <a:t>10</a:t>
            </a:r>
            <a:r>
              <a:rPr b="1" lang="ja-JP" sz="2400" spc="-1" strike="noStrike" baseline="30000">
                <a:solidFill>
                  <a:srgbClr val="336699"/>
                </a:solidFill>
                <a:latin typeface="Verdana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＠ </a:t>
            </a:r>
            <a:r>
              <a:rPr b="1" lang="ja-JP" sz="2400" spc="-1" strike="noStrike">
                <a:solidFill>
                  <a:srgbClr val="cc0000"/>
                </a:solidFill>
                <a:latin typeface="Verdana"/>
              </a:rPr>
              <a:t>90%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C.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6600"/>
                </a:solidFill>
                <a:latin typeface="Verdana"/>
              </a:rPr>
              <a:t>→</a:t>
            </a:r>
            <a:r>
              <a:rPr b="1" lang="ja-JP" sz="2800" spc="-1" strike="noStrike">
                <a:solidFill>
                  <a:srgbClr val="ff6600"/>
                </a:solidFill>
                <a:latin typeface="Verdana"/>
              </a:rPr>
              <a:t>3~30 </a:t>
            </a:r>
            <a:r>
              <a:rPr b="1" lang="ja-JP" sz="2800" spc="-1" strike="noStrike">
                <a:solidFill>
                  <a:srgbClr val="ff6600"/>
                </a:solidFill>
                <a:latin typeface="Verdana"/>
              </a:rPr>
              <a:t>倍改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（以前に提出された結果と比較して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Verdana"/>
              </a:rPr>
              <a:t>探索は続く・・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ja-JP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1.44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10</a:t>
            </a:r>
            <a:r>
              <a:rPr b="1" lang="ja-JP" sz="2400" spc="-1" strike="noStrike" baseline="30000">
                <a:solidFill>
                  <a:srgbClr val="000000"/>
                </a:solidFill>
                <a:latin typeface="Verdana"/>
                <a:ea typeface="MS UI Gothic"/>
              </a:rPr>
              <a:t>8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個の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τ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  <a:ea typeface="MS UI Gothic"/>
              </a:rPr>
              <a:t>のデータ　（一部現在進行中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ja-JP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上限値は</a:t>
            </a:r>
            <a:r>
              <a:rPr b="1" lang="ja-JP" sz="2400" spc="-1" strike="noStrike">
                <a:solidFill>
                  <a:srgbClr val="ff6600"/>
                </a:solidFill>
                <a:latin typeface="Verdana"/>
              </a:rPr>
              <a:t>Br ~ 10</a:t>
            </a:r>
            <a:r>
              <a:rPr b="1" lang="ja-JP" sz="2400" spc="-1" strike="noStrike" baseline="30000">
                <a:solidFill>
                  <a:srgbClr val="ff6600"/>
                </a:solidFill>
                <a:latin typeface="Verdana"/>
              </a:rPr>
              <a:t>-8</a:t>
            </a:r>
            <a:r>
              <a:rPr b="1" lang="ja-JP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時代へ（今年中？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第二回研究会　　　　　　「質量起源と超対称性物理の研究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1BB8-378A-42B6-9E6D-1E29715FEF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２００４／３／８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717480" y="0"/>
            <a:ext cx="9861480" cy="6168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τ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グループ＠Ｂｅｌｌｅ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752480"/>
            <a:ext cx="79563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82080" y="1422360"/>
            <a:ext cx="7106400" cy="4524480"/>
            <a:chOff x="982080" y="1422360"/>
            <a:chExt cx="7106400" cy="4524480"/>
          </a:xfrm>
        </p:grpSpPr>
        <p:sp>
          <p:nvSpPr>
            <p:cNvPr id="100" name="_s33839"/>
            <p:cNvSpPr/>
            <p:nvPr/>
          </p:nvSpPr>
          <p:spPr>
            <a:xfrm flipH="1" flipV="1">
              <a:off x="2780640" y="3483000"/>
              <a:ext cx="878400" cy="188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_s33838"/>
            <p:cNvSpPr/>
            <p:nvPr/>
          </p:nvSpPr>
          <p:spPr>
            <a:xfrm>
              <a:off x="982080" y="2684880"/>
              <a:ext cx="1845000" cy="12189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Comic Sans MS"/>
                  <a:ea typeface="ふみゴシック"/>
                </a:rPr>
                <a:t>ＢＩＮＰ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Comic Sans MS"/>
                  <a:ea typeface="ふみゴシック"/>
                </a:rPr>
                <a:t>（ロシア）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_s33837"/>
            <p:cNvSpPr/>
            <p:nvPr/>
          </p:nvSpPr>
          <p:spPr>
            <a:xfrm flipH="1">
              <a:off x="3450600" y="4352400"/>
              <a:ext cx="543600" cy="4932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_s33836"/>
            <p:cNvSpPr/>
            <p:nvPr/>
          </p:nvSpPr>
          <p:spPr>
            <a:xfrm>
              <a:off x="1987200" y="4727520"/>
              <a:ext cx="1845000" cy="1219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Comic Sans MS"/>
                  <a:ea typeface="ふみゴシック"/>
                </a:rPr>
                <a:t>奈良女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Comic Sans MS"/>
                  <a:ea typeface="ふみゴシック"/>
                </a:rPr>
                <a:t>林井さん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_s33834"/>
            <p:cNvSpPr/>
            <p:nvPr/>
          </p:nvSpPr>
          <p:spPr>
            <a:xfrm>
              <a:off x="5076720" y="4352400"/>
              <a:ext cx="543600" cy="4932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_s33833"/>
            <p:cNvSpPr/>
            <p:nvPr/>
          </p:nvSpPr>
          <p:spPr>
            <a:xfrm>
              <a:off x="5238360" y="4727520"/>
              <a:ext cx="184500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Comic Sans MS"/>
                  <a:ea typeface="ふみゴシック"/>
                </a:rPr>
                <a:t>ＫＥＫ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Comic Sans MS"/>
                  <a:ea typeface="ふみゴシック"/>
                </a:rPr>
                <a:t>玉井さん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_s33832"/>
            <p:cNvSpPr/>
            <p:nvPr/>
          </p:nvSpPr>
          <p:spPr>
            <a:xfrm flipV="1">
              <a:off x="5411520" y="3483000"/>
              <a:ext cx="878400" cy="188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_s33831"/>
            <p:cNvSpPr/>
            <p:nvPr/>
          </p:nvSpPr>
          <p:spPr>
            <a:xfrm>
              <a:off x="6243480" y="2684880"/>
              <a:ext cx="1845000" cy="12189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Comic Sans MS"/>
                  <a:ea typeface="ふみゴシック"/>
                </a:rPr>
                <a:t>東北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Comic Sans MS"/>
                  <a:ea typeface="ふみゴシック"/>
                </a:rPr>
                <a:t>山口さん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_s33830"/>
            <p:cNvSpPr/>
            <p:nvPr/>
          </p:nvSpPr>
          <p:spPr>
            <a:xfrm flipV="1">
              <a:off x="4535640" y="2640960"/>
              <a:ext cx="0" cy="6094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33829"/>
            <p:cNvSpPr/>
            <p:nvPr/>
          </p:nvSpPr>
          <p:spPr>
            <a:xfrm>
              <a:off x="3612600" y="1422360"/>
              <a:ext cx="1845720" cy="12189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Comic Sans MS"/>
                  <a:ea typeface="ふみゴシック"/>
                </a:rPr>
                <a:t>名古屋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Comic Sans MS"/>
                  <a:ea typeface="ふみゴシック"/>
                </a:rPr>
                <a:t>大島さん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_s33828"/>
            <p:cNvSpPr/>
            <p:nvPr/>
          </p:nvSpPr>
          <p:spPr>
            <a:xfrm>
              <a:off x="3612600" y="3251160"/>
              <a:ext cx="1845720" cy="12189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0000"/>
                  </a:solidFill>
                  <a:latin typeface="Comic Sans MS"/>
                  <a:ea typeface="ふみゴシック"/>
                </a:rPr>
                <a:t>ＴＶ会議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第二回研究会　　　　　　「質量起源と超対称性物理の研究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E0B-3644-4E9C-A326-CDEAA48B64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２００４／３／８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現在の取り組み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39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スペクトラル関数の測定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τ→ππ</a:t>
            </a:r>
            <a:r>
              <a:rPr b="1" lang="ja-JP" sz="2800" spc="-1" strike="noStrike" baseline="30000">
                <a:solidFill>
                  <a:srgbClr val="000000"/>
                </a:solidFill>
                <a:latin typeface="Verdana"/>
              </a:rPr>
              <a:t>０</a:t>
            </a: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ν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Verdana"/>
              </a:rPr>
              <a:t>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τ→</a:t>
            </a: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Ｋｓ</a:t>
            </a: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πν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Verdana"/>
              </a:rPr>
              <a:t>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τ→η</a:t>
            </a: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Ｋ</a:t>
            </a: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ν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Verdana"/>
              </a:rPr>
              <a:t>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２ｎｄ　Ｃｌａｓｓ　Ｃｕｒｒｅｎ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τ→ηπν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ＭＳ Ｐゴシック"/>
              </a:rPr>
              <a:t>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2920" y="1197000"/>
            <a:ext cx="39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000000"/>
                </a:solidFill>
                <a:latin typeface="Verdana"/>
              </a:rPr>
              <a:t>ＬＦ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τ→μγ</a:t>
            </a: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i="1" lang="ja-JP" sz="2800" spc="-1" strike="noStrike">
                <a:solidFill>
                  <a:srgbClr val="000000"/>
                </a:solidFill>
                <a:latin typeface="Verdana"/>
              </a:rPr>
              <a:t>ｅ</a:t>
            </a: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τ→</a:t>
            </a: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３</a:t>
            </a:r>
            <a:r>
              <a:rPr b="1" lang="ja-JP" sz="2800" spc="-1" strike="noStrike">
                <a:solidFill>
                  <a:srgbClr val="000000"/>
                </a:solidFill>
                <a:latin typeface="正調祥南行書体EXP"/>
                <a:ea typeface="正調祥南行書体EXP"/>
              </a:rPr>
              <a:t>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τ→μη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，</a:t>
            </a:r>
            <a:r>
              <a:rPr b="1" i="1" lang="ja-JP" sz="2800" spc="-1" strike="noStrike">
                <a:solidFill>
                  <a:srgbClr val="000000"/>
                </a:solidFill>
                <a:latin typeface="ＭＳ Ｐゴシック"/>
              </a:rPr>
              <a:t>ｅ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τ→</a:t>
            </a:r>
            <a:r>
              <a:rPr b="1" i="1" lang="ja-JP" sz="2800" spc="-1" strike="noStrike">
                <a:solidFill>
                  <a:srgbClr val="000000"/>
                </a:solidFill>
                <a:latin typeface="ＭＳ Ｐゴシック"/>
              </a:rPr>
              <a:t>ｐ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第二回研究会　　　　　　「質量起源と超対称性物理の研究」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DEDF-86C7-447C-A507-5C60442605D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２００４／３／８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新物理とＬＦＶ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0010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標準模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→レプトンの香り保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ニュートリノ振動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→レプトンの香りの破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890000" y="314172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荷電レプトンのセクターでは</a:t>
            </a:r>
            <a:r>
              <a:rPr b="1" lang="zh-CN" sz="2800" spc="-1" strike="noStrike">
                <a:solidFill>
                  <a:srgbClr val="cc0000"/>
                </a:solidFill>
                <a:latin typeface="Comic Sans MS"/>
              </a:rPr>
              <a:t>破れ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ていないのか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3789360"/>
            <a:ext cx="41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mic Sans MS"/>
                <a:ea typeface="HGS創英角ｺﾞｼｯｸUB"/>
              </a:rPr>
              <a:t>超対称模型→</a:t>
            </a:r>
            <a:r>
              <a:rPr b="0" lang="zh-CN" sz="2600" spc="-1" strike="noStrike">
                <a:solidFill>
                  <a:srgbClr val="cc0000"/>
                </a:solidFill>
                <a:latin typeface="Comic Sans MS"/>
                <a:ea typeface="HGS創英角ｺﾞｼｯｸUB"/>
              </a:rPr>
              <a:t>破れる</a:t>
            </a:r>
            <a:r>
              <a:rPr b="0" lang="zh-CN" sz="2600" spc="-1" strike="noStrike">
                <a:solidFill>
                  <a:srgbClr val="000000"/>
                </a:solidFill>
                <a:latin typeface="Comic Sans MS"/>
                <a:ea typeface="HGS創英角ｺﾞｼｯｸUB"/>
              </a:rPr>
              <a:t>と予言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3657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模型によって分岐比が大きいモードが違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5373720"/>
            <a:ext cx="2879640" cy="649080"/>
          </a:xfrm>
          <a:prstGeom prst="rect">
            <a:avLst/>
          </a:prstGeom>
          <a:solidFill>
            <a:srgbClr val="00ffff">
              <a:alpha val="6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全部攻め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4067280" y="4869000"/>
            <a:ext cx="576000" cy="360360"/>
          </a:xfrm>
          <a:prstGeom prst="downArrow">
            <a:avLst>
              <a:gd name="adj1" fmla="val 41046"/>
              <a:gd name="adj2" fmla="val 6035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5004360" y="3933000"/>
            <a:ext cx="431640" cy="57636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56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ふみゴシック"/>
              </a:rPr>
              <a:t>新物理の存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6084360" y="2276640"/>
            <a:ext cx="1008360" cy="79344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793440"/>
              <a:gd name="textAreaBottom" fmla="*/ 793800 h 79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第二回研究会　　　　　　「質量起源と超対称性物理の研究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907C-8278-4D50-B6CF-DB676289A3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２００４／３／８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超対称模型とＬＦＶ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τ→μ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MSSM+right-handed ν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(Phys.Rev.D59(1999)116005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τ→</a:t>
            </a:r>
            <a:r>
              <a:rPr b="1" i="1" lang="ja-JP" sz="2800" spc="-1" strike="noStrike">
                <a:solidFill>
                  <a:srgbClr val="000000"/>
                </a:solidFill>
                <a:latin typeface="Verdana"/>
              </a:rPr>
              <a:t>ｅ</a:t>
            </a: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γ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(Phys.Rev.D66(2002)115013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τ→</a:t>
            </a: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３</a:t>
            </a:r>
            <a:r>
              <a:rPr b="1" lang="ja-JP" sz="2800" spc="-1" strike="noStrike">
                <a:solidFill>
                  <a:srgbClr val="000000"/>
                </a:solidFill>
                <a:latin typeface="正調祥南行書体EXP"/>
                <a:ea typeface="正調祥南行書体EXP"/>
              </a:rPr>
              <a:t>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+Higgs Mediated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　　　 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Phys.Rev.Lett.89(2002) 2418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τ→μη</a:t>
            </a: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i="1" lang="ja-JP" sz="2800" spc="-1" strike="noStrike">
                <a:solidFill>
                  <a:srgbClr val="000000"/>
                </a:solidFill>
                <a:latin typeface="Verdana"/>
              </a:rPr>
              <a:t>ｅ</a:t>
            </a: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+Higgs Mediated 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Verdana"/>
              </a:rPr>
              <a:t>Phys.Rev.D66(2002) 057301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どのモードが最初に見えるか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600" spc="-1" strike="noStrike">
                <a:solidFill>
                  <a:srgbClr val="000000"/>
                </a:solidFill>
                <a:latin typeface="ＭＳ Ｐゴシック"/>
              </a:rPr>
              <a:t>自然はどのモデルを選択しているのか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Ｂｅｌｌｅ実験で収集された約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8x10</a:t>
            </a:r>
            <a:r>
              <a:rPr b="1" lang="ja-JP" sz="24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個の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τ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のデータからこれらのモードを探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5013360"/>
            <a:ext cx="1942920" cy="792000"/>
          </a:xfrm>
          <a:prstGeom prst="rightArrow">
            <a:avLst>
              <a:gd name="adj1" fmla="val 50000"/>
              <a:gd name="adj2" fmla="val 6133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1870920" y="4114080"/>
            <a:ext cx="433440" cy="504720"/>
          </a:xfrm>
          <a:custGeom>
            <a:avLst/>
            <a:gdLst>
              <a:gd name="textAreaLeft" fmla="*/ 144360 w 433440"/>
              <a:gd name="textAreaRight" fmla="*/ 371520 w 433440"/>
              <a:gd name="textAreaTop" fmla="*/ 290880 h 504720"/>
              <a:gd name="textAreaBottom" fmla="*/ 4323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第二回研究会　　　　　　「質量起源と超対称性物理の研究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373-FB27-42E8-9509-E0EF44F46B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２００４／３／８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86320" y="1700280"/>
            <a:ext cx="4657680" cy="41814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ＫＥＫＢ加速器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052640"/>
            <a:ext cx="800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非対称コライダ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・ｅ</a:t>
            </a:r>
            <a:r>
              <a:rPr b="1" lang="ja-JP" sz="3000" spc="-1" strike="noStrike" baseline="30000">
                <a:solidFill>
                  <a:srgbClr val="000000"/>
                </a:solidFill>
                <a:latin typeface="Verdana"/>
              </a:rPr>
              <a:t>＋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：３．５ＧｅＶ，ｅ</a:t>
            </a:r>
            <a:r>
              <a:rPr b="1" lang="ja-JP" sz="3000" spc="-1" strike="noStrike" baseline="30000">
                <a:solidFill>
                  <a:srgbClr val="000000"/>
                </a:solidFill>
                <a:latin typeface="Verdana"/>
              </a:rPr>
              <a:t>－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：８Ｇｅ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世界最高のルミノシティ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Peak Lumino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・１．２</a:t>
            </a: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×</a:t>
            </a: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１０</a:t>
            </a:r>
            <a:r>
              <a:rPr b="1" lang="ja-JP" sz="2800" spc="-1" strike="noStrike" baseline="30000">
                <a:solidFill>
                  <a:srgbClr val="000000"/>
                </a:solidFill>
                <a:latin typeface="Verdana"/>
              </a:rPr>
              <a:t>３４</a:t>
            </a: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／ｃｍ</a:t>
            </a:r>
            <a:r>
              <a:rPr b="1" lang="ja-JP" sz="2800" spc="-1" strike="noStrike" baseline="30000">
                <a:solidFill>
                  <a:srgbClr val="000000"/>
                </a:solidFill>
                <a:latin typeface="Verdana"/>
              </a:rPr>
              <a:t>２</a:t>
            </a: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／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Total Logged Lumino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・２１０／ｆ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散乱断面積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(nb)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1.05(bb):0.911(ττ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1" lang="ja-JP" sz="2800" spc="-1" strike="noStrike">
                <a:solidFill>
                  <a:srgbClr val="cc0000"/>
                </a:solidFill>
                <a:latin typeface="Verdana"/>
              </a:rPr>
              <a:t>Ｂファクトリーは</a:t>
            </a:r>
            <a:r>
              <a:rPr b="1" lang="ja-JP" sz="2800" spc="-1" strike="noStrike">
                <a:solidFill>
                  <a:srgbClr val="cc0000"/>
                </a:solidFill>
                <a:latin typeface="Verdana"/>
              </a:rPr>
              <a:t>τ</a:t>
            </a:r>
            <a:r>
              <a:rPr b="1" lang="ja-JP" sz="2800" spc="-1" strike="noStrike">
                <a:solidFill>
                  <a:srgbClr val="cc0000"/>
                </a:solidFill>
                <a:latin typeface="Verdana"/>
              </a:rPr>
              <a:t>ファクトリ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39640" y="2060640"/>
            <a:ext cx="4480200" cy="4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第二回研究会　　　　　　「質量起源と超対称性物理の研究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986A-F555-4BFC-9DEF-CBE057C8DB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２００４／３／８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Ｂｅｌｌｅ検出器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前方／後方非対称検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ＫＬ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／Ｋ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Verdana"/>
              </a:rPr>
              <a:t>Ｌ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の検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ＥＣ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電子と光子の検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267080" y="2997360"/>
            <a:ext cx="4876920" cy="3468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715000" y="0"/>
            <a:ext cx="3429000" cy="2911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55640" y="4292640"/>
            <a:ext cx="33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第二回研究会　　　　　　「質量起源と超対称性物理の研究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129-6453-4C72-A5CF-516DAB2D71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２００４／３／８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τ→μγ</a:t>
            </a: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i="1" lang="ja-JP" sz="3400" spc="-1" strike="noStrike">
                <a:solidFill>
                  <a:srgbClr val="000000"/>
                </a:solidFill>
                <a:latin typeface="Verdana"/>
              </a:rPr>
              <a:t>ｅ</a:t>
            </a: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γ</a:t>
            </a: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探索の歴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3861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年で２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最も楽観的な値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Ｂｒ～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１０</a:t>
            </a:r>
            <a:r>
              <a:rPr b="1" lang="zh-CN" sz="3000" spc="-1" strike="noStrike" baseline="30000">
                <a:solidFill>
                  <a:srgbClr val="000000"/>
                </a:solidFill>
                <a:latin typeface="Verdana"/>
              </a:rPr>
              <a:t>－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そろそろ見える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76560" y="1628640"/>
            <a:ext cx="5167440" cy="342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5084640"/>
            <a:ext cx="8604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5013360"/>
            <a:ext cx="748836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τ→μγ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の探索＠Ｂｅｌｌ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Ｂｅｌｌｅ実験で収集された約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8x10</a:t>
            </a:r>
            <a:r>
              <a:rPr b="1" lang="ja-JP" sz="24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個の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τ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のデータ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Phys. Rev. Lett.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に投稿中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(hep-ex/031002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第二回研究会　　　　　　「質量起源と超対称性物理の研究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AF3-F65D-4586-9055-946F569DE66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２００４／３／８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964720" cy="33908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τ→μγ</a:t>
            </a:r>
            <a:r>
              <a:rPr b="0" lang="ja-JP" sz="3400" spc="-1" strike="noStrike">
                <a:solidFill>
                  <a:srgbClr val="000000"/>
                </a:solidFill>
                <a:latin typeface="Verdana"/>
              </a:rPr>
              <a:t>の探索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052280"/>
            <a:ext cx="8001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</a:rPr>
              <a:t>見たい事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09440" y="4724280"/>
            <a:ext cx="8926560" cy="16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第二回研究会　　　　　　「質量起源と超対称性物理の研究」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C8F9-C1A6-4E2D-BE1D-AE198E2AC6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２００４／３／８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2:54:25Z</dcterms:created>
  <dc:creator>defiant</dc:creator>
  <dc:description/>
  <dc:language>en-US</dc:language>
  <cp:lastModifiedBy>defiant</cp:lastModifiedBy>
  <dcterms:modified xsi:type="dcterms:W3CDTF">2004-03-08T07:55:19Z</dcterms:modified>
  <cp:revision>18</cp:revision>
  <dc:subject/>
  <dc:title>τ物理解析の現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