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50.png" ContentType="image/png"/>
  <Override PartName="/ppt/media/image44.jpeg" ContentType="image/jpeg"/>
  <Override PartName="/ppt/media/image9.png" ContentType="image/png"/>
  <Override PartName="/ppt/media/image17.wmf" ContentType="image/x-wmf"/>
  <Override PartName="/ppt/media/image32.wmf" ContentType="image/x-wmf"/>
  <Override PartName="/ppt/media/image12.png" ContentType="image/png"/>
  <Override PartName="/ppt/media/image36.png" ContentType="image/png"/>
  <Override PartName="/ppt/media/image38.jpeg" ContentType="image/jpeg"/>
  <Override PartName="/ppt/media/image31.wmf" ContentType="image/x-wmf"/>
  <Override PartName="/ppt/media/image11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34.wmf" ContentType="image/x-wmf"/>
  <Override PartName="/ppt/media/image43.jpeg" ContentType="image/jpeg"/>
  <Override PartName="/ppt/media/image35.png" ContentType="image/png"/>
  <Override PartName="/ppt/media/image47.jpeg" ContentType="image/jpeg"/>
  <Override PartName="/ppt/media/image48.jpeg" ContentType="image/jpeg"/>
  <Override PartName="/ppt/media/image30.wmf" ContentType="image/x-wmf"/>
  <Override PartName="/ppt/media/image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28.wmf" ContentType="image/x-wmf"/>
  <Override PartName="/ppt/media/image37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B99-BBDB-43D0-A1F4-2817B1B9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B67-C975-4C7F-A3BB-79CB8BE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A92-63FE-4DD6-AE36-09BCA12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253-F13F-484A-98E8-AB8248BF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992-21B7-4280-AAFD-02062C4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90C-66D7-46C4-A99C-4888AC31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E65-E97B-4B52-8B32-16039D2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752-05B3-4AEE-9FC1-7799344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1D1-3D21-4166-96E0-70E5623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0E8-BE08-46EB-B82E-8F63956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DBB-483E-489F-8F28-6FA2524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8E4-4EDA-4071-88AE-15F43CB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503F-EEC3-4B22-8C5D-34FA9743DB91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シンチレータストリップを用いた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高性能電磁カロリメータの開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915920"/>
            <a:ext cx="76327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（公募研究Ａ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研究代表者　川越清以　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神戸大学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th the GLC calorimet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EK, Kobe, Konan, Niigata, Shinshu, Tsuk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-Mar-2004, 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科研費特定領域　第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回研究会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suk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Special thanks to Dr. Matsuna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860640"/>
            <a:ext cx="734400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ardware study with test b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oton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mulation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tur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LS fibe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457440" cy="3179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738600" cy="3449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587700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undish-square groove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5877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rcular groove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41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wo types of groove layout to smear non-uni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-uniformity measur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22139" r="0" b="0"/>
          <a:stretch/>
        </p:blipFill>
        <p:spPr>
          <a:xfrm>
            <a:off x="684360" y="1844640"/>
            <a:ext cx="7991280" cy="4597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1197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etter uniformity with alternating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atial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313080" cy="2103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4464000" cy="290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4270320"/>
            <a:ext cx="3313080" cy="215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1773360"/>
            <a:ext cx="48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sition resolution of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x or y) ~ 0.7cm at 4G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6021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 a function of beam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2) Strip-array E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608720" cy="2940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1268280"/>
            <a:ext cx="835344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ll-depth test module was constructed and tested i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4 layers (17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, 6 super-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 layer = lead plate (4mm-thick) + x-strips + y-s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20cm x 1cm x 2m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scinti-strip with 1mm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-W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ulti-anode PMTs (tentatively for beam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8894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ergy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648240" cy="367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22840" y="1844640"/>
            <a:ext cx="3665520" cy="36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1575000" cy="62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8000" y="1341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est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134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EANT3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99800" y="4869000"/>
            <a:ext cx="2667240" cy="3996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w/o phot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7340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f photon statistics is taken into account, beam test results are consistent with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64000" y="4292640"/>
            <a:ext cx="157500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1989000"/>
            <a:ext cx="3816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inearity : &lt; 3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 1% above 2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iation at 1GeV : due to material in front of EC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good agreement with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atial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2303280" cy="453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273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64000" y="3789360"/>
            <a:ext cx="3168720" cy="290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59280" y="1557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sition resolution for 4GeV 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98280" y="3213000"/>
            <a:ext cx="1862280" cy="5209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=2.0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ound shower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484360" y="2060640"/>
            <a:ext cx="3311640" cy="453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557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4GeV electron event : Fitted to Gauss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g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3384360" cy="276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600360" cy="174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314172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1413000"/>
            <a:ext cx="4752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hower-axis angle is determined by linear fitting points in the first 5 S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ean S.L. position in beam direction is calculated with weighted mean of energy deposit obeying shower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gle measuremen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198960" cy="452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4869000"/>
            <a:ext cx="48974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ffset due to mis-align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noring offset, angles are correctly measured within err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413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ident angle : 0 ~ 3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sponse unifor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8840" cy="403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42920" y="1413000"/>
            <a:ext cx="7129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ponse in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super layer for 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nd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ponse-sum over strips : uniformity &lt;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ign criteria for LC calor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od energy resolution for singl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e transverse/longitudinal granularity for “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article flo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”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me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rational in strong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re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-jet mass resolution better than W/Z natural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-particle separation / ghost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00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strip-array ECAL, ghost must be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lse height analysis could help for re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particle separation and ghost rejection : stud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4032360" cy="237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84720" y="981000"/>
            <a:ext cx="28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 cluster separation in 1-dim. (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S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4005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6680" y="4292640"/>
            <a:ext cx="125280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486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0760" y="4005360"/>
            <a:ext cx="99828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2133720"/>
            <a:ext cx="2448000" cy="446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504480" y="4437000"/>
            <a:ext cx="78660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04480" y="5589720"/>
            <a:ext cx="78660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6120" y="2205000"/>
            <a:ext cx="78660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04480" y="3284640"/>
            <a:ext cx="78660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3,4) Shower-max 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532764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tile/fiber ECAL case, position detector at shower maximum is need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ter position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ter track-cluster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od e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eparation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inti-strip detector is a natural option for our E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line design : WLS rea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tional design : directly-attached AP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86560" y="1844640"/>
            <a:ext cx="3070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dout of scinti-s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176720" cy="4381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59280" y="1628640"/>
            <a:ext cx="3960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rip-siz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20cm x 1cm x 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ntional read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LS + clear fib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-PMTs (te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PD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rectly-attached APDs on scinti-strip (tes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iPMs directly on WLS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max test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183200" cy="324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038840" cy="3230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844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cinti-strips with WLS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628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cinti-strips with directly attached AP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3) Position resolution of SHmax (WLS read o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231300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6360" y="4365720"/>
            <a:ext cx="228096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7808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300720" y="4365720"/>
            <a:ext cx="2236680" cy="2187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95640" y="285264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S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00880" y="2637000"/>
            <a:ext cx="1210320" cy="823680"/>
          </a:xfrm>
          <a:prstGeom prst="roundRect">
            <a:avLst>
              <a:gd name="adj" fmla="val 2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r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S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155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Before S-shape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7840" y="1557360"/>
            <a:ext cx="2778480" cy="3690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After S-shape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57080" y="3933720"/>
            <a:ext cx="1198080" cy="5108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D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1440" y="3933720"/>
            <a:ext cx="1198080" cy="5108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D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39000" y="6381720"/>
            <a:ext cx="1330560" cy="406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S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-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DC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66640" y="6381720"/>
            <a:ext cx="1330560" cy="406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S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-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DC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551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= 1.9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20080" y="5589720"/>
            <a:ext cx="1318320" cy="36900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= 1.7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3213000"/>
            <a:ext cx="237636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S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: measured position with Gaussian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D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: incident position  determined by drift chamb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77336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6 GeV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DE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sition resolution of SHmax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26920" b="0"/>
          <a:stretch/>
        </p:blipFill>
        <p:spPr>
          <a:xfrm>
            <a:off x="468360" y="3357720"/>
            <a:ext cx="4038480" cy="292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26920" b="0"/>
          <a:stretch/>
        </p:blipFill>
        <p:spPr>
          <a:xfrm>
            <a:off x="4788000" y="328464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7280" y="292428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s. electro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285264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s. Pb thickness in fro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70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lectron incident position is determined with weighted mean of 5 strips for figure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lectron energy 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6156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b thicknes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4502160" y="2784600"/>
            <a:ext cx="486000" cy="3250800"/>
          </a:xfrm>
          <a:custGeom>
            <a:avLst/>
            <a:gdLst>
              <a:gd name="textAreaLeft" fmla="*/ 360 w 486000"/>
              <a:gd name="textAreaRight" fmla="*/ 485640 w 486000"/>
              <a:gd name="textAreaTop" fmla="*/ 360 h 3250800"/>
              <a:gd name="textAreaBottom" fmla="*/ 3250440 h 3250800"/>
            </a:gdLst>
            <a:ahLst/>
            <a:rect l="textAreaLeft" t="textAreaTop" r="textAreaRight" b="textAreaBottom"/>
            <a:pathLst>
              <a:path w="21600" h="144389">
                <a:moveTo>
                  <a:pt x="75" y="0"/>
                </a:moveTo>
                <a:arcTo wR="75" hR="75" stAng="16200000" swAng="-5400000"/>
                <a:lnTo>
                  <a:pt x="0" y="144314"/>
                </a:lnTo>
                <a:arcTo wR="75" hR="75" stAng="10800000" swAng="-5400000"/>
                <a:lnTo>
                  <a:pt x="21525" y="144389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sition resolution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（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1143000" y="4397040"/>
            <a:ext cx="3337200" cy="3996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osition resolution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（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5229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b thickness = 24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860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Ge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2280" y="4653000"/>
            <a:ext cx="1018080" cy="39960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6GeV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4) Performance of APD-SHma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16825" r="0" b="16825"/>
          <a:stretch/>
        </p:blipFill>
        <p:spPr>
          <a:xfrm>
            <a:off x="684360" y="3429000"/>
            <a:ext cx="3389040" cy="3168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19583" r="0" b="0"/>
          <a:stretch/>
        </p:blipFill>
        <p:spPr>
          <a:xfrm>
            <a:off x="4932360" y="3619440"/>
            <a:ext cx="3587760" cy="2976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29242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P signal is well separated from ped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6308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DC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341360"/>
            <a:ext cx="8280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D : Hamamatsu S8864-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ctive area : 5mm x 5mm, gain ~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emperature coefficient : ~5%/degree         cor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565360"/>
            <a:ext cx="358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2852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patial resolution as a function of electro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38606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eighted mea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n se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903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ulti-pixel Hybrid Photodiode (H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P-HPD used for CMS-H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tested Hamamatsu 64 pixels HAPD (Dr. Suy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in = 6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(g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mercially not ye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lectron-bombarded CCD (EBC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uitable for fiber rea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00 fibers/devic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ow gain (&lt; 1000),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nsitivity to single-ph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ow read out, no tim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be tested with SHmax in 2004 test b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713320" cy="2808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443640" y="1844640"/>
            <a:ext cx="14270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n sensor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97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ro-APD cells operated in Geig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ch/device, compact, cheap (a few $/de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gain (~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 but significant noi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 directly attached to WLS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~10 SiPM from DESY to be tested in 2004 bea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PK is developing a similar photon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4040" y="2205000"/>
            <a:ext cx="3133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mulation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lemented geometry for both options of ECAL into GEANT3-based full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tailed studies, such as shower clustering and track-cluster matching, are still und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l move to GEANT4-based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ic implementation is done; need more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hind schedule due to insufficient man power and need to do beam test before KEK-PS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r approach to the desig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line desig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ad/plastic scintillator sampling calorimeter for both ECAL and H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rdware compensation for excellent hadron energy resolution and line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od hermet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tablished technology and reasonabl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cording to fast simulation, </a:t>
            </a:r>
            <a:r>
              <a:rPr b="0" lang="en-GB" sz="2000" spc="-1" strike="noStrike">
                <a:solidFill>
                  <a:srgbClr val="009999"/>
                </a:solidFill>
                <a:latin typeface="Comic Sans MS"/>
              </a:rPr>
              <a:t>this conservative design can fulfill desig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75120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4076640"/>
            <a:ext cx="3743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constructed W mass for 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-&gt;W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t 400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result of fast simulation in which ECAL cell size was 10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jj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 = 2.9G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utur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nalize ECAL hardware study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celerate simul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ll simulation in GEANT4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t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e to study photon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PM, HPD, EBCC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ternational collaboration : photon sensors, scinti. productio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ineering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37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ne granularity ECAL based on lead/scintillator sampling is being stud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ablished technology, reasonabl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resolution, linearity, herme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series of beam tests is being carried out: tile/fiber ECAL, strip-array ECAL, SHmax Final beam test starts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w photon sensors are being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mulation studies are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ur previous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udy on energy resolution and line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st beam measurements at KEK and F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CAL with 4mm-Pb/1mm-Sc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CAL with 8mm-Pb/2mm-Sci /2mm-Acry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p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ile/fiber calorimeter with hardware compensation has been verified to meet our design criteria for energy resolution and linearit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ven with current design of gran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tailed simulation study must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3888000" cy="3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076640"/>
            <a:ext cx="396072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CAL studies with test beam (1996-199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440208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od energy resolution and linearity thanks to hardwar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21824" r="0" b="17459"/>
          <a:stretch/>
        </p:blipFill>
        <p:spPr>
          <a:xfrm>
            <a:off x="468360" y="1557360"/>
            <a:ext cx="4390920" cy="3743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953080" cy="267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0" r="0" b="32237"/>
          <a:stretch/>
        </p:blipFill>
        <p:spPr>
          <a:xfrm>
            <a:off x="5435640" y="4149720"/>
            <a:ext cx="295272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e granularity E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rrently studying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ine granularit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CA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Pb/Sci sampl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 “particle flow” analysis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seline design : 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ile/fiber E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4cmx4c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1mm-Sci + 4mm-thick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tional design : 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trip-array E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c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20cmx2mm-Sci + 4mm-thick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hower-max detector with scinti-s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nventional WLS rea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Directly-attached APD rea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re 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multi-channel photon sensors</a:t>
            </a:r>
            <a:r>
              <a:rPr b="0" lang="en-GB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rational in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urposes of test beam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(1) Tile/fiber E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 uniformity with staggerd WL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(2) Strip-array E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formity measurement for the simulator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asure energy, position, show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 2-cluster separation and ghost-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(3) WLS-readout SH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ition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(4) Direct-APD SH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 feasibility : S/N for MIP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ition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st beams for new EC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02 Nov.: T517 at KEK (e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1-4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e/fiber ECAL, strip-array ECAL, scinti-strip SH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03 Sept.: test at DESY (e, 1-6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cinti-strip SH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004 March: T545 at KE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1-4 G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le/fiber ECAL, strip-array ECAL, scinti-strip SH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bably the last opportunity for KEK PS beam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6769080" cy="154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60357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tup of T517 test beam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310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1) Tile/fiber E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895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mall cell size of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4c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x 4c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0.7m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W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 of small bending radius of WLS fib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n-uniform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around tower boundary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ly 2 super layers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ull-depth, mega-tile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-anode P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3456000" cy="21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105440" cy="254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wagoekiyotomo</cp:lastModifiedBy>
  <dcterms:modified xsi:type="dcterms:W3CDTF">2004-03-09T02:47:25Z</dcterms:modified>
  <cp:revision>26</cp:revision>
  <dc:subject/>
  <dc:title>Study of scintillator-based EM calorimeter</dc:title>
</cp:coreProperties>
</file>