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A7F-03F4-45DB-BA58-C020A4E6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2D4-164C-48E9-85A9-5F7691B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882-4085-4360-B22A-7CF4754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E22-D470-4EC5-95F2-AC5733C5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7D2-CFAB-41E1-B360-F619C606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730-A5B1-46F2-BC6B-7EB175A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E8B-6425-4A32-AB46-CD50DC3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699-8AE1-481B-BE4B-05FE964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874-C795-429B-9262-5E033B1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8A0-9171-4DE5-BDD1-7FEFB00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DF6-65FF-47B4-895F-69C238D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C9C-4C54-4625-B728-97CAC2F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33C6-51D5-4EBB-A6CA-B0E3B0AD76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特定領域研究</a:t>
            </a:r>
            <a:br>
              <a:rPr sz="3600"/>
            </a:b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「質量起源と超対称性物理の研究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87026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　　　　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第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回研究会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4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8-9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つくば国際会議場エポカ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研究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「物質に質量があるのはなぜ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物質の質量を決めている物理法則は何か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〇質量起源の謎を解く鍵となるヒッグス粒子の探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世界最高エネルギーの陽子反陽子衝突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　（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CDF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〇素粒子物理の標準理論からのずれ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新しい物理の手がかり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ファクトリー加速器を用いた精密実験</a:t>
            </a:r>
            <a:br>
              <a:rPr sz="2000"/>
            </a:b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（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～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5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トップ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B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τ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K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ファクトリー）</a:t>
            </a:r>
            <a:br>
              <a:rPr sz="2000"/>
            </a:b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〇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次世代の加速器実験の提案と開発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研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JHF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加速器， 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LHC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, JLC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 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公募研究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理論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A06)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と実験の密接な共同研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63800" y="22860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4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金　信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4876920"/>
            <a:ext cx="78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9148680" cy="685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Osaka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Osaka"/>
              <a:ea typeface="Osaka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9528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2003</a:t>
            </a: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年</a:t>
            </a: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9</a:t>
            </a: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月</a:t>
            </a: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10</a:t>
            </a:r>
            <a:r>
              <a:rPr b="1" lang="ja-JP" sz="2000" spc="-1" strike="noStrike">
                <a:solidFill>
                  <a:srgbClr val="006600"/>
                </a:solidFill>
                <a:latin typeface="Osaka"/>
                <a:ea typeface="Osak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352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領域代表者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	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金　　信弘（筑波大学物理学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	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	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相原　博昭（東京大学理学系研究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	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	</a:t>
            </a:r>
            <a:r>
              <a:rPr b="1" lang="ja-JP" sz="2400" spc="-1" strike="noStrike">
                <a:solidFill>
                  <a:srgbClr val="000066"/>
                </a:solidFill>
                <a:latin typeface="Osaka"/>
                <a:ea typeface="Osaka"/>
              </a:rPr>
              <a:t>山中　卓　（大阪大学理学研究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3440" y="20574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Osaka"/>
                <a:ea typeface="Osaka"/>
              </a:rPr>
              <a:t>特定領域研究に係る研究経過等の報告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Arial"/>
              </a:rPr>
              <a:t>質量起源と超対称性物理の研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1760" y="20520"/>
            <a:ext cx="45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ヒアリングでの報告（計画研究発足後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年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673200"/>
            <a:ext cx="4876560" cy="22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 rot="10800000">
                <a:off x="522360" y="1235160"/>
                <a:ext cx="1165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φ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 rot="10800000">
                <a:off x="2044800" y="1279440"/>
                <a:ext cx="1320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φ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990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197000"/>
            <a:ext cx="3733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　　と　　　　　の崩壊時間分布の非対称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495680" cy="333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6880" y="342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200400"/>
            <a:ext cx="4435200" cy="2101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B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中間子が</a:t>
            </a:r>
            <a:r>
              <a:rPr b="0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φ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中間子と</a:t>
            </a:r>
            <a:r>
              <a:rPr b="0" i="1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KS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中間子に崩壊した事象の非対称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横軸は崩壊時間（ピコ秒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CP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対称性の破れがない場合はすべての崩壊時間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ゼロにならなければならな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破れが大きくなるにつれてゼロからずれ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波型を示すようになり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観測される</a:t>
            </a:r>
            <a:r>
              <a:rPr b="0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sin2φ1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が大きくな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波形が逆になるのはこの量の符号が逆になることを意味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点線カーブは標準理論の</a:t>
            </a:r>
            <a:r>
              <a:rPr b="0" lang="en-US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sin2φ1</a:t>
            </a: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の値か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予想された振舞を示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99"/>
                </a:solidFill>
                <a:latin typeface="ＭＳ ゴシック"/>
                <a:ea typeface="ＭＳ ゴシック"/>
              </a:rPr>
              <a:t>実線カーブは観測結果の振舞を示す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920" y="5562720"/>
                <a:ext cx="4419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+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ys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202040" y="6248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標準理論からの期待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0.7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からずれている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362320"/>
            <a:ext cx="32922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2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ペアか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個を検出＝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成果：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間子崩壊における量子効果を用いた新しい物理の探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1956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本成果を報道した新聞各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sahi030813" descr=""/>
          <p:cNvPicPr/>
          <p:nvPr/>
        </p:nvPicPr>
        <p:blipFill>
          <a:blip r:embed="rId1"/>
          <a:stretch/>
        </p:blipFill>
        <p:spPr>
          <a:xfrm>
            <a:off x="3835440" y="914400"/>
            <a:ext cx="530856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mainichi030813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3454560" cy="5419800"/>
          </a:xfrm>
          <a:prstGeom prst="rect">
            <a:avLst/>
          </a:prstGeom>
          <a:ln w="0">
            <a:noFill/>
          </a:ln>
        </p:spPr>
      </p:pic>
      <p:pic>
        <p:nvPicPr>
          <p:cNvPr id="66" name="yomiuri030813" descr=""/>
          <p:cNvPicPr/>
          <p:nvPr/>
        </p:nvPicPr>
        <p:blipFill>
          <a:blip r:embed="rId3"/>
          <a:stretch/>
        </p:blipFill>
        <p:spPr>
          <a:xfrm>
            <a:off x="3505320" y="2638440"/>
            <a:ext cx="19238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ff"/>
                </a:solidFill>
                <a:latin typeface="Times New Roman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各研究項目において実験と検出器製作が順調に進んでおり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期待された成果があがっ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質量起源のヒッグス粒子の間接探索となるトップクォークの質量測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Ｂ中間子の稀崩壊の測定で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B→φKs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での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CP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の破れが標準理論予測からずれている（９９．９％の確率）。</a:t>
            </a:r>
            <a:r>
              <a:rPr b="0" lang="ja-JP" sz="2000" spc="-1" strike="noStrike">
                <a:solidFill>
                  <a:srgbClr val="ff9d1c"/>
                </a:solidFill>
                <a:latin typeface="Times New Roman"/>
              </a:rPr>
              <a:t>超対称性粒子の可能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タウレプトンの稀崩壊の探索による新しい物理の手がかり追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ファクトリーでの実験準備が進展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領域全体の研究会（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年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日開催）で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研究成果報告・議論を行ない、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各研究の成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全体的に総合する段階であることを確認した。　今後の研究会で、この方向に研究連携を深めて、領域全体で 研究を発展させ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中間ヒアリング評価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565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6172200"/>
            <a:ext cx="7086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400800"/>
            <a:ext cx="6553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中間ヒアリング評価結果（続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896760"/>
            <a:ext cx="8077320" cy="596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105520" y="137160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02000" y="1523880"/>
            <a:ext cx="21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段階評価（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A,A</a:t>
            </a:r>
            <a:r>
              <a:rPr b="0" lang="ja-JP" sz="18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,B,C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の最高の評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276720"/>
            <a:ext cx="7162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812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724280"/>
            <a:ext cx="7162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029200"/>
            <a:ext cx="7162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419720"/>
            <a:ext cx="4114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52578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4:36:00Z</dcterms:created>
  <dc:creator>skim</dc:creator>
  <dc:description/>
  <dc:language>en-US</dc:language>
  <cp:lastModifiedBy>skim</cp:lastModifiedBy>
  <dcterms:modified xsi:type="dcterms:W3CDTF">2004-03-09T08:46:44Z</dcterms:modified>
  <cp:revision>12</cp:revision>
  <dc:subject/>
  <dc:title>特定領域研究 「質量起源と超対称性物理の研究」</dc:title>
</cp:coreProperties>
</file>