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53213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ECF-503D-4FE4-9BFB-0FFB8B27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9AE-B6A9-4EA1-845B-EEBF48FD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7B8-6150-4846-A65D-8D435CF4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FE7-801B-4163-BA12-1CF1C897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71C1-BFDE-46E8-BD6B-AFD6DEA3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AAE1-3D29-4C0B-B69F-97513E4A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8047-DE7F-4233-9B58-B999627D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CA19-CC46-412D-882D-066156BC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F236-C33F-49D6-B6D7-B431F903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20CE-7424-4232-89EB-41D46D35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6DC-F7A7-445B-9D71-1709BAEB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A1C-AB4C-4395-B581-42E5F2F5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50FD-C777-4DC1-893F-C5A89974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3F31-07FA-4F45-8B9F-C69F119D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A395-9D1B-4071-8339-D88FFEC8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69BD-0AA2-47B7-AFC5-9DD9FAD7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258F-63A9-4C1F-B273-51731680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3F6-595B-4791-A851-0FB30341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AB4-A8AF-4751-9724-C479C547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660-F578-45A2-9489-1075EE38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AC0-E165-4379-8486-91B2F7F2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512-ACF4-4C52-8637-0ACB0F3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8A0-C60C-4397-8905-ABB746C6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CD8-A42E-4E82-AEBB-53D74ED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2856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7720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0C49-5F21-48D4-B619-D6697BD76FC1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F61D-943D-4E99-B28F-AE15D818E694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us of KEK E391a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その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I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2362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日科研費特定領域 第二回研究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つくば国際会議場エポカ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阪大：菅谷頼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2971800"/>
            <a:ext cx="3352680" cy="2895480"/>
            <a:chOff x="0" y="2971800"/>
            <a:chExt cx="3352680" cy="2895480"/>
          </a:xfrm>
        </p:grpSpPr>
        <p:pic>
          <p:nvPicPr>
            <p:cNvPr id="91" name="102-0261_IMG" descr=""/>
            <p:cNvPicPr/>
            <p:nvPr/>
          </p:nvPicPr>
          <p:blipFill>
            <a:blip r:embed="rId1"/>
            <a:stretch/>
          </p:blipFill>
          <p:spPr>
            <a:xfrm>
              <a:off x="100080" y="3429000"/>
              <a:ext cx="325260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29718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c/26/200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352680" y="3733920"/>
            <a:ext cx="3581640" cy="2971800"/>
            <a:chOff x="3352680" y="3733920"/>
            <a:chExt cx="3581640" cy="2971800"/>
          </a:xfrm>
        </p:grpSpPr>
        <p:pic>
          <p:nvPicPr>
            <p:cNvPr id="94" name="P1000483" descr=""/>
            <p:cNvPicPr/>
            <p:nvPr/>
          </p:nvPicPr>
          <p:blipFill>
            <a:blip r:embed="rId2"/>
            <a:stretch/>
          </p:blipFill>
          <p:spPr>
            <a:xfrm>
              <a:off x="3494160" y="4127400"/>
              <a:ext cx="344016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352680" y="37339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an/21/20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533520" y="1981080"/>
            <a:ext cx="4019400" cy="4041360"/>
            <a:chOff x="533520" y="1981080"/>
            <a:chExt cx="4019400" cy="4041360"/>
          </a:xfrm>
        </p:grpSpPr>
        <p:pic>
          <p:nvPicPr>
            <p:cNvPr id="190" name="kpi3mas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401940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759760" y="5562720"/>
              <a:ext cx="175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eV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04920" y="2070000"/>
              <a:ext cx="117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33"/>
                  </a:solidFill>
                  <a:latin typeface="Arial"/>
                </a:rPr>
                <a:t>K</a:t>
              </a:r>
              <a:r>
                <a:rPr b="0" lang="en-US" sz="4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</a:t>
              </a:r>
              <a:r>
                <a:rPr b="0" lang="en-US" sz="4400" spc="-1" strike="noStrike">
                  <a:solidFill>
                    <a:srgbClr val="ff0033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ss spectrum of K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, K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97560" y="1981080"/>
            <a:ext cx="4012920" cy="4041360"/>
            <a:chOff x="4597560" y="1981080"/>
            <a:chExt cx="4012920" cy="4041360"/>
          </a:xfrm>
        </p:grpSpPr>
        <p:pic>
          <p:nvPicPr>
            <p:cNvPr id="195" name="kpi2mass" descr=""/>
            <p:cNvPicPr/>
            <p:nvPr/>
          </p:nvPicPr>
          <p:blipFill>
            <a:blip r:embed="rId2"/>
            <a:stretch/>
          </p:blipFill>
          <p:spPr>
            <a:xfrm>
              <a:off x="4597560" y="1981080"/>
              <a:ext cx="401292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34600" y="5562720"/>
              <a:ext cx="1759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eV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8960" y="2133720"/>
              <a:ext cx="117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33"/>
                  </a:solidFill>
                  <a:latin typeface="Arial"/>
                </a:rPr>
                <a:t>K</a:t>
              </a:r>
              <a:r>
                <a:rPr b="0" lang="en-US" sz="4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</a:t>
              </a:r>
              <a:r>
                <a:rPr b="0" lang="en-US" sz="4400" spc="-1" strike="noStrike">
                  <a:solidFill>
                    <a:srgbClr val="ff0033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D4F-B18D-4996-B21C-BDFF0204A3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am po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Center of Energy: COE = </a:t>
            </a:r>
            <a:r>
              <a:rPr b="0" lang="ja-JP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xiEi/</a:t>
            </a:r>
            <a:r>
              <a:rPr b="0" lang="ja-JP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coe" descr=""/>
          <p:cNvPicPr/>
          <p:nvPr/>
        </p:nvPicPr>
        <p:blipFill>
          <a:blip r:embed="rId1"/>
          <a:stretch/>
        </p:blipFill>
        <p:spPr>
          <a:xfrm>
            <a:off x="639720" y="3060720"/>
            <a:ext cx="8047080" cy="2577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703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07240" y="298296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3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762-A0AF-4690-8FE5-A925BBDEF8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ＭＳ Ｐゴシック"/>
              </a:rPr>
              <a:t>Online monit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4" name="online" descr=""/>
          <p:cNvPicPr/>
          <p:nvPr/>
        </p:nvPicPr>
        <p:blipFill>
          <a:blip r:embed="rId1"/>
          <a:stretch/>
        </p:blipFill>
        <p:spPr>
          <a:xfrm>
            <a:off x="3157560" y="630360"/>
            <a:ext cx="5452920" cy="5618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18800" y="955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12160" y="92088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33"/>
                </a:solidFill>
                <a:latin typeface="Times New Roman"/>
              </a:rPr>
              <a:t>X-Y co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2000" y="4578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Vert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76640" y="45784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oment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7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3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eam line tu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81280" y="2666880"/>
            <a:ext cx="3848400" cy="685800"/>
            <a:chOff x="3581280" y="2666880"/>
            <a:chExt cx="3848400" cy="685800"/>
          </a:xfrm>
        </p:grpSpPr>
        <p:sp>
          <p:nvSpPr>
            <p:cNvPr id="211" name=""/>
            <p:cNvSpPr/>
            <p:nvPr/>
          </p:nvSpPr>
          <p:spPr>
            <a:xfrm>
              <a:off x="6210360" y="2666880"/>
              <a:ext cx="1219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COE-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81280" y="2666880"/>
              <a:ext cx="1219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COE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D82-D607-4ED5-B23D-B07D621333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igg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Symbol"/>
                <a:ea typeface="Symbol"/>
              </a:rPr>
              <a:t>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da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only 2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on C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40% dead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norm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3 and K</a:t>
            </a:r>
            <a:r>
              <a:rPr b="0" lang="ja-JP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stable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cos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Xe lamp and 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mu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Accidental backg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ccidental trig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95760" y="838080"/>
            <a:ext cx="3162240" cy="1828800"/>
            <a:chOff x="3695760" y="838080"/>
            <a:chExt cx="3162240" cy="1828800"/>
          </a:xfrm>
        </p:grpSpPr>
        <p:sp>
          <p:nvSpPr>
            <p:cNvPr id="216" name=""/>
            <p:cNvSpPr/>
            <p:nvPr/>
          </p:nvSpPr>
          <p:spPr>
            <a:xfrm>
              <a:off x="3695760" y="838080"/>
              <a:ext cx="1752480" cy="182880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stB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838080"/>
              <a:ext cx="1752480" cy="182880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stB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705720" y="838080"/>
            <a:ext cx="1752480" cy="152424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343040" y="2362320"/>
            <a:ext cx="3277080" cy="2438280"/>
            <a:chOff x="4343040" y="2362320"/>
            <a:chExt cx="3277080" cy="2438280"/>
          </a:xfrm>
        </p:grpSpPr>
        <p:sp>
          <p:nvSpPr>
            <p:cNvPr id="220" name=""/>
            <p:cNvSpPr/>
            <p:nvPr/>
          </p:nvSpPr>
          <p:spPr>
            <a:xfrm>
              <a:off x="4343400" y="2666880"/>
              <a:ext cx="0" cy="45720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43040" y="3124080"/>
              <a:ext cx="110484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86400" y="3124080"/>
              <a:ext cx="0" cy="45720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91320" y="2666880"/>
              <a:ext cx="0" cy="91440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0120" y="2362320"/>
              <a:ext cx="0" cy="76176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172200" y="3124080"/>
              <a:ext cx="137160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3124080"/>
              <a:ext cx="0" cy="45720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05520" y="3581280"/>
              <a:ext cx="1295280" cy="1219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22440" y="278460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553080" y="3429000"/>
            <a:ext cx="19051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~0.5msec/ev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9880" y="2209680"/>
            <a:ext cx="4114800" cy="457200"/>
            <a:chOff x="3809880" y="2209680"/>
            <a:chExt cx="4114800" cy="457200"/>
          </a:xfrm>
        </p:grpSpPr>
        <p:sp>
          <p:nvSpPr>
            <p:cNvPr id="231" name=""/>
            <p:cNvSpPr/>
            <p:nvPr/>
          </p:nvSpPr>
          <p:spPr>
            <a:xfrm>
              <a:off x="3809880" y="2362320"/>
              <a:ext cx="990720" cy="304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ＣＰＵ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57800" y="2362320"/>
              <a:ext cx="990720" cy="304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ＣＰＵ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34320" y="2209680"/>
              <a:ext cx="990360" cy="3049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ＣＰＵ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DF9-FBE6-4FF9-AA4E-5ED351A2CE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ＭＳ Ｐゴシック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xperiment start from Feb.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Vacuum is rea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Detector tuning by cosmic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 beam is d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Beam line turning is ongo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Trigger study by offline analy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ata ta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clear peak of 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2 and 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hysics Run will be start from Mar.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191-25AE-49E8-B81E-02DB656199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ＭＳ Ｐゴシック"/>
              </a:rPr>
              <a:t>Good job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102-0229_IMG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4876920" cy="6502320"/>
          </a:xfrm>
          <a:prstGeom prst="rect">
            <a:avLst/>
          </a:prstGeom>
          <a:ln w="0">
            <a:noFill/>
          </a:ln>
        </p:spPr>
      </p:pic>
      <p:pic>
        <p:nvPicPr>
          <p:cNvPr id="239" name="watanabe" descr=""/>
          <p:cNvPicPr/>
          <p:nvPr/>
        </p:nvPicPr>
        <p:blipFill>
          <a:blip r:embed="rId2"/>
          <a:stretch/>
        </p:blipFill>
        <p:spPr>
          <a:xfrm>
            <a:off x="3201840" y="380880"/>
            <a:ext cx="1065240" cy="801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344680" y="1905120"/>
            <a:ext cx="6723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M. Dorochenko, T. Inagaki, N. Ishihara, T. Komatsubara, G.Y.Lim, T. Morimoto,              H. Okuno, K. Omata, T. Sato, M. Sekimoto, M. Yamaga, Y. Yoshim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S. Ajimura , Ishii, T.Ikei, Y. Ikemoto, Komatsu, T. Mizuhashi, Nishi, M. Nomachi,T. Oba, K.Sakashita, Y.Shibata, Y. Sugaya, E. Tanaka, T. Yamana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M. Itaya, T. Iwata, T.Hariu, M. Moriya, Sato, Y. Tajima, M. Yamamoto, H. Yoshida, Y. Yoshida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A.Lednev, J. Nix, G. Perdue, E. Pod, M. Raqtajizak, Y. Wah, H. Watana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V. Baranov, N. Khomoutov, A. Kurilin, G. Macharashvili, A. Moiseenko,  Z.Tsamalaid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Y. Akune, Y. Fujioka, Ishibashi, N. Kawakubo, S. Kobayashi, T. Koj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J.K.Ahn, H.S.Lee, S.Y.Le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T. Shinkaw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Y.B.Hsiu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T. Naka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Nomura, Sum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" y="185256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KEK </a:t>
            </a: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：</a:t>
            </a: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Osaka University</a:t>
            </a: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：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Yamagata University</a:t>
            </a: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University of Chicago</a:t>
            </a: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JINR</a:t>
            </a: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：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Saga University</a:t>
            </a: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：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PNU</a:t>
            </a: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NDA</a:t>
            </a: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： 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66"/>
                </a:solidFill>
                <a:latin typeface="Times New Roman"/>
              </a:rPr>
              <a:t>FNAL:                 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33"/>
                </a:solidFill>
                <a:latin typeface="Times New Roman"/>
              </a:rPr>
              <a:t>RCNP</a:t>
            </a:r>
            <a:r>
              <a:rPr b="0" lang="ja-JP" sz="1500" spc="-1" strike="noStrike">
                <a:solidFill>
                  <a:srgbClr val="ff0033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ff0033"/>
                </a:solidFill>
                <a:latin typeface="Times New Roman"/>
              </a:rPr>
              <a:t>Kyoto University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08C-6B16-479F-B101-0DA0597669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Run summary - Total 300 shift-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17: Beam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17-2/22 Beam commissioning, detector tu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23-3/4 trigger study and data t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10-     physics Ru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451-B6F2-4680-A7D3-37B242AEDA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eck li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ts val="2398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Vacu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ts val="2398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Low vacuum: &lt;1 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ts val="2398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High vacuum: &lt;10^-4 P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ts val="2398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Detector tu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ts val="2398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Cosmic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ts val="2398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muon beam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ts val="2398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Beam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ts val="2398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Kaon beam position.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ts val="2398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Kaon yiel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ts val="2398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Trigger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ts val="2398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ts val="2398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ccep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676520"/>
            <a:ext cx="533520" cy="533160"/>
          </a:xfrm>
          <a:prstGeom prst="donut">
            <a:avLst>
              <a:gd name="adj" fmla="val 25000"/>
            </a:avLst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AEF-D26D-4FFD-BE4A-7EA7EF10AB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082520" y="3124080"/>
            <a:ext cx="2881440" cy="3200400"/>
            <a:chOff x="1082520" y="3124080"/>
            <a:chExt cx="2881440" cy="3200400"/>
          </a:xfrm>
        </p:grpSpPr>
        <p:sp>
          <p:nvSpPr>
            <p:cNvPr id="102" name=""/>
            <p:cNvSpPr/>
            <p:nvPr/>
          </p:nvSpPr>
          <p:spPr>
            <a:xfrm>
              <a:off x="1082520" y="3124080"/>
              <a:ext cx="2881440" cy="3200400"/>
            </a:xfrm>
            <a:custGeom>
              <a:avLst/>
              <a:gdLst>
                <a:gd name="textAreaLeft" fmla="*/ 140400 w 2881440"/>
                <a:gd name="textAreaRight" fmla="*/ 2741040 w 2881440"/>
                <a:gd name="textAreaTop" fmla="*/ 140400 h 3200400"/>
                <a:gd name="textAreaBottom" fmla="*/ 3060000 h 3200400"/>
              </a:gdLst>
              <a:ahLst/>
              <a:rect l="textAreaLeft" t="textAreaTop" r="textAreaRight" b="textAreaBottom"/>
              <a:pathLst>
                <a:path w="21600" h="23991">
                  <a:moveTo>
                    <a:pt x="3600" y="0"/>
                  </a:moveTo>
                  <a:arcTo wR="3600" hR="3600" stAng="16200000" swAng="-5400000"/>
                  <a:lnTo>
                    <a:pt x="0" y="20391"/>
                  </a:lnTo>
                  <a:arcTo wR="3600" hR="3600" stAng="10800000" swAng="-5400000"/>
                  <a:lnTo>
                    <a:pt x="18000" y="23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1449360" y="4281120"/>
              <a:ext cx="2667240" cy="11430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sI energy calib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Cos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muon b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96000" y="4444920"/>
            <a:ext cx="2377440" cy="574920"/>
            <a:chOff x="1296000" y="4444920"/>
            <a:chExt cx="2377440" cy="574920"/>
          </a:xfrm>
        </p:grpSpPr>
        <p:sp>
          <p:nvSpPr>
            <p:cNvPr id="107" name=""/>
            <p:cNvSpPr/>
            <p:nvPr/>
          </p:nvSpPr>
          <p:spPr>
            <a:xfrm>
              <a:off x="1296000" y="44449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87440" y="5019840"/>
              <a:ext cx="228600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990720" y="3419640"/>
            <a:ext cx="2363760" cy="2904840"/>
            <a:chOff x="990720" y="3419640"/>
            <a:chExt cx="2363760" cy="2904840"/>
          </a:xfrm>
        </p:grpSpPr>
        <p:sp>
          <p:nvSpPr>
            <p:cNvPr id="110" name=""/>
            <p:cNvSpPr/>
            <p:nvPr/>
          </p:nvSpPr>
          <p:spPr>
            <a:xfrm>
              <a:off x="990720" y="353700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m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11480" y="3419640"/>
              <a:ext cx="1143000" cy="29048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040280" y="1752480"/>
            <a:ext cx="4875120" cy="4463640"/>
            <a:chOff x="4040280" y="1752480"/>
            <a:chExt cx="4875120" cy="4463640"/>
          </a:xfrm>
        </p:grpSpPr>
        <p:pic>
          <p:nvPicPr>
            <p:cNvPr id="113" name="csicalib" descr=""/>
            <p:cNvPicPr/>
            <p:nvPr/>
          </p:nvPicPr>
          <p:blipFill>
            <a:blip r:embed="rId1"/>
            <a:stretch/>
          </p:blipFill>
          <p:spPr>
            <a:xfrm>
              <a:off x="4481640" y="1752480"/>
              <a:ext cx="4433760" cy="44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250320" y="35053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I 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40280" y="1752480"/>
              <a:ext cx="531720" cy="444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3339000" y="477036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ber of C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3923640" y="21729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t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1520" y="1752480"/>
              <a:ext cx="33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tio of calibration fa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96480" y="57564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t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C3F-B8B7-46B3-841F-D6BDB1D97D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L decay measurement -K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,K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,K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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L beam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ment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ctor accep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tical e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efficiency of the det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33520" y="1143000"/>
            <a:ext cx="2286000" cy="761760"/>
            <a:chOff x="533520" y="1143000"/>
            <a:chExt cx="2286000" cy="761760"/>
          </a:xfrm>
        </p:grpSpPr>
        <p:sp>
          <p:nvSpPr>
            <p:cNvPr id="123" name=""/>
            <p:cNvSpPr/>
            <p:nvPr/>
          </p:nvSpPr>
          <p:spPr>
            <a:xfrm>
              <a:off x="533520" y="1143000"/>
              <a:ext cx="1219320" cy="761760"/>
            </a:xfrm>
            <a:prstGeom prst="ellipse">
              <a:avLst/>
            </a:prstGeom>
            <a:noFill/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1143000"/>
              <a:ext cx="1219320" cy="761760"/>
            </a:xfrm>
            <a:prstGeom prst="ellipse">
              <a:avLst/>
            </a:prstGeom>
            <a:noFill/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5181480" y="2647800"/>
          <a:ext cx="3429000" cy="2616480"/>
        </p:xfrm>
        <a:graphic>
          <a:graphicData uri="http://schemas.openxmlformats.org/drawingml/2006/table">
            <a:tbl>
              <a:tblPr/>
              <a:tblGrid>
                <a:gridCol w="1638360"/>
                <a:gridCol w="1790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cay m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an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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ja-JP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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9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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23D-1DBB-4C74-BB60-A2CD5A8806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413000" y="3551400"/>
            <a:ext cx="3738600" cy="2697120"/>
            <a:chOff x="1413000" y="3551400"/>
            <a:chExt cx="3738600" cy="2697120"/>
          </a:xfrm>
        </p:grpSpPr>
        <p:pic>
          <p:nvPicPr>
            <p:cNvPr id="127" name="E391a1" descr=""/>
            <p:cNvPicPr/>
            <p:nvPr/>
          </p:nvPicPr>
          <p:blipFill>
            <a:blip r:embed="rId1"/>
            <a:stretch/>
          </p:blipFill>
          <p:spPr>
            <a:xfrm>
              <a:off x="1413000" y="3551400"/>
              <a:ext cx="3738600" cy="26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flipV="1">
              <a:off x="1638360" y="4930200"/>
              <a:ext cx="159156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229920" y="4656240"/>
              <a:ext cx="549000" cy="2743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285000" y="4821120"/>
              <a:ext cx="438840" cy="1094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27400" y="493056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63040" y="4491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sI calorimet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943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cm X 7 cm C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cm X 5 cm C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cm X 25 cm Collar cou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Downstream_section" descr=""/>
          <p:cNvPicPr/>
          <p:nvPr/>
        </p:nvPicPr>
        <p:blipFill>
          <a:blip r:embed="rId2"/>
          <a:stretch/>
        </p:blipFill>
        <p:spPr>
          <a:xfrm>
            <a:off x="1249200" y="3429000"/>
            <a:ext cx="4070520" cy="2874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030480" cy="404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110-C1C5-4775-8704-A32C1E125B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ke kaon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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≦n ≦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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：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r                                                              cou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09800" y="4038480"/>
            <a:ext cx="3210120" cy="2268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3209760" cy="227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559480" y="923760"/>
            <a:ext cx="3203640" cy="3038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020000" y="1628640"/>
            <a:ext cx="216000" cy="432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016-DA1B-4696-9F4F-BE77AB9422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77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6 cluster on C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vertex of 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ain 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37000" y="76320"/>
            <a:ext cx="3925800" cy="3809880"/>
            <a:chOff x="3537000" y="76320"/>
            <a:chExt cx="3925800" cy="3809880"/>
          </a:xfrm>
        </p:grpSpPr>
        <p:pic>
          <p:nvPicPr>
            <p:cNvPr id="146" name="kpi3" descr=""/>
            <p:cNvPicPr/>
            <p:nvPr/>
          </p:nvPicPr>
          <p:blipFill>
            <a:blip r:embed="rId1"/>
            <a:stretch/>
          </p:blipFill>
          <p:spPr>
            <a:xfrm>
              <a:off x="3537000" y="81000"/>
              <a:ext cx="392580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560040" y="76320"/>
              <a:ext cx="18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 displa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29200" y="3200400"/>
            <a:ext cx="3886200" cy="3200400"/>
            <a:chOff x="5029200" y="3200400"/>
            <a:chExt cx="3886200" cy="3200400"/>
          </a:xfrm>
        </p:grpSpPr>
        <p:sp>
          <p:nvSpPr>
            <p:cNvPr id="149" name=""/>
            <p:cNvSpPr/>
            <p:nvPr/>
          </p:nvSpPr>
          <p:spPr>
            <a:xfrm>
              <a:off x="5029200" y="3200400"/>
              <a:ext cx="3886200" cy="320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257800" y="3353040"/>
              <a:ext cx="3048120" cy="2666880"/>
              <a:chOff x="5257800" y="3353040"/>
              <a:chExt cx="3048120" cy="2666880"/>
            </a:xfrm>
          </p:grpSpPr>
          <p:sp>
            <p:nvSpPr>
              <p:cNvPr id="151" name=""/>
              <p:cNvSpPr/>
              <p:nvPr/>
            </p:nvSpPr>
            <p:spPr>
              <a:xfrm rot="16200000">
                <a:off x="6400800" y="4114800"/>
                <a:ext cx="2666880" cy="1143000"/>
              </a:xfrm>
              <a:prstGeom prst="ca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57800" y="4876920"/>
                <a:ext cx="228600" cy="22824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5410440" y="3886200"/>
                <a:ext cx="1828800" cy="106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5410440" y="4190760"/>
                <a:ext cx="1828800" cy="761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5410440" y="4800600"/>
                <a:ext cx="205740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10440" y="4952880"/>
                <a:ext cx="2057400" cy="75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10440" y="5029200"/>
                <a:ext cx="1981080" cy="609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10440" y="5029200"/>
                <a:ext cx="1904760" cy="761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69200" y="4357800"/>
                <a:ext cx="3726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78800" y="4890960"/>
                <a:ext cx="3726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573880" y="5195880"/>
                <a:ext cx="3726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22800" y="3505320"/>
                <a:ext cx="31032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6B6-49D5-43CC-8763-BB754C065A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2581200"/>
            <a:ext cx="5189400" cy="374328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97280" y="4627080"/>
            <a:ext cx="2503080" cy="460080"/>
            <a:chOff x="197280" y="4627080"/>
            <a:chExt cx="2503080" cy="460080"/>
          </a:xfrm>
        </p:grpSpPr>
        <p:sp>
          <p:nvSpPr>
            <p:cNvPr id="165" name=""/>
            <p:cNvSpPr/>
            <p:nvPr/>
          </p:nvSpPr>
          <p:spPr>
            <a:xfrm flipV="1">
              <a:off x="490680" y="4627080"/>
              <a:ext cx="22096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280" y="462744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679840" y="3995640"/>
            <a:ext cx="761760" cy="609480"/>
            <a:chOff x="2679840" y="3995640"/>
            <a:chExt cx="761760" cy="609480"/>
          </a:xfrm>
        </p:grpSpPr>
        <p:sp>
          <p:nvSpPr>
            <p:cNvPr id="168" name=""/>
            <p:cNvSpPr/>
            <p:nvPr/>
          </p:nvSpPr>
          <p:spPr>
            <a:xfrm flipV="1">
              <a:off x="2679840" y="4224240"/>
              <a:ext cx="761760" cy="3808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755800" y="4452480"/>
              <a:ext cx="609120" cy="1522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34200" y="3995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7880" y="4605120"/>
              <a:ext cx="69336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747880" y="4147920"/>
              <a:ext cx="617040" cy="4572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90680" y="4224240"/>
            <a:ext cx="380880" cy="380880"/>
            <a:chOff x="2290680" y="4224240"/>
            <a:chExt cx="380880" cy="380880"/>
          </a:xfrm>
        </p:grpSpPr>
        <p:sp>
          <p:nvSpPr>
            <p:cNvPr id="174" name=""/>
            <p:cNvSpPr/>
            <p:nvPr/>
          </p:nvSpPr>
          <p:spPr>
            <a:xfrm flipV="1">
              <a:off x="2671560" y="4224240"/>
              <a:ext cx="0" cy="3808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290680" y="4224240"/>
              <a:ext cx="380880" cy="3808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572000" y="1905120"/>
            <a:ext cx="4314960" cy="4329000"/>
            <a:chOff x="4572000" y="1905120"/>
            <a:chExt cx="4314960" cy="43290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4572000" y="1905120"/>
              <a:ext cx="431496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72000" y="1905120"/>
              <a:ext cx="2112840" cy="609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90760" y="2514600"/>
            <a:ext cx="2354400" cy="2286000"/>
            <a:chOff x="5990760" y="2514600"/>
            <a:chExt cx="2354400" cy="2286000"/>
          </a:xfrm>
        </p:grpSpPr>
        <p:sp>
          <p:nvSpPr>
            <p:cNvPr id="181" name=""/>
            <p:cNvSpPr/>
            <p:nvPr/>
          </p:nvSpPr>
          <p:spPr>
            <a:xfrm flipH="1">
              <a:off x="7972200" y="3581640"/>
              <a:ext cx="372960" cy="121896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981120" y="3200400"/>
              <a:ext cx="373320" cy="12193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684840" y="3200400"/>
              <a:ext cx="372960" cy="12193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990760" y="2514600"/>
              <a:ext cx="1143000" cy="2286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780080" y="4191120"/>
            <a:ext cx="1058760" cy="609480"/>
            <a:chOff x="4780080" y="4191120"/>
            <a:chExt cx="1058760" cy="609480"/>
          </a:xfrm>
        </p:grpSpPr>
        <p:sp>
          <p:nvSpPr>
            <p:cNvPr id="186" name=""/>
            <p:cNvSpPr/>
            <p:nvPr/>
          </p:nvSpPr>
          <p:spPr>
            <a:xfrm flipH="1">
              <a:off x="5465880" y="4191120"/>
              <a:ext cx="372960" cy="6094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780080" y="4343400"/>
              <a:ext cx="296640" cy="4572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K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 only 4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C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 第二回研究会　、つくば国際会議場エポカル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4B4-D3D0-4BA0-A40E-5313E4D506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/3/8</a:t>
            </a: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6:52:03Z</dcterms:created>
  <dc:creator>sugaya</dc:creator>
  <dc:description/>
  <dc:language>en-US</dc:language>
  <cp:lastModifiedBy>sugaya</cp:lastModifiedBy>
  <dcterms:modified xsi:type="dcterms:W3CDTF">2004-03-08T04:40:43Z</dcterms:modified>
  <cp:revision>47</cp:revision>
  <dc:subject/>
  <dc:title>Status of KEK E391a そのII </dc:title>
</cp:coreProperties>
</file>