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73.png" ContentType="image/png"/>
  <Override PartName="/ppt/media/image55.jpeg" ContentType="image/jpeg"/>
  <Override PartName="/ppt/media/image43.png" ContentType="image/png"/>
  <Override PartName="/ppt/media/image53.jpeg" ContentType="image/jpeg"/>
  <Override PartName="/ppt/media/image51.jpeg" ContentType="image/jpe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png" ContentType="image/png"/>
  <Override PartName="/ppt/media/image57.jpeg" ContentType="image/jpeg"/>
  <Override PartName="/ppt/media/image63.png" ContentType="image/png"/>
  <Override PartName="/ppt/media/image42.png" ContentType="image/png"/>
  <Override PartName="/ppt/media/image16.png" ContentType="image/png"/>
  <Override PartName="/ppt/media/image49.jpeg" ContentType="image/jpeg"/>
  <Override PartName="/ppt/media/image20.png" ContentType="image/png"/>
  <Override PartName="/ppt/media/image30.png" ContentType="image/png"/>
  <Override PartName="/ppt/media/image67.png" ContentType="image/png"/>
  <Override PartName="/ppt/media/image41.png" ContentType="image/png"/>
  <Override PartName="/ppt/media/image3.jpeg" ContentType="image/jpeg"/>
  <Override PartName="/ppt/media/image65.png" ContentType="image/png"/>
  <Override PartName="/ppt/media/image21.jpeg" ContentType="image/jpeg"/>
  <Override PartName="/ppt/media/image71.png" ContentType="image/png"/>
  <Override PartName="/ppt/media/image22.png" ContentType="image/png"/>
  <Override PartName="/ppt/media/image12.png" ContentType="image/png"/>
  <Override PartName="/ppt/media/image26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15.jpeg" ContentType="image/jpeg"/>
  <Override PartName="/ppt/media/image64.png" ContentType="image/png"/>
  <Override PartName="/ppt/media/image80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79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27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29.jpeg" ContentType="image/jpe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31.png" ContentType="image/png"/>
  <Override PartName="/ppt/media/image6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54.jpeg" ContentType="image/jpeg"/>
  <Override PartName="/ppt/media/image33.png" ContentType="image/png"/>
  <Override PartName="/ppt/media/image56.jpeg" ContentType="image/jpe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2913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4440" y="-360"/>
            <a:ext cx="29228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58680" y="77004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22320" y="4695840"/>
            <a:ext cx="4998960" cy="45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69080"/>
            <a:ext cx="292248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4440" y="9469080"/>
            <a:ext cx="29228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C4F4F1-CFA5-4F5B-9A0C-3F911E64B8F2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844440" y="9469080"/>
            <a:ext cx="29228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59C7E7-F794-4D2A-A85C-BFCA157B7982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9469080"/>
            <a:ext cx="292248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0" y="-360"/>
            <a:ext cx="292248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844440" y="-360"/>
            <a:ext cx="292284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06480" y="746280"/>
            <a:ext cx="4981680" cy="37353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77880" y="4729320"/>
            <a:ext cx="543888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application for Cherenkov ight yield can catch the light scatterd like this 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998-9F26-4FD7-B7A7-E2C62ABD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BD7-2362-4980-A957-BD644CD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18D-1417-47CF-A039-0D434BAF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294-40DB-4522-8A34-71956BD8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C84C-A39C-40E1-B6ED-C3DE7BA2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003-B249-48B9-852D-B1C20F0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7A44-5833-4273-AC70-8FA3642D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532-EFAE-49A6-9263-9C67A73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4D9-6205-48B9-8319-F2C6521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BC9A-F060-46D1-ACC9-B47AEBF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919C-E248-4112-B8D6-62D9A87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509-BCA2-488E-B052-40854DD6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D270-1D9F-4AA9-AAF6-E480D75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4620-2526-4175-B875-7728DF1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7E4C-9B70-47EA-AF32-32AD88F6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A191-E44E-46DB-9958-BC55D181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4A5B-EA4D-4A46-B8E2-7B0653E5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814-3655-4D83-B787-C291ABB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BE3-E83E-411C-83A7-CBE6DB4A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771-E8F3-4D2B-9CD2-9998842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1E2-5D68-4EC0-8745-CF8240D7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8B3-F8F9-4ACA-A0F7-0E9D0F4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1E3-8DA2-4293-A71C-E18C370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AC0-73DC-4A53-8C14-26CF9E5C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9ff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9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ABE-DB33-412B-827F-4E5B7FE9DBA0}" type="slidenum">
              <a:rPr b="0" lang="ja-JP" sz="1400" spc="-1" strike="noStrike">
                <a:solidFill>
                  <a:srgbClr val="6666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fd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dcf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666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83A-09EF-41DE-9922-1299A3C9EB00}" type="slidenum">
              <a:rPr b="0" lang="ja-JP" sz="1400" spc="-1" strike="noStrike">
                <a:solidFill>
                  <a:srgbClr val="6666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66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Tahoma"/>
              </a:rPr>
              <a:t>KOPIO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実験の現状と日本での検出器開発</a:t>
            </a:r>
            <a:endParaRPr b="0" lang="en-US" sz="28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京都大学理学研究科物理学宇宙物理学専攻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物理学第二教室高エネルギー研究室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谷口　七重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217" name="lapin1" descr=""/>
          <p:cNvPicPr/>
          <p:nvPr/>
        </p:nvPicPr>
        <p:blipFill>
          <a:blip r:embed="rId1"/>
          <a:stretch/>
        </p:blipFill>
        <p:spPr>
          <a:xfrm>
            <a:off x="8258040" y="59436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15800" y="2147760"/>
            <a:ext cx="8575920" cy="47102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5120" y="152280"/>
            <a:ext cx="734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Cherenkov</a:t>
            </a:r>
            <a:r>
              <a:rPr b="0" lang="ja-JP" sz="3200" spc="-1" strike="noStrike">
                <a:solidFill>
                  <a:srgbClr val="666633"/>
                </a:solidFill>
                <a:latin typeface="Times New Roman"/>
              </a:rPr>
              <a:t>発光量の簡易評価システム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581840" y="1035000"/>
            <a:ext cx="5032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33"/>
                </a:solidFill>
                <a:uFillTx/>
                <a:latin typeface="Times New Roman"/>
              </a:rPr>
              <a:t>β</a:t>
            </a:r>
            <a:r>
              <a:rPr b="0" lang="ja-JP" sz="2000" spc="-1" strike="noStrike" u="sng">
                <a:solidFill>
                  <a:srgbClr val="666633"/>
                </a:solidFill>
                <a:uFillTx/>
                <a:latin typeface="Times New Roman"/>
              </a:rPr>
              <a:t>線源＋</a:t>
            </a:r>
            <a:r>
              <a:rPr b="0" lang="en-US" sz="2000" spc="-1" strike="noStrike" u="sng">
                <a:solidFill>
                  <a:srgbClr val="666633"/>
                </a:solidFill>
                <a:uFillTx/>
                <a:latin typeface="Times New Roman"/>
              </a:rPr>
              <a:t>Gap</a:t>
            </a:r>
            <a:r>
              <a:rPr b="0" lang="ja-JP" sz="2000" spc="-1" strike="noStrike" u="sng">
                <a:solidFill>
                  <a:srgbClr val="666633"/>
                </a:solidFill>
                <a:uFillTx/>
                <a:latin typeface="Times New Roman"/>
              </a:rPr>
              <a:t>型ソレノイドマグネット＝スペクトロメーターを利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実験室で利用でき、</a:t>
            </a:r>
            <a:r>
              <a:rPr b="0" lang="ja-JP" sz="1800" spc="-1" strike="noStrike">
                <a:solidFill>
                  <a:srgbClr val="ff5050"/>
                </a:solidFill>
                <a:latin typeface="Comic Sans MS"/>
                <a:ea typeface="ＭＳ Ｐゴシック"/>
              </a:rPr>
              <a:t>手軽で容易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な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Set Up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～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MeV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の</a:t>
            </a:r>
            <a:r>
              <a:rPr b="0" lang="ja-JP" sz="1800" spc="-1" strike="noStrike">
                <a:solidFill>
                  <a:srgbClr val="ff5050"/>
                </a:solidFill>
                <a:latin typeface="Comic Sans MS"/>
                <a:ea typeface="ＭＳ Ｐゴシック"/>
              </a:rPr>
              <a:t>モノクロマティック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な電子ビーム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429240" y="1628640"/>
            <a:ext cx="2340000" cy="23767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454040"/>
            <a:ext cx="2503440" cy="52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baseline="30000">
                <a:solidFill>
                  <a:srgbClr val="333300"/>
                </a:solidFill>
                <a:latin typeface="ＭＳ Ｐゴシック"/>
              </a:rPr>
              <a:t>106</a:t>
            </a:r>
            <a:r>
              <a:rPr b="0" lang="en-US" sz="1400" spc="-1" strike="noStrike">
                <a:solidFill>
                  <a:srgbClr val="333300"/>
                </a:solidFill>
                <a:latin typeface="ＭＳ Ｐゴシック"/>
              </a:rPr>
              <a:t>Ru</a:t>
            </a:r>
            <a:r>
              <a:rPr b="0" lang="ja-JP" sz="1400" spc="-1" strike="noStrike">
                <a:solidFill>
                  <a:srgbClr val="333300"/>
                </a:solidFill>
                <a:latin typeface="ＭＳ Ｐゴシック"/>
              </a:rPr>
              <a:t>の生スペクトルと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00"/>
                </a:solidFill>
                <a:latin typeface="ＭＳ Ｐゴシック"/>
              </a:rPr>
              <a:t>収束された電子のスペクトル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800600" y="2514600"/>
            <a:ext cx="4343400" cy="2768400"/>
            <a:chOff x="4800600" y="2514600"/>
            <a:chExt cx="4343400" cy="2768400"/>
          </a:xfrm>
        </p:grpSpPr>
        <p:pic>
          <p:nvPicPr>
            <p:cNvPr id="302" name="kopio_detector_eyepipe" descr=""/>
            <p:cNvPicPr/>
            <p:nvPr/>
          </p:nvPicPr>
          <p:blipFill>
            <a:blip r:embed="rId1"/>
            <a:stretch/>
          </p:blipFill>
          <p:spPr>
            <a:xfrm>
              <a:off x="4800600" y="2514600"/>
              <a:ext cx="4343400" cy="272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6294960" y="4823280"/>
              <a:ext cx="2171880" cy="459720"/>
              <a:chOff x="6294960" y="4823280"/>
              <a:chExt cx="2171880" cy="459720"/>
            </a:xfrm>
          </p:grpSpPr>
          <p:sp>
            <p:nvSpPr>
              <p:cNvPr id="304" name=""/>
              <p:cNvSpPr/>
              <p:nvPr/>
            </p:nvSpPr>
            <p:spPr>
              <a:xfrm>
                <a:off x="6294960" y="4823280"/>
                <a:ext cx="2171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666633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666633"/>
                    </a:solidFill>
                    <a:latin typeface="Tahoma"/>
                  </a:rPr>
                  <a:t>m</a:t>
                </a:r>
                <a:endParaRPr b="0" lang="en-US" sz="24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48440" y="4857120"/>
                <a:ext cx="610560" cy="0"/>
              </a:xfrm>
              <a:prstGeom prst="line">
                <a:avLst/>
              </a:prstGeom>
              <a:ln w="19080">
                <a:solidFill>
                  <a:srgbClr val="6666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Eye pipe Charged Particle Veto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31760" y="1600200"/>
            <a:ext cx="7031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崩壊領域からビームホールに抜けた荷電粒子のうち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内壁から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Preradiator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や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Calorimeter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に入る荷電粒子を検出す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Symbol"/>
                <a:ea typeface="Symbol"/>
              </a:rPr>
              <a:t>要求される検出効率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Inefficiency</a:t>
            </a:r>
            <a:r>
              <a:rPr b="0" lang="en-US" sz="1600" spc="-1" strike="noStrike">
                <a:solidFill>
                  <a:srgbClr val="666633"/>
                </a:solidFill>
                <a:latin typeface="Symbol"/>
                <a:ea typeface="Symbol"/>
              </a:rPr>
              <a:t>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　　</a:t>
            </a:r>
            <a:r>
              <a:rPr b="0" lang="en-US" sz="28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-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～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10</a:t>
            </a:r>
            <a:r>
              <a:rPr b="0" lang="ja-JP" sz="18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-4 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 ,  </a:t>
            </a:r>
            <a:r>
              <a:rPr b="0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+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～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10</a:t>
            </a:r>
            <a:r>
              <a:rPr b="0" lang="ja-JP" sz="18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-5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真空槽内に配置される　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     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～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10</a:t>
            </a:r>
            <a:r>
              <a:rPr b="0" lang="ja-JP" sz="18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-3 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Torr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崩壊領域は～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10</a:t>
            </a:r>
            <a:r>
              <a:rPr b="0" lang="ja-JP" sz="1800" spc="-1" strike="noStrike" baseline="30000">
                <a:solidFill>
                  <a:srgbClr val="666633"/>
                </a:solidFill>
                <a:latin typeface="Tahoma"/>
                <a:ea typeface="ＭＳ Ｐゴシック"/>
              </a:rPr>
              <a:t>-7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Torr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の高真空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幅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mx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高さ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20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cm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の狭い領域をカバー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Acceptance loss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をできるだけ小さくするため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)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PMT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などでの直接読み出しが困難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　　　　→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波長変換ファイバーを用いた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　　　　　　　　　　検出器を検討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410080" y="5773680"/>
            <a:ext cx="3407760" cy="857160"/>
            <a:chOff x="5410080" y="5773680"/>
            <a:chExt cx="3407760" cy="857160"/>
          </a:xfrm>
        </p:grpSpPr>
        <p:sp>
          <p:nvSpPr>
            <p:cNvPr id="309" name=""/>
            <p:cNvSpPr/>
            <p:nvPr/>
          </p:nvSpPr>
          <p:spPr>
            <a:xfrm>
              <a:off x="5448240" y="5849640"/>
              <a:ext cx="2438280" cy="228600"/>
            </a:xfrm>
            <a:prstGeom prst="roundRect">
              <a:avLst>
                <a:gd name="adj" fmla="val 16667"/>
              </a:avLst>
            </a:prstGeom>
            <a:solidFill>
              <a:srgbClr val="fdcfe4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10080" y="6230880"/>
              <a:ext cx="2514600" cy="0"/>
            </a:xfrm>
            <a:prstGeom prst="line">
              <a:avLst/>
            </a:prstGeom>
            <a:ln w="9360">
              <a:solidFill>
                <a:srgbClr val="6666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38800" y="5830560"/>
              <a:ext cx="0" cy="3049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58760" y="62625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666633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52120" y="5773680"/>
              <a:ext cx="7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Tahoma"/>
                </a:rPr>
                <a:t>20</a:t>
              </a:r>
              <a:r>
                <a:rPr b="0" lang="en-US" sz="1800" spc="-1" strike="noStrike">
                  <a:solidFill>
                    <a:srgbClr val="666633"/>
                  </a:solidFill>
                  <a:latin typeface="Tahoma"/>
                </a:rPr>
                <a:t>cm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18760" y="54100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cc33"/>
                </a:solidFill>
                <a:latin typeface="Tahoma"/>
              </a:rPr>
              <a:t>正面から見ると…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Eye pipe Charged Particle Veto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2496960"/>
            <a:ext cx="5715000" cy="3294000"/>
            <a:chOff x="228600" y="2496960"/>
            <a:chExt cx="5715000" cy="3294000"/>
          </a:xfrm>
        </p:grpSpPr>
        <p:pic>
          <p:nvPicPr>
            <p:cNvPr id="317" name="DSCV_Sci_Fiber1" descr=""/>
            <p:cNvPicPr/>
            <p:nvPr/>
          </p:nvPicPr>
          <p:blipFill>
            <a:blip r:embed="rId1"/>
            <a:stretch/>
          </p:blipFill>
          <p:spPr>
            <a:xfrm>
              <a:off x="228600" y="2496960"/>
              <a:ext cx="571500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247040" y="2539800"/>
              <a:ext cx="150372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Tahoma"/>
                </a:rPr>
                <a:t>Preradiator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63880" y="2525760"/>
              <a:ext cx="15494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ahoma"/>
                </a:rPr>
                <a:t>Calorimeter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5867280" y="2057400"/>
            <a:ext cx="335304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ner counter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en-US" sz="9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1" lang="ja-JP" sz="900" spc="-1" strike="noStrike">
                <a:solidFill>
                  <a:srgbClr val="3366ff"/>
                </a:solidFill>
                <a:latin typeface="Arial"/>
              </a:rPr>
              <a:t>プラスチックシンチレーター</a:t>
            </a:r>
            <a:r>
              <a:rPr b="1" lang="ja-JP" sz="9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長さ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幅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20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cm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厚さ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3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m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ビームに対して垂直に配置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uter counter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長さ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幅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20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cm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厚さ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5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m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ビームに対して平行に配置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緑発光する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Y11(200)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cc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約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4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92480" y="4470480"/>
            <a:ext cx="10951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Tahoma"/>
              </a:rPr>
              <a:t>側面の断面図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20800" y="160020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0066"/>
                </a:solidFill>
                <a:uFillTx/>
                <a:latin typeface="Tahoma"/>
              </a:rPr>
              <a:t>日本グループでは以下のようなデザインを提案してい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High QE PMT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324" name="DSCN1023" descr=""/>
          <p:cNvPicPr/>
          <p:nvPr/>
        </p:nvPicPr>
        <p:blipFill>
          <a:blip r:embed="rId1"/>
          <a:stretch/>
        </p:blipFill>
        <p:spPr>
          <a:xfrm>
            <a:off x="6400800" y="3525840"/>
            <a:ext cx="2104920" cy="157968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1409760" y="3422520"/>
            <a:ext cx="2918160" cy="770040"/>
            <a:chOff x="1409760" y="3422520"/>
            <a:chExt cx="2918160" cy="770040"/>
          </a:xfrm>
        </p:grpSpPr>
        <p:sp>
          <p:nvSpPr>
            <p:cNvPr id="326" name=""/>
            <p:cNvSpPr/>
            <p:nvPr/>
          </p:nvSpPr>
          <p:spPr>
            <a:xfrm>
              <a:off x="1409760" y="3422520"/>
              <a:ext cx="19332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GaAsP</a:t>
              </a:r>
              <a:r>
                <a:rPr b="1" lang="ja-JP" sz="1800" spc="-1" strike="noStrike">
                  <a:solidFill>
                    <a:srgbClr val="ff0066"/>
                  </a:solidFill>
                  <a:latin typeface="Arial"/>
                </a:rPr>
                <a:t>光電面</a:t>
              </a: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PMT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36080" y="382428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666633"/>
                  </a:solidFill>
                  <a:latin typeface="Arial"/>
                </a:rPr>
                <a:t>青い波長で</a:t>
              </a:r>
              <a:r>
                <a:rPr b="1" lang="ja-JP" sz="1800" spc="-1" strike="noStrike" u="sng">
                  <a:solidFill>
                    <a:srgbClr val="666633"/>
                  </a:solidFill>
                  <a:uFillTx/>
                  <a:latin typeface="Arial"/>
                </a:rPr>
                <a:t>最大</a:t>
              </a:r>
              <a:r>
                <a:rPr b="1" lang="ja-JP" sz="1800" spc="-1" strike="noStrike" u="sng">
                  <a:solidFill>
                    <a:srgbClr val="666633"/>
                  </a:solidFill>
                  <a:uFillTx/>
                  <a:latin typeface="Arial"/>
                </a:rPr>
                <a:t>40%</a:t>
              </a:r>
              <a:r>
                <a:rPr b="1" lang="ja-JP" sz="1800" spc="-1" strike="noStrike">
                  <a:solidFill>
                    <a:srgbClr val="666633"/>
                  </a:solidFill>
                  <a:latin typeface="Arial"/>
                </a:rPr>
                <a:t>の量子効率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736280" y="1600200"/>
            <a:ext cx="5345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Eye pipe veto 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ではより多くの光量を得ることが必要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buClr>
                <a:srgbClr val="ff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ファイバーを伝播する過程での光量のロスが懸念され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666633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は荷電交換反応を起こし、充分なエネルギーを落とす前に消えてしまう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　→　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高い量子効率を持った光検出器の使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22480" y="4462560"/>
            <a:ext cx="446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量子効率の高い検出器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GaAsP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光電面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 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相対量子効率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リニアリティ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ff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レート耐性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プラスチックシンチレーターと波長変換ファイバーによる光量評価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84560" y="3048120"/>
            <a:ext cx="29268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H7422P-40(HAMAMATSU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900" spc="-1" strike="noStrike">
                <a:solidFill>
                  <a:srgbClr val="666633"/>
                </a:solidFill>
                <a:latin typeface="Tahoma"/>
              </a:rPr>
              <a:t>相対量子効率測定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332" name="0126" descr=""/>
          <p:cNvPicPr/>
          <p:nvPr/>
        </p:nvPicPr>
        <p:blipFill>
          <a:blip r:embed="rId1"/>
          <a:stretch/>
        </p:blipFill>
        <p:spPr>
          <a:xfrm>
            <a:off x="685800" y="3003480"/>
            <a:ext cx="4305240" cy="3016440"/>
          </a:xfrm>
          <a:prstGeom prst="rect">
            <a:avLst/>
          </a:prstGeom>
          <a:ln w="0">
            <a:noFill/>
          </a:ln>
        </p:spPr>
      </p:pic>
      <p:pic>
        <p:nvPicPr>
          <p:cNvPr id="333" name="1216-3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119600" y="1631880"/>
            <a:ext cx="26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dcf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UV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から赤まで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6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種類の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　　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LED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により波長依存性を評価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dcf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バイアルカリ光電面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PM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　　との比を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57320" y="3200400"/>
            <a:ext cx="100368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33"/>
                </a:solidFill>
                <a:latin typeface="Tahoma"/>
              </a:rPr>
              <a:t>相対量子効率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44200" y="2286000"/>
            <a:ext cx="72936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33"/>
                </a:solidFill>
                <a:latin typeface="Tahoma"/>
              </a:rPr>
              <a:t>量子効率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181480" y="4343400"/>
            <a:ext cx="2133720" cy="609480"/>
            <a:chOff x="5181480" y="4343400"/>
            <a:chExt cx="2133720" cy="609480"/>
          </a:xfrm>
        </p:grpSpPr>
        <p:sp>
          <p:nvSpPr>
            <p:cNvPr id="338" name=""/>
            <p:cNvSpPr/>
            <p:nvPr/>
          </p:nvSpPr>
          <p:spPr>
            <a:xfrm>
              <a:off x="5181480" y="4343400"/>
              <a:ext cx="213372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99520" y="4343400"/>
              <a:ext cx="107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Tahoma"/>
                </a:rPr>
                <a:t>標準</a:t>
              </a:r>
              <a:r>
                <a:rPr b="1" lang="en-US" sz="1600" spc="-1" strike="noStrike">
                  <a:solidFill>
                    <a:srgbClr val="666633"/>
                  </a:solidFill>
                  <a:latin typeface="Tahoma"/>
                </a:rPr>
                <a:t>PMT</a:t>
              </a:r>
              <a:r>
                <a:rPr b="1" lang="ja-JP" sz="1600" spc="-1" strike="noStrike">
                  <a:solidFill>
                    <a:srgbClr val="666633"/>
                  </a:solidFill>
                  <a:latin typeface="Tahoma"/>
                </a:rPr>
                <a:t>の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Tahoma"/>
                </a:rPr>
                <a:t>カタログ値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971800" y="4800600"/>
            <a:ext cx="533520" cy="685800"/>
          </a:xfrm>
          <a:prstGeom prst="ellipse">
            <a:avLst/>
          </a:prstGeom>
          <a:noFill/>
          <a:ln w="28440">
            <a:solidFill>
              <a:srgbClr val="f79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59560" y="6100920"/>
            <a:ext cx="3330360" cy="36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cc33"/>
                </a:solidFill>
                <a:latin typeface="Arial"/>
              </a:rPr>
              <a:t>緑</a:t>
            </a: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の波長</a:t>
            </a: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( 510-530</a:t>
            </a: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nm)</a:t>
            </a: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で</a:t>
            </a:r>
            <a:r>
              <a:rPr b="1" lang="ja-JP" sz="1800" spc="-1" strike="noStrike" u="sng">
                <a:solidFill>
                  <a:srgbClr val="666633"/>
                </a:solidFill>
                <a:uFillTx/>
                <a:latin typeface="Arial"/>
              </a:rPr>
              <a:t>３倍</a:t>
            </a: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の量子効率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3580920"/>
            <a:ext cx="609480" cy="12193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58000" y="1593720"/>
            <a:ext cx="2133720" cy="615960"/>
            <a:chOff x="6858000" y="1593720"/>
            <a:chExt cx="2133720" cy="615960"/>
          </a:xfrm>
        </p:grpSpPr>
        <p:sp>
          <p:nvSpPr>
            <p:cNvPr id="344" name=""/>
            <p:cNvSpPr/>
            <p:nvPr/>
          </p:nvSpPr>
          <p:spPr>
            <a:xfrm>
              <a:off x="6858000" y="1599840"/>
              <a:ext cx="2133720" cy="609840"/>
            </a:xfrm>
            <a:prstGeom prst="ellipse">
              <a:avLst/>
            </a:prstGeom>
            <a:solidFill>
              <a:srgbClr val="fdcfe4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1360" y="1593720"/>
              <a:ext cx="91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Tahoma"/>
                </a:rPr>
                <a:t>測定値からの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Tahoma"/>
                </a:rPr>
                <a:t>概算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>
            <a:off x="7467480" y="2209680"/>
            <a:ext cx="152640" cy="762120"/>
          </a:xfrm>
          <a:prstGeom prst="line">
            <a:avLst/>
          </a:prstGeom>
          <a:ln w="1908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Linearity &amp; Rate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耐性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348" name="0301-toukutei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891240" cy="3890880"/>
          </a:xfrm>
          <a:prstGeom prst="rect">
            <a:avLst/>
          </a:prstGeom>
          <a:ln w="0">
            <a:noFill/>
          </a:ln>
        </p:spPr>
      </p:pic>
      <p:pic>
        <p:nvPicPr>
          <p:cNvPr id="349" name="0301-tokutei-rate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567240" cy="35672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rot="16200000">
            <a:off x="-106920" y="2919240"/>
            <a:ext cx="12427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ADC</a:t>
            </a:r>
            <a:r>
              <a:rPr b="0" lang="ja-JP" sz="1800" spc="-1" strike="noStrike">
                <a:solidFill>
                  <a:srgbClr val="66ccff"/>
                </a:solidFill>
                <a:latin typeface="Tahoma"/>
              </a:rPr>
              <a:t>カウント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4285440" y="3014640"/>
            <a:ext cx="1242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ADC</a:t>
            </a:r>
            <a:r>
              <a:rPr b="0" lang="ja-JP" sz="1800" spc="-1" strike="noStrike">
                <a:solidFill>
                  <a:srgbClr val="66ccff"/>
                </a:solidFill>
                <a:latin typeface="Tahoma"/>
              </a:rPr>
              <a:t>カウント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15000" y="5562720"/>
            <a:ext cx="13723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ccff"/>
                </a:solidFill>
                <a:latin typeface="Tahoma"/>
              </a:rPr>
              <a:t>光電子数 </a:t>
            </a:r>
            <a:r>
              <a:rPr b="0" lang="ja-JP" sz="1800" spc="-1" strike="noStrike">
                <a:solidFill>
                  <a:srgbClr val="66cc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p.e.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52160" y="5562720"/>
            <a:ext cx="12582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Rate (kHz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6040" y="1650960"/>
            <a:ext cx="1581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Linearity</a:t>
            </a:r>
            <a:r>
              <a:rPr b="0" lang="ja-JP" sz="2000" spc="-1" strike="noStrike">
                <a:solidFill>
                  <a:srgbClr val="33cc33"/>
                </a:solidFill>
                <a:latin typeface="Tahoma"/>
              </a:rPr>
              <a:t>測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55560" y="1650960"/>
            <a:ext cx="138744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Rate</a:t>
            </a:r>
            <a:r>
              <a:rPr b="0" lang="ja-JP" sz="2000" spc="-1" strike="noStrike">
                <a:solidFill>
                  <a:srgbClr val="33cc33"/>
                </a:solidFill>
                <a:latin typeface="Tahoma"/>
              </a:rPr>
              <a:t>耐性測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8004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p.e.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程度の光量では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Nonlinear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10920" y="6019920"/>
            <a:ext cx="218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100p.e.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程度の光量では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レートに対して安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666633"/>
                </a:solidFill>
                <a:latin typeface="Tahoma"/>
              </a:rPr>
              <a:t>プラスチックシンチレーターと波長変換ファイバーを</a:t>
            </a:r>
            <a:br>
              <a:rPr sz="2500"/>
            </a:br>
            <a:r>
              <a:rPr b="0" lang="ja-JP" sz="2500" spc="-1" strike="noStrike">
                <a:solidFill>
                  <a:srgbClr val="666633"/>
                </a:solidFill>
                <a:latin typeface="Tahoma"/>
              </a:rPr>
              <a:t>用いた光量評価測定</a:t>
            </a:r>
            <a:endParaRPr b="0" lang="en-US" sz="25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359" name="setup-top" descr=""/>
          <p:cNvPicPr/>
          <p:nvPr/>
        </p:nvPicPr>
        <p:blipFill>
          <a:blip r:embed="rId1"/>
          <a:stretch/>
        </p:blipFill>
        <p:spPr>
          <a:xfrm>
            <a:off x="4343400" y="4892760"/>
            <a:ext cx="4294080" cy="1812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282360" y="4805280"/>
            <a:ext cx="187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両側を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MT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で読み出し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74640" y="4815000"/>
            <a:ext cx="2982960" cy="1737720"/>
            <a:chOff x="674640" y="4815000"/>
            <a:chExt cx="2982960" cy="1737720"/>
          </a:xfrm>
        </p:grpSpPr>
        <p:pic>
          <p:nvPicPr>
            <p:cNvPr id="362" name="ch4-setup" descr=""/>
            <p:cNvPicPr/>
            <p:nvPr/>
          </p:nvPicPr>
          <p:blipFill>
            <a:blip r:embed="rId2"/>
            <a:stretch/>
          </p:blipFill>
          <p:spPr>
            <a:xfrm>
              <a:off x="674640" y="4840560"/>
              <a:ext cx="2982960" cy="17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001960" y="4815000"/>
              <a:ext cx="9043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33cc"/>
                  </a:solidFill>
                  <a:latin typeface="Arial"/>
                </a:rPr>
                <a:t>線源　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Sr  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6320" y="1303200"/>
            <a:ext cx="5257800" cy="27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による比較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GaAsP</a:t>
            </a:r>
            <a:r>
              <a:rPr b="1" lang="ja-JP" sz="16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光電面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PMT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 , 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ＭＳ Ｐゴシック"/>
              </a:rPr>
              <a:t>Bialkali</a:t>
            </a:r>
            <a:r>
              <a:rPr b="1" lang="ja-JP" sz="1600" spc="-1" strike="noStrike">
                <a:solidFill>
                  <a:srgbClr val="33cccc"/>
                </a:solidFill>
                <a:latin typeface="Arial"/>
                <a:ea typeface="ＭＳ Ｐゴシック"/>
              </a:rPr>
              <a:t>光電面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  <a:ea typeface="ＭＳ Ｐゴシック"/>
              </a:rPr>
              <a:t>PMT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相対量子効率の結果から期待できる光量が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     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得られるか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シンチレーターの厚さによる比較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3mm </a:t>
            </a:r>
            <a:r>
              <a:rPr b="1" lang="en-US" sz="1600" spc="-1" strike="noStrike">
                <a:solidFill>
                  <a:srgbClr val="666633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, 5mm 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光量と厚さの関係は？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00600" y="1295280"/>
            <a:ext cx="4267080" cy="251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ファイバーの本数による比較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7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本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: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spacing 10mm,15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本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: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spacing 5mm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より多くの光量を得るため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dcf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6633"/>
                </a:solidFill>
                <a:latin typeface="Arial"/>
              </a:rPr>
              <a:t>ファイバーの径による比較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1.0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mm </a:t>
            </a:r>
            <a:r>
              <a:rPr b="1" lang="en-US" sz="1600" spc="-1" strike="noStrike">
                <a:solidFill>
                  <a:srgbClr val="666633"/>
                </a:solidFill>
                <a:latin typeface="Symbol"/>
                <a:ea typeface="Symbol"/>
              </a:rPr>
              <a:t></a:t>
            </a:r>
            <a:r>
              <a:rPr b="1" lang="en-US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, 1.5mm </a:t>
            </a:r>
            <a:r>
              <a:rPr b="1" lang="en-US" sz="1600" spc="-1" strike="noStrike">
                <a:solidFill>
                  <a:srgbClr val="666633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  <a:ea typeface="ＭＳ Ｐゴシック"/>
              </a:rPr>
              <a:t>より多くの光量を得るため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06360" y="3914640"/>
            <a:ext cx="616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Arial"/>
              </a:rPr>
              <a:t>プラスチックシンチレーター　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J-212  </a:t>
            </a:r>
            <a:r>
              <a:rPr b="0" lang="ja-JP" sz="1600" spc="-1" strike="noStrike">
                <a:solidFill>
                  <a:srgbClr val="0066ff"/>
                </a:solidFill>
                <a:latin typeface="Arial"/>
              </a:rPr>
              <a:t>最大発光波長　</a:t>
            </a:r>
            <a:r>
              <a:rPr b="0" lang="ja-JP" sz="1600" spc="-1" strike="noStrike">
                <a:solidFill>
                  <a:srgbClr val="0066ff"/>
                </a:solidFill>
                <a:latin typeface="Arial"/>
              </a:rPr>
              <a:t>(423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nm)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cc33"/>
                </a:solidFill>
                <a:latin typeface="Arial"/>
              </a:rPr>
              <a:t>波長変換ファイバー　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Y11(200)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33cc33"/>
                </a:solidFill>
                <a:latin typeface="Arial"/>
              </a:rPr>
              <a:t>吸収波長 </a:t>
            </a:r>
            <a:r>
              <a:rPr b="0" lang="ja-JP" sz="1600" spc="-1" strike="noStrike">
                <a:solidFill>
                  <a:srgbClr val="33cc33"/>
                </a:solidFill>
                <a:latin typeface="Arial"/>
              </a:rPr>
              <a:t>(350-470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m) </a:t>
            </a:r>
            <a:r>
              <a:rPr b="0" lang="ja-JP" sz="1600" spc="-1" strike="noStrike">
                <a:solidFill>
                  <a:srgbClr val="33cc33"/>
                </a:solidFill>
                <a:latin typeface="Arial"/>
              </a:rPr>
              <a:t>発光波長</a:t>
            </a:r>
            <a:r>
              <a:rPr b="0" lang="ja-JP" sz="1600" spc="-1" strike="noStrike">
                <a:solidFill>
                  <a:srgbClr val="33cc33"/>
                </a:solidFill>
                <a:latin typeface="Arial"/>
              </a:rPr>
              <a:t>(450-600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m)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光量測定結果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33520" y="1833480"/>
            <a:ext cx="4114800" cy="4033800"/>
            <a:chOff x="533520" y="1833480"/>
            <a:chExt cx="4114800" cy="4033800"/>
          </a:xfrm>
        </p:grpSpPr>
        <p:sp>
          <p:nvSpPr>
            <p:cNvPr id="369" name=""/>
            <p:cNvSpPr/>
            <p:nvPr/>
          </p:nvSpPr>
          <p:spPr>
            <a:xfrm>
              <a:off x="533520" y="2133720"/>
              <a:ext cx="4114800" cy="37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4200" y="1833480"/>
              <a:ext cx="154152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を変えた測定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2333520"/>
              <a:ext cx="3586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Scintillator       3mm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　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Fiber               Spacing 10mm   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666633"/>
                  </a:solidFill>
                  <a:latin typeface="Arial"/>
                </a:rPr>
                <a:t>                          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Diameter 1.0mm </a:t>
              </a:r>
              <a:r>
                <a:rPr b="0" lang="en-US" sz="14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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597680" y="4724280"/>
              <a:ext cx="2009520" cy="914040"/>
              <a:chOff x="1597680" y="4724280"/>
              <a:chExt cx="2009520" cy="91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6880" y="4724280"/>
                <a:ext cx="1102320" cy="368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d39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約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3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倍の光量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97680" y="5057640"/>
                <a:ext cx="2009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相対量子効率測定の結果から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期待される通りの光量が得られた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60960" y="3659040"/>
              <a:ext cx="3917160" cy="380880"/>
              <a:chOff x="660960" y="3659040"/>
              <a:chExt cx="3917160" cy="380880"/>
            </a:xfrm>
          </p:grpSpPr>
          <p:sp>
            <p:nvSpPr>
              <p:cNvPr id="376" name=""/>
              <p:cNvSpPr/>
              <p:nvPr/>
            </p:nvSpPr>
            <p:spPr>
              <a:xfrm>
                <a:off x="660960" y="3671640"/>
                <a:ext cx="198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Tahoma"/>
                  </a:rPr>
                  <a:t>Bialkali (12.4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66160" y="365904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99"/>
                    </a:solidFill>
                    <a:latin typeface="Tahoma"/>
                  </a:rPr>
                  <a:t>GaAsP (39.3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800600" y="1833480"/>
            <a:ext cx="4114800" cy="4033800"/>
            <a:chOff x="4800600" y="1833480"/>
            <a:chExt cx="4114800" cy="4033800"/>
          </a:xfrm>
        </p:grpSpPr>
        <p:sp>
          <p:nvSpPr>
            <p:cNvPr id="379" name=""/>
            <p:cNvSpPr/>
            <p:nvPr/>
          </p:nvSpPr>
          <p:spPr>
            <a:xfrm>
              <a:off x="4800600" y="2133720"/>
              <a:ext cx="4114800" cy="37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7440" y="1833480"/>
              <a:ext cx="237528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シンチレーターの厚さを変えた測定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99120" y="2394000"/>
              <a:ext cx="3259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Bialkali</a:t>
              </a:r>
              <a:r>
                <a:rPr b="0" lang="ja-JP" sz="1400" spc="-1" strike="noStrike">
                  <a:solidFill>
                    <a:srgbClr val="666633"/>
                  </a:solidFill>
                  <a:latin typeface="Arial"/>
                </a:rPr>
                <a:t>光電面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Fiber           Spacing 10mm 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666633"/>
                  </a:solidFill>
                  <a:latin typeface="Arial"/>
                </a:rPr>
                <a:t>                      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Diameter1.0mm </a:t>
              </a:r>
              <a:r>
                <a:rPr b="0" lang="en-US" sz="14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811120" y="4800600"/>
              <a:ext cx="2131560" cy="741960"/>
              <a:chOff x="5811120" y="4800600"/>
              <a:chExt cx="2131560" cy="7419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56520" y="4800600"/>
                <a:ext cx="1293120" cy="368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d39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約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1.7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倍の光量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11120" y="5205240"/>
                <a:ext cx="213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光量はシンチレーターの厚さに比例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955040" y="3657600"/>
              <a:ext cx="3773880" cy="380880"/>
              <a:chOff x="4955040" y="3657600"/>
              <a:chExt cx="3773880" cy="380880"/>
            </a:xfrm>
          </p:grpSpPr>
          <p:sp>
            <p:nvSpPr>
              <p:cNvPr id="386" name=""/>
              <p:cNvSpPr/>
              <p:nvPr/>
            </p:nvSpPr>
            <p:spPr>
              <a:xfrm>
                <a:off x="4955040" y="36702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Tahoma"/>
                  </a:rPr>
                  <a:t>3mm  (13.2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48000" y="3657600"/>
                <a:ext cx="17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99"/>
                    </a:solidFill>
                    <a:latin typeface="Tahoma"/>
                  </a:rPr>
                  <a:t>5mm (22.0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光量測定結果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520" y="1600200"/>
            <a:ext cx="4114800" cy="4648320"/>
            <a:chOff x="533520" y="1600200"/>
            <a:chExt cx="4114800" cy="4648320"/>
          </a:xfrm>
        </p:grpSpPr>
        <p:sp>
          <p:nvSpPr>
            <p:cNvPr id="390" name=""/>
            <p:cNvSpPr/>
            <p:nvPr/>
          </p:nvSpPr>
          <p:spPr>
            <a:xfrm>
              <a:off x="533520" y="1828800"/>
              <a:ext cx="4114800" cy="441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21000" y="1600200"/>
              <a:ext cx="3873240" cy="3810240"/>
              <a:chOff x="621000" y="1600200"/>
              <a:chExt cx="3873240" cy="3810240"/>
            </a:xfrm>
          </p:grpSpPr>
          <p:sp>
            <p:nvSpPr>
              <p:cNvPr id="392" name=""/>
              <p:cNvSpPr/>
              <p:nvPr/>
            </p:nvSpPr>
            <p:spPr>
              <a:xfrm>
                <a:off x="783720" y="1600200"/>
                <a:ext cx="1415160" cy="642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666633"/>
                    </a:solidFill>
                    <a:latin typeface="Arial"/>
                  </a:rPr>
                  <a:t>ファイバーの本数を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666633"/>
                    </a:solidFill>
                    <a:latin typeface="Arial"/>
                  </a:rPr>
                  <a:t>変えた測定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2120" y="2514600"/>
                <a:ext cx="3732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ccff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66633"/>
                    </a:solidFill>
                    <a:latin typeface="Arial"/>
                  </a:rPr>
                  <a:t>Scintillator               3mm</a:t>
                </a:r>
                <a:r>
                  <a:rPr b="0" lang="en-US" sz="1400" spc="-1" strike="noStrike">
                    <a:solidFill>
                      <a:srgbClr val="666633"/>
                    </a:solidFill>
                    <a:latin typeface="Arial"/>
                  </a:rPr>
                  <a:t>　</a:t>
                </a:r>
                <a:endParaRPr b="0" lang="en-US" sz="14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>
                  <a:buClr>
                    <a:srgbClr val="66ccff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66633"/>
                    </a:solidFill>
                    <a:latin typeface="Arial"/>
                  </a:rPr>
                  <a:t>Fiber                       1.0mm </a:t>
                </a:r>
                <a:r>
                  <a:rPr b="0" lang="en-US" sz="1400" spc="-1" strike="noStrike">
                    <a:solidFill>
                      <a:srgbClr val="666633"/>
                    </a:solidFill>
                    <a:latin typeface="Symbol"/>
                    <a:ea typeface="Symbol"/>
                  </a:rPr>
                  <a:t></a:t>
                </a:r>
                <a:endParaRPr b="0" lang="en-US" sz="14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>
                  <a:buClr>
                    <a:srgbClr val="66ccff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66633"/>
                    </a:solidFill>
                    <a:latin typeface="Arial"/>
                  </a:rPr>
                  <a:t>Bialkali</a:t>
                </a:r>
                <a:r>
                  <a:rPr b="0" lang="ja-JP" sz="1400" spc="-1" strike="noStrike">
                    <a:solidFill>
                      <a:srgbClr val="666633"/>
                    </a:solidFill>
                    <a:latin typeface="Arial"/>
                  </a:rPr>
                  <a:t>光電面</a:t>
                </a:r>
                <a:r>
                  <a:rPr b="0" lang="en-US" sz="1400" spc="-1" strike="noStrike">
                    <a:solidFill>
                      <a:srgbClr val="666633"/>
                    </a:solidFill>
                    <a:latin typeface="Arial"/>
                  </a:rPr>
                  <a:t>PMT</a:t>
                </a:r>
                <a:endParaRPr b="0" lang="en-US" sz="14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171440" y="4437360"/>
                <a:ext cx="2866680" cy="973080"/>
                <a:chOff x="1171440" y="4437360"/>
                <a:chExt cx="2866680" cy="97308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95480" y="4437360"/>
                  <a:ext cx="1293120" cy="3682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fd39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fd395e"/>
                      </a:solidFill>
                      <a:latin typeface="Arial"/>
                    </a:rPr>
                    <a:t>約</a:t>
                  </a:r>
                  <a:r>
                    <a:rPr b="1" lang="ja-JP" sz="1800" spc="-1" strike="noStrike">
                      <a:solidFill>
                        <a:srgbClr val="fd395e"/>
                      </a:solidFill>
                      <a:latin typeface="Arial"/>
                    </a:rPr>
                    <a:t>1.3</a:t>
                  </a:r>
                  <a:r>
                    <a:rPr b="1" lang="ja-JP" sz="1800" spc="-1" strike="noStrike">
                      <a:solidFill>
                        <a:srgbClr val="fd395e"/>
                      </a:solidFill>
                      <a:latin typeface="Arial"/>
                    </a:rPr>
                    <a:t>倍の光量</a:t>
                  </a:r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171440" y="4829760"/>
                  <a:ext cx="28666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ファイバーの間隔を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10</a:t>
                  </a:r>
                  <a:r>
                    <a:rPr b="1" lang="en-US" sz="1600" spc="-1" strike="noStrike">
                      <a:solidFill>
                        <a:srgbClr val="ff5050"/>
                      </a:solidFill>
                      <a:latin typeface="Arial"/>
                    </a:rPr>
                    <a:t>mm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から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5</a:t>
                  </a:r>
                  <a:r>
                    <a:rPr b="1" lang="en-US" sz="1600" spc="-1" strike="noStrike">
                      <a:solidFill>
                        <a:srgbClr val="ff5050"/>
                      </a:solidFill>
                      <a:latin typeface="Arial"/>
                    </a:rPr>
                    <a:t>mm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にし、</a:t>
                  </a:r>
                  <a:endParaRPr b="0" lang="en-US" sz="1600" spc="-1" strike="noStrike">
                    <a:solidFill>
                      <a:srgbClr val="666633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本数を二倍にした結果、約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1.3</a:t>
                  </a:r>
                  <a:r>
                    <a:rPr b="1" lang="ja-JP" sz="1600" spc="-1" strike="noStrike">
                      <a:solidFill>
                        <a:srgbClr val="ff5050"/>
                      </a:solidFill>
                      <a:latin typeface="Arial"/>
                    </a:rPr>
                    <a:t>倍の光量</a:t>
                  </a:r>
                  <a:endParaRPr b="0" lang="en-US" sz="16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1000" y="3581640"/>
                <a:ext cx="3792960" cy="380880"/>
                <a:chOff x="621000" y="3581640"/>
                <a:chExt cx="3792960" cy="380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21000" y="3594240"/>
                  <a:ext cx="188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6633"/>
                      </a:solidFill>
                      <a:latin typeface="Tahoma"/>
                    </a:rPr>
                    <a:t>　</a:t>
                  </a:r>
                  <a:r>
                    <a:rPr b="0" lang="en-US" sz="1800" spc="-1" strike="noStrike">
                      <a:solidFill>
                        <a:srgbClr val="3366ff"/>
                      </a:solidFill>
                      <a:latin typeface="Tahoma"/>
                    </a:rPr>
                    <a:t>7</a:t>
                  </a:r>
                  <a:r>
                    <a:rPr b="0" lang="ja-JP" sz="1800" spc="-1" strike="noStrike">
                      <a:solidFill>
                        <a:srgbClr val="3366ff"/>
                      </a:solidFill>
                      <a:latin typeface="Tahoma"/>
                    </a:rPr>
                    <a:t>本 </a:t>
                  </a:r>
                  <a:r>
                    <a:rPr b="0" lang="ja-JP" sz="1800" spc="-1" strike="noStrike">
                      <a:solidFill>
                        <a:srgbClr val="3366ff"/>
                      </a:solidFill>
                      <a:latin typeface="Tahoma"/>
                    </a:rPr>
                    <a:t>(10.3</a:t>
                  </a:r>
                  <a:r>
                    <a:rPr b="0" lang="en-US" sz="1800" spc="-1" strike="noStrike">
                      <a:solidFill>
                        <a:srgbClr val="3366ff"/>
                      </a:solidFill>
                      <a:latin typeface="Tahoma"/>
                    </a:rPr>
                    <a:t>p.e.)</a:t>
                  </a:r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82360" y="3581640"/>
                  <a:ext cx="173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6699"/>
                      </a:solidFill>
                      <a:latin typeface="Tahoma"/>
                    </a:rPr>
                    <a:t>15</a:t>
                  </a:r>
                  <a:r>
                    <a:rPr b="0" lang="ja-JP" sz="1800" spc="-1" strike="noStrike">
                      <a:solidFill>
                        <a:srgbClr val="ff6699"/>
                      </a:solidFill>
                      <a:latin typeface="Tahoma"/>
                    </a:rPr>
                    <a:t>本 </a:t>
                  </a:r>
                  <a:r>
                    <a:rPr b="0" lang="ja-JP" sz="1800" spc="-1" strike="noStrike">
                      <a:solidFill>
                        <a:srgbClr val="ff6699"/>
                      </a:solidFill>
                      <a:latin typeface="Tahoma"/>
                    </a:rPr>
                    <a:t>(13.5</a:t>
                  </a:r>
                  <a:r>
                    <a:rPr b="0" lang="en-US" sz="1800" spc="-1" strike="noStrike">
                      <a:solidFill>
                        <a:srgbClr val="ff6699"/>
                      </a:solidFill>
                      <a:latin typeface="Tahoma"/>
                    </a:rPr>
                    <a:t>p.e.)</a:t>
                  </a:r>
                  <a:endParaRPr b="0" lang="en-US" sz="18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0" name=""/>
          <p:cNvGrpSpPr/>
          <p:nvPr/>
        </p:nvGrpSpPr>
        <p:grpSpPr>
          <a:xfrm>
            <a:off x="4800600" y="1600200"/>
            <a:ext cx="4230000" cy="4648320"/>
            <a:chOff x="4800600" y="1600200"/>
            <a:chExt cx="4230000" cy="4648320"/>
          </a:xfrm>
        </p:grpSpPr>
        <p:sp>
          <p:nvSpPr>
            <p:cNvPr id="401" name=""/>
            <p:cNvSpPr/>
            <p:nvPr/>
          </p:nvSpPr>
          <p:spPr>
            <a:xfrm>
              <a:off x="4800600" y="1828800"/>
              <a:ext cx="4114800" cy="441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70240" y="1600200"/>
              <a:ext cx="127800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ファイバーの径を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変えた測定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2880" y="2546640"/>
              <a:ext cx="3840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Scintilltor                 3mm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　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Fiber                       spacing 10mm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buClr>
                  <a:srgbClr val="66cc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Bialkali</a:t>
              </a:r>
              <a:r>
                <a:rPr b="0" lang="ja-JP" sz="1400" spc="-1" strike="noStrike">
                  <a:solidFill>
                    <a:srgbClr val="666633"/>
                  </a:solidFill>
                  <a:latin typeface="Arial"/>
                </a:rPr>
                <a:t>光電面</a:t>
              </a:r>
              <a:r>
                <a:rPr b="0" lang="en-US" sz="14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360760" y="4361040"/>
              <a:ext cx="2999160" cy="973080"/>
              <a:chOff x="5360760" y="4361040"/>
              <a:chExt cx="2999160" cy="973080"/>
            </a:xfrm>
          </p:grpSpPr>
          <p:sp>
            <p:nvSpPr>
              <p:cNvPr id="405" name=""/>
              <p:cNvSpPr/>
              <p:nvPr/>
            </p:nvSpPr>
            <p:spPr>
              <a:xfrm>
                <a:off x="6250320" y="4361040"/>
                <a:ext cx="1293120" cy="368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d39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約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1.3</a:t>
                </a:r>
                <a:r>
                  <a:rPr b="1" lang="ja-JP" sz="1800" spc="-1" strike="noStrike">
                    <a:solidFill>
                      <a:srgbClr val="fd395e"/>
                    </a:solidFill>
                    <a:latin typeface="Arial"/>
                  </a:rPr>
                  <a:t>倍の光量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0760" y="4753440"/>
                <a:ext cx="2999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ファイバーの径を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1.0</a:t>
                </a:r>
                <a:r>
                  <a:rPr b="1" lang="en-US" sz="1600" spc="-1" strike="noStrike">
                    <a:solidFill>
                      <a:srgbClr val="ff5050"/>
                    </a:solidFill>
                    <a:latin typeface="Arial"/>
                  </a:rPr>
                  <a:t>mm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から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1.5</a:t>
                </a:r>
                <a:r>
                  <a:rPr b="1" lang="en-US" sz="1600" spc="-1" strike="noStrike">
                    <a:solidFill>
                      <a:srgbClr val="ff5050"/>
                    </a:solidFill>
                    <a:latin typeface="Arial"/>
                  </a:rPr>
                  <a:t>mm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に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した結果、約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1.3</a:t>
                </a:r>
                <a:r>
                  <a:rPr b="1" lang="ja-JP" sz="1600" spc="-1" strike="noStrike">
                    <a:solidFill>
                      <a:srgbClr val="ff5050"/>
                    </a:solidFill>
                    <a:latin typeface="Arial"/>
                  </a:rPr>
                  <a:t>倍の光量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875120" y="3581640"/>
              <a:ext cx="4155480" cy="380880"/>
              <a:chOff x="4875120" y="3581640"/>
              <a:chExt cx="4155480" cy="380880"/>
            </a:xfrm>
          </p:grpSpPr>
          <p:sp>
            <p:nvSpPr>
              <p:cNvPr id="408" name=""/>
              <p:cNvSpPr/>
              <p:nvPr/>
            </p:nvSpPr>
            <p:spPr>
              <a:xfrm>
                <a:off x="4875120" y="3594240"/>
                <a:ext cx="209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Tahoma"/>
                  </a:rPr>
                  <a:t>1.0mm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Symbol"/>
                    <a:ea typeface="Symbol"/>
                  </a:rPr>
                  <a:t></a:t>
                </a:r>
                <a:r>
                  <a:rPr b="0" lang="ja-JP" sz="1800" spc="-1" strike="noStrike">
                    <a:solidFill>
                      <a:srgbClr val="3366ff"/>
                    </a:solidFill>
                    <a:latin typeface="Tahoma"/>
                  </a:rPr>
                  <a:t> (12.8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Tahoma"/>
                  </a:rPr>
                  <a:t>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79600" y="3581640"/>
                <a:ext cx="215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666633"/>
                    </a:solidFill>
                    <a:latin typeface="Tahoma"/>
                  </a:rPr>
                  <a:t>  </a:t>
                </a:r>
                <a:r>
                  <a:rPr b="0" lang="ja-JP" sz="1800" spc="-1" strike="noStrike">
                    <a:solidFill>
                      <a:srgbClr val="ff6699"/>
                    </a:solidFill>
                    <a:latin typeface="Tahoma"/>
                  </a:rPr>
                  <a:t>1.5</a:t>
                </a:r>
                <a:r>
                  <a:rPr b="0" lang="en-US" sz="1800" spc="-1" strike="noStrike">
                    <a:solidFill>
                      <a:srgbClr val="ff6699"/>
                    </a:solidFill>
                    <a:latin typeface="Tahoma"/>
                  </a:rPr>
                  <a:t>mm</a:t>
                </a:r>
                <a:r>
                  <a:rPr b="0" lang="en-US" sz="1800" spc="-1" strike="noStrike">
                    <a:solidFill>
                      <a:srgbClr val="ff6699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800" spc="-1" strike="noStrike">
                    <a:solidFill>
                      <a:srgbClr val="ff6699"/>
                    </a:solidFill>
                    <a:latin typeface="Tahoma"/>
                  </a:rPr>
                  <a:t>(16.9p.e.)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減衰長測定結果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51600" y="6064200"/>
            <a:ext cx="7698960" cy="642600"/>
            <a:chOff x="651600" y="6064200"/>
            <a:chExt cx="7698960" cy="642600"/>
          </a:xfrm>
        </p:grpSpPr>
        <p:sp>
          <p:nvSpPr>
            <p:cNvPr id="412" name=""/>
            <p:cNvSpPr/>
            <p:nvPr/>
          </p:nvSpPr>
          <p:spPr>
            <a:xfrm>
              <a:off x="651600" y="6064200"/>
              <a:ext cx="307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GaAsP PMT</a:t>
              </a: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 : 4m</a:t>
              </a: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で光量が</a:t>
              </a:r>
              <a:r>
                <a:rPr b="0" lang="ja-JP" sz="1800" spc="-1" strike="noStrike">
                  <a:solidFill>
                    <a:srgbClr val="cc0066"/>
                  </a:solidFill>
                  <a:latin typeface="Arial"/>
                </a:rPr>
                <a:t>35%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Bialkali PMT</a:t>
              </a: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 : 4m</a:t>
              </a: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で光量が</a:t>
              </a:r>
              <a:r>
                <a:rPr b="0" lang="ja-JP" sz="1800" spc="-1" strike="noStrike">
                  <a:solidFill>
                    <a:srgbClr val="0033cc"/>
                  </a:solidFill>
                  <a:latin typeface="Arial"/>
                </a:rPr>
                <a:t>30%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6880" y="6216480"/>
              <a:ext cx="3883680" cy="36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GaAsP</a:t>
              </a: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光電面</a:t>
              </a:r>
              <a:r>
                <a:rPr b="0" lang="en-US" sz="18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の使用は減衰長の点からも有利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143000" y="2057400"/>
            <a:ext cx="6610320" cy="2974680"/>
            <a:chOff x="1143000" y="2057400"/>
            <a:chExt cx="6610320" cy="2974680"/>
          </a:xfrm>
        </p:grpSpPr>
        <p:grpSp>
          <p:nvGrpSpPr>
            <p:cNvPr id="415" name=""/>
            <p:cNvGrpSpPr/>
            <p:nvPr/>
          </p:nvGrpSpPr>
          <p:grpSpPr>
            <a:xfrm>
              <a:off x="1143000" y="2057400"/>
              <a:ext cx="2982960" cy="2896200"/>
              <a:chOff x="1143000" y="2057400"/>
              <a:chExt cx="2982960" cy="2896200"/>
            </a:xfrm>
          </p:grpSpPr>
          <p:pic>
            <p:nvPicPr>
              <p:cNvPr id="416" name="hqe1.0new_pmt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2057400"/>
                <a:ext cx="29829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827000" y="2266920"/>
                <a:ext cx="1918080" cy="368280"/>
              </a:xfrm>
              <a:prstGeom prst="rect">
                <a:avLst/>
              </a:prstGeom>
              <a:solidFill>
                <a:srgbClr val="fdcfe4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Arial"/>
                  </a:rPr>
                  <a:t>PMT:GaAsP</a:t>
                </a:r>
                <a:r>
                  <a:rPr b="0" lang="ja-JP" sz="1800" spc="-1" strike="noStrike">
                    <a:solidFill>
                      <a:srgbClr val="ff0066"/>
                    </a:solidFill>
                    <a:latin typeface="Arial"/>
                  </a:rPr>
                  <a:t>光電面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00000">
                <a:off x="1026720" y="2451960"/>
                <a:ext cx="668520" cy="337320"/>
              </a:xfrm>
              <a:prstGeom prst="rect">
                <a:avLst/>
              </a:prstGeom>
              <a:solidFill>
                <a:srgbClr val="fd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666633"/>
                    </a:solidFill>
                    <a:latin typeface="Arial"/>
                  </a:rPr>
                  <a:t>光電子数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611080" y="4616280"/>
                <a:ext cx="1267200" cy="337320"/>
              </a:xfrm>
              <a:prstGeom prst="rect">
                <a:avLst/>
              </a:prstGeom>
              <a:solidFill>
                <a:srgbClr val="fdc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Arial"/>
                  </a:rPr>
                  <a:t>PMT</a:t>
                </a:r>
                <a:r>
                  <a:rPr b="1" lang="ja-JP" sz="1600" spc="-1" strike="noStrike">
                    <a:solidFill>
                      <a:srgbClr val="666633"/>
                    </a:solidFill>
                    <a:latin typeface="Arial"/>
                  </a:rPr>
                  <a:t>からの距離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029200" y="2133360"/>
              <a:ext cx="2724120" cy="2898720"/>
              <a:chOff x="5029200" y="2133360"/>
              <a:chExt cx="2724120" cy="289872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29200" y="2133360"/>
                <a:ext cx="2724120" cy="2723760"/>
                <a:chOff x="5029200" y="2133360"/>
                <a:chExt cx="2724120" cy="2723760"/>
              </a:xfrm>
            </p:grpSpPr>
            <p:grpSp>
              <p:nvGrpSpPr>
                <p:cNvPr id="422" name=""/>
                <p:cNvGrpSpPr/>
                <p:nvPr/>
              </p:nvGrpSpPr>
              <p:grpSpPr>
                <a:xfrm>
                  <a:off x="5029200" y="2133360"/>
                  <a:ext cx="2724120" cy="2723760"/>
                  <a:chOff x="5029200" y="2133360"/>
                  <a:chExt cx="2724120" cy="2723760"/>
                </a:xfrm>
              </p:grpSpPr>
              <p:pic>
                <p:nvPicPr>
                  <p:cNvPr id="423" name="eg1.0new_pmt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2133360"/>
                    <a:ext cx="2724120" cy="27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4" name=""/>
                  <p:cNvSpPr/>
                  <p:nvPr/>
                </p:nvSpPr>
                <p:spPr>
                  <a:xfrm>
                    <a:off x="5508000" y="2345400"/>
                    <a:ext cx="1978920" cy="368280"/>
                  </a:xfrm>
                  <a:prstGeom prst="rect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33cc"/>
                        </a:solidFill>
                        <a:latin typeface="Arial"/>
                      </a:rPr>
                      <a:t>PMT: Bialkali</a:t>
                    </a:r>
                    <a:r>
                      <a:rPr b="0" lang="ja-JP" sz="1800" spc="-1" strike="noStrike">
                        <a:solidFill>
                          <a:srgbClr val="0033cc"/>
                        </a:solidFill>
                        <a:latin typeface="Arial"/>
                      </a:rPr>
                      <a:t>光電面</a:t>
                    </a:r>
                    <a:endParaRPr b="0" lang="en-US" sz="1800" spc="-1" strike="noStrike">
                      <a:solidFill>
                        <a:srgbClr val="6666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16200000">
                  <a:off x="4881240" y="2525760"/>
                  <a:ext cx="668520" cy="3373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666633"/>
                      </a:solidFill>
                      <a:latin typeface="Arial"/>
                    </a:rPr>
                    <a:t>光電子数</a:t>
                  </a:r>
                  <a:endParaRPr b="0" lang="en-US" sz="16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184080" y="4694760"/>
                <a:ext cx="1267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6633"/>
                    </a:solidFill>
                    <a:latin typeface="Arial"/>
                  </a:rPr>
                  <a:t>PMT</a:t>
                </a:r>
                <a:r>
                  <a:rPr b="1" lang="ja-JP" sz="1600" spc="-1" strike="noStrike">
                    <a:solidFill>
                      <a:srgbClr val="666633"/>
                    </a:solidFill>
                    <a:latin typeface="Arial"/>
                  </a:rPr>
                  <a:t>からの距離</a:t>
                </a:r>
                <a:endParaRPr b="0" lang="en-US" sz="16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282600" y="4950000"/>
            <a:ext cx="9242280" cy="1067760"/>
            <a:chOff x="282600" y="4950000"/>
            <a:chExt cx="9242280" cy="1067760"/>
          </a:xfrm>
        </p:grpSpPr>
        <p:grpSp>
          <p:nvGrpSpPr>
            <p:cNvPr id="428" name=""/>
            <p:cNvGrpSpPr/>
            <p:nvPr/>
          </p:nvGrpSpPr>
          <p:grpSpPr>
            <a:xfrm>
              <a:off x="282600" y="4950000"/>
              <a:ext cx="3254400" cy="916200"/>
              <a:chOff x="282600" y="4950000"/>
              <a:chExt cx="3254400" cy="9162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82600" y="4950000"/>
                <a:ext cx="3254400" cy="916200"/>
                <a:chOff x="282600" y="4950000"/>
                <a:chExt cx="3254400" cy="9162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0" name=""/>
                    <p:cNvSpPr txBox="1"/>
                    <p:nvPr/>
                  </p:nvSpPr>
                  <p:spPr>
                    <a:xfrm>
                      <a:off x="282600" y="4950000"/>
                      <a:ext cx="3254400" cy="626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31" name=""/>
                <p:cNvSpPr/>
                <p:nvPr/>
              </p:nvSpPr>
              <p:spPr>
                <a:xfrm>
                  <a:off x="1940400" y="5559120"/>
                  <a:ext cx="1354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ff9966"/>
                      </a:solidFill>
                      <a:latin typeface="Arial"/>
                    </a:rPr>
                    <a:t>長い成分と短い成分の比</a:t>
                  </a:r>
                  <a:endParaRPr b="0" lang="en-US" sz="1400" spc="-1" strike="noStrike">
                    <a:solidFill>
                      <a:srgbClr val="6666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209680" y="4950000"/>
                <a:ext cx="381240" cy="685440"/>
              </a:xfrm>
              <a:prstGeom prst="ellipse">
                <a:avLst/>
              </a:prstGeom>
              <a:noFill/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657600" y="5025960"/>
              <a:ext cx="5867280" cy="991800"/>
              <a:chOff x="3657600" y="5025960"/>
              <a:chExt cx="5867280" cy="991800"/>
            </a:xfrm>
          </p:grpSpPr>
          <p:sp>
            <p:nvSpPr>
              <p:cNvPr id="434" name=""/>
              <p:cNvSpPr/>
              <p:nvPr/>
            </p:nvSpPr>
            <p:spPr>
              <a:xfrm>
                <a:off x="3657600" y="5025960"/>
                <a:ext cx="5867280" cy="9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99"/>
                    </a:solidFill>
                    <a:latin typeface="Arial"/>
                  </a:rPr>
                  <a:t>GaAsP PMT   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ff3399"/>
                    </a:solidFill>
                    <a:latin typeface="Symbol"/>
                    <a:ea typeface="Symbol"/>
                  </a:rPr>
                  <a:t>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Symbol"/>
                    <a:ea typeface="Symbol"/>
                  </a:rPr>
                  <a:t>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Arial"/>
                  </a:rPr>
                  <a:t>m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Symbol"/>
                    <a:ea typeface="Symbol"/>
                  </a:rPr>
                  <a:t></a:t>
                </a:r>
                <a:r>
                  <a:rPr b="0" lang="en-US" sz="1800" spc="-1" strike="noStrike" baseline="-25000">
                    <a:solidFill>
                      <a:srgbClr val="ff3399"/>
                    </a:solidFill>
                    <a:latin typeface="Symbol"/>
                    <a:ea typeface="Symbol"/>
                  </a:rPr>
                  <a:t>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Symbol"/>
                    <a:ea typeface="Symbol"/>
                  </a:rPr>
                  <a:t>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Arial"/>
                  </a:rPr>
                  <a:t>m  A</a:t>
                </a:r>
                <a:r>
                  <a:rPr b="0" lang="en-US" sz="1800" spc="-1" strike="noStrike" baseline="-25000">
                    <a:solidFill>
                      <a:srgbClr val="ff33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Arial"/>
                  </a:rPr>
                  <a:t>/A</a:t>
                </a:r>
                <a:r>
                  <a:rPr b="0" lang="en-US" sz="1800" spc="-1" strike="noStrike" baseline="-25000">
                    <a:solidFill>
                      <a:srgbClr val="ff3399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ff3399"/>
                    </a:solidFill>
                    <a:latin typeface="Arial"/>
                  </a:rPr>
                  <a:t> = 1.45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ccff"/>
                    </a:solidFill>
                    <a:latin typeface="Arial"/>
                  </a:rPr>
                  <a:t>Bialkali PMT   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33ccff"/>
                    </a:solidFill>
                    <a:latin typeface="Symbol"/>
                    <a:ea typeface="Symbol"/>
                  </a:rPr>
                  <a:t>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Symbol"/>
                    <a:ea typeface="Symbol"/>
                  </a:rPr>
                  <a:t>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Arial"/>
                  </a:rPr>
                  <a:t>m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Symbol"/>
                    <a:ea typeface="Symbol"/>
                  </a:rPr>
                  <a:t></a:t>
                </a:r>
                <a:r>
                  <a:rPr b="0" lang="en-US" sz="1800" spc="-1" strike="noStrike" baseline="-25000">
                    <a:solidFill>
                      <a:srgbClr val="33ccff"/>
                    </a:solidFill>
                    <a:latin typeface="Symbol"/>
                    <a:ea typeface="Symbol"/>
                  </a:rPr>
                  <a:t>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Symbol"/>
                    <a:ea typeface="Symbol"/>
                  </a:rPr>
                  <a:t>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Arial"/>
                  </a:rPr>
                  <a:t>m  A</a:t>
                </a:r>
                <a:r>
                  <a:rPr b="0" lang="en-US" sz="1800" spc="-1" strike="noStrike" baseline="-25000">
                    <a:solidFill>
                      <a:srgbClr val="33cc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Arial"/>
                  </a:rPr>
                  <a:t>/A</a:t>
                </a:r>
                <a:r>
                  <a:rPr b="0" lang="en-US" sz="1800" spc="-1" strike="noStrike" baseline="-25000">
                    <a:solidFill>
                      <a:srgbClr val="33ccff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33ccff"/>
                    </a:solidFill>
                    <a:latin typeface="Arial"/>
                  </a:rPr>
                  <a:t> = 0.94</a:t>
                </a: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15200" y="5028840"/>
                <a:ext cx="1523880" cy="380520"/>
              </a:xfrm>
              <a:prstGeom prst="ellipse">
                <a:avLst/>
              </a:prstGeom>
              <a:noFill/>
              <a:ln w="1908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91520" y="5562360"/>
                <a:ext cx="1523880" cy="380520"/>
              </a:xfrm>
              <a:prstGeom prst="ellipse">
                <a:avLst/>
              </a:prstGeom>
              <a:noFill/>
              <a:ln w="1908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1399680" y="1523880"/>
            <a:ext cx="40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dcf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全長～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m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の波長変換ファイバーを用いて減衰長を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KOPIO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実験概要   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– 標準模型とＣＰ非保存 –</a:t>
            </a:r>
            <a:endParaRPr b="0" lang="en-US" sz="28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4647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cfe4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6666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666633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666633"/>
                </a:solidFill>
                <a:latin typeface="Symbol"/>
                <a:ea typeface="Symbol"/>
              </a:rPr>
              <a:t>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過程の特徴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理論的不定性が小さい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分岐比がＣＰ非保存を特徴付ける複素パラメータに比例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99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荷電モードと合わせ、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ユニタリ三角形を決定することが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　　できる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18280" y="2459160"/>
            <a:ext cx="36734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減衰長の波長依存性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066680" y="2209680"/>
            <a:ext cx="2772000" cy="3341520"/>
            <a:chOff x="1066680" y="2209680"/>
            <a:chExt cx="2772000" cy="3341520"/>
          </a:xfrm>
        </p:grpSpPr>
        <p:pic>
          <p:nvPicPr>
            <p:cNvPr id="440" name="488" descr=""/>
            <p:cNvPicPr/>
            <p:nvPr/>
          </p:nvPicPr>
          <p:blipFill>
            <a:blip r:embed="rId1"/>
            <a:stretch/>
          </p:blipFill>
          <p:spPr>
            <a:xfrm>
              <a:off x="1219320" y="2592000"/>
              <a:ext cx="259560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224080" y="5182920"/>
              <a:ext cx="13935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PMT</a:t>
              </a:r>
              <a:r>
                <a:rPr b="0" lang="ja-JP" sz="1800" spc="-1" strike="noStrike">
                  <a:solidFill>
                    <a:srgbClr val="333300"/>
                  </a:solidFill>
                  <a:latin typeface="Tahoma"/>
                </a:rPr>
                <a:t>からの距離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885960" y="3038040"/>
              <a:ext cx="72936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00"/>
                  </a:solidFill>
                  <a:latin typeface="Tahoma"/>
                </a:rPr>
                <a:t>光電子数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82560" y="2209680"/>
              <a:ext cx="225612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66cc"/>
                  </a:solidFill>
                  <a:latin typeface="Tahoma"/>
                </a:rPr>
                <a:t>透過光波長</a:t>
              </a:r>
              <a:r>
                <a:rPr b="0" lang="ja-JP" sz="1800" spc="-1" strike="noStrike">
                  <a:solidFill>
                    <a:srgbClr val="0066cc"/>
                  </a:solidFill>
                  <a:latin typeface="Tahoma"/>
                </a:rPr>
                <a:t>488</a:t>
              </a:r>
              <a:r>
                <a:rPr b="0" lang="en-US" sz="1800" spc="-1" strike="noStrike">
                  <a:solidFill>
                    <a:srgbClr val="0066cc"/>
                  </a:solidFill>
                  <a:latin typeface="Tahoma"/>
                </a:rPr>
                <a:t>nm 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Tahoma"/>
                </a:rPr>
                <a:t>(FWHM 10nm)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992040" y="167652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dcfe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干渉フィルターで特定の波長領域を選択し、減衰長測定を行った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96000" y="5715000"/>
            <a:ext cx="13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cc"/>
                </a:solidFill>
                <a:latin typeface="Tahoma"/>
              </a:rPr>
              <a:t>減衰長～</a:t>
            </a:r>
            <a:r>
              <a:rPr b="0" lang="ja-JP" sz="1800" spc="-1" strike="noStrike">
                <a:solidFill>
                  <a:srgbClr val="0066cc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cm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95240" y="5715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cc33"/>
                </a:solidFill>
                <a:latin typeface="Tahoma"/>
              </a:rPr>
              <a:t>減衰長～</a:t>
            </a:r>
            <a:r>
              <a:rPr b="0" lang="ja-JP" sz="1800" spc="-1" strike="noStrike">
                <a:solidFill>
                  <a:srgbClr val="33cc33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96000" y="2209680"/>
            <a:ext cx="2840040" cy="3316320"/>
            <a:chOff x="4896000" y="2209680"/>
            <a:chExt cx="2840040" cy="3316320"/>
          </a:xfrm>
        </p:grpSpPr>
        <p:pic>
          <p:nvPicPr>
            <p:cNvPr id="448" name="532" descr=""/>
            <p:cNvPicPr/>
            <p:nvPr/>
          </p:nvPicPr>
          <p:blipFill>
            <a:blip r:embed="rId2"/>
            <a:stretch/>
          </p:blipFill>
          <p:spPr>
            <a:xfrm>
              <a:off x="5048280" y="2590920"/>
              <a:ext cx="259560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6288120" y="5157720"/>
              <a:ext cx="1393560" cy="3682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PMT</a:t>
              </a:r>
              <a:r>
                <a:rPr b="0" lang="ja-JP" sz="1800" spc="-1" strike="noStrike">
                  <a:solidFill>
                    <a:srgbClr val="333300"/>
                  </a:solidFill>
                  <a:latin typeface="Tahoma"/>
                </a:rPr>
                <a:t>からの距離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7800" y="2209680"/>
              <a:ext cx="247824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cc33"/>
                  </a:solidFill>
                  <a:latin typeface="Tahoma"/>
                </a:rPr>
                <a:t>透過光波長</a:t>
              </a:r>
              <a:r>
                <a:rPr b="0" lang="ja-JP" sz="1800" spc="-1" strike="noStrike">
                  <a:solidFill>
                    <a:srgbClr val="33cc33"/>
                  </a:solidFill>
                  <a:latin typeface="Tahoma"/>
                </a:rPr>
                <a:t>532</a:t>
              </a:r>
              <a:r>
                <a:rPr b="0" lang="en-US" sz="1800" spc="-1" strike="noStrike">
                  <a:solidFill>
                    <a:srgbClr val="33cc33"/>
                  </a:solidFill>
                  <a:latin typeface="Tahoma"/>
                </a:rPr>
                <a:t>nm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cc33"/>
                  </a:solidFill>
                  <a:latin typeface="Tahoma"/>
                </a:rPr>
                <a:t>(FWHM 10nm)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4715280" y="3017520"/>
              <a:ext cx="729360" cy="3682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00"/>
                  </a:solidFill>
                  <a:latin typeface="Tahoma"/>
                </a:rPr>
                <a:t>光電子数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6633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ＫＯＰＩＯ実験の準備は順調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RSVP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に対する建設予算獲得 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(05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年 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日本グループの進展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Catcher 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各要素の性能評価システムを構築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Eye-pipe Charged Veto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用光検出器の評価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高量子効率</a:t>
            </a: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PMT (GaAsP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光電面</a:t>
            </a: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PMT)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基本性能評価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ffcc"/>
              </a:buClr>
              <a:buSzPct val="9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緑の波長でバイアルカリ光電面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PMT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の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3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倍の量子効率が期待できる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ffcc"/>
              </a:buClr>
              <a:buSzPct val="9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Linearity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やレート耐性についても測定を行った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ＭＳ Ｐゴシック"/>
              </a:rPr>
              <a:t>プラスチックシンチレーターと波長変換ファイバーを用いた光量評価測定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cffcc"/>
              </a:buClr>
              <a:buSzPct val="9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ＭＳ Ｐゴシック"/>
              </a:rPr>
              <a:t>GaAsP</a:t>
            </a:r>
            <a:r>
              <a:rPr b="0" lang="ja-JP" sz="1800" spc="-1" strike="noStrike">
                <a:solidFill>
                  <a:srgbClr val="666633"/>
                </a:solidFill>
                <a:latin typeface="ＭＳ Ｐゴシック"/>
              </a:rPr>
              <a:t>光電面</a:t>
            </a:r>
            <a:r>
              <a:rPr b="0" lang="en-US" sz="1800" spc="-1" strike="noStrike">
                <a:solidFill>
                  <a:srgbClr val="666633"/>
                </a:solidFill>
                <a:latin typeface="ＭＳ Ｐゴシック"/>
              </a:rPr>
              <a:t>PMT</a:t>
            </a:r>
            <a:r>
              <a:rPr b="0" lang="ja-JP" sz="1800" spc="-1" strike="noStrike">
                <a:solidFill>
                  <a:srgbClr val="666633"/>
                </a:solidFill>
                <a:latin typeface="ＭＳ Ｐゴシック"/>
              </a:rPr>
              <a:t>を用いた場合、                                                            相対量子効率測定から期待される光量が得られた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ＭＳ Ｐゴシック"/>
              </a:rPr>
              <a:t>今後の課題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ＭＳ Ｐゴシック"/>
              </a:rPr>
              <a:t>実機サイズでの測定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ＭＳ Ｐゴシック"/>
              </a:rPr>
              <a:t>Veto</a:t>
            </a:r>
            <a:r>
              <a:rPr b="0" lang="ja-JP" sz="2000" spc="-1" strike="noStrike">
                <a:solidFill>
                  <a:srgbClr val="666633"/>
                </a:solidFill>
                <a:latin typeface="ＭＳ Ｐゴシック"/>
              </a:rPr>
              <a:t>検出器としての性能評価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Appendix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455" name="lapin1" descr=""/>
          <p:cNvPicPr/>
          <p:nvPr/>
        </p:nvPicPr>
        <p:blipFill>
          <a:blip r:embed="rId1"/>
          <a:stretch/>
        </p:blipFill>
        <p:spPr>
          <a:xfrm>
            <a:off x="8016840" y="5638680"/>
            <a:ext cx="9748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10880" y="1417680"/>
            <a:ext cx="46486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Beam Catcher :</a:t>
            </a:r>
            <a:r>
              <a:rPr b="0" lang="ja-JP" sz="2400" spc="-1" strike="noStrike">
                <a:solidFill>
                  <a:srgbClr val="666633"/>
                </a:solidFill>
                <a:latin typeface="Comic Sans MS"/>
              </a:rPr>
              <a:t>チェレンコフ閾値型検出器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必要な</a:t>
            </a: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γ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検出効率を得るには</a:t>
            </a:r>
            <a:r>
              <a:rPr b="1" lang="ja-JP" sz="2000" spc="-1" strike="noStrike">
                <a:solidFill>
                  <a:srgbClr val="ff5050"/>
                </a:solidFill>
                <a:latin typeface="Comic Sans MS"/>
              </a:rPr>
              <a:t>十分な光量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が必要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　</a:t>
            </a:r>
            <a:r>
              <a:rPr b="1" lang="en-US" sz="2000" spc="-1" strike="noStrike" u="sng">
                <a:solidFill>
                  <a:srgbClr val="666633"/>
                </a:solidFill>
                <a:uFillTx/>
                <a:latin typeface="Comic Sans MS"/>
              </a:rPr>
              <a:t>Aerogel</a:t>
            </a:r>
            <a:r>
              <a:rPr b="1" lang="ja-JP" sz="2000" spc="-1" strike="noStrike" u="sng">
                <a:solidFill>
                  <a:srgbClr val="666633"/>
                </a:solidFill>
                <a:uFillTx/>
                <a:latin typeface="Comic Sans MS"/>
              </a:rPr>
              <a:t>の光学特性が重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透過率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発生した光量の保持に関わる重要なパラメーター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経年変化、ハンドリングによる影響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5050"/>
                </a:solidFill>
                <a:uFillTx/>
                <a:latin typeface="Comic Sans MS"/>
                <a:ea typeface="ＭＳ Ｐゴシック"/>
              </a:rPr>
              <a:t>光透過率測定システム</a:t>
            </a:r>
            <a:r>
              <a:rPr b="1" lang="ja-JP" sz="20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	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チェレンコフ発光量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屈折率、透過率の違いによって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実際どれだけのチェレンコフ光が観測されるのか？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5050"/>
                </a:solidFill>
                <a:uFillTx/>
                <a:latin typeface="Comic Sans MS"/>
                <a:ea typeface="ＭＳ Ｐゴシック"/>
              </a:rPr>
              <a:t>Cherenkov </a:t>
            </a:r>
            <a:r>
              <a:rPr b="1" lang="ja-JP" sz="2400" spc="-1" strike="noStrike" u="sng">
                <a:solidFill>
                  <a:srgbClr val="ff5050"/>
                </a:solidFill>
                <a:uFillTx/>
                <a:latin typeface="Comic Sans MS"/>
                <a:ea typeface="ＭＳ Ｐゴシック"/>
              </a:rPr>
              <a:t>発光量評価システム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これらのシステムは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Beam Catcher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量産時の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Aerogel 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品質管理システムとしても使用可能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Aerogel</a:t>
            </a:r>
            <a:r>
              <a:rPr b="0" lang="ja-JP" sz="4400" spc="-1" strike="noStrike">
                <a:solidFill>
                  <a:srgbClr val="666633"/>
                </a:solidFill>
                <a:latin typeface="Tahoma"/>
              </a:rPr>
              <a:t>の光学特性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48040" y="511020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981760" y="1566720"/>
          <a:ext cx="312732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1760" y="1566720"/>
                    <a:ext cx="312732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380360" y="3184560"/>
            <a:ext cx="1295280" cy="2160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077320" y="347652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62d1e"/>
                </a:solidFill>
                <a:latin typeface="Comic Sans MS"/>
              </a:rPr>
              <a:t>低光量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356000" y="3429000"/>
                <a:ext cx="1528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5" name="lapin1" descr=""/>
          <p:cNvPicPr/>
          <p:nvPr/>
        </p:nvPicPr>
        <p:blipFill>
          <a:blip r:embed="rId3"/>
          <a:stretch/>
        </p:blipFill>
        <p:spPr>
          <a:xfrm>
            <a:off x="8381880" y="601992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41868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Aerogel</a:t>
            </a:r>
            <a:r>
              <a:rPr b="0" lang="ja-JP" sz="4400" spc="-1" strike="noStrike">
                <a:solidFill>
                  <a:srgbClr val="666633"/>
                </a:solidFill>
                <a:latin typeface="Tahoma"/>
              </a:rPr>
              <a:t>透過率測定システム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-36360" y="1341360"/>
            <a:ext cx="475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光源 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: 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紫外・青・緑・黄・赤 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5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色の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LED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－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透過率の</a:t>
            </a:r>
            <a:r>
              <a:rPr b="1" lang="ja-JP" sz="2000" spc="-1" strike="noStrike" u="sng">
                <a:solidFill>
                  <a:srgbClr val="ff5050"/>
                </a:solidFill>
                <a:uFillTx/>
                <a:latin typeface="Comic Sans MS"/>
              </a:rPr>
              <a:t>波長依存性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を測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66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透過光を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x2mm</a:t>
            </a:r>
            <a:r>
              <a:rPr b="0" lang="en-US" sz="2000" spc="-1" strike="noStrike" baseline="30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の穴のあいた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　黒紙でマスクした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PMT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で観測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cc3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x-y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方向に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PMT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を動かしスキャン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x-y 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ステージ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5050"/>
                </a:solidFill>
                <a:uFillTx/>
                <a:latin typeface="Comic Sans MS"/>
                <a:ea typeface="ＭＳ Ｐゴシック"/>
              </a:rPr>
              <a:t>透過光の分布を観測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Aerogel 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を</a:t>
            </a:r>
            <a:r>
              <a:rPr b="1" lang="ja-JP" sz="2000" spc="-1" strike="noStrike">
                <a:solidFill>
                  <a:srgbClr val="ff5050"/>
                </a:solidFill>
                <a:latin typeface="Comic Sans MS"/>
              </a:rPr>
              <a:t>5</a:t>
            </a:r>
            <a:r>
              <a:rPr b="1" lang="ja-JP" sz="2000" spc="-1" strike="noStrike">
                <a:solidFill>
                  <a:srgbClr val="ff5050"/>
                </a:solidFill>
                <a:latin typeface="Comic Sans MS"/>
              </a:rPr>
              <a:t>枚まで重ねて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測定可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Aerogel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の位置を動かし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x-y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ステージ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　　透過率の</a:t>
            </a:r>
            <a:r>
              <a:rPr b="1" lang="ja-JP" sz="2000" spc="-1" strike="noStrike">
                <a:solidFill>
                  <a:srgbClr val="ff5050"/>
                </a:solidFill>
                <a:latin typeface="Comic Sans MS"/>
                <a:ea typeface="ＭＳ Ｐゴシック"/>
              </a:rPr>
              <a:t>位置依存性</a:t>
            </a:r>
            <a:r>
              <a:rPr b="0" lang="ja-JP" sz="20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測定可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246560" y="1700280"/>
            <a:ext cx="4897440" cy="3220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486560" y="2997360"/>
            <a:ext cx="189000" cy="6951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991640" y="371628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22920" y="465300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5370480" y="4076640"/>
            <a:ext cx="216000" cy="43200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902200" y="4076640"/>
            <a:ext cx="144720" cy="43200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56080" y="4402080"/>
            <a:ext cx="800280" cy="45972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Comic Sans MS"/>
              </a:rPr>
              <a:t>絞り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67560" y="3860640"/>
            <a:ext cx="1360440" cy="459720"/>
          </a:xfrm>
          <a:prstGeom prst="rect">
            <a:avLst/>
          </a:prstGeom>
          <a:noFill/>
          <a:ln w="9360">
            <a:solidFill>
              <a:srgbClr val="f62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2d1e"/>
                </a:solidFill>
                <a:latin typeface="Comic Sans MS"/>
              </a:rPr>
              <a:t>X-Yscan 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476" name="lapin1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484360" y="4044960"/>
          <a:ext cx="39528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4960"/>
                    <a:ext cx="39528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395280" y="3944880"/>
            <a:ext cx="2982960" cy="28688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5724360" y="3933720"/>
            <a:ext cx="2982960" cy="28688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透過率測定結果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Rayleigh scatter-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4000" y="1434960"/>
            <a:ext cx="5105160" cy="927360"/>
            <a:chOff x="324000" y="1434960"/>
            <a:chExt cx="5105160" cy="927360"/>
          </a:xfrm>
        </p:grpSpPr>
        <p:sp>
          <p:nvSpPr>
            <p:cNvPr id="483" name=""/>
            <p:cNvSpPr/>
            <p:nvPr/>
          </p:nvSpPr>
          <p:spPr>
            <a:xfrm>
              <a:off x="458640" y="1434960"/>
              <a:ext cx="4970520" cy="927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2120" y="1914480"/>
              <a:ext cx="33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56720" y="171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4000" y="1550880"/>
              <a:ext cx="14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光の波長毎</a:t>
              </a:r>
              <a:r>
                <a:rPr b="1" lang="ja-JP" sz="2000" spc="-1" strike="noStrike">
                  <a:solidFill>
                    <a:srgbClr val="ff0000"/>
                  </a:solidFill>
                  <a:latin typeface="Tahoma"/>
                </a:rPr>
                <a:t>透過率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28800" y="1963800"/>
              <a:ext cx="20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erogel</a:t>
              </a:r>
              <a:r>
                <a:rPr b="0" lang="ja-JP" sz="1800" spc="-1" strike="noStrike">
                  <a:solidFill>
                    <a:srgbClr val="ffffff"/>
                  </a:solidFill>
                  <a:latin typeface="Comic Sans MS"/>
                </a:rPr>
                <a:t>なしでの透過光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1480" y="1506600"/>
              <a:ext cx="258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erogel</a:t>
              </a:r>
              <a:r>
                <a:rPr b="0" lang="ja-JP" sz="1800" spc="-1" strike="noStrike">
                  <a:solidFill>
                    <a:srgbClr val="ffffff"/>
                  </a:solidFill>
                  <a:latin typeface="Comic Sans MS"/>
                </a:rPr>
                <a:t>を置いた状態での透過光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153120" y="2332080"/>
                <a:ext cx="2178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1295280" y="2895480"/>
            <a:ext cx="1995480" cy="838440"/>
            <a:chOff x="1295280" y="2895480"/>
            <a:chExt cx="1995480" cy="838440"/>
          </a:xfrm>
        </p:grpSpPr>
        <p:sp>
          <p:nvSpPr>
            <p:cNvPr id="491" name=""/>
            <p:cNvSpPr/>
            <p:nvPr/>
          </p:nvSpPr>
          <p:spPr>
            <a:xfrm>
              <a:off x="1295280" y="2940120"/>
              <a:ext cx="1992960" cy="736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1421280" y="2895480"/>
                  <a:ext cx="18694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Ct</m:t>
                          </m:r>
                        </m:num>
                        <m:den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透過率は以下の式で定義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Aerogel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では</a:t>
            </a:r>
            <a:r>
              <a:rPr b="1" lang="ja-JP" sz="1600" spc="-1" strike="noStrike" u="sng">
                <a:solidFill>
                  <a:srgbClr val="ff5050"/>
                </a:solidFill>
                <a:uFillTx/>
                <a:latin typeface="Tahoma"/>
              </a:rPr>
              <a:t>レイリー散乱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が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dominant 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であるため</a:t>
            </a:r>
            <a:endParaRPr b="0" lang="en-US" sz="16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波長ごとの透過率に対してレイリー散乱を考慮した関数</a:t>
            </a:r>
            <a:endParaRPr b="0" lang="en-US" sz="16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1600" spc="-1" strike="noStrike">
                <a:solidFill>
                  <a:srgbClr val="666633"/>
                </a:solidFill>
                <a:latin typeface="Tahoma"/>
              </a:rPr>
              <a:t>　　で</a:t>
            </a: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FIT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！　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　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Ct : </a:t>
            </a:r>
            <a:r>
              <a:rPr b="1" lang="ja-JP" sz="2000" spc="-1" strike="noStrike">
                <a:solidFill>
                  <a:srgbClr val="ff5050"/>
                </a:solidFill>
                <a:latin typeface="Tahoma"/>
              </a:rPr>
              <a:t>レイリー散乱　</a:t>
            </a:r>
            <a:r>
              <a:rPr b="1" lang="ja-JP" sz="2000" spc="-1" strike="noStrike">
                <a:solidFill>
                  <a:srgbClr val="ff5050"/>
                </a:solidFill>
                <a:latin typeface="Tahoma"/>
              </a:rPr>
              <a:t>(1-</a:t>
            </a: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A) : </a:t>
            </a:r>
            <a:r>
              <a:rPr b="1" lang="ja-JP" sz="2000" spc="-1" strike="noStrike">
                <a:solidFill>
                  <a:srgbClr val="ff5050"/>
                </a:solidFill>
                <a:latin typeface="Tahoma"/>
              </a:rPr>
              <a:t>吸収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4000" y="5394240"/>
            <a:ext cx="3600360" cy="1313640"/>
            <a:chOff x="324000" y="5394240"/>
            <a:chExt cx="3600360" cy="1313640"/>
          </a:xfrm>
        </p:grpSpPr>
        <p:sp>
          <p:nvSpPr>
            <p:cNvPr id="495" name=""/>
            <p:cNvSpPr/>
            <p:nvPr/>
          </p:nvSpPr>
          <p:spPr>
            <a:xfrm>
              <a:off x="324000" y="5394240"/>
              <a:ext cx="3600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A=0.96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CT=0.0155μm</a:t>
              </a:r>
              <a:r>
                <a:rPr b="1" lang="en-US" sz="2000" spc="-1" strike="noStrike" baseline="30000">
                  <a:solidFill>
                    <a:srgbClr val="f62d1e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exp(-C</a:t>
              </a:r>
              <a:r>
                <a:rPr b="1" lang="ja-JP" sz="2000" spc="-1" strike="noStrike">
                  <a:solidFill>
                    <a:srgbClr val="f62d1e"/>
                  </a:solidFill>
                  <a:latin typeface="Comic Sans MS"/>
                </a:rPr>
                <a:t>ｔ</a:t>
              </a:r>
              <a:r>
                <a:rPr b="1" lang="ja-JP" sz="2000" spc="-1" strike="noStrike">
                  <a:solidFill>
                    <a:srgbClr val="f62d1e"/>
                  </a:solidFill>
                  <a:latin typeface="Comic Sans MS"/>
                </a:rPr>
                <a:t>/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λ</a:t>
              </a:r>
              <a:r>
                <a:rPr b="1" lang="en-US" sz="2000" spc="-1" strike="noStrike" baseline="30000">
                  <a:solidFill>
                    <a:srgbClr val="f62d1e"/>
                  </a:solidFill>
                  <a:latin typeface="Comic Sans MS"/>
                </a:rPr>
                <a:t>4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)=0.73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	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@470 nm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880" y="5459040"/>
              <a:ext cx="792000" cy="287280"/>
            </a:xfrm>
            <a:prstGeom prst="rect">
              <a:avLst/>
            </a:prstGeom>
            <a:noFill/>
            <a:ln w="3168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86000" y="6068880"/>
              <a:ext cx="792000" cy="287280"/>
            </a:xfrm>
            <a:prstGeom prst="rect">
              <a:avLst/>
            </a:prstGeom>
            <a:noFill/>
            <a:ln w="3168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00840" y="5394240"/>
            <a:ext cx="3600360" cy="1313640"/>
            <a:chOff x="6000840" y="5394240"/>
            <a:chExt cx="3600360" cy="1313640"/>
          </a:xfrm>
        </p:grpSpPr>
        <p:sp>
          <p:nvSpPr>
            <p:cNvPr id="499" name=""/>
            <p:cNvSpPr/>
            <p:nvPr/>
          </p:nvSpPr>
          <p:spPr>
            <a:xfrm>
              <a:off x="6000840" y="5394240"/>
              <a:ext cx="3600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A=0.95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CT=0.0060μm</a:t>
              </a:r>
              <a:r>
                <a:rPr b="1" lang="en-US" sz="2000" spc="-1" strike="noStrike" baseline="30000">
                  <a:solidFill>
                    <a:srgbClr val="f62d1e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Wingdings"/>
                  <a:ea typeface="Wingdings"/>
                </a:rPr>
                <a:t>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exp(-C</a:t>
              </a:r>
              <a:r>
                <a:rPr b="1" lang="ja-JP" sz="2000" spc="-1" strike="noStrike">
                  <a:solidFill>
                    <a:srgbClr val="f62d1e"/>
                  </a:solidFill>
                  <a:latin typeface="Comic Sans MS"/>
                </a:rPr>
                <a:t>ｔ</a:t>
              </a:r>
              <a:r>
                <a:rPr b="1" lang="ja-JP" sz="2000" spc="-1" strike="noStrike">
                  <a:solidFill>
                    <a:srgbClr val="f62d1e"/>
                  </a:solidFill>
                  <a:latin typeface="Comic Sans MS"/>
                </a:rPr>
                <a:t>/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λ</a:t>
              </a:r>
              <a:r>
                <a:rPr b="1" lang="en-US" sz="2000" spc="-1" strike="noStrike" baseline="30000">
                  <a:solidFill>
                    <a:srgbClr val="f62d1e"/>
                  </a:solidFill>
                  <a:latin typeface="Comic Sans MS"/>
                </a:rPr>
                <a:t>4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)=0.88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	</a:t>
              </a:r>
              <a:r>
                <a:rPr b="1" lang="en-US" sz="2000" spc="-1" strike="noStrike">
                  <a:solidFill>
                    <a:srgbClr val="f62d1e"/>
                  </a:solidFill>
                  <a:latin typeface="Comic Sans MS"/>
                </a:rPr>
                <a:t>@470 nm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2840" y="5467320"/>
              <a:ext cx="792000" cy="287280"/>
            </a:xfrm>
            <a:prstGeom prst="rect">
              <a:avLst/>
            </a:prstGeom>
            <a:noFill/>
            <a:ln w="3168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5280" y="6043680"/>
              <a:ext cx="792000" cy="287280"/>
            </a:xfrm>
            <a:prstGeom prst="rect">
              <a:avLst/>
            </a:prstGeom>
            <a:noFill/>
            <a:ln w="3168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pic>
        <p:nvPicPr>
          <p:cNvPr id="502" name="lapin1" descr=""/>
          <p:cNvPicPr/>
          <p:nvPr/>
        </p:nvPicPr>
        <p:blipFill>
          <a:blip r:embed="rId5"/>
          <a:stretch/>
        </p:blipFill>
        <p:spPr>
          <a:xfrm>
            <a:off x="830592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65280" y="5516640"/>
            <a:ext cx="4194000" cy="11397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24000" y="1038240"/>
            <a:ext cx="8605800" cy="34574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78600" y="4086360"/>
            <a:ext cx="44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表面のきたない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</a:rPr>
              <a:t>Aerogel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では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前方方向に強く散乱されている様子が観測された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dcfe4"/>
                </a:solidFill>
                <a:latin typeface="Comic Sans MS"/>
              </a:rPr>
              <a:t>       </a:t>
            </a:r>
            <a:r>
              <a:rPr b="0" lang="ja-JP" sz="1800" spc="-1" strike="noStrike">
                <a:solidFill>
                  <a:srgbClr val="fdcfe4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表面に付着した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</a:rPr>
              <a:t>Aerogel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粉末による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Mie</a:t>
            </a:r>
            <a:r>
              <a:rPr b="0" lang="ja-JP" sz="1800" spc="-1" strike="noStrike">
                <a:solidFill>
                  <a:srgbClr val="ff5050"/>
                </a:solidFill>
                <a:latin typeface="Comic Sans MS"/>
              </a:rPr>
              <a:t>散乱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	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	</a:t>
            </a:r>
            <a:r>
              <a:rPr b="0" lang="ja-JP" sz="1800" spc="-1" strike="noStrike" u="sng">
                <a:solidFill>
                  <a:srgbClr val="666633"/>
                </a:solidFill>
                <a:uFillTx/>
                <a:latin typeface="Comic Sans MS"/>
              </a:rPr>
              <a:t>波長と同程度の大きさの粒子による散乱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透過率測定結果</a:t>
            </a: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透過光分布</a:t>
            </a: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)</a:t>
            </a:r>
            <a:br>
              <a:rPr sz="2800"/>
            </a:b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Example for BLUE LED </a:t>
            </a:r>
            <a:r>
              <a:rPr b="0" lang="en-US" sz="1800" spc="-1" strike="noStrike">
                <a:solidFill>
                  <a:srgbClr val="666633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=470nm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2817720" cy="21114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445080" y="45813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2d1e"/>
                </a:solidFill>
                <a:latin typeface="Comic Sans MS"/>
              </a:rPr>
              <a:t>意図的に</a:t>
            </a:r>
            <a:r>
              <a:rPr b="0" lang="en-US" sz="1800" spc="-1" strike="noStrike">
                <a:solidFill>
                  <a:srgbClr val="f62d1e"/>
                </a:solidFill>
                <a:latin typeface="Comic Sans MS"/>
              </a:rPr>
              <a:t>Aerogel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2d1e"/>
                </a:solidFill>
                <a:latin typeface="Comic Sans MS"/>
              </a:rPr>
              <a:t>粉末を付着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00000" y="53211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cc33"/>
                </a:solidFill>
                <a:latin typeface="Comic Sans MS"/>
              </a:rPr>
              <a:t>レイリー散乱　　　　　　　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Mie</a:t>
            </a:r>
            <a:r>
              <a:rPr b="1" lang="ja-JP" sz="1800" spc="-1" strike="noStrike">
                <a:solidFill>
                  <a:srgbClr val="33cc33"/>
                </a:solidFill>
                <a:latin typeface="Comic Sans MS"/>
              </a:rPr>
              <a:t>散乱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289640" y="651024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2d1e"/>
                </a:solidFill>
                <a:latin typeface="Comic Sans MS"/>
              </a:rPr>
              <a:t>アクリル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11" name="lapin1" descr=""/>
          <p:cNvPicPr/>
          <p:nvPr/>
        </p:nvPicPr>
        <p:blipFill>
          <a:blip r:embed="rId4"/>
          <a:stretch/>
        </p:blipFill>
        <p:spPr>
          <a:xfrm>
            <a:off x="830592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5435640" y="2957400"/>
            <a:ext cx="3484440" cy="33512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484440" cy="33508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43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透過率測定結果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Mie scatter-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1195560" y="2924280"/>
            <a:ext cx="2800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2203d9"/>
                </a:solidFill>
                <a:latin typeface="Tahoma"/>
              </a:rPr>
              <a:t>比較的きれいな</a:t>
            </a:r>
            <a:r>
              <a:rPr b="0" lang="en-US" sz="1800" spc="-1" strike="noStrike">
                <a:solidFill>
                  <a:srgbClr val="2203d9"/>
                </a:solidFill>
                <a:latin typeface="Comic Sans MS"/>
              </a:rPr>
              <a:t>Aerogel</a:t>
            </a:r>
            <a:r>
              <a:rPr b="1" lang="en-US" sz="2000" spc="-1" strike="noStrike">
                <a:solidFill>
                  <a:srgbClr val="2203d9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40360" y="2924280"/>
            <a:ext cx="3024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2203d9"/>
                </a:solidFill>
                <a:latin typeface="Tahoma"/>
              </a:rPr>
              <a:t>比較的表面の汚い</a:t>
            </a:r>
            <a:r>
              <a:rPr b="1" lang="en-US" sz="1800" spc="-1" strike="noStrike">
                <a:solidFill>
                  <a:srgbClr val="2203d9"/>
                </a:solidFill>
                <a:latin typeface="Comic Sans MS"/>
              </a:rPr>
              <a:t>Aerogel</a:t>
            </a:r>
            <a:r>
              <a:rPr b="1" lang="en-US" sz="2000" spc="-1" strike="noStrike">
                <a:solidFill>
                  <a:srgbClr val="2203d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2203d9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8200" y="981000"/>
            <a:ext cx="72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Aerogel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の表面状態によっては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Mie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散乱が起こり得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しかし…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散乱角度が充分小さいた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我々の開発したチェレンコフ光量測定システムにおいて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観測される光量には影響を与えない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     </a:t>
            </a:r>
            <a:r>
              <a:rPr b="0" lang="ja-JP" sz="2000" spc="-1" strike="noStrike">
                <a:solidFill>
                  <a:srgbClr val="666633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ff5050"/>
                </a:solidFill>
                <a:latin typeface="Comic Sans MS"/>
              </a:rPr>
              <a:t>透過光とみなして透過率を求め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755880" y="3860640"/>
            <a:ext cx="1390680" cy="64260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: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吸収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T: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レイリー散乱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42920" y="43959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=0.93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T=0.0088μ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(-C</a:t>
            </a:r>
            <a:r>
              <a:rPr b="1" lang="ja-JP" sz="2400" spc="-1" strike="noStrike">
                <a:solidFill>
                  <a:srgbClr val="ff0000"/>
                </a:solidFill>
                <a:latin typeface="Comic Sans MS"/>
              </a:rPr>
              <a:t>ｔ</a:t>
            </a:r>
            <a:r>
              <a:rPr b="1" lang="ja-JP" sz="2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λ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)=0.83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@470 nm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437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=0.82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T=0.0094μ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(-C</a:t>
            </a:r>
            <a:r>
              <a:rPr b="1" lang="ja-JP" sz="2400" spc="-1" strike="noStrike">
                <a:solidFill>
                  <a:srgbClr val="ff0000"/>
                </a:solidFill>
                <a:latin typeface="Comic Sans MS"/>
              </a:rPr>
              <a:t>ｔ</a:t>
            </a:r>
            <a:r>
              <a:rPr b="1" lang="ja-JP" sz="2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λ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)=0.82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@470 nm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77160" y="5946840"/>
            <a:ext cx="126684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λ(nm)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068640"/>
            <a:ext cx="104292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透過率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76360" y="4508640"/>
            <a:ext cx="792000" cy="287280"/>
          </a:xfrm>
          <a:prstGeom prst="rect">
            <a:avLst/>
          </a:prstGeom>
          <a:noFill/>
          <a:ln w="31680">
            <a:solidFill>
              <a:srgbClr val="f79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00720" y="4508640"/>
            <a:ext cx="792360" cy="287280"/>
          </a:xfrm>
          <a:prstGeom prst="rect">
            <a:avLst/>
          </a:prstGeom>
          <a:noFill/>
          <a:ln w="31680">
            <a:solidFill>
              <a:srgbClr val="f79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48000" y="5229360"/>
            <a:ext cx="792360" cy="287280"/>
          </a:xfrm>
          <a:prstGeom prst="rect">
            <a:avLst/>
          </a:prstGeom>
          <a:noFill/>
          <a:ln w="31680">
            <a:solidFill>
              <a:srgbClr val="f79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5229360"/>
            <a:ext cx="792360" cy="287280"/>
          </a:xfrm>
          <a:prstGeom prst="rect">
            <a:avLst/>
          </a:prstGeom>
          <a:noFill/>
          <a:ln w="31680">
            <a:solidFill>
              <a:srgbClr val="f792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57840" y="44593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omic Sans MS"/>
              </a:rPr>
              <a:t>吸収もおこっている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97440" y="3068640"/>
            <a:ext cx="104292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透過率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48000" y="5946840"/>
            <a:ext cx="1266840" cy="3988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λ(nm)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0880" y="6345360"/>
            <a:ext cx="82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cc33"/>
                </a:solidFill>
                <a:latin typeface="Comic Sans MS"/>
              </a:rPr>
              <a:t>パラメータ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A,Ct</a:t>
            </a:r>
            <a:r>
              <a:rPr b="1" lang="ja-JP" sz="2000" spc="-1" strike="noStrike">
                <a:solidFill>
                  <a:srgbClr val="33cc33"/>
                </a:solidFill>
                <a:latin typeface="Comic Sans MS"/>
              </a:rPr>
              <a:t>を用いてシミュレーションでチェレンコフ光量を予測す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31" name="lapin1" descr=""/>
          <p:cNvPicPr/>
          <p:nvPr/>
        </p:nvPicPr>
        <p:blipFill>
          <a:blip r:embed="rId3"/>
          <a:stretch/>
        </p:blipFill>
        <p:spPr>
          <a:xfrm>
            <a:off x="830592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836720"/>
            <a:ext cx="9144000" cy="50212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5120" y="152280"/>
            <a:ext cx="734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Cherenkov</a:t>
            </a:r>
            <a:r>
              <a:rPr b="0" lang="ja-JP" sz="3200" spc="-1" strike="noStrike">
                <a:solidFill>
                  <a:srgbClr val="666633"/>
                </a:solidFill>
                <a:latin typeface="Times New Roman"/>
              </a:rPr>
              <a:t>発光量の簡易評価システム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1581840" y="836640"/>
            <a:ext cx="5032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33"/>
                </a:solidFill>
                <a:uFillTx/>
                <a:latin typeface="Times New Roman"/>
              </a:rPr>
              <a:t>β</a:t>
            </a:r>
            <a:r>
              <a:rPr b="0" lang="ja-JP" sz="2000" spc="-1" strike="noStrike" u="sng">
                <a:solidFill>
                  <a:srgbClr val="666633"/>
                </a:solidFill>
                <a:uFillTx/>
                <a:latin typeface="Times New Roman"/>
              </a:rPr>
              <a:t>線源＋</a:t>
            </a:r>
            <a:r>
              <a:rPr b="0" lang="en-US" sz="2000" spc="-1" strike="noStrike" u="sng">
                <a:solidFill>
                  <a:srgbClr val="666633"/>
                </a:solidFill>
                <a:uFillTx/>
                <a:latin typeface="Times New Roman"/>
              </a:rPr>
              <a:t>Gap</a:t>
            </a:r>
            <a:r>
              <a:rPr b="0" lang="ja-JP" sz="2000" spc="-1" strike="noStrike" u="sng">
                <a:solidFill>
                  <a:srgbClr val="666633"/>
                </a:solidFill>
                <a:uFillTx/>
                <a:latin typeface="Times New Roman"/>
              </a:rPr>
              <a:t>型ソレノイドマグネット＝スペクトロメーターを利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実験室で利用でき、</a:t>
            </a:r>
            <a:r>
              <a:rPr b="0" lang="ja-JP" sz="1800" spc="-1" strike="noStrike">
                <a:solidFill>
                  <a:srgbClr val="ff5050"/>
                </a:solidFill>
                <a:latin typeface="Comic Sans MS"/>
                <a:ea typeface="ＭＳ Ｐゴシック"/>
              </a:rPr>
              <a:t>手軽で容易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な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Set Up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～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MeV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の</a:t>
            </a:r>
            <a:r>
              <a:rPr b="0" lang="ja-JP" sz="1800" spc="-1" strike="noStrike">
                <a:solidFill>
                  <a:srgbClr val="ff5050"/>
                </a:solidFill>
                <a:latin typeface="Comic Sans MS"/>
                <a:ea typeface="ＭＳ Ｐゴシック"/>
              </a:rPr>
              <a:t>モノクロマティック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な電子ビーム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6392880" y="158580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429240" y="1628640"/>
            <a:ext cx="2340000" cy="23767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1389240"/>
            <a:ext cx="2503440" cy="52020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baseline="30000">
                <a:solidFill>
                  <a:srgbClr val="ffffff"/>
                </a:solidFill>
                <a:latin typeface="ＭＳ Ｐゴシック"/>
              </a:rPr>
              <a:t>106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Ru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の生スペクトルと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収束された電子のスペクトル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38" name="lapin1" descr=""/>
          <p:cNvPicPr/>
          <p:nvPr/>
        </p:nvPicPr>
        <p:blipFill>
          <a:blip r:embed="rId3"/>
          <a:stretch/>
        </p:blipFill>
        <p:spPr>
          <a:xfrm>
            <a:off x="830592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618000" y="1052640"/>
            <a:ext cx="5526000" cy="58053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27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　ソレノイドスペクトロメーターを用いた</a:t>
            </a:r>
            <a:br>
              <a:rPr sz="2800"/>
            </a:br>
            <a:r>
              <a:rPr b="0" lang="en-US" sz="2800" spc="-1" strike="noStrike">
                <a:solidFill>
                  <a:srgbClr val="666633"/>
                </a:solidFill>
                <a:latin typeface="Tahoma"/>
              </a:rPr>
              <a:t>Cherenkov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光量評価システム　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-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セットアップ</a:t>
            </a:r>
            <a:r>
              <a:rPr b="0" lang="ja-JP" sz="2800" spc="-1" strike="noStrike">
                <a:solidFill>
                  <a:srgbClr val="666633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1263600"/>
            <a:ext cx="82087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5050"/>
                </a:solidFill>
                <a:latin typeface="Comic Sans MS"/>
              </a:rPr>
              <a:t>スペクトロメーターで単色電子ビームを作り出し、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Aerogel</a:t>
            </a:r>
            <a:r>
              <a:rPr b="1" lang="ja-JP" sz="2400" spc="-1" strike="noStrike">
                <a:solidFill>
                  <a:srgbClr val="ff5050"/>
                </a:solidFill>
                <a:latin typeface="Comic Sans MS"/>
              </a:rPr>
              <a:t>内で発生したチェレンコフ光を</a:t>
            </a:r>
            <a:r>
              <a:rPr b="1" lang="ja-JP" sz="2400" spc="-1" strike="noStrike">
                <a:solidFill>
                  <a:srgbClr val="ff5050"/>
                </a:solidFill>
                <a:latin typeface="Comic Sans MS"/>
              </a:rPr>
              <a:t>5</a:t>
            </a:r>
            <a:r>
              <a:rPr b="1" lang="ja-JP" sz="2400" spc="-1" strike="noStrike">
                <a:solidFill>
                  <a:srgbClr val="ff5050"/>
                </a:solidFill>
                <a:latin typeface="Comic Sans MS"/>
              </a:rPr>
              <a:t>インチ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PMT</a:t>
            </a:r>
            <a:r>
              <a:rPr b="1" lang="ja-JP" sz="2400" spc="-1" strike="noStrike">
                <a:solidFill>
                  <a:srgbClr val="ff5050"/>
                </a:solidFill>
                <a:latin typeface="Comic Sans MS"/>
              </a:rPr>
              <a:t>で観測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2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軸パラボラの凹面鏡で集光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中心に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10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φ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の穴…下流に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極薄い 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0.2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mm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エネルギー測定用 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50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mm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つのプラスチックシンチレーターを置き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　　　　　　　　　　　　　　トリガーに使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ソレノイドに流す電流を調節し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Aerogel 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に入射させる電子の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エネルギーを変化させて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Cherenkov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光を測定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5050"/>
                </a:solidFill>
                <a:uFillTx/>
                <a:latin typeface="Comic Sans MS"/>
              </a:rPr>
              <a:t>測定結果とシミュレーションの値を比較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42" name="lapin1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K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Tahoma"/>
              </a:rPr>
              <a:t>L</a:t>
            </a: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→</a:t>
            </a:r>
            <a:r>
              <a:rPr b="0" lang="en-US" sz="36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666633"/>
                </a:solidFill>
                <a:latin typeface="Tahoma"/>
              </a:rPr>
              <a:t>0</a:t>
            </a:r>
            <a:r>
              <a:rPr b="0" lang="en-US" sz="3600" spc="-1" strike="noStrike">
                <a:solidFill>
                  <a:srgbClr val="666633"/>
                </a:solidFill>
                <a:latin typeface="Symbol"/>
                <a:ea typeface="Symbol"/>
              </a:rPr>
              <a:t></a:t>
            </a: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 - </a:t>
            </a: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KOPIO Concept –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9280" y="3117960"/>
            <a:ext cx="8785440" cy="3685680"/>
            <a:chOff x="179280" y="3117960"/>
            <a:chExt cx="8785440" cy="368568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4013280"/>
              <a:ext cx="5616720" cy="2539800"/>
              <a:chOff x="1403280" y="4013280"/>
              <a:chExt cx="5616720" cy="25398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3280" y="4013280"/>
                <a:ext cx="5616720" cy="25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 txBox="1"/>
              <p:nvPr/>
            </p:nvSpPr>
            <p:spPr>
              <a:xfrm>
                <a:off x="1403280" y="4013280"/>
                <a:ext cx="5616720" cy="253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fdcfe4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599000" y="3117960"/>
              <a:ext cx="3063960" cy="459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崩壊領域全体を覆う</a:t>
              </a:r>
              <a:r>
                <a:rPr b="0" lang="en-US" sz="2400" spc="-1" strike="noStrike">
                  <a:solidFill>
                    <a:srgbClr val="666633"/>
                  </a:solidFill>
                  <a:latin typeface="Arial"/>
                </a:rPr>
                <a:t>VETO</a:t>
              </a:r>
              <a:r>
                <a:rPr b="0" lang="ja-JP" sz="2400" spc="-1" strike="noStrike">
                  <a:solidFill>
                    <a:srgbClr val="666633"/>
                  </a:solidFill>
                  <a:latin typeface="Arial"/>
                </a:rPr>
                <a:t>検出器</a:t>
              </a: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3080" y="3846600"/>
              <a:ext cx="1871640" cy="1770480"/>
            </a:xfrm>
            <a:prstGeom prst="rect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666633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</a:t>
              </a:r>
              <a:r>
                <a:rPr b="0" lang="ja-JP" sz="24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の</a:t>
              </a:r>
              <a:r>
                <a:rPr b="0" lang="en-US" sz="2400" spc="-1" strike="noStrike">
                  <a:solidFill>
                    <a:srgbClr val="666633"/>
                  </a:solidFill>
                  <a:latin typeface="Arial"/>
                </a:rPr>
                <a:t>vertex</a:t>
              </a:r>
              <a:r>
                <a:rPr b="0" lang="en-US" sz="2400" spc="-1" strike="noStrike">
                  <a:solidFill>
                    <a:srgbClr val="666633"/>
                  </a:solidFill>
                  <a:latin typeface="Arial"/>
                </a:rPr>
                <a:t>、</a:t>
              </a:r>
              <a:r>
                <a:rPr b="0" lang="ja-JP" sz="2400" spc="-1" strike="noStrike">
                  <a:solidFill>
                    <a:srgbClr val="666633"/>
                  </a:solidFill>
                  <a:latin typeface="Arial"/>
                </a:rPr>
                <a:t>不変質量を再構成</a:t>
              </a: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信号光子の位置、エネルギー、</a:t>
              </a:r>
              <a:r>
                <a:rPr b="1" lang="ja-JP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角度</a:t>
              </a: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、時間を測定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000" y="5448240"/>
              <a:ext cx="3240000" cy="1355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マイクロバンチ陽子ビーム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⇒</a:t>
              </a:r>
              <a:r>
                <a:rPr b="0" lang="en-US" sz="2000" spc="-1" strike="noStrike">
                  <a:solidFill>
                    <a:srgbClr val="666633"/>
                  </a:solidFill>
                  <a:latin typeface="Arial"/>
                </a:rPr>
                <a:t>TOF</a:t>
              </a: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測定（</a:t>
              </a:r>
              <a:r>
                <a:rPr b="0" lang="ja-JP" sz="2000" spc="-1" strike="noStrike" u="sng">
                  <a:solidFill>
                    <a:srgbClr val="666633"/>
                  </a:solidFill>
                  <a:uFillTx/>
                  <a:latin typeface="Arial"/>
                </a:rPr>
                <a:t>中性粒子の</a:t>
              </a: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⇒</a:t>
              </a:r>
              <a:r>
                <a:rPr b="0" lang="en-US" sz="2000" spc="-1" strike="noStrike">
                  <a:solidFill>
                    <a:srgbClr val="666633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666633"/>
                  </a:solidFill>
                  <a:latin typeface="Arial"/>
                </a:rPr>
                <a:t>L</a:t>
              </a: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静止系での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　　運動学的カットが可能に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280" y="3456000"/>
              <a:ext cx="3527640" cy="398880"/>
            </a:xfrm>
            <a:prstGeom prst="rect">
              <a:avLst/>
            </a:prstGeom>
            <a:solidFill>
              <a:srgbClr val="fdcfe4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Arial"/>
                </a:rPr>
                <a:t>運動学的カット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002240" y="1770120"/>
            <a:ext cx="2851560" cy="973800"/>
            <a:chOff x="1002240" y="1770120"/>
            <a:chExt cx="2851560" cy="97380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112760" y="1770120"/>
                  <a:ext cx="20872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→</m:t>
                      </m:r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ν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ν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1066680" y="1846080"/>
              <a:ext cx="609480" cy="533520"/>
            </a:xfrm>
            <a:prstGeom prst="ellipse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90560" y="1846080"/>
              <a:ext cx="609480" cy="533520"/>
            </a:xfrm>
            <a:prstGeom prst="ellipse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33360" y="1846080"/>
              <a:ext cx="609480" cy="533520"/>
            </a:xfrm>
            <a:prstGeom prst="ellipse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02240" y="2406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666633"/>
                  </a:solidFill>
                  <a:latin typeface="Tahoma"/>
                </a:rPr>
                <a:t>中性粒子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8640" y="2387520"/>
              <a:ext cx="70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5050"/>
                  </a:solidFill>
                  <a:latin typeface="Tahoma"/>
                </a:rPr>
                <a:t>2</a:t>
              </a:r>
              <a:r>
                <a:rPr b="1" lang="en-US" sz="16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</a:t>
              </a:r>
              <a:r>
                <a:rPr b="0" lang="ja-JP" sz="1600" spc="-1" strike="noStrike">
                  <a:solidFill>
                    <a:srgbClr val="666633"/>
                  </a:solidFill>
                  <a:latin typeface="Tahoma"/>
                </a:rPr>
                <a:t>崩壊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41560" y="2379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cc00"/>
                  </a:solidFill>
                  <a:latin typeface="Tahoma"/>
                </a:rPr>
                <a:t>観測できない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995000" y="198108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「</a:t>
            </a:r>
            <a:r>
              <a:rPr b="1" lang="en-US" sz="2400" spc="-1" strike="noStrike">
                <a:solidFill>
                  <a:srgbClr val="ff505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5050"/>
                </a:solidFill>
                <a:latin typeface="Arial"/>
              </a:rPr>
              <a:t>0</a:t>
            </a:r>
            <a:r>
              <a:rPr b="1" lang="ja-JP" sz="2400" spc="-1" strike="noStrike">
                <a:solidFill>
                  <a:srgbClr val="ff5050"/>
                </a:solidFill>
                <a:latin typeface="Arial"/>
              </a:rPr>
              <a:t>からの</a:t>
            </a:r>
            <a:r>
              <a:rPr b="1" lang="ja-JP" sz="24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505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」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「</a:t>
            </a:r>
            <a:r>
              <a:rPr b="1" lang="ja-JP" sz="2400" spc="-1" strike="noStrike">
                <a:solidFill>
                  <a:srgbClr val="00cc00"/>
                </a:solidFill>
                <a:latin typeface="Arial"/>
              </a:rPr>
              <a:t>他には何もない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」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68960" y="1690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666633"/>
                </a:solidFill>
                <a:uFillTx/>
                <a:latin typeface="Tahoma"/>
              </a:rPr>
              <a:t>信号イベントの同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0" t="5954" r="0" b="0"/>
          <a:stretch/>
        </p:blipFill>
        <p:spPr>
          <a:xfrm>
            <a:off x="5219640" y="3500280"/>
            <a:ext cx="3598920" cy="3384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0" t="6789" r="0" b="0"/>
          <a:stretch/>
        </p:blipFill>
        <p:spPr>
          <a:xfrm>
            <a:off x="465120" y="3500280"/>
            <a:ext cx="3602160" cy="33577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ahoma"/>
              </a:rPr>
              <a:t>Cherenkov Yield  Energy Dependence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200960" y="3860640"/>
            <a:ext cx="13251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▲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　ＧＥＡＮＴ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実験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5445000"/>
            <a:ext cx="1295280" cy="119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=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１．０４６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=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８６％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@470nm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4560" y="3484440"/>
            <a:ext cx="592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Ｐ．Ｅ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96360" y="5516640"/>
            <a:ext cx="121896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=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１．０３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=70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％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@470nm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836640"/>
            <a:ext cx="957744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Aerogel 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チェレンコフ光量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屈折率の違い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透過率の違い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実験結果とシミュレーションの比較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5050"/>
                </a:solidFill>
                <a:latin typeface="Tahoma"/>
              </a:rPr>
              <a:t>シミュレーションからの予測値と実験値がよく一致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また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</a:rPr>
              <a:t>MeV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電子ビームを用いた実験結果とも</a:t>
            </a:r>
            <a:r>
              <a:rPr b="0" lang="en-US" sz="2000" spc="-1" strike="noStrike">
                <a:solidFill>
                  <a:srgbClr val="666633"/>
                </a:solidFill>
                <a:latin typeface="Comic Sans MS"/>
              </a:rPr>
              <a:t>consistent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であ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（どちらにも、補正因子として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0.61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</a:rPr>
              <a:t>をシミュレーションによる予測値に乗じる）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このシステムで正しくチェレンコフ光を観測できてい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透過率の入力パラメータ　</a:t>
            </a:r>
            <a:r>
              <a:rPr b="0" lang="en-US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A , C </a:t>
            </a:r>
            <a:r>
              <a:rPr b="0" lang="ja-JP" sz="18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で正しく予測できている </a:t>
            </a:r>
            <a:r>
              <a:rPr b="0" lang="ja-JP" sz="1400" spc="-1" strike="noStrike">
                <a:solidFill>
                  <a:srgbClr val="666633"/>
                </a:solidFill>
                <a:latin typeface="Comic Sans MS"/>
                <a:ea typeface="ＭＳ Ｐゴシック"/>
              </a:rPr>
              <a:t>　</a:t>
            </a:r>
            <a:r>
              <a:rPr b="0" lang="ja-JP" sz="1600" spc="-1" strike="noStrike">
                <a:solidFill>
                  <a:srgbClr val="33cc33"/>
                </a:solidFill>
                <a:latin typeface="Comic Sans MS"/>
                <a:ea typeface="ＭＳ Ｐゴシック"/>
              </a:rPr>
              <a:t>シミュレーションの信頼性を確認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3880" y="4076640"/>
            <a:ext cx="132516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▲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　ＧＥＡＮＴ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実験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400" y="2824200"/>
            <a:ext cx="687240" cy="485640"/>
          </a:xfrm>
          <a:prstGeom prst="rightArrow">
            <a:avLst>
              <a:gd name="adj1" fmla="val 43139"/>
              <a:gd name="adj2" fmla="val 56212"/>
            </a:avLst>
          </a:prstGeom>
          <a:solidFill>
            <a:srgbClr val="ffff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53" name="lapin1" descr=""/>
          <p:cNvPicPr/>
          <p:nvPr/>
        </p:nvPicPr>
        <p:blipFill>
          <a:blip r:embed="rId3"/>
          <a:stretch/>
        </p:blipFill>
        <p:spPr>
          <a:xfrm>
            <a:off x="838188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Beam Catcher 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のシミュレーション結果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25680"/>
            <a:ext cx="5256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Tahoma"/>
              </a:rPr>
              <a:t>Beam Catcher</a:t>
            </a:r>
            <a:r>
              <a:rPr b="0" lang="ja-JP" sz="2400" spc="-1" strike="noStrike" u="sng">
                <a:solidFill>
                  <a:srgbClr val="666633"/>
                </a:solidFill>
                <a:uFillTx/>
                <a:latin typeface="Tahoma"/>
              </a:rPr>
              <a:t>の要求される性能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11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γ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検出効率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99%  @ 300 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MeV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11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中性子感度　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0.3%  @ 0.8 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GeV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　　　に対して…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Tahoma"/>
              </a:rPr>
              <a:t>シミュレーション結果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11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γ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検出効率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99.0% @300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MeV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この検出効率の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Beam Catcher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によって生じる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バックグラウンド数　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　シグナル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40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イベントに対して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～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11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中性子感度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0.22% @0.8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GeV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中性子のイベントによって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シグナルイベントを誤って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veto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する確率　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Tahoma"/>
              </a:rPr>
              <a:t>　　　</a:t>
            </a:r>
            <a:r>
              <a:rPr b="0" lang="ja-JP" sz="2000" spc="-1" strike="noStrike">
                <a:solidFill>
                  <a:srgbClr val="ff5050"/>
                </a:solidFill>
                <a:latin typeface="Tahoma"/>
              </a:rPr>
              <a:t>11 %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778360" y="692280"/>
            <a:ext cx="2897280" cy="2808000"/>
            <a:chOff x="5778360" y="692280"/>
            <a:chExt cx="2897280" cy="280800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5778360" y="692280"/>
              <a:ext cx="289728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flipV="1">
              <a:off x="6821280" y="847800"/>
              <a:ext cx="0" cy="2363400"/>
            </a:xfrm>
            <a:prstGeom prst="line">
              <a:avLst/>
            </a:prstGeom>
            <a:ln w="25560">
              <a:solidFill>
                <a:srgbClr val="f7926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746680" y="3863880"/>
            <a:ext cx="2928960" cy="2805120"/>
            <a:chOff x="5746680" y="3863880"/>
            <a:chExt cx="2928960" cy="2805120"/>
          </a:xfrm>
        </p:grpSpPr>
        <p:pic>
          <p:nvPicPr>
            <p:cNvPr id="560" name="" descr=""/>
            <p:cNvPicPr/>
            <p:nvPr/>
          </p:nvPicPr>
          <p:blipFill>
            <a:blip r:embed="rId2"/>
            <a:stretch/>
          </p:blipFill>
          <p:spPr>
            <a:xfrm>
              <a:off x="5746680" y="3863880"/>
              <a:ext cx="292896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 flipV="1">
              <a:off x="6789600" y="4020480"/>
              <a:ext cx="0" cy="2359800"/>
            </a:xfrm>
            <a:prstGeom prst="line">
              <a:avLst/>
            </a:prstGeom>
            <a:ln w="25560">
              <a:solidFill>
                <a:srgbClr val="f7926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6223320" y="5877000"/>
            <a:ext cx="996120" cy="3682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79265"/>
                </a:solidFill>
                <a:latin typeface="Comic Sans MS"/>
              </a:rPr>
              <a:t>0.8 </a:t>
            </a:r>
            <a:r>
              <a:rPr b="0" lang="en-US" sz="1800" spc="-1" strike="noStrike">
                <a:solidFill>
                  <a:srgbClr val="f79265"/>
                </a:solidFill>
                <a:latin typeface="Comic Sans MS"/>
              </a:rPr>
              <a:t>GeV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92880" y="2708280"/>
            <a:ext cx="1047960" cy="3682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79265"/>
                </a:solidFill>
                <a:latin typeface="Comic Sans MS"/>
              </a:rPr>
              <a:t>300</a:t>
            </a:r>
            <a:r>
              <a:rPr b="0" lang="en-US" sz="1800" spc="-1" strike="noStrike">
                <a:solidFill>
                  <a:srgbClr val="f79265"/>
                </a:solidFill>
                <a:latin typeface="Comic Sans MS"/>
              </a:rPr>
              <a:t>MeV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19320" y="6481800"/>
            <a:ext cx="1559880" cy="3682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265"/>
                </a:solidFill>
                <a:latin typeface="Comic Sans MS"/>
              </a:rPr>
              <a:t>Energy (GeV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21840" y="3413160"/>
            <a:ext cx="1600920" cy="36828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265"/>
                </a:solidFill>
                <a:latin typeface="Comic Sans MS"/>
              </a:rPr>
              <a:t>Energy (MeV)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98560" y="765000"/>
            <a:ext cx="912240" cy="45972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omic Sans MS"/>
              </a:rPr>
              <a:t>検出効率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85920" y="3645000"/>
            <a:ext cx="912240" cy="45972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omic Sans MS"/>
              </a:rPr>
              <a:t>検出効率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68" name="lapin1" descr=""/>
          <p:cNvPicPr/>
          <p:nvPr/>
        </p:nvPicPr>
        <p:blipFill>
          <a:blip r:embed="rId3"/>
          <a:stretch/>
        </p:blipFill>
        <p:spPr>
          <a:xfrm>
            <a:off x="76320" y="6130800"/>
            <a:ext cx="65088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setup1-2" descr=""/>
          <p:cNvPicPr/>
          <p:nvPr/>
        </p:nvPicPr>
        <p:blipFill>
          <a:blip r:embed="rId1"/>
          <a:stretch/>
        </p:blipFill>
        <p:spPr>
          <a:xfrm>
            <a:off x="1066680" y="1181160"/>
            <a:ext cx="4800600" cy="30099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900" spc="-1" strike="noStrike">
                <a:solidFill>
                  <a:srgbClr val="666633"/>
                </a:solidFill>
                <a:latin typeface="Tahoma"/>
              </a:rPr>
              <a:t>相対量子効率測定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2683080" y="1066680"/>
            <a:ext cx="16786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光量モニター用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52280" y="1143000"/>
            <a:ext cx="1523880" cy="1752480"/>
            <a:chOff x="152280" y="1143000"/>
            <a:chExt cx="1523880" cy="1752480"/>
          </a:xfrm>
        </p:grpSpPr>
        <p:sp>
          <p:nvSpPr>
            <p:cNvPr id="573" name=""/>
            <p:cNvSpPr/>
            <p:nvPr/>
          </p:nvSpPr>
          <p:spPr>
            <a:xfrm>
              <a:off x="358920" y="1371600"/>
              <a:ext cx="1142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dcfe4"/>
                  </a:solidFill>
                  <a:latin typeface="Arial"/>
                </a:rPr>
                <a:t>370</a:t>
              </a:r>
              <a:r>
                <a:rPr b="0" lang="en-US" sz="1400" spc="-1" strike="noStrike">
                  <a:solidFill>
                    <a:srgbClr val="fdcfe4"/>
                  </a:solidFill>
                  <a:latin typeface="Arial"/>
                </a:rPr>
                <a:t>nm(</a:t>
              </a:r>
              <a:r>
                <a:rPr b="0" lang="ja-JP" sz="1400" spc="-1" strike="noStrike">
                  <a:solidFill>
                    <a:srgbClr val="fdcfe4"/>
                  </a:solidFill>
                  <a:latin typeface="Arial"/>
                </a:rPr>
                <a:t>紫外</a:t>
              </a:r>
              <a:r>
                <a:rPr b="0" lang="ja-JP" sz="1400" spc="-1" strike="noStrike">
                  <a:solidFill>
                    <a:srgbClr val="fdcfe4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470nm(</a:t>
              </a:r>
              <a:r>
                <a:rPr b="0" lang="ja-JP" sz="1400" spc="-1" strike="noStrike">
                  <a:solidFill>
                    <a:srgbClr val="0033cc"/>
                  </a:solidFill>
                  <a:latin typeface="Arial"/>
                </a:rPr>
                <a:t>青</a:t>
              </a:r>
              <a:r>
                <a:rPr b="0" lang="ja-JP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cccc"/>
                  </a:solidFill>
                  <a:latin typeface="Arial"/>
                </a:rPr>
                <a:t>510nm(</a:t>
              </a:r>
              <a:r>
                <a:rPr b="0" lang="ja-JP" sz="1400" spc="-1" strike="noStrike">
                  <a:solidFill>
                    <a:srgbClr val="33cccc"/>
                  </a:solidFill>
                  <a:latin typeface="Arial"/>
                </a:rPr>
                <a:t>青緑</a:t>
              </a:r>
              <a:r>
                <a:rPr b="0" lang="ja-JP" sz="1400" spc="-1" strike="noStrike">
                  <a:solidFill>
                    <a:srgbClr val="33cc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cc33"/>
                  </a:solidFill>
                  <a:latin typeface="Arial"/>
                </a:rPr>
                <a:t>530nm(</a:t>
              </a:r>
              <a:r>
                <a:rPr b="0" lang="ja-JP" sz="1400" spc="-1" strike="noStrike">
                  <a:solidFill>
                    <a:srgbClr val="33cc33"/>
                  </a:solidFill>
                  <a:latin typeface="Arial"/>
                </a:rPr>
                <a:t>緑</a:t>
              </a:r>
              <a:r>
                <a:rPr b="0" lang="ja-JP" sz="1400" spc="-1" strike="noStrike">
                  <a:solidFill>
                    <a:srgbClr val="33cc33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Arial"/>
                </a:rPr>
                <a:t>570nm(</a:t>
              </a:r>
              <a:r>
                <a:rPr b="0" lang="ja-JP" sz="1400" spc="-1" strike="noStrike">
                  <a:solidFill>
                    <a:srgbClr val="ffcc00"/>
                  </a:solidFill>
                  <a:latin typeface="Arial"/>
                </a:rPr>
                <a:t>黄</a:t>
              </a:r>
              <a:r>
                <a:rPr b="0" lang="ja-JP" sz="1400" spc="-1" strike="noStrike">
                  <a:solidFill>
                    <a:srgbClr val="ffcc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620nm(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赤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2280" y="1143000"/>
              <a:ext cx="1523880" cy="1752480"/>
            </a:xfrm>
            <a:prstGeom prst="wedgeRoundRectCallout">
              <a:avLst>
                <a:gd name="adj1" fmla="val 57291"/>
                <a:gd name="adj2" fmla="val 70740"/>
                <a:gd name="adj3" fmla="val 16667"/>
              </a:avLst>
            </a:prstGeom>
            <a:noFill/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780440" y="2514600"/>
            <a:ext cx="12672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サンプル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7120" y="4648320"/>
            <a:ext cx="3357000" cy="758520"/>
            <a:chOff x="357120" y="4648320"/>
            <a:chExt cx="3357000" cy="758520"/>
          </a:xfrm>
        </p:grpSpPr>
        <p:sp>
          <p:nvSpPr>
            <p:cNvPr id="577" name=""/>
            <p:cNvSpPr/>
            <p:nvPr/>
          </p:nvSpPr>
          <p:spPr>
            <a:xfrm>
              <a:off x="927360" y="50385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同じ光量が入った時の光電子数を比較する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7120" y="4648320"/>
              <a:ext cx="1003680" cy="368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相対量子効率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257800" y="3549600"/>
            <a:ext cx="3750840" cy="3309120"/>
            <a:chOff x="5257800" y="3549600"/>
            <a:chExt cx="3750840" cy="3309120"/>
          </a:xfrm>
        </p:grpSpPr>
        <p:pic>
          <p:nvPicPr>
            <p:cNvPr id="580" name="1216-0201" descr=""/>
            <p:cNvPicPr/>
            <p:nvPr/>
          </p:nvPicPr>
          <p:blipFill>
            <a:blip r:embed="rId5"/>
            <a:stretch/>
          </p:blipFill>
          <p:spPr>
            <a:xfrm>
              <a:off x="5334120" y="3549600"/>
              <a:ext cx="320976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456320" y="4387680"/>
              <a:ext cx="15523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66"/>
                  </a:solidFill>
                  <a:latin typeface="Arial"/>
                </a:rPr>
                <a:t>サンプル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PMT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（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GaAsP</a:t>
              </a:r>
              <a:r>
                <a:rPr b="1" lang="ja-JP" sz="1600" spc="-1" strike="noStrike">
                  <a:solidFill>
                    <a:srgbClr val="ff0066"/>
                  </a:solidFill>
                  <a:latin typeface="Arial"/>
                </a:rPr>
                <a:t>光電面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）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99880" y="5683320"/>
              <a:ext cx="14878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比較対象用</a:t>
              </a: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(Bialkali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光電面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08520" y="6521400"/>
              <a:ext cx="2379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6633"/>
                  </a:solidFill>
                  <a:latin typeface="Arial"/>
                </a:rPr>
                <a:t>Monitor PMT ADC count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4699080" y="4184280"/>
              <a:ext cx="14857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6633"/>
                  </a:solidFill>
                  <a:latin typeface="Arial"/>
                </a:rPr>
                <a:t>光電子数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36520" y="5638680"/>
                <a:ext cx="50119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相対量子効率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サンプル</m:t>
                        </m:r>
                        <m:r>
                          <m:rPr>
                            <m:lit/>
                            <m:nor/>
                          </m:rPr>
                          <m:t xml:space="preserve">PMT</m:t>
                        </m:r>
                        <m:r>
                          <m:rPr>
                            <m:lit/>
                            <m:nor/>
                          </m:rPr>
                          <m:t xml:space="preserve">の光電子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比較対象用</m:t>
                        </m:r>
                        <m:r>
                          <m:rPr>
                            <m:lit/>
                            <m:nor/>
                          </m:rPr>
                          <m:t xml:space="preserve">PMT</m:t>
                        </m:r>
                        <m:r>
                          <m:rPr>
                            <m:lit/>
                            <m:nor/>
                          </m:rPr>
                          <m:t xml:space="preserve">の光電子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6" name="lapin1" descr=""/>
          <p:cNvPicPr/>
          <p:nvPr/>
        </p:nvPicPr>
        <p:blipFill>
          <a:blip r:embed="rId6"/>
          <a:stretch/>
        </p:blipFill>
        <p:spPr>
          <a:xfrm>
            <a:off x="822960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900" spc="-1" strike="noStrike">
                <a:solidFill>
                  <a:srgbClr val="666633"/>
                </a:solidFill>
                <a:latin typeface="Tahoma"/>
              </a:rPr>
              <a:t>リニアリティ測定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1811520" y="1523880"/>
            <a:ext cx="58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入射光量をモニターする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PMT</a:t>
            </a: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をリニアリティの保証されたレンジでのみ用い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Arial"/>
              </a:rPr>
              <a:t>二桁程度のリニアリティ測定が可能なシステムを開発した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589" name="1219-lin_setup" descr=""/>
          <p:cNvPicPr/>
          <p:nvPr/>
        </p:nvPicPr>
        <p:blipFill>
          <a:blip r:embed="rId1"/>
          <a:stretch/>
        </p:blipFill>
        <p:spPr>
          <a:xfrm>
            <a:off x="1620720" y="2590920"/>
            <a:ext cx="4703760" cy="398592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5842080" y="4089240"/>
            <a:ext cx="2729520" cy="863640"/>
            <a:chOff x="5842080" y="4089240"/>
            <a:chExt cx="2729520" cy="863640"/>
          </a:xfrm>
        </p:grpSpPr>
        <p:sp>
          <p:nvSpPr>
            <p:cNvPr id="591" name=""/>
            <p:cNvSpPr/>
            <p:nvPr/>
          </p:nvSpPr>
          <p:spPr>
            <a:xfrm>
              <a:off x="6050520" y="4089240"/>
              <a:ext cx="25210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6633"/>
                  </a:solidFill>
                  <a:latin typeface="Arial"/>
                </a:rPr>
                <a:t>被験</a:t>
              </a: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PMT(</a:t>
              </a:r>
              <a:r>
                <a:rPr b="1" lang="ja-JP" sz="2000" spc="-1" strike="noStrike">
                  <a:solidFill>
                    <a:srgbClr val="666633"/>
                  </a:solidFill>
                  <a:latin typeface="Arial"/>
                </a:rPr>
                <a:t>サンプル</a:t>
              </a: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PMT)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842080" y="4495680"/>
              <a:ext cx="457200" cy="4572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8120" y="5651640"/>
            <a:ext cx="1460520" cy="750960"/>
            <a:chOff x="78120" y="5651640"/>
            <a:chExt cx="1460520" cy="750960"/>
          </a:xfrm>
        </p:grpSpPr>
        <p:sp>
          <p:nvSpPr>
            <p:cNvPr id="594" name=""/>
            <p:cNvSpPr/>
            <p:nvPr/>
          </p:nvSpPr>
          <p:spPr>
            <a:xfrm>
              <a:off x="78120" y="5651640"/>
              <a:ext cx="10814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LED filter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2120" y="6034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66"/>
                  </a:solidFill>
                  <a:latin typeface="Arial"/>
                </a:rPr>
                <a:t>光量を調節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583960" y="3352680"/>
            <a:ext cx="241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モニター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MT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に入る光量を調節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62240" y="3048120"/>
            <a:ext cx="1656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ference filter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797840" y="2438280"/>
            <a:ext cx="1777320" cy="711000"/>
            <a:chOff x="1797840" y="2438280"/>
            <a:chExt cx="1777320" cy="711000"/>
          </a:xfrm>
        </p:grpSpPr>
        <p:sp>
          <p:nvSpPr>
            <p:cNvPr id="599" name=""/>
            <p:cNvSpPr/>
            <p:nvPr/>
          </p:nvSpPr>
          <p:spPr>
            <a:xfrm>
              <a:off x="1797840" y="2438280"/>
              <a:ext cx="1387440" cy="398880"/>
            </a:xfrm>
            <a:prstGeom prst="rect">
              <a:avLst/>
            </a:prstGeom>
            <a:solidFill>
              <a:srgbClr val="fdcfe4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6633"/>
                  </a:solidFill>
                  <a:latin typeface="Arial"/>
                </a:rPr>
                <a:t>モニター</a:t>
              </a:r>
              <a:r>
                <a:rPr b="1" lang="en-US" sz="20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89360" y="2844720"/>
              <a:ext cx="685800" cy="3045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1219320" y="5562720"/>
            <a:ext cx="1143000" cy="3808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571640" y="3352680"/>
            <a:ext cx="6094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523680" y="5791320"/>
            <a:ext cx="5135040" cy="64260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LED filter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と　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eference filter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を連動させることによって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モニター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に入る光量をあるレンジ内に保ってい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04" name="lapin1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モニター</a:t>
            </a:r>
            <a:r>
              <a:rPr b="0" lang="en-US" sz="2900" spc="-1" strike="noStrike">
                <a:solidFill>
                  <a:srgbClr val="666633"/>
                </a:solidFill>
                <a:latin typeface="Tahoma"/>
              </a:rPr>
              <a:t>PMT test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06" name="1229-re-adctr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2919240" cy="29192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3363840" y="6248520"/>
            <a:ext cx="116208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ADC count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76920" y="3581280"/>
            <a:ext cx="3046320" cy="3071160"/>
            <a:chOff x="4876920" y="3581280"/>
            <a:chExt cx="3046320" cy="3071160"/>
          </a:xfrm>
        </p:grpSpPr>
        <p:pic>
          <p:nvPicPr>
            <p:cNvPr id="609" name="1229-re-adcratio" descr=""/>
            <p:cNvPicPr/>
            <p:nvPr/>
          </p:nvPicPr>
          <p:blipFill>
            <a:blip r:embed="rId2"/>
            <a:stretch/>
          </p:blipFill>
          <p:spPr>
            <a:xfrm>
              <a:off x="4876920" y="3581280"/>
              <a:ext cx="29145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6761160" y="6315120"/>
              <a:ext cx="11620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6633"/>
                  </a:solidFill>
                  <a:latin typeface="Arial"/>
                </a:rPr>
                <a:t>ADC count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67280" y="3905280"/>
              <a:ext cx="1295640" cy="2286000"/>
            </a:xfrm>
            <a:prstGeom prst="rect">
              <a:avLst/>
            </a:prstGeom>
            <a:noFill/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 rot="16200000">
            <a:off x="-71280" y="4496760"/>
            <a:ext cx="18518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666633"/>
                </a:solidFill>
                <a:latin typeface="Arial"/>
              </a:rPr>
              <a:t>フィルター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n / Out 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</a:rPr>
              <a:t>の比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438280" y="1438200"/>
            <a:ext cx="3048120" cy="2251800"/>
            <a:chOff x="2438280" y="1438200"/>
            <a:chExt cx="3048120" cy="2251800"/>
          </a:xfrm>
        </p:grpSpPr>
        <p:pic>
          <p:nvPicPr>
            <p:cNvPr id="614" name="lin-image" descr=""/>
            <p:cNvPicPr/>
            <p:nvPr/>
          </p:nvPicPr>
          <p:blipFill>
            <a:blip r:embed="rId3"/>
            <a:stretch/>
          </p:blipFill>
          <p:spPr>
            <a:xfrm>
              <a:off x="2895480" y="1523880"/>
              <a:ext cx="259092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815360" y="3352680"/>
              <a:ext cx="668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入射光量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2034000" y="1842120"/>
              <a:ext cx="1145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出力電流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134880" y="1219320"/>
            <a:ext cx="2559600" cy="3682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Saturation Curve 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の模式図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18" name="lapin1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モニター</a:t>
            </a:r>
            <a:r>
              <a:rPr b="0" lang="en-US" sz="2900" spc="-1" strike="noStrike">
                <a:solidFill>
                  <a:srgbClr val="666633"/>
                </a:solidFill>
                <a:latin typeface="Tahoma"/>
              </a:rPr>
              <a:t>PMT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20" name="0130-ref-linrange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02120" cy="40021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 flipV="1">
            <a:off x="3048120" y="4038480"/>
            <a:ext cx="228600" cy="4572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3560" y="3962520"/>
            <a:ext cx="1311480" cy="869760"/>
            <a:chOff x="1213560" y="3962520"/>
            <a:chExt cx="1311480" cy="869760"/>
          </a:xfrm>
        </p:grpSpPr>
        <p:sp>
          <p:nvSpPr>
            <p:cNvPr id="623" name=""/>
            <p:cNvSpPr/>
            <p:nvPr/>
          </p:nvSpPr>
          <p:spPr>
            <a:xfrm>
              <a:off x="1213560" y="407052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LED filter</a:t>
              </a:r>
              <a:r>
                <a:rPr b="0" lang="ja-JP" sz="1800" spc="-1" strike="noStrike">
                  <a:solidFill>
                    <a:srgbClr val="ff6600"/>
                  </a:solidFill>
                  <a:latin typeface="Arial"/>
                </a:rPr>
                <a:t>を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6600"/>
                  </a:solidFill>
                  <a:latin typeface="Arial"/>
                </a:rPr>
                <a:t>変える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19320" y="3962520"/>
              <a:ext cx="1295280" cy="869760"/>
            </a:xfrm>
            <a:prstGeom prst="wedgeRoundRectCallout">
              <a:avLst>
                <a:gd name="adj1" fmla="val 83699"/>
                <a:gd name="adj2" fmla="val -13138"/>
                <a:gd name="adj3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3505320" y="4038480"/>
            <a:ext cx="75960" cy="6858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139480" y="5470560"/>
            <a:ext cx="1727640" cy="642600"/>
            <a:chOff x="2139480" y="5470560"/>
            <a:chExt cx="1727640" cy="642600"/>
          </a:xfrm>
        </p:grpSpPr>
        <p:sp>
          <p:nvSpPr>
            <p:cNvPr id="627" name=""/>
            <p:cNvSpPr/>
            <p:nvPr/>
          </p:nvSpPr>
          <p:spPr>
            <a:xfrm>
              <a:off x="2139480" y="54705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Reference filter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33cc"/>
                  </a:solidFill>
                  <a:latin typeface="Arial"/>
                </a:rPr>
                <a:t>を変える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62160" y="5486400"/>
              <a:ext cx="1676520" cy="609480"/>
            </a:xfrm>
            <a:prstGeom prst="wedgeRectCallout">
              <a:avLst>
                <a:gd name="adj1" fmla="val 23768"/>
                <a:gd name="adj2" fmla="val -189842"/>
              </a:avLst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6400800" y="2133720"/>
            <a:ext cx="0" cy="2666880"/>
          </a:xfrm>
          <a:prstGeom prst="line">
            <a:avLst/>
          </a:prstGeom>
          <a:ln w="1908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34640" y="3143160"/>
            <a:ext cx="1415160" cy="642600"/>
          </a:xfrm>
          <a:prstGeom prst="rect">
            <a:avLst/>
          </a:prstGeom>
          <a:solidFill>
            <a:srgbClr val="fdcfe4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約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6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倍以内の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ダイナミックレンジ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1508040" y="2172240"/>
            <a:ext cx="128412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モニター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ADC coun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32" name="lapin1" descr=""/>
          <p:cNvPicPr/>
          <p:nvPr/>
        </p:nvPicPr>
        <p:blipFill>
          <a:blip r:embed="rId2"/>
          <a:stretch/>
        </p:blipFill>
        <p:spPr>
          <a:xfrm>
            <a:off x="8340840" y="613080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33"/>
                </a:solidFill>
                <a:latin typeface="Tahoma"/>
              </a:rPr>
              <a:t>Linearity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34" name="153range-hqe" descr=""/>
          <p:cNvPicPr/>
          <p:nvPr/>
        </p:nvPicPr>
        <p:blipFill>
          <a:blip r:embed="rId1"/>
          <a:stretch/>
        </p:blipFill>
        <p:spPr>
          <a:xfrm>
            <a:off x="1671480" y="1447920"/>
            <a:ext cx="5186520" cy="5186160"/>
          </a:xfrm>
          <a:prstGeom prst="rect">
            <a:avLst/>
          </a:prstGeom>
          <a:ln w="0">
            <a:noFill/>
          </a:ln>
        </p:spPr>
      </p:pic>
      <p:pic>
        <p:nvPicPr>
          <p:cNvPr id="635" name="lapin1" descr=""/>
          <p:cNvPicPr/>
          <p:nvPr/>
        </p:nvPicPr>
        <p:blipFill>
          <a:blip r:embed="rId2"/>
          <a:stretch/>
        </p:blipFill>
        <p:spPr>
          <a:xfrm>
            <a:off x="8264520" y="597852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レート耐性測定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37" name="rate_led" descr=""/>
          <p:cNvPicPr/>
          <p:nvPr/>
        </p:nvPicPr>
        <p:blipFill>
          <a:blip r:embed="rId1"/>
          <a:stretch/>
        </p:blipFill>
        <p:spPr>
          <a:xfrm>
            <a:off x="2762280" y="1676520"/>
            <a:ext cx="6095880" cy="13413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644120" y="923760"/>
            <a:ext cx="50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LED 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の発光量のレート依存性が問題となるため二つの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LED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を用い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buClr>
                <a:srgbClr val="6666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バックグラウンドのレートが基準光源のシグナルに与える影響を測定する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39" name="1219_hqe-100pe" descr=""/>
          <p:cNvPicPr/>
          <p:nvPr/>
        </p:nvPicPr>
        <p:blipFill>
          <a:blip r:embed="rId2"/>
          <a:stretch/>
        </p:blipFill>
        <p:spPr>
          <a:xfrm>
            <a:off x="1447920" y="3267000"/>
            <a:ext cx="2914560" cy="2914560"/>
          </a:xfrm>
          <a:prstGeom prst="rect">
            <a:avLst/>
          </a:prstGeom>
          <a:ln w="0">
            <a:noFill/>
          </a:ln>
        </p:spPr>
      </p:pic>
      <p:pic>
        <p:nvPicPr>
          <p:cNvPr id="640" name="1219_0925-h7415_900pe" descr=""/>
          <p:cNvPicPr/>
          <p:nvPr/>
        </p:nvPicPr>
        <p:blipFill>
          <a:blip r:embed="rId3"/>
          <a:stretch/>
        </p:blipFill>
        <p:spPr>
          <a:xfrm>
            <a:off x="4535640" y="3267000"/>
            <a:ext cx="2914560" cy="29145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rot="16200000">
            <a:off x="3937320" y="3913920"/>
            <a:ext cx="1162080" cy="337320"/>
          </a:xfrm>
          <a:prstGeom prst="rect">
            <a:avLst/>
          </a:prstGeom>
          <a:solidFill>
            <a:srgbClr val="ecd882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ADC count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873360" y="3913920"/>
            <a:ext cx="1162080" cy="337320"/>
          </a:xfrm>
          <a:prstGeom prst="rect">
            <a:avLst/>
          </a:prstGeom>
          <a:solidFill>
            <a:srgbClr val="ecd882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ADC count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01280" y="5915160"/>
            <a:ext cx="64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75040" y="5905440"/>
            <a:ext cx="711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41280" y="5934240"/>
            <a:ext cx="64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964200" y="5915160"/>
            <a:ext cx="711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89840" y="5334120"/>
            <a:ext cx="776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666633"/>
                </a:solidFill>
                <a:latin typeface="Arial"/>
              </a:rPr>
              <a:t>p.e.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04280" y="5334120"/>
            <a:ext cx="875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6633"/>
                </a:solidFill>
                <a:latin typeface="Arial"/>
              </a:rPr>
              <a:t>1000</a:t>
            </a:r>
            <a:r>
              <a:rPr b="0" lang="en-US" sz="1400" spc="-1" strike="noStrike">
                <a:solidFill>
                  <a:srgbClr val="666633"/>
                </a:solidFill>
                <a:latin typeface="Arial"/>
              </a:rPr>
              <a:t>p.e.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2000" y="1676520"/>
            <a:ext cx="2305800" cy="1585080"/>
            <a:chOff x="252000" y="1676520"/>
            <a:chExt cx="2305800" cy="1585080"/>
          </a:xfrm>
        </p:grpSpPr>
        <p:sp>
          <p:nvSpPr>
            <p:cNvPr id="650" name=""/>
            <p:cNvSpPr/>
            <p:nvPr/>
          </p:nvSpPr>
          <p:spPr>
            <a:xfrm>
              <a:off x="1103760" y="1676520"/>
              <a:ext cx="729360" cy="36828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66"/>
                  </a:solidFill>
                  <a:latin typeface="Arial"/>
                </a:rPr>
                <a:t>基準光源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2840" y="2524320"/>
              <a:ext cx="190440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Background LED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8200" y="2038680"/>
              <a:ext cx="167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発光レートは常に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kHz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2000" y="2924280"/>
              <a:ext cx="230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発光レートは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kHz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から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MHz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86280" y="6324480"/>
            <a:ext cx="42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Veto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検出器として用いる際の光量に対しては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3%</a:t>
            </a: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以内で安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56600" y="3281400"/>
            <a:ext cx="17258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GaAsP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56" name="lapin1" descr=""/>
          <p:cNvPicPr/>
          <p:nvPr/>
        </p:nvPicPr>
        <p:blipFill>
          <a:blip r:embed="rId5"/>
          <a:stretch/>
        </p:blipFill>
        <p:spPr>
          <a:xfrm>
            <a:off x="8229600" y="582624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減衰長測定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1937880" y="8380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光が長い距離を伝播した時のロスについて調べるため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Arial"/>
              </a:rPr>
              <a:t>約８ｍ長の波長変換ファイバーを用いて減衰長測定を行った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98320" y="2228760"/>
            <a:ext cx="7083720" cy="3562200"/>
            <a:chOff x="598320" y="2228760"/>
            <a:chExt cx="7083720" cy="3562200"/>
          </a:xfrm>
        </p:grpSpPr>
        <p:pic>
          <p:nvPicPr>
            <p:cNvPr id="660" name="topview" descr=""/>
            <p:cNvPicPr/>
            <p:nvPr/>
          </p:nvPicPr>
          <p:blipFill>
            <a:blip r:embed="rId1"/>
            <a:stretch/>
          </p:blipFill>
          <p:spPr>
            <a:xfrm>
              <a:off x="1398600" y="2620800"/>
              <a:ext cx="448956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12160" y="5182920"/>
              <a:ext cx="1854000" cy="33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LED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を自動ステージで移動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73800" y="2468160"/>
              <a:ext cx="685800" cy="9907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2280" y="2288880"/>
              <a:ext cx="2219760" cy="337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LED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がファイバーを下から照らす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20" y="2228760"/>
              <a:ext cx="1278000" cy="580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左右でファイバーを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折り返す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82760" y="2819160"/>
              <a:ext cx="152280" cy="7621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28440" y="3276360"/>
              <a:ext cx="1278000" cy="58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ファイバーの両側を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Arial"/>
                </a:rPr>
                <a:t>PMT</a:t>
              </a:r>
              <a:r>
                <a:rPr b="1" lang="ja-JP" sz="1600" spc="-1" strike="noStrike">
                  <a:solidFill>
                    <a:srgbClr val="666633"/>
                  </a:solidFill>
                  <a:latin typeface="Arial"/>
                </a:rPr>
                <a:t>で読み出す</a:t>
              </a:r>
              <a:endParaRPr b="0" lang="en-US" sz="16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26160" y="3276360"/>
              <a:ext cx="304920" cy="38088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726160" y="3733200"/>
              <a:ext cx="304920" cy="3049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pic>
        <p:nvPicPr>
          <p:cNvPr id="669" name="setup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2718000" y="2209680"/>
            <a:ext cx="1186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12040" y="4419720"/>
            <a:ext cx="12492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Side View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78000" y="1644480"/>
            <a:ext cx="64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666633"/>
                </a:solidFill>
                <a:latin typeface="Arial"/>
              </a:rPr>
              <a:t>減衰長の波長依存性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</a:rPr>
              <a:t>　：　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GaAsP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</a:rPr>
              <a:t>光電面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PMT</a:t>
            </a:r>
            <a:r>
              <a:rPr b="0" lang="ja-JP" sz="1600" spc="-1" strike="noStrike">
                <a:solidFill>
                  <a:srgbClr val="666633"/>
                </a:solidFill>
                <a:latin typeface="Arial"/>
              </a:rPr>
              <a:t>は長波長側にも感度が高いため有利であると考えられる</a:t>
            </a:r>
            <a:endParaRPr b="0" lang="en-US" sz="16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673" name="lapin1" descr=""/>
          <p:cNvPicPr/>
          <p:nvPr/>
        </p:nvPicPr>
        <p:blipFill>
          <a:blip r:embed="rId7"/>
          <a:stretch/>
        </p:blipFill>
        <p:spPr>
          <a:xfrm>
            <a:off x="228600" y="594360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減衰長測定　穴ごとの光量の一様性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75" name="hole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186520" cy="5186520"/>
          </a:xfrm>
          <a:prstGeom prst="rect">
            <a:avLst/>
          </a:prstGeom>
          <a:ln w="0">
            <a:noFill/>
          </a:ln>
        </p:spPr>
      </p:pic>
      <p:pic>
        <p:nvPicPr>
          <p:cNvPr id="676" name="lapin1" descr=""/>
          <p:cNvPicPr/>
          <p:nvPr/>
        </p:nvPicPr>
        <p:blipFill>
          <a:blip r:embed="rId2"/>
          <a:stretch/>
        </p:blipFill>
        <p:spPr>
          <a:xfrm>
            <a:off x="8264520" y="605484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Preradiator  / Calorimeter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4716360"/>
          <a:ext cx="29224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16360"/>
                    <a:ext cx="29224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773680" y="2023920"/>
          <a:ext cx="268452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3680" y="2023920"/>
                    <a:ext cx="26845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pre-cal" descr=""/>
          <p:cNvPicPr/>
          <p:nvPr/>
        </p:nvPicPr>
        <p:blipFill>
          <a:blip r:embed="rId5"/>
          <a:stretch/>
        </p:blipFill>
        <p:spPr>
          <a:xfrm>
            <a:off x="838080" y="1676520"/>
            <a:ext cx="346392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971800" y="4343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線の位置・</a:t>
            </a:r>
            <a:r>
              <a:rPr b="0" lang="ja-JP" sz="1800" spc="-1" strike="noStrike" u="sng">
                <a:solidFill>
                  <a:srgbClr val="ff0000"/>
                </a:solidFill>
                <a:uFillTx/>
                <a:latin typeface="Tahoma"/>
              </a:rPr>
              <a:t>角度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を測定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Radiation length : 2X</a:t>
            </a:r>
            <a:r>
              <a:rPr b="0" lang="en-US" sz="1800" spc="-1" strike="noStrike" baseline="-25000">
                <a:solidFill>
                  <a:srgbClr val="666633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Consists of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cc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</a:rPr>
              <a:t>Cu converter</a:t>
            </a:r>
            <a:endParaRPr b="0" lang="en-US" sz="14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cc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</a:rPr>
              <a:t>drift chamber</a:t>
            </a:r>
            <a:endParaRPr b="0" lang="en-US" sz="14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cc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</a:rPr>
              <a:t>plastic scintillator</a:t>
            </a:r>
            <a:endParaRPr b="0" lang="en-US" sz="14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cc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Angular resolution 25mrad</a:t>
            </a:r>
            <a:endParaRPr b="0" lang="en-US" sz="1600" spc="-1" strike="noStrike">
              <a:solidFill>
                <a:srgbClr val="666633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cc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Position resolution 0.45cm</a:t>
            </a:r>
            <a:endParaRPr b="0" lang="en-US" sz="1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352680"/>
            <a:ext cx="1219320" cy="9907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9080" y="4165560"/>
            <a:ext cx="15476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Preradiator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14800" y="2133360"/>
            <a:ext cx="1523880" cy="53316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0240" y="1752480"/>
            <a:ext cx="159660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Calorimeter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429000"/>
            <a:ext cx="3352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線のエネルギーを測定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dcfe4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Consists of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Pb converter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Plastic scintillator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33"/>
                </a:solidFill>
                <a:latin typeface="Tahoma"/>
                <a:ea typeface="ＭＳ Ｐゴシック"/>
              </a:rPr>
              <a:t>penetrating WLS fiber 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Energy resolution</a:t>
            </a:r>
            <a:r>
              <a:rPr b="0" lang="en-US" sz="1400" spc="-1" strike="noStrike">
                <a:solidFill>
                  <a:srgbClr val="666633"/>
                </a:solidFill>
                <a:latin typeface="Tahoma"/>
              </a:rPr>
              <a:t>3.5%/</a:t>
            </a:r>
            <a:r>
              <a:rPr b="0" lang="ja-JP" sz="1400" spc="-1" strike="noStrike">
                <a:solidFill>
                  <a:srgbClr val="666633"/>
                </a:solidFill>
                <a:latin typeface="Tahoma"/>
              </a:rPr>
              <a:t>√</a:t>
            </a:r>
            <a:r>
              <a:rPr b="0" lang="en-US" sz="1400" spc="-1" strike="noStrike">
                <a:solidFill>
                  <a:srgbClr val="666633"/>
                </a:solidFill>
                <a:latin typeface="Tahoma"/>
              </a:rPr>
              <a:t>E(GeV)</a:t>
            </a: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ファイバーと</a:t>
            </a:r>
            <a:r>
              <a:rPr b="0" lang="en-US" sz="2900" spc="-1" strike="noStrike">
                <a:solidFill>
                  <a:srgbClr val="666633"/>
                </a:solidFill>
                <a:latin typeface="Tahoma"/>
              </a:rPr>
              <a:t>PMT</a:t>
            </a:r>
            <a:r>
              <a:rPr b="0" lang="ja-JP" sz="2900" spc="-1" strike="noStrike">
                <a:solidFill>
                  <a:srgbClr val="666633"/>
                </a:solidFill>
                <a:latin typeface="Tahoma"/>
              </a:rPr>
              <a:t>のコンタクト</a:t>
            </a:r>
            <a:endParaRPr b="0" lang="en-US" sz="29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678" name="0968" descr=""/>
          <p:cNvPicPr/>
          <p:nvPr/>
        </p:nvPicPr>
        <p:blipFill>
          <a:blip r:embed="rId1"/>
          <a:stretch/>
        </p:blipFill>
        <p:spPr>
          <a:xfrm>
            <a:off x="304920" y="1733400"/>
            <a:ext cx="3170160" cy="2381400"/>
          </a:xfrm>
          <a:prstGeom prst="rect">
            <a:avLst/>
          </a:prstGeom>
          <a:ln w="0">
            <a:noFill/>
          </a:ln>
        </p:spPr>
      </p:pic>
      <p:pic>
        <p:nvPicPr>
          <p:cNvPr id="679" name="fiber-nakajima" descr=""/>
          <p:cNvPicPr/>
          <p:nvPr/>
        </p:nvPicPr>
        <p:blipFill>
          <a:blip r:embed="rId2"/>
          <a:stretch/>
        </p:blipFill>
        <p:spPr>
          <a:xfrm>
            <a:off x="4267080" y="1911240"/>
            <a:ext cx="4354560" cy="2051280"/>
          </a:xfrm>
          <a:prstGeom prst="rect">
            <a:avLst/>
          </a:prstGeom>
          <a:ln w="0">
            <a:noFill/>
          </a:ln>
        </p:spPr>
      </p:pic>
      <p:pic>
        <p:nvPicPr>
          <p:cNvPr id="680" name="fiber-n-side" descr=""/>
          <p:cNvPicPr/>
          <p:nvPr/>
        </p:nvPicPr>
        <p:blipFill>
          <a:blip r:embed="rId3"/>
          <a:stretch/>
        </p:blipFill>
        <p:spPr>
          <a:xfrm>
            <a:off x="1523880" y="4419720"/>
            <a:ext cx="6118200" cy="1514520"/>
          </a:xfrm>
          <a:prstGeom prst="rect">
            <a:avLst/>
          </a:prstGeom>
          <a:ln w="0">
            <a:noFill/>
          </a:ln>
        </p:spPr>
      </p:pic>
      <p:pic>
        <p:nvPicPr>
          <p:cNvPr id="681" name="lapin1" descr=""/>
          <p:cNvPicPr/>
          <p:nvPr/>
        </p:nvPicPr>
        <p:blipFill>
          <a:blip r:embed="rId4"/>
          <a:stretch/>
        </p:blipFill>
        <p:spPr>
          <a:xfrm>
            <a:off x="8493120" y="613080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運動学的カットの例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181480" y="2281320"/>
            <a:ext cx="2919600" cy="3041640"/>
            <a:chOff x="5181480" y="2281320"/>
            <a:chExt cx="2919600" cy="3041640"/>
          </a:xfrm>
        </p:grpSpPr>
        <p:pic>
          <p:nvPicPr>
            <p:cNvPr id="254" name="mgg_odd" descr=""/>
            <p:cNvPicPr/>
            <p:nvPr/>
          </p:nvPicPr>
          <p:blipFill>
            <a:blip r:embed="rId1"/>
            <a:stretch/>
          </p:blipFill>
          <p:spPr>
            <a:xfrm>
              <a:off x="5181480" y="2281320"/>
              <a:ext cx="291960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48480" y="4905360"/>
              <a:ext cx="2006280" cy="41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666633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</a:t>
              </a:r>
              <a:r>
                <a:rPr b="0" lang="ja-JP" sz="2000" spc="-1" strike="noStrike">
                  <a:solidFill>
                    <a:srgbClr val="666633"/>
                  </a:solidFill>
                  <a:latin typeface="Tahoma"/>
                </a:rPr>
                <a:t>の不変質量　</a:t>
              </a:r>
              <a:r>
                <a:rPr b="0" lang="en-US" sz="2000" spc="-1" strike="noStrike">
                  <a:solidFill>
                    <a:srgbClr val="666633"/>
                  </a:solidFill>
                  <a:latin typeface="Tahoma"/>
                </a:rPr>
                <a:t>M</a:t>
              </a:r>
              <a:r>
                <a:rPr b="0" lang="en-US" sz="2000" spc="-1" strike="noStrike" baseline="-16000">
                  <a:solidFill>
                    <a:srgbClr val="666633"/>
                  </a:solidFill>
                  <a:latin typeface="Symbol"/>
                  <a:ea typeface="Symbol"/>
                </a:rPr>
                <a:t>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31440" y="3048120"/>
              <a:ext cx="471960" cy="35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33"/>
                  </a:solidFill>
                  <a:latin typeface="Tahoma"/>
                </a:rPr>
                <a:t>M</a:t>
              </a:r>
              <a:r>
                <a:rPr b="1" lang="en-US" sz="1600" spc="-1" strike="noStrike" baseline="-18000">
                  <a:solidFill>
                    <a:srgbClr val="666633"/>
                  </a:solidFill>
                  <a:latin typeface="Symbol"/>
                  <a:ea typeface="Symbol"/>
                </a:rPr>
                <a:t></a:t>
              </a:r>
              <a:r>
                <a:rPr b="1" lang="en-US" sz="1000" spc="-1" strike="noStrike" baseline="10000">
                  <a:solidFill>
                    <a:srgbClr val="666633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229440" y="3362040"/>
              <a:ext cx="0" cy="1447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09720" y="2544840"/>
            <a:ext cx="3433680" cy="2953440"/>
            <a:chOff x="909720" y="2544840"/>
            <a:chExt cx="3433680" cy="2953440"/>
          </a:xfrm>
        </p:grpSpPr>
        <p:pic>
          <p:nvPicPr>
            <p:cNvPr id="259" name="kpinn2" descr=""/>
            <p:cNvPicPr/>
            <p:nvPr/>
          </p:nvPicPr>
          <p:blipFill>
            <a:blip r:embed="rId4"/>
            <a:stretch/>
          </p:blipFill>
          <p:spPr>
            <a:xfrm>
              <a:off x="909720" y="2544840"/>
              <a:ext cx="343368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26560" y="5057640"/>
              <a:ext cx="2498400" cy="440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ahoma"/>
                </a:rPr>
                <a:t>K</a:t>
              </a:r>
              <a:r>
                <a:rPr b="0" lang="en-US" sz="2000" spc="-1" strike="noStrike" baseline="-25000">
                  <a:solidFill>
                    <a:srgbClr val="666633"/>
                  </a:solidFill>
                  <a:latin typeface="Tahoma"/>
                </a:rPr>
                <a:t>L</a:t>
              </a:r>
              <a:r>
                <a:rPr b="0" lang="ja-JP" sz="2000" spc="-1" strike="noStrike">
                  <a:solidFill>
                    <a:srgbClr val="666633"/>
                  </a:solidFill>
                  <a:latin typeface="Tahoma"/>
                </a:rPr>
                <a:t>静止系での</a:t>
              </a:r>
              <a:r>
                <a:rPr b="0" lang="en-US" sz="20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666633"/>
                  </a:solidFill>
                  <a:latin typeface="Tahoma"/>
                </a:rPr>
                <a:t>0</a:t>
              </a:r>
              <a:r>
                <a:rPr b="0" lang="ja-JP" sz="2000" spc="-1" strike="noStrike">
                  <a:solidFill>
                    <a:srgbClr val="666633"/>
                  </a:solidFill>
                  <a:latin typeface="Tahoma"/>
                </a:rPr>
                <a:t>のエネルギー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409920" y="2933640"/>
              <a:ext cx="0" cy="19051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06200" y="2562120"/>
              <a:ext cx="1076760" cy="440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33"/>
                  </a:solidFill>
                  <a:latin typeface="Tahoma"/>
                </a:rPr>
                <a:t>K</a:t>
              </a:r>
              <a:r>
                <a:rPr b="0" lang="en-US" sz="2000" spc="-1" strike="noStrike" baseline="-25000">
                  <a:solidFill>
                    <a:srgbClr val="666633"/>
                  </a:solidFill>
                  <a:latin typeface="Tahoma"/>
                </a:rPr>
                <a:t>L</a:t>
              </a:r>
              <a:r>
                <a:rPr b="0" lang="ja-JP" sz="2000" spc="-1" strike="noStrike">
                  <a:solidFill>
                    <a:srgbClr val="666633"/>
                  </a:solidFill>
                  <a:latin typeface="Tahoma"/>
                </a:rPr>
                <a:t>⇒</a:t>
              </a:r>
              <a:r>
                <a:rPr b="0" lang="en-US" sz="20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666633"/>
                  </a:solidFill>
                  <a:latin typeface="Tahoma"/>
                </a:rPr>
                <a:t>0</a:t>
              </a:r>
              <a:r>
                <a:rPr b="0" lang="en-US" sz="2000" spc="-1" strike="noStrike">
                  <a:solidFill>
                    <a:srgbClr val="666633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666633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664280" y="57913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体崩壊のモノクロな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エネルギー領域をカット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7640" y="5943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6633"/>
                </a:solidFill>
                <a:latin typeface="Tahoma"/>
              </a:rPr>
              <a:t>0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の質量を要求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KOPIO </a:t>
            </a:r>
            <a:r>
              <a:rPr b="0" lang="ja-JP" sz="3600" spc="-1" strike="noStrike">
                <a:solidFill>
                  <a:srgbClr val="666633"/>
                </a:solidFill>
                <a:latin typeface="Tahoma"/>
              </a:rPr>
              <a:t>スケジュール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180440" y="1676520"/>
            <a:ext cx="47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11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RSVP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に対する建設予算獲得 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(05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年 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2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月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2405160"/>
          <a:ext cx="8001000" cy="2471760"/>
        </p:xfrm>
        <a:graphic>
          <a:graphicData uri="http://schemas.openxmlformats.org/drawingml/2006/table">
            <a:tbl>
              <a:tblPr/>
              <a:tblGrid>
                <a:gridCol w="1303560"/>
                <a:gridCol w="1306440"/>
                <a:gridCol w="1563480"/>
                <a:gridCol w="1278000"/>
                <a:gridCol w="935280"/>
                <a:gridCol w="325440"/>
                <a:gridCol w="128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17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18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19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20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21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Century"/>
                          <a:ea typeface="ＭＳ ゴシック"/>
                        </a:rPr>
                        <a:t>H22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建設予算開始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ビームライン完了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エンジニアリングラン／物理ラン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ビームライン建設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検出器量産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検出器インストール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ビームラインテスト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検出器実地テスト・調整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初期物理ラン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666633"/>
                          </a:solidFill>
                          <a:latin typeface="ＭＳ ゴシック"/>
                          <a:ea typeface="ＭＳ ゴシック"/>
                        </a:rPr>
                        <a:t>フル検出器による物理ラン</a:t>
                      </a:r>
                      <a:endParaRPr b="0" lang="en-US" sz="20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666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日本グループの開発する検出器</a:t>
            </a:r>
            <a:endParaRPr b="0" lang="en-US" sz="3200" spc="-1" strike="noStrike">
              <a:solidFill>
                <a:srgbClr val="666633"/>
              </a:solidFill>
              <a:latin typeface="Tahoma"/>
            </a:endParaRPr>
          </a:p>
        </p:txBody>
      </p:sp>
      <p:pic>
        <p:nvPicPr>
          <p:cNvPr id="269" name="kopio_detector2" descr=""/>
          <p:cNvPicPr/>
          <p:nvPr/>
        </p:nvPicPr>
        <p:blipFill>
          <a:blip r:embed="rId1"/>
          <a:stretch/>
        </p:blipFill>
        <p:spPr>
          <a:xfrm>
            <a:off x="1523880" y="1727280"/>
            <a:ext cx="6100920" cy="4444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029200" y="2514600"/>
            <a:ext cx="2286000" cy="10666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4038480"/>
            <a:ext cx="685800" cy="4572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9920" y="3936960"/>
            <a:ext cx="1846440" cy="703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Beam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中に置かれ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線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veto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検出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49320" y="3581280"/>
            <a:ext cx="18601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Beam Catcher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3280" y="5156280"/>
            <a:ext cx="2303640" cy="7038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Beam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ホールをカバーする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荷電粒子</a:t>
            </a: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veto</a:t>
            </a: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検出器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14720" y="4800600"/>
            <a:ext cx="38354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Eye pipe Charged Particle Veto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4120" y="3352680"/>
            <a:ext cx="3809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9760" y="0"/>
            <a:ext cx="854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Beam Catcher</a:t>
            </a:r>
            <a:r>
              <a:rPr b="0" lang="ja-JP" sz="4400" spc="-1" strike="noStrike">
                <a:solidFill>
                  <a:srgbClr val="666633"/>
                </a:solidFill>
                <a:latin typeface="Tahoma"/>
              </a:rPr>
              <a:t>とは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17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666633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ビームホールを覆う</a:t>
            </a: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γ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線</a:t>
            </a: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veto</a:t>
            </a: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検出器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光子に対しては高検出率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300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MeV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の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γ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に対して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99%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以上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Tahoma"/>
              </a:rPr>
              <a:t>高レートの中性ビーム中に置かれる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Tahoma"/>
              </a:rPr>
              <a:t>→</a:t>
            </a:r>
            <a:r>
              <a:rPr b="1" lang="ja-JP" sz="2000" spc="-1" strike="noStrike" u="sng">
                <a:solidFill>
                  <a:srgbClr val="666633"/>
                </a:solidFill>
                <a:uFillTx/>
                <a:latin typeface="Tahoma"/>
              </a:rPr>
              <a:t>ビーム中に大量にある中性子に対して不感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ff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0.8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GeV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の中性子に対して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0.3%</a:t>
            </a:r>
            <a:r>
              <a:rPr b="0" lang="ja-JP" sz="1800" spc="-1" strike="noStrike">
                <a:solidFill>
                  <a:srgbClr val="666633"/>
                </a:solidFill>
                <a:latin typeface="Tahoma"/>
              </a:rPr>
              <a:t>以下</a:t>
            </a: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6633"/>
                </a:solidFill>
                <a:latin typeface="Tahoma"/>
              </a:rPr>
              <a:t>　このような要求を満たすため…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　　　</a:t>
            </a:r>
            <a:r>
              <a:rPr b="0" lang="ja-JP" sz="2400" spc="-1" strike="noStrike">
                <a:solidFill>
                  <a:srgbClr val="ff5050"/>
                </a:solidFill>
                <a:latin typeface="Tahoma"/>
              </a:rPr>
              <a:t>鉛コンバータ </a:t>
            </a:r>
            <a:r>
              <a:rPr b="0" lang="ja-JP" sz="2400" spc="-1" strike="noStrike">
                <a:solidFill>
                  <a:srgbClr val="ff505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Aerogel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1" lang="ja-JP" sz="2400" spc="-1" strike="noStrike">
                <a:solidFill>
                  <a:srgbClr val="33cc33"/>
                </a:solidFill>
                <a:latin typeface="Tahoma"/>
              </a:rPr>
              <a:t>チェレンコフ閾値型カウンタを分散配置</a:t>
            </a:r>
            <a:endParaRPr b="0" lang="en-US" sz="24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Tahoma"/>
              </a:rPr>
              <a:t>　　低屈折率媒質である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666633"/>
                </a:solidFill>
                <a:latin typeface="Tahoma"/>
              </a:rPr>
              <a:t>　　</a:t>
            </a:r>
            <a:r>
              <a:rPr b="1" lang="en-US" sz="2000" spc="-1" strike="noStrike">
                <a:solidFill>
                  <a:srgbClr val="666633"/>
                </a:solidFill>
                <a:latin typeface="Tahoma"/>
              </a:rPr>
              <a:t>Aerogel</a:t>
            </a:r>
            <a:r>
              <a:rPr b="1" lang="ja-JP" sz="2000" spc="-1" strike="noStrike">
                <a:solidFill>
                  <a:srgbClr val="666633"/>
                </a:solidFill>
                <a:latin typeface="Tahoma"/>
              </a:rPr>
              <a:t>を用いることで低速粒子に不感</a:t>
            </a:r>
            <a:endParaRPr b="0" lang="en-US" sz="20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562720" y="609480"/>
            <a:ext cx="3581280" cy="6043680"/>
            <a:chOff x="5562720" y="609480"/>
            <a:chExt cx="3581280" cy="604368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rcRect l="0" t="0" r="0" b="18754"/>
            <a:stretch/>
          </p:blipFill>
          <p:spPr>
            <a:xfrm>
              <a:off x="5765760" y="609480"/>
              <a:ext cx="3124440" cy="253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"/>
            <p:cNvGrpSpPr/>
            <p:nvPr/>
          </p:nvGrpSpPr>
          <p:grpSpPr>
            <a:xfrm>
              <a:off x="5562720" y="3429000"/>
              <a:ext cx="3581280" cy="3224160"/>
              <a:chOff x="5562720" y="3429000"/>
              <a:chExt cx="3581280" cy="3224160"/>
            </a:xfrm>
          </p:grpSpPr>
          <p:graphicFrame>
            <p:nvGraphicFramePr>
              <p:cNvPr id="282" name=""/>
              <p:cNvGraphicFramePr/>
              <p:nvPr/>
            </p:nvGraphicFramePr>
            <p:xfrm>
              <a:off x="5562720" y="3429000"/>
              <a:ext cx="3581280" cy="3213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8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562720" y="3429000"/>
                        <a:ext cx="3581280" cy="321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4" name=""/>
              <p:cNvSpPr/>
              <p:nvPr/>
            </p:nvSpPr>
            <p:spPr>
              <a:xfrm>
                <a:off x="5562720" y="3452760"/>
                <a:ext cx="358128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33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rot="5400000">
              <a:off x="6056280" y="3110040"/>
              <a:ext cx="1371600" cy="333360"/>
            </a:xfrm>
            <a:custGeom>
              <a:avLst/>
              <a:gdLst>
                <a:gd name="textAreaLeft" fmla="*/ 96840 w 1371600"/>
                <a:gd name="textAreaRight" fmla="*/ 1274760 w 1371600"/>
                <a:gd name="textAreaTop" fmla="*/ 122040 h 333360"/>
                <a:gd name="textAreaBottom" fmla="*/ 2113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920"/>
                  </a:moveTo>
                  <a:lnTo>
                    <a:pt x="15874" y="7920"/>
                  </a:lnTo>
                  <a:lnTo>
                    <a:pt x="15874" y="0"/>
                  </a:lnTo>
                  <a:lnTo>
                    <a:pt x="21600" y="10800"/>
                  </a:lnTo>
                  <a:lnTo>
                    <a:pt x="15874" y="21600"/>
                  </a:lnTo>
                  <a:lnTo>
                    <a:pt x="15874" y="13680"/>
                  </a:lnTo>
                  <a:lnTo>
                    <a:pt x="0" y="13680"/>
                  </a:lnTo>
                  <a:lnTo>
                    <a:pt x="1527" y="10800"/>
                  </a:lnTo>
                  <a:lnTo>
                    <a:pt x="0" y="792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spAutoFit/>
            </a:bodyPr>
            <a:p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ahoma"/>
              </a:rPr>
              <a:t>Beam Catcher</a:t>
            </a:r>
            <a:endParaRPr b="0" lang="en-US" sz="44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692360"/>
            <a:ext cx="64771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666633"/>
                </a:solidFill>
                <a:uFillTx/>
                <a:latin typeface="Comic Sans MS"/>
              </a:rPr>
              <a:t>検出条件</a:t>
            </a: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　　</a:t>
            </a:r>
            <a:r>
              <a:rPr b="1" lang="en-US" sz="2000" spc="-1" strike="noStrike">
                <a:solidFill>
                  <a:srgbClr val="666633"/>
                </a:solidFill>
                <a:latin typeface="Comic Sans MS"/>
              </a:rPr>
              <a:t>γ</a:t>
            </a:r>
            <a:r>
              <a:rPr b="1" lang="ja-JP" sz="2000" spc="-1" strike="noStrike">
                <a:solidFill>
                  <a:srgbClr val="666633"/>
                </a:solidFill>
                <a:latin typeface="Comic Sans MS"/>
              </a:rPr>
              <a:t>と中性子の反応の違いを利用し、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6633"/>
                </a:solidFill>
                <a:latin typeface="Comic Sans MS"/>
              </a:rPr>
              <a:t>　　　ビーム軸方向のコインシデンスを要求</a:t>
            </a:r>
            <a:endParaRPr b="0" lang="en-US" sz="20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2587680" cy="25876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85800" y="3157560"/>
            <a:ext cx="8088840" cy="2862360"/>
            <a:chOff x="685800" y="3157560"/>
            <a:chExt cx="8088840" cy="2862360"/>
          </a:xfrm>
        </p:grpSpPr>
        <p:pic>
          <p:nvPicPr>
            <p:cNvPr id="290" name="" descr=""/>
            <p:cNvPicPr/>
            <p:nvPr/>
          </p:nvPicPr>
          <p:blipFill>
            <a:blip r:embed="rId2"/>
            <a:srcRect l="0" t="24258" r="-1589" b="20282"/>
            <a:stretch/>
          </p:blipFill>
          <p:spPr>
            <a:xfrm>
              <a:off x="685800" y="3157560"/>
              <a:ext cx="741708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90200" y="3183120"/>
              <a:ext cx="21024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</a:t>
              </a:r>
              <a:r>
                <a:rPr b="1" lang="ja-JP" sz="2400" spc="-1" strike="noStrike">
                  <a:solidFill>
                    <a:srgbClr val="ff5050"/>
                  </a:solidFill>
                  <a:latin typeface="Comic Sans MS"/>
                </a:rPr>
                <a:t>線イベント</a:t>
              </a:r>
              <a:r>
                <a:rPr b="1" lang="ja-JP" sz="2400" spc="-1" strike="noStrike">
                  <a:solidFill>
                    <a:srgbClr val="ff5050"/>
                  </a:solidFill>
                  <a:latin typeface="Comic Sans MS"/>
                </a:rPr>
                <a:t>(</a:t>
              </a:r>
              <a:r>
                <a:rPr b="1" lang="en-US" sz="2400" spc="-1" strike="noStrike">
                  <a:solidFill>
                    <a:srgbClr val="ff5050"/>
                  </a:solidFill>
                  <a:latin typeface="Comic Sans MS"/>
                </a:rPr>
                <a:t>MC)</a:t>
              </a: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02160" y="3157560"/>
              <a:ext cx="304164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ff66"/>
                  </a:solidFill>
                  <a:latin typeface="Comic Sans MS"/>
                </a:rPr>
                <a:t>中性子イベント</a:t>
              </a:r>
              <a:r>
                <a:rPr b="1" lang="ja-JP" sz="2400" spc="-1" strike="noStrike">
                  <a:solidFill>
                    <a:srgbClr val="99ff66"/>
                  </a:solidFill>
                  <a:latin typeface="Comic Sans MS"/>
                </a:rPr>
                <a:t>(</a:t>
              </a:r>
              <a:r>
                <a:rPr b="1" lang="en-US" sz="2400" spc="-1" strike="noStrike">
                  <a:solidFill>
                    <a:srgbClr val="99ff66"/>
                  </a:solidFill>
                  <a:latin typeface="Comic Sans MS"/>
                </a:rPr>
                <a:t>MC)</a:t>
              </a: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65200" y="3538800"/>
              <a:ext cx="11516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9265"/>
                  </a:solidFill>
                  <a:latin typeface="Tahoma"/>
                </a:rPr>
                <a:t>Top View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3000" y="3538800"/>
              <a:ext cx="1151640" cy="368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792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9265"/>
                  </a:solidFill>
                  <a:latin typeface="Tahoma"/>
                </a:rPr>
                <a:t>Top View</a:t>
              </a:r>
              <a:endParaRPr b="0" lang="en-US" sz="18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6:11:44Z</dcterms:created>
  <dc:creator>nanae</dc:creator>
  <dc:description/>
  <dc:language>en-US</dc:language>
  <cp:lastModifiedBy>nanae</cp:lastModifiedBy>
  <dcterms:modified xsi:type="dcterms:W3CDTF">2005-03-05T13:27:51Z</dcterms:modified>
  <cp:revision>766</cp:revision>
  <dc:subject/>
  <dc:title>Five-quark st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