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.jpeg" ContentType="image/jpeg"/>
  <Override PartName="/ppt/media/image3.jpeg" ContentType="image/jpeg"/>
  <Override PartName="/ppt/media/image30.jpeg" ContentType="image/jpeg"/>
  <Override PartName="/ppt/media/image4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9.png" ContentType="image/png"/>
  <Override PartName="/ppt/media/image21.jpeg" ContentType="image/jpeg"/>
  <Override PartName="/ppt/media/image20.jpeg" ContentType="image/jpeg"/>
  <Override PartName="/ppt/media/image22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8520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6AC0-5AEE-492F-8835-8EFDDB1CAE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solution 1.5 sqrt(E MeV)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0.50 sqrt(E M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統計エラーをしゃべるこ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325-4A9F-48B1-80CD-D1277904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7D5-97C5-42CB-B1F1-02652E5D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1D0-46A7-404D-B85E-CC4E1B77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468-1B2C-4C49-8CC9-B574814F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9C0-E7DA-405C-BE2A-D2061467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5E6-5094-4420-80A7-C642873C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2F3-6BFC-48D4-B71D-659AE332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B8B-F656-4853-A46C-C0537585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65A-CC04-4149-BB1A-0E9CB655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4AB-6A67-4EA3-8E04-507484F3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48E-8C1C-4008-AFD6-75735D54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DF6-627F-49F0-ABF8-BDD47F2F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F835-CABE-410E-A9F5-B4F27A3C7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50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研費特定領域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「質量起源と超対称性物理の研究」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三回研究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常見 俊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Tsunemi Toshina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9440" y="32130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K &amp; University of Tok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3C1-1D2C-4712-90A1-266E61947B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f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st primary c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entum conservation (x, y, z  3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076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6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048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13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700280"/>
            <a:ext cx="3024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+ momentum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ergy of phot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zimuthal angl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ip angle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15508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2565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9800" y="2565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00720" y="2565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9080" y="2581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084360" y="2092320"/>
            <a:ext cx="73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45080" y="2021040"/>
            <a:ext cx="1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9800" y="202104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50160" y="209232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1800" y="295596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 pion and 3 phot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5440" y="1515960"/>
            <a:ext cx="3311640" cy="2016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b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5440" y="1628640"/>
            <a:ext cx="503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787-F749-424C-A4F8-34CF03C59C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03280" y="1917720"/>
            <a:ext cx="6388200" cy="28828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kinetic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2360" y="119700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h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85264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155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1557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114640" y="4751280"/>
                <a:ext cx="1960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446800" y="4770360"/>
                <a:ext cx="1958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544560" y="460224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05080" y="4581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1654560" y="1746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4835880" y="1674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74640" y="51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0240" y="5157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3440" y="19890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95240" y="19890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39640" y="5013360"/>
                <a:ext cx="587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798-4FF0-4165-9634-57602B7AB5F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3514680" cy="3181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fit power of re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6120" y="50450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289240"/>
            <a:ext cx="241560" cy="136440"/>
          </a:xfrm>
          <a:prstGeom prst="rect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23840" y="22161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2073240"/>
            <a:ext cx="23040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6560" y="201456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0800" y="3146400"/>
            <a:ext cx="7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5132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7160" y="3745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70520" y="3809880"/>
            <a:ext cx="576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315288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3440" y="5373720"/>
            <a:ext cx="35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571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ll cuts are im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419640" cy="3041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768680" y="486900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-square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2852640"/>
            <a:ext cx="936720" cy="720720"/>
          </a:xfrm>
          <a:prstGeom prst="rightArrow">
            <a:avLst>
              <a:gd name="adj1" fmla="val 50000"/>
              <a:gd name="adj2" fmla="val 3249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8520" y="2997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3D4-AE14-4202-96CF-4E50F817A5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 spec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4065840" cy="995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9020160" cy="2476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44040" y="4869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69960" y="4869000"/>
            <a:ext cx="14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.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74160" y="4869000"/>
            <a:ext cx="15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.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3AF-6F46-409E-9DF6-698B14C15D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5165640"/>
            <a:ext cx="6048360" cy="10080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6551640" cy="3295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um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532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data is fitted by M.C.(IB+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692360" y="2060640"/>
            <a:ext cx="1524240" cy="753840"/>
            <a:chOff x="1692360" y="2060640"/>
            <a:chExt cx="1524240" cy="753840"/>
          </a:xfrm>
        </p:grpSpPr>
        <p:sp>
          <p:nvSpPr>
            <p:cNvPr id="200" name=""/>
            <p:cNvSpPr/>
            <p:nvPr/>
          </p:nvSpPr>
          <p:spPr>
            <a:xfrm>
              <a:off x="1692360" y="2060640"/>
              <a:ext cx="1511280" cy="753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8840" y="2182680"/>
              <a:ext cx="82080" cy="82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4400" y="2674800"/>
              <a:ext cx="3664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22560" y="207468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26160" y="252540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B (M.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11160" y="245412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26160" y="2309760"/>
              <a:ext cx="109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B+DE (M.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197240" y="2060640"/>
            <a:ext cx="1524600" cy="576360"/>
            <a:chOff x="4197240" y="2060640"/>
            <a:chExt cx="1524600" cy="576360"/>
          </a:xfrm>
        </p:grpSpPr>
        <p:sp>
          <p:nvSpPr>
            <p:cNvPr id="208" name=""/>
            <p:cNvSpPr/>
            <p:nvPr/>
          </p:nvSpPr>
          <p:spPr>
            <a:xfrm>
              <a:off x="4197240" y="2060640"/>
              <a:ext cx="151128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63720" y="2183040"/>
              <a:ext cx="8280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7800" y="207504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16040" y="2454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31400" y="2309760"/>
              <a:ext cx="109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B+DE (M.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434320" y="5452920"/>
            <a:ext cx="2720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としたと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は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0.070±0.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25320" y="515772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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.d.f=7.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0080" y="5446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01360" y="4732200"/>
            <a:ext cx="17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み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37160" y="4994280"/>
            <a:ext cx="16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n.d.f=49.0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-211680" y="1919520"/>
            <a:ext cx="7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3049200" y="205920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/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55A-26EA-4B82-B587-A6AF8984AB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ching ratio of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6791400" cy="371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43120" y="148284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今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のデー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6400" y="256392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前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のデー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404200" cy="453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8404200" cy="453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08000" y="4221000"/>
            <a:ext cx="8856720" cy="936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573360"/>
            <a:ext cx="647640" cy="5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63640" y="36385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4F4-BE9C-4471-85ED-DC2799D4FF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用い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成分を測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matic fi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、エネルギ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向上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倍）とバックグランド抑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spectrum fi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8404200" cy="453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24000" y="4940280"/>
            <a:ext cx="8404200" cy="453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08000" y="4724280"/>
            <a:ext cx="8856720" cy="936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6160" y="431172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回解析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A9E-D5D5-444F-A708-4B9FF7C9B0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AD2-A804-4029-859D-5CC582D4F1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75000" y="1484280"/>
            <a:ext cx="3609720" cy="33908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stency between real and U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60040" y="462744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n.d.f=11.2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62640" y="1987560"/>
            <a:ext cx="1266120" cy="490680"/>
            <a:chOff x="4562640" y="1987560"/>
            <a:chExt cx="1266120" cy="490680"/>
          </a:xfrm>
        </p:grpSpPr>
        <p:sp>
          <p:nvSpPr>
            <p:cNvPr id="241" name=""/>
            <p:cNvSpPr/>
            <p:nvPr/>
          </p:nvSpPr>
          <p:spPr>
            <a:xfrm>
              <a:off x="4562640" y="1987560"/>
              <a:ext cx="1223640" cy="49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29120" y="2109960"/>
              <a:ext cx="8208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84680" y="2314800"/>
              <a:ext cx="366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92840" y="200196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96440" y="216540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B (M.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195600" y="1720800"/>
            <a:ext cx="232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成分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omina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な領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&lt;0.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.C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現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4B1-F95A-4DEF-92B7-D14A52CCD9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4864320" cy="4786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545280" y="3357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86880" y="3357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1630800" y="1548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4151880" y="1548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4151880" y="379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1695960" y="379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35680" y="5877000"/>
            <a:ext cx="187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3680" y="5877000"/>
            <a:ext cx="187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60360" y="16286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(M.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0520" y="162864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(M.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39640" y="40053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(M.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89800" y="4005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(M.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0CD-679F-4380-9696-EEB192AD218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NL-E787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matic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um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1197000"/>
            <a:ext cx="32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→π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C44-BD72-4B44-8E2A-AEDC6E973E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5280" y="1301760"/>
            <a:ext cx="5113080" cy="1911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nd IB compon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21320" y="339264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(Direct Emi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67680" y="3357720"/>
            <a:ext cx="33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B (Internal Bremsstrahl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0560" y="1270080"/>
            <a:ext cx="2520720" cy="4967280"/>
          </a:xfrm>
          <a:custGeom>
            <a:avLst/>
            <a:gdLst>
              <a:gd name="textAreaLeft" fmla="*/ 122760 w 2520720"/>
              <a:gd name="textAreaRight" fmla="*/ 2397960 w 2520720"/>
              <a:gd name="textAreaTop" fmla="*/ 122760 h 4967280"/>
              <a:gd name="textAreaBottom" fmla="*/ 4844520 h 4967280"/>
            </a:gdLst>
            <a:ahLst/>
            <a:rect l="textAreaLeft" t="textAreaTop" r="textAreaRight" b="textAreaBottom"/>
            <a:pathLst>
              <a:path w="21600" h="42562">
                <a:moveTo>
                  <a:pt x="3600" y="0"/>
                </a:moveTo>
                <a:arcTo wR="3600" hR="3600" stAng="16200000" swAng="-5400000"/>
                <a:lnTo>
                  <a:pt x="0" y="38962"/>
                </a:lnTo>
                <a:arcTo wR="3600" hR="3600" stAng="10800000" swAng="-5400000"/>
                <a:lnTo>
                  <a:pt x="18000" y="425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2400" y="3718080"/>
            <a:ext cx="37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(IB)=2.61*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ed by Q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35280" y="4221000"/>
            <a:ext cx="198108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788000" y="4154400"/>
            <a:ext cx="1976400" cy="20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22D-957E-416B-AE7C-5D6C7626FB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の定義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止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76720" y="2733840"/>
          <a:ext cx="2365200" cy="17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733840"/>
                    <a:ext cx="2365200" cy="17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692360" y="1252440"/>
            <a:ext cx="5649840" cy="138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417600" cy="398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900000" y="4941720"/>
            <a:ext cx="630360" cy="382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900000" y="5445000"/>
            <a:ext cx="590760" cy="381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859280" y="4392720"/>
            <a:ext cx="78120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4859280" y="4962600"/>
            <a:ext cx="514440" cy="266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4859280" y="5427720"/>
            <a:ext cx="671400" cy="30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31440" y="44560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ed phot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55200" y="481176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54840" y="538812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13560" y="430056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06360" y="49608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aon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30840" y="530064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200-D4A6-4190-BAB8-F3B2392205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 spec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55720" y="3427560"/>
            <a:ext cx="836640" cy="269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55720" y="4219560"/>
            <a:ext cx="836640" cy="27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1908000" y="349848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429084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4920" y="4292640"/>
            <a:ext cx="5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274920" y="349992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700000">
            <a:off x="4788000" y="4290480"/>
            <a:ext cx="574560" cy="432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9317600">
            <a:off x="4714920" y="3427200"/>
            <a:ext cx="576360" cy="431640"/>
          </a:xfrm>
          <a:prstGeom prst="rightArrow">
            <a:avLst>
              <a:gd name="adj1" fmla="val 50000"/>
              <a:gd name="adj2" fmla="val 3338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2708280"/>
            <a:ext cx="1224000" cy="237492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2374920"/>
              <a:gd name="textAreaBottom" fmla="*/ 2315160 h 2374920"/>
            </a:gdLst>
            <a:ahLst/>
            <a:rect l="textAreaLeft" t="textAreaTop" r="textAreaRight" b="textAreaBottom"/>
            <a:pathLst>
              <a:path w="21600" h="41904">
                <a:moveTo>
                  <a:pt x="3600" y="0"/>
                </a:moveTo>
                <a:arcTo wR="3600" hR="3600" stAng="16200000" swAng="-5400000"/>
                <a:lnTo>
                  <a:pt x="0" y="38304"/>
                </a:lnTo>
                <a:arcTo wR="3600" hR="3600" stAng="10800000" swAng="-5400000"/>
                <a:lnTo>
                  <a:pt x="18000" y="419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050920" y="1125360"/>
            <a:ext cx="4857840" cy="1190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979640" y="2924280"/>
            <a:ext cx="414360" cy="39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203640" y="2873520"/>
            <a:ext cx="792000" cy="48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786200" y="2851200"/>
            <a:ext cx="457200" cy="355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4360" y="2637000"/>
            <a:ext cx="5688000" cy="25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2170080" cy="194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6526080" y="4184640"/>
            <a:ext cx="2098800" cy="185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78520" y="2852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9040" y="4797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94C-0D54-493D-9FA3-CABEAC3F35A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7924680" cy="3638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History </a:t>
            </a:r>
            <a:br>
              <a:rPr sz="40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55 &lt; T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&lt; 90 M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4040" y="42339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Reducible O(p</a:t>
            </a:r>
            <a:r>
              <a:rPr b="0" lang="en-US" sz="1200" spc="-1" strike="noStrike" baseline="30000">
                <a:solidFill>
                  <a:srgbClr val="003399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3399"/>
                </a:solidFill>
                <a:latin typeface="Arial"/>
              </a:rPr>
              <a:t>　の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43120" y="3710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MD O(p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あ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2840" y="43084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71920" y="3816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69120" y="4273560"/>
            <a:ext cx="7207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23A-9527-4A32-B0BE-7BC5B295A7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ged track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68580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静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の崩壊（トリガー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022400"/>
            <a:ext cx="4933800" cy="52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BE4-F973-49EC-B40C-53327CD3F7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NL-E787 detector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met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818240" cy="3860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6480" y="335124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3699000"/>
            <a:ext cx="720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22880" y="35733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el photon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20520" y="3933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tic &amp; lead sandwich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9360" y="564516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円筒形検出器　断面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7800" y="4662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2708280"/>
            <a:ext cx="1295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89080" y="4302000"/>
            <a:ext cx="1295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19080" y="42879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261040" y="1341360"/>
            <a:ext cx="3848040" cy="189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19640" y="3579840"/>
            <a:ext cx="252108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89000" y="321300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円筒形検出器　上半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9240" y="4807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35920" y="459756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12120" y="4292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3357720"/>
            <a:ext cx="287640" cy="6476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1280" y="3357720"/>
            <a:ext cx="287280" cy="6476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04A-EFFA-4308-8493-C7A89A923A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ger for K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27520" y="313992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yer4-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で止ま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22960" y="28623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する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86040" y="3933720"/>
            <a:ext cx="28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＊以前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の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する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59480" y="422748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Layer7-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止ま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5280" y="2779560"/>
            <a:ext cx="3313080" cy="793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0600" y="1530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する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9320" y="1909800"/>
            <a:ext cx="16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つ以上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5280" y="1339920"/>
            <a:ext cx="3313080" cy="1225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25800" y="53211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a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0960" y="52354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 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48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83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8760" y="1413000"/>
            <a:ext cx="4629240" cy="43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科研費特定領域　第3回研究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714-EDD6-44D5-8ECC-F3A1C7F923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年3月8日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1:09:46Z</dcterms:created>
  <dc:creator>toshinao</dc:creator>
  <dc:description/>
  <dc:language>en-US</dc:language>
  <cp:lastModifiedBy>toshinao</cp:lastModifiedBy>
  <dcterms:modified xsi:type="dcterms:W3CDTF">2005-03-07T11:49:59Z</dcterms:modified>
  <cp:revision>28</cp:revision>
  <dc:subject/>
  <dc:title>素粒子物理国際研究センター</dc:title>
</cp:coreProperties>
</file>