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B06-6196-441A-BA7B-5EA63113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B67-1903-4D3A-8600-1A42286B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1CE-10F3-4528-B317-8776BFDB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608-F5C4-4A52-B66D-F4D45C58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00D-4C19-4AA9-8367-CC48B9B2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58C-3CFB-4544-86F3-A90DDBBC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F9A-3158-430B-B0B3-FEE60FA6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905-4C19-42E4-87EF-6ACE9387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5BA-2ECF-46D2-9A3A-66DDD61E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478-54E4-4394-A90E-1EDC0F26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866-03F0-482A-8C36-AE4F9C04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426-4719-402B-B229-C9C72856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D812-BA32-41FB-B5FD-C2E667791D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sukuba.jp.hep.net/%7Eskim/tokutei/h14results-a01.html" TargetMode="External"/><Relationship Id="rId2" Type="http://schemas.openxmlformats.org/officeDocument/2006/relationships/hyperlink" Target="http://hep.phys.s.u-tokyo.ac.jp/publish/tokutei/index.html" TargetMode="External"/><Relationship Id="rId3" Type="http://schemas.openxmlformats.org/officeDocument/2006/relationships/hyperlink" Target="http://hep.phys.s.u-tokyo.ac.jp/publish/tokutei/index.html" TargetMode="External"/><Relationship Id="rId4" Type="http://schemas.openxmlformats.org/officeDocument/2006/relationships/hyperlink" Target="http://www.hepl.phys.nara-wu.ac.jp/%7Ehayashii/tokutei/h14results-a03.html" TargetMode="External"/><Relationship Id="rId5" Type="http://schemas.openxmlformats.org/officeDocument/2006/relationships/hyperlink" Target="http://osksn2.hep.sci.osaka-u.ac.jp/%7Etaku/tokutei/h14results-a04.html" TargetMode="External"/><Relationship Id="rId6" Type="http://schemas.openxmlformats.org/officeDocument/2006/relationships/hyperlink" Target="http://osksn2.hep.sci.osaka-u.ac.jp/%7Etaku/tokutei/h14results-a04.html" TargetMode="External"/><Relationship Id="rId7" Type="http://schemas.openxmlformats.org/officeDocument/2006/relationships/hyperlink" Target="http://osksn2.hep.sci.osaka-u.ac.jp/%7Etaku/tokutei/h14results-a04.html" TargetMode="External"/><Relationship Id="rId8" Type="http://schemas.openxmlformats.org/officeDocument/2006/relationships/hyperlink" Target="http://osksn2.hep.sci.osaka-u.ac.jp/%7Etaku/tokutei/h14results-a04.html" TargetMode="External"/><Relationship Id="rId9" Type="http://schemas.openxmlformats.org/officeDocument/2006/relationships/hyperlink" Target="http://osksn2.hep.sci.osaka-u.ac.jp/%7Etaku/tokutei/h14results-a04.html" TargetMode="External"/><Relationship Id="rId10" Type="http://schemas.openxmlformats.org/officeDocument/2006/relationships/hyperlink" Target="http://osksn2.hep.sci.osaka-u.ac.jp/%7Etaku/tokutei/h14results-a04.html" TargetMode="External"/><Relationship Id="rId11" Type="http://schemas.openxmlformats.org/officeDocument/2006/relationships/hyperlink" Target="http://osksn2.hep.sci.osaka-u.ac.jp/%7Etaku/tokutei/h14results-a04.html" TargetMode="External"/><Relationship Id="rId12" Type="http://schemas.openxmlformats.org/officeDocument/2006/relationships/hyperlink" Target="http://osksn2.hep.sci.osaka-u.ac.jp/%7Etaku/tokutei/h14results-a04.html" TargetMode="External"/><Relationship Id="rId13" Type="http://schemas.openxmlformats.org/officeDocument/2006/relationships/hyperlink" Target="http://kaon.kek.jp/%7EkakenT/" TargetMode="External"/><Relationship Id="rId14" Type="http://schemas.openxmlformats.org/officeDocument/2006/relationships/hyperlink" Target="http://kaon.kek.jp/%7EkakenT/" TargetMode="External"/><Relationship Id="rId15" Type="http://schemas.openxmlformats.org/officeDocument/2006/relationships/hyperlink" Target="http://kaon.kek.jp/%7EkakenT/" TargetMode="External"/><Relationship Id="rId16" Type="http://schemas.openxmlformats.org/officeDocument/2006/relationships/hyperlink" Target="http://www.tuhep.phys.tohoku.ac.jp/%7Ehikasa/h14results-a06.html" TargetMode="External"/><Relationship Id="rId1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tsukuba.jp.hep.net/%7Eskim/tokutei/1303302_yabana.html" TargetMode="External"/><Relationship Id="rId4" Type="http://schemas.openxmlformats.org/officeDocument/2006/relationships/hyperlink" Target="http://www.tsukuba.jp.hep.net/%7Eskim/tokutei/1303302_yabana.html" TargetMode="External"/><Relationship Id="rId5" Type="http://schemas.openxmlformats.org/officeDocument/2006/relationships/hyperlink" Target="http://www.phys.sci.kobe-u.ac.jp/%7Ekawagoe/h14results-a01kk.html" TargetMode="External"/><Relationship Id="rId6" Type="http://schemas.openxmlformats.org/officeDocument/2006/relationships/hyperlink" Target="http://hep-www.px.tsukuba.ac.jp/%7Eskim/tokutei/h14kenkyuu-a01-iwata.html" TargetMode="External"/><Relationship Id="rId7" Type="http://schemas.openxmlformats.org/officeDocument/2006/relationships/hyperlink" Target="http://www-accps.kek.jp/Superbunch/hadron.html" TargetMode="External"/><Relationship Id="rId8" Type="http://schemas.openxmlformats.org/officeDocument/2006/relationships/hyperlink" Target="http://hep-www.px.tsukuba.ac.jp/%7Eskim/tokutei/h14kenkyuu-a02-watanabe.html" TargetMode="External"/><Relationship Id="rId9" Type="http://schemas.openxmlformats.org/officeDocument/2006/relationships/hyperlink" Target="http://belle.kek.jp/%7Esumiyosh/Kakenhi-tokutei-A03-Sumiyoshi.htm" TargetMode="External"/><Relationship Id="rId10" Type="http://schemas.openxmlformats.org/officeDocument/2006/relationships/hyperlink" Target="http://belle.kek.jp/%7Etanakam/others/2002.html" TargetMode="External"/><Relationship Id="rId11" Type="http://schemas.openxmlformats.org/officeDocument/2006/relationships/hyperlink" Target="http://www.tsukuba.jp.hep.net/%7Eskim/tokutei/1303302_yabana.html" TargetMode="External"/><Relationship Id="rId12" Type="http://schemas.openxmlformats.org/officeDocument/2006/relationships/hyperlink" Target="http://www.tsukuba.jp.hep.net/%7Eskim/tokutei/1303302_yabana.html" TargetMode="External"/><Relationship Id="rId13" Type="http://schemas.openxmlformats.org/officeDocument/2006/relationships/hyperlink" Target="http://www.tsukuba.jp.hep.net/%7Eskim/tokutei/1303302_yabana.html" TargetMode="External"/><Relationship Id="rId14" Type="http://schemas.openxmlformats.org/officeDocument/2006/relationships/hyperlink" Target="http://physics.px.tsukuba.ac.jp/home/thep/saoki/h14results-a06.html" TargetMode="External"/><Relationship Id="rId15" Type="http://schemas.openxmlformats.org/officeDocument/2006/relationships/hyperlink" Target="http://physics.px.tsukuba.ac.jp/home/thep/saoki/h14results-a06.html" TargetMode="External"/><Relationship Id="rId16" Type="http://schemas.openxmlformats.org/officeDocument/2006/relationships/hyperlink" Target="http://physics.px.tsukuba.ac.jp/home/thep/saoki/h14results-a06.html" TargetMode="External"/><Relationship Id="rId17" Type="http://schemas.openxmlformats.org/officeDocument/2006/relationships/hyperlink" Target="http://hep-www.px.tsukuba.ac.jp/%7Eskim/tokutei/h14kenkyuu-a06-sato.html" TargetMode="External"/><Relationship Id="rId18" Type="http://schemas.openxmlformats.org/officeDocument/2006/relationships/hyperlink" Target="http://hep-www.px.tsukuba.ac.jp/%7Eskim/tokutei/h14kenkyuu-a02-watanabe.html" TargetMode="External"/><Relationship Id="rId19" Type="http://schemas.openxmlformats.org/officeDocument/2006/relationships/hyperlink" Target="http://www.icrr.u-tokyo.ac.jp/th/hisano/h14results-a06.html" TargetMode="External"/><Relationship Id="rId20" Type="http://schemas.openxmlformats.org/officeDocument/2006/relationships/hyperlink" Target="http://www2.yukawa.kyoto-u.ac.jp/%7Enojiri/h14results-a06_nojiri.html" TargetMode="External"/><Relationship Id="rId21" Type="http://schemas.openxmlformats.org/officeDocument/2006/relationships/hyperlink" Target="http://www2.yukawa.kyoto-u.ac.jp/%7Enojiri/h14results-a06_nojiri.html" TargetMode="External"/><Relationship Id="rId2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66ff"/>
                </a:solidFill>
                <a:latin typeface="Times New Roman"/>
                <a:ea typeface="ＭＳ ゴシック"/>
              </a:rPr>
              <a:t>特定領域研究</a:t>
            </a:r>
            <a:br>
              <a:rPr sz="3600"/>
            </a:br>
            <a:r>
              <a:rPr b="0" lang="ja-JP" sz="3600" spc="-1" strike="noStrike">
                <a:solidFill>
                  <a:srgbClr val="0066ff"/>
                </a:solidFill>
                <a:latin typeface="Times New Roman"/>
                <a:ea typeface="ＭＳ ゴシック"/>
              </a:rPr>
              <a:t>「質量起源と超対称性物理の研究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752480"/>
            <a:ext cx="87026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c0c0"/>
                </a:solidFill>
                <a:latin typeface="ＭＳ ゴシック"/>
                <a:ea typeface="ＭＳ ゴシック"/>
              </a:rPr>
              <a:t>　　　　　　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第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回研究会　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2005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年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月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7-8</a:t>
            </a:r>
            <a:r>
              <a:rPr b="0" lang="ja-JP" sz="18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日　つくば国際会議場エポカ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研究目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「物質に質量があるのはなぜか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　物質の質量を決めている物理法則は何か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0c0c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〇質量起源の謎を解く鍵となるヒッグス粒子の探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　　世界最高エネルギーの陽子反陽子衝突実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　　　（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A01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CDF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実験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〇素粒子物理の標準理論からのずれ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(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新しい物理の手がかり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　　ファクトリー加速器を用いた精密実験</a:t>
            </a:r>
            <a:br>
              <a:rPr sz="2000"/>
            </a:b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　　　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（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A01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～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A05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トップ･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B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･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τ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･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K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ファクトリー）</a:t>
            </a:r>
            <a:br>
              <a:rPr sz="2000"/>
            </a:b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〇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次世代の加速器実験の提案と開発</a:t>
            </a: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研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LHC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実験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, ILC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実験，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J-PARC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実験，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SuperB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実験 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(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公募研究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理論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(A06)</a:t>
            </a:r>
            <a:r>
              <a:rPr b="1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と実験の密接な共同研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63800" y="22860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2005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年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月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7</a:t>
            </a:r>
            <a:r>
              <a:rPr b="0" lang="ja-JP" sz="1600" spc="-1" strike="noStrike">
                <a:solidFill>
                  <a:srgbClr val="009900"/>
                </a:solidFill>
                <a:latin typeface="ＭＳ ゴシック"/>
                <a:ea typeface="ＭＳ ゴシック"/>
              </a:rPr>
              <a:t>日　金　信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1055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領域内における研究組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97120" y="990720"/>
            <a:ext cx="448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計画研究（平成</a:t>
            </a: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14</a:t>
            </a: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年度発足） ・公募研究（平成</a:t>
            </a: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16</a:t>
            </a:r>
            <a:r>
              <a:rPr b="0" lang="ja-JP" sz="20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年度発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1371600"/>
            <a:ext cx="74862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ttp://www.tsukuba.jp.hep.net/~skim/tokutei/h14kenkyuu-tokute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ttp://www.tsukuba.jp.hep.net/~skim/tokutei/h16kenkyuu-tokute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計画研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"/>
              </a:rPr>
              <a:t>高エネルギー陽子・反陽子衝突によるヒッグス粒子の探索</a:t>
            </a:r>
            <a:r>
              <a:rPr b="0" lang="ja-JP" sz="1800" spc="-1" strike="noStrike">
                <a:solidFill>
                  <a:srgbClr val="0066ff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1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CDF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実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金 信弘（筑波大学物理学系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2"/>
              </a:rPr>
              <a:t>B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3"/>
              </a:rPr>
              <a:t>ファクトリーを用いた質量起源の探求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2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BELLE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実験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相原博昭（東京大学大学院理学系研究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4"/>
              </a:rPr>
              <a:t>タウレプトンの物理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3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　　 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BELLE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実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大島隆義（名古屋大学大学院理学研究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5"/>
              </a:rPr>
              <a:t>K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6"/>
              </a:rPr>
              <a:t>ファクトリーを用いた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7"/>
              </a:rPr>
              <a:t>K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8"/>
              </a:rPr>
              <a:t>0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9"/>
              </a:rPr>
              <a:t>→π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0"/>
              </a:rPr>
              <a:t>0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1"/>
              </a:rPr>
              <a:t>νν</a:t>
            </a:r>
            <a:r>
              <a:rPr b="0" lang="ja-JP" sz="1800" spc="-1" strike="noStrike" u="sng" baseline="30000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2"/>
              </a:rPr>
              <a:t>崩壊の測定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4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KEK-E391a, JH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山中 卓（大阪大学大学院理学系研究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3"/>
              </a:rPr>
              <a:t>荷電および中性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4"/>
              </a:rPr>
              <a:t>K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5"/>
              </a:rPr>
              <a:t>中間子の稀崩壊の精密測定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5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　　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BNL-E949, K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杉本章二郎（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EK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素粒子原子核研究所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66ff"/>
                </a:solidFill>
                <a:uFillTx/>
                <a:latin typeface="ＭＳ ゴシック"/>
                <a:ea typeface="ＭＳ ゴシック"/>
                <a:hlinkClick r:id="rId16"/>
              </a:rPr>
              <a:t>ヒッグスセクターと超対称理論ダイナミックスの現象論的研究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6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理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　　　日笠健一（東北大学大学院理学研究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7640" y="4876920"/>
            <a:ext cx="7848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4480" indent="-287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0"/>
            <a:ext cx="9148680" cy="685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Osaka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Osaka"/>
              <a:ea typeface="Osaka"/>
            </a:endParaRPr>
          </a:p>
        </p:txBody>
      </p:sp>
      <p:sp>
        <p:nvSpPr>
          <p:cNvPr id="49" name=""/>
          <p:cNvSpPr/>
          <p:nvPr/>
        </p:nvSpPr>
        <p:spPr>
          <a:xfrm>
            <a:off x="480960" y="762120"/>
            <a:ext cx="7893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Osaka"/>
                <a:ea typeface="Osaka"/>
              </a:rPr>
              <a:t>平成</a:t>
            </a:r>
            <a:r>
              <a:rPr b="0" lang="ja-JP" sz="1800" spc="-1" strike="noStrike">
                <a:solidFill>
                  <a:srgbClr val="ff0000"/>
                </a:solidFill>
                <a:latin typeface="Osaka"/>
                <a:ea typeface="Osaka"/>
              </a:rPr>
              <a:t>16</a:t>
            </a:r>
            <a:r>
              <a:rPr b="0" lang="ja-JP" sz="1800" spc="-1" strike="noStrike">
                <a:solidFill>
                  <a:srgbClr val="ff0000"/>
                </a:solidFill>
                <a:latin typeface="Osaka"/>
                <a:ea typeface="Osaka"/>
              </a:rPr>
              <a:t>年</a:t>
            </a:r>
            <a:r>
              <a:rPr b="0" lang="ja-JP" sz="1800" spc="-1" strike="noStrike">
                <a:solidFill>
                  <a:srgbClr val="ff0000"/>
                </a:solidFill>
                <a:latin typeface="Osaka"/>
                <a:ea typeface="Osaka"/>
              </a:rPr>
              <a:t>2</a:t>
            </a:r>
            <a:r>
              <a:rPr b="0" lang="ja-JP" sz="1800" spc="-1" strike="noStrike">
                <a:solidFill>
                  <a:srgbClr val="ff0000"/>
                </a:solidFill>
                <a:latin typeface="Osaka"/>
                <a:ea typeface="Osaka"/>
              </a:rPr>
              <a:t>月</a:t>
            </a:r>
            <a:r>
              <a:rPr b="0" lang="ja-JP" sz="1800" spc="-1" strike="noStrike">
                <a:solidFill>
                  <a:srgbClr val="ff0000"/>
                </a:solidFill>
                <a:latin typeface="Osaka"/>
                <a:ea typeface="Osaka"/>
              </a:rPr>
              <a:t>9</a:t>
            </a:r>
            <a:r>
              <a:rPr b="0" lang="ja-JP" sz="1800" spc="-1" strike="noStrike">
                <a:solidFill>
                  <a:srgbClr val="ff0000"/>
                </a:solidFill>
                <a:latin typeface="Osaka"/>
                <a:ea typeface="Osaka"/>
              </a:rPr>
              <a:t>日　　科学研究費補助金審査部会質量起源専門委員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Osaka"/>
                <a:ea typeface="Osaka"/>
              </a:rPr>
              <a:t>　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20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件の公募研究が採択（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A01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　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5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件、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A02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　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5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件、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A03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　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1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件、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A06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　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9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件）　うち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1</a:t>
            </a:r>
            <a:r>
              <a:rPr b="1" lang="ja-JP" sz="1800" spc="-1" strike="noStrike">
                <a:solidFill>
                  <a:srgbClr val="000066"/>
                </a:solidFill>
                <a:latin typeface="Osaka"/>
                <a:ea typeface="Osaka"/>
              </a:rPr>
              <a:t>件辞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http://www.tsukuba.jp.hep.net/~skim/tokutei/h16kenkyuu-tokute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59436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平成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16-17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年度公募研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57400"/>
            <a:ext cx="915984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公募研究名　　　　　　　　　　　　　　　　　　　　　　　                          研究項目番号　　　　　　代表研究者（所属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APD</a:t>
            </a: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によるシンチレーティングタイル・ファイバー型カロリメータの読み出し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1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吉田拓生（福井大学工学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超小型シンチレータタイルを用いたデジタルハドロンカロリメータの開発研究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1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竹下徹（信州大学理学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超対称ヒッグス粒子の探索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1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両角卓也（広島大学大学院理学系研究科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高放射線環境下での素粒子実験用電子回路の安定動作技術の確立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1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福永力（東京都立大学大学院理学研究科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大強度・高輝度加速器で使用するビームモニターの開発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2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中家剛（京都大学大学院理学系研究科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波長変換剤を添加した改良型シリカエアロゲルの開発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3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住吉孝行（東京都立大学大学院理学研究科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Belle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測定器の高抵抗板検出器をスーパー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KEKB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で使うためのガスの研究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3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寺本吉輝（大阪市立大学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10"/>
              </a:rPr>
              <a:t>超高帯域光通信路によるデータ収集系の研究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2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中尾幹彦（高エネルギー加速器研究機構素粒子原子核研究所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低消費電力１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GHz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波形記憶集積回路の開発研究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2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田中真伸（高エネルギー加速器研究機構素粒子原子核研究所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11"/>
              </a:rPr>
              <a:t>エアロジェル</a:t>
            </a: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12"/>
              </a:rPr>
              <a:t>RICH</a:t>
            </a: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13"/>
              </a:rPr>
              <a:t>検出器の開発研究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3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飯島 徹（名古屋大学大学院理学研究科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14"/>
              </a:rPr>
              <a:t>格子</a:t>
            </a: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15"/>
              </a:rPr>
              <a:t>QCD</a:t>
            </a: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16"/>
              </a:rPr>
              <a:t>による重いクォークの物理の研究の展開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6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青木慎也（筑波大学物理学系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17"/>
              </a:rPr>
              <a:t>三世代の質量構造と新しい物理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6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佐藤 丈（埼玉大学理学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18"/>
              </a:rPr>
              <a:t>ドメーン・ウォールなどに局在した粒子の質量と対称性の破れの研究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6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坂井典佑（東京工業大学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19"/>
              </a:rPr>
              <a:t>電子・陽電子リニアコライダーにおける標準模型を超える新しい物理の現象論的研究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6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曹基哲（お茶の水女子大学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クォーク・レプトン質量行列のフレーバー構造の研究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6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谷本盛光（新潟大学理学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20"/>
              </a:rPr>
              <a:t>B</a:t>
            </a:r>
            <a:r>
              <a:rPr b="0" lang="ja-JP" sz="1400" spc="-1" strike="noStrike" u="sng">
                <a:solidFill>
                  <a:srgbClr val="0066ff"/>
                </a:solidFill>
                <a:uFillTx/>
                <a:latin typeface="Times New Roman"/>
                <a:hlinkClick r:id="rId21"/>
              </a:rPr>
              <a:t>中間子のセミレプトニック崩壊と小林益川行列要素の決定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6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大野木哲也（京都大学基礎物理学研究所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現実的湯川行列を導く機構とその対称性の破れの項への影響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6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小林達夫（京都大学大学院理学研究科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自然な大統一理論の構築とその予言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6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前川展祐（京都大学大学院理学研究科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ヒッグス場の起源が高次元ゲージ場のスカラー成分である可能性についての研究　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A06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　波場直之（徳島大学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dflatestmtop" descr=""/>
          <p:cNvPicPr/>
          <p:nvPr/>
        </p:nvPicPr>
        <p:blipFill>
          <a:blip r:embed="rId1"/>
          <a:stretch/>
        </p:blipFill>
        <p:spPr>
          <a:xfrm>
            <a:off x="3657600" y="-304920"/>
            <a:ext cx="5735520" cy="777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124080" cy="2514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Ａ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1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成果：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ップクォークの質量測定結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76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733920" y="441936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048120"/>
            <a:ext cx="3429000" cy="12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CDF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標準ｂジェット同定アルゴリズム（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SECVTX)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に加えて、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Jet probability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アルゴリズムも用いて、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つのジェットのうち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２つがボトムクォークのジェット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であると同定できる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11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事象を選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質量再構成は従来の方法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佐藤構二（筑波大）博士論文解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5248440"/>
            <a:ext cx="3505320" cy="10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ｂジェット一個を同定した事象に対してトップクォークの質量を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Dynamical Likelihood Method (DLM)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で</a:t>
            </a:r>
            <a:r>
              <a:rPr b="0" lang="ja-JP" sz="1600" spc="-1" strike="noStrike">
                <a:solidFill>
                  <a:srgbClr val="000000"/>
                </a:solidFill>
                <a:latin typeface="Osaka"/>
                <a:ea typeface="Osaka"/>
              </a:rPr>
              <a:t>再構成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寄田浩平（早稲田大）博士論文解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近藤都登教授（早稲田大）考案の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DLM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解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Osaka"/>
              </a:rPr>
              <a:t>Ａ</a:t>
            </a:r>
            <a:r>
              <a:rPr b="0" lang="ja-JP" sz="2800" spc="-1" strike="noStrike">
                <a:solidFill>
                  <a:srgbClr val="cc0000"/>
                </a:solidFill>
                <a:latin typeface="Osaka"/>
              </a:rPr>
              <a:t>01</a:t>
            </a:r>
            <a:r>
              <a:rPr b="0" lang="ja-JP" sz="2800" spc="-1" strike="noStrike">
                <a:solidFill>
                  <a:srgbClr val="cc0000"/>
                </a:solidFill>
                <a:latin typeface="Osaka"/>
              </a:rPr>
              <a:t>：トップクォークと</a:t>
            </a:r>
            <a:r>
              <a:rPr b="0" lang="ja-JP" sz="2800" spc="-1" strike="noStrike">
                <a:solidFill>
                  <a:srgbClr val="cc0000"/>
                </a:solidFill>
                <a:latin typeface="Osaka"/>
              </a:rPr>
              <a:t>W</a:t>
            </a:r>
            <a:r>
              <a:rPr b="0" lang="ja-JP" sz="2800" spc="-1" strike="noStrike">
                <a:solidFill>
                  <a:srgbClr val="cc0000"/>
                </a:solidFill>
                <a:latin typeface="Osaka"/>
              </a:rPr>
              <a:t>ボソン質量測定による</a:t>
            </a:r>
            <a:br>
              <a:rPr sz="2800"/>
            </a:br>
            <a:r>
              <a:rPr b="0" lang="ja-JP" sz="2800" spc="-1" strike="noStrike">
                <a:solidFill>
                  <a:srgbClr val="cc0000"/>
                </a:solidFill>
                <a:latin typeface="Times New Roman"/>
              </a:rPr>
              <a:t>ヒッグス粒子の間接探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28211" r="7098" b="4559"/>
          <a:stretch/>
        </p:blipFill>
        <p:spPr>
          <a:xfrm>
            <a:off x="139680" y="1206360"/>
            <a:ext cx="4497480" cy="4015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4960" y="2633760"/>
            <a:ext cx="252360" cy="42696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84760" y="2631600"/>
            <a:ext cx="109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Ru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9360" y="2362320"/>
            <a:ext cx="4454640" cy="703800"/>
          </a:xfrm>
          <a:prstGeom prst="rect">
            <a:avLst/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ヒッグス粒子の質量に与えられる制限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251 GeV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年） 　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@95%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43480" y="1266840"/>
            <a:ext cx="470520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テバトロン実験 </a:t>
            </a: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Run I</a:t>
            </a: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の成果 </a:t>
            </a: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(2004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年：　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ＭＳ Ｐゴシック"/>
              </a:rPr>
              <a:t>top 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= 178.0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±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 4.3 GeV/c</a:t>
            </a:r>
            <a:r>
              <a:rPr b="1" lang="ja-JP" sz="2000" spc="-1" strike="noStrike" baseline="30000">
                <a:solidFill>
                  <a:srgbClr val="000000"/>
                </a:solidFill>
                <a:latin typeface="ＭＳ Ｐゴシック"/>
              </a:rPr>
              <a:t>2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ＭＳ Ｐゴシック"/>
              </a:rPr>
              <a:t>W 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= 80.452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±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 0.062 GeV/c</a:t>
            </a:r>
            <a:r>
              <a:rPr b="1" lang="ja-JP" sz="20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334120"/>
            <a:ext cx="449604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RunⅡ 2 fb</a:t>
            </a:r>
            <a:r>
              <a:rPr b="1" lang="ja-JP" sz="2000" spc="-1" strike="noStrike" baseline="30000">
                <a:solidFill>
                  <a:srgbClr val="3333ff"/>
                </a:solidFill>
                <a:latin typeface="Comic Sans MS"/>
                <a:ea typeface="ＭＳ ゴシック"/>
              </a:rPr>
              <a:t>-1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（～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2006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年春）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: ΔM</a:t>
            </a:r>
            <a:r>
              <a:rPr b="1" lang="ja-JP" sz="2000" spc="-1" strike="noStrike" baseline="-25000">
                <a:solidFill>
                  <a:srgbClr val="3333ff"/>
                </a:solidFill>
                <a:latin typeface="Comic Sans MS"/>
                <a:ea typeface="ＭＳ ゴシック"/>
              </a:rPr>
              <a:t>top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 &lt; 3 GeV/c</a:t>
            </a:r>
            <a:r>
              <a:rPr b="1" lang="ja-JP" sz="2000" spc="-1" strike="noStrike" baseline="30000">
                <a:solidFill>
                  <a:srgbClr val="3333ff"/>
                </a:solidFill>
                <a:latin typeface="Comic Sans MS"/>
                <a:ea typeface="ＭＳ ゴシック"/>
              </a:rPr>
              <a:t>2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ΔM</a:t>
            </a:r>
            <a:r>
              <a:rPr b="1" lang="ja-JP" sz="2000" spc="-1" strike="noStrike" baseline="-25000">
                <a:solidFill>
                  <a:srgbClr val="3333ff"/>
                </a:solidFill>
                <a:latin typeface="Comic Sans MS"/>
                <a:ea typeface="ＭＳ ゴシック"/>
              </a:rPr>
              <a:t>W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～ 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30 MeV/c</a:t>
            </a:r>
            <a:r>
              <a:rPr b="1" lang="ja-JP" sz="2000" spc="-1" strike="noStrike" baseline="30000">
                <a:solidFill>
                  <a:srgbClr val="3333ff"/>
                </a:solidFill>
                <a:latin typeface="Comic Sans MS"/>
                <a:ea typeface="ＭＳ 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→ 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ΔM</a:t>
            </a:r>
            <a:r>
              <a:rPr b="1" lang="ja-JP" sz="2000" spc="-1" strike="noStrike" baseline="-25000">
                <a:solidFill>
                  <a:srgbClr val="3333ff"/>
                </a:solidFill>
                <a:latin typeface="Comic Sans MS"/>
                <a:ea typeface="ＭＳ ゴシック"/>
              </a:rPr>
              <a:t>Higgs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～ </a:t>
            </a:r>
            <a:r>
              <a:rPr b="1" lang="ja-JP" sz="2000" spc="-1" strike="noStrike">
                <a:solidFill>
                  <a:srgbClr val="3333ff"/>
                </a:solidFill>
                <a:latin typeface="Comic Sans MS"/>
                <a:ea typeface="ＭＳ ゴシック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101760" y="1841400"/>
            <a:ext cx="1517400" cy="5349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2867040"/>
            <a:ext cx="498600" cy="9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440" y="3405240"/>
          <a:ext cx="4038840" cy="29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440" y="3405240"/>
                    <a:ext cx="403884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791320" y="44956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425304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58040" y="399240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39960" y="4343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94200" y="3048120"/>
            <a:ext cx="4249800" cy="3633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67080" y="685800"/>
            <a:ext cx="4876920" cy="229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 rot="10800000">
                <a:off x="522360" y="1235160"/>
                <a:ext cx="11653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φ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 rot="10800000">
                <a:off x="2044800" y="1279440"/>
                <a:ext cx="1320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φ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533520" y="9907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838080"/>
            <a:ext cx="3962160" cy="204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hadronic </a:t>
            </a:r>
            <a:r>
              <a:rPr b="0" i="1" lang="ja-JP" sz="2800" spc="-1" strike="noStrike">
                <a:solidFill>
                  <a:srgbClr val="000000"/>
                </a:solidFill>
                <a:latin typeface="ＭＳ Ｐゴシック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→</a:t>
            </a:r>
            <a:r>
              <a:rPr b="0" i="1" lang="ja-JP" sz="2800" spc="-1" strike="noStrike">
                <a:solidFill>
                  <a:srgbClr val="000000"/>
                </a:solidFill>
                <a:latin typeface="ＭＳ Ｐゴシック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penguins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　　　と　　　　　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崩壊時間分布の非対称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な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6880" y="342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4800600" cy="1065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sin2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sqq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 = 0.43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0.0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sin2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cc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 = 0.726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0.0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572000"/>
            <a:ext cx="4038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CL = 3.4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(3.6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標準理論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99.9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％の確率でずれている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590920"/>
            <a:ext cx="4190760" cy="74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億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50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万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反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ペアか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39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個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φK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s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事象検出＋他のモード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成果：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間子崩壊における量子効果を用いた新しい物理の探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ainichi-yu040820%5B1%5D" descr="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629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0199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A02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成果を報道した新聞各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nikkei-yu040820-1%5B1%5D" descr=""/>
          <p:cNvPicPr/>
          <p:nvPr/>
        </p:nvPicPr>
        <p:blipFill>
          <a:blip r:embed="rId2"/>
          <a:stretch/>
        </p:blipFill>
        <p:spPr>
          <a:xfrm>
            <a:off x="3809880" y="990720"/>
            <a:ext cx="2403720" cy="5619600"/>
          </a:xfrm>
          <a:prstGeom prst="rect">
            <a:avLst/>
          </a:prstGeom>
          <a:ln w="0">
            <a:noFill/>
          </a:ln>
        </p:spPr>
      </p:pic>
      <p:pic>
        <p:nvPicPr>
          <p:cNvPr id="88" name="asahi-yu040820%5B1%5D" descr=""/>
          <p:cNvPicPr/>
          <p:nvPr/>
        </p:nvPicPr>
        <p:blipFill>
          <a:blip r:embed="rId3"/>
          <a:stretch/>
        </p:blipFill>
        <p:spPr>
          <a:xfrm>
            <a:off x="533520" y="990720"/>
            <a:ext cx="3082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66ff"/>
                </a:solidFill>
                <a:latin typeface="Times New Roman"/>
              </a:rPr>
              <a:t>現状と展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各研究項目において実験と検出器製作が順調に進んでおり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期待された成果があがってい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ff"/>
                </a:solidFill>
                <a:latin typeface="Times New Roman"/>
              </a:rPr>
              <a:t>質量起源のヒッグス粒子の間接探索となるトップクォークの質量測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Ｂ中間子の稀崩壊の測定で </a:t>
            </a:r>
            <a:r>
              <a:rPr b="0" i="1" lang="ja-JP" sz="2000" spc="-1" strike="noStrike">
                <a:solidFill>
                  <a:srgbClr val="ff0000"/>
                </a:solidFill>
                <a:latin typeface="Times New Roman"/>
              </a:rPr>
              <a:t>b → s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  penguins 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での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CP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の破れが標準理論予測からずれている（９９．９６％の確率）。</a:t>
            </a:r>
            <a:r>
              <a:rPr b="0" lang="ja-JP" sz="2000" spc="-1" strike="noStrike">
                <a:solidFill>
                  <a:srgbClr val="ff9d1c"/>
                </a:solidFill>
                <a:latin typeface="Times New Roman"/>
              </a:rPr>
              <a:t>超対称性粒子の可能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ff"/>
                </a:solidFill>
                <a:latin typeface="Times New Roman"/>
              </a:rPr>
              <a:t>タウレプトンの稀崩壊の探索による新しい物理の手がかり追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lang="ja-JP" sz="2000" spc="-1" strike="noStrike">
                <a:solidFill>
                  <a:srgbClr val="0066ff"/>
                </a:solidFill>
                <a:latin typeface="Times New Roman"/>
              </a:rPr>
              <a:t>ファクトリーでの実験・実験準備が進展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最終年度が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Osaka"/>
              </a:rPr>
              <a:t>月より始まる。各研究の成果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全体的に総合する段階であり、所期の研究目的を達成するべく務める。今後の研究会で、現在進めている方向に研究連携を深めて、領域全体での 研究成果を結実させ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04:36:00Z</dcterms:created>
  <dc:creator>skim</dc:creator>
  <dc:description/>
  <dc:language>en-US</dc:language>
  <cp:lastModifiedBy>skim</cp:lastModifiedBy>
  <dcterms:modified xsi:type="dcterms:W3CDTF">2005-03-04T04:51:04Z</dcterms:modified>
  <cp:revision>25</cp:revision>
  <dc:subject/>
  <dc:title>特定領域研究 「質量起源と超対称性物理の研究」</dc:title>
</cp:coreProperties>
</file>