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4.png" ContentType="image/png"/>
  <Override PartName="/ppt/media/image22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3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28.png" ContentType="image/png"/>
  <Override PartName="/ppt/media/image7.jpeg" ContentType="image/jpe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805-10D2-4187-8B17-538389EF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305-9C39-4B0C-BA93-ECD20597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437-5D98-4013-9234-B775CEF3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3E3-A2EE-49B9-84D1-1840236D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279-2026-4613-AC14-2F0AC9AF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CF1-7298-4D94-AA7F-972633E6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BF0-6C60-4597-85A6-E8F6E8DC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523-44D8-4EDE-8418-4E76D88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3B0-071E-4184-8895-DC311516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E29-27A7-440A-927A-B03FF4E2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93B-608D-44E8-BD4D-E35CD4E0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6E1-D804-4BC3-8D62-ED7F192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4695-7D17-4C72-88FD-1E61E27A0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LM and Its Applications at CD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ch 8, 2004 @ Tsukuba  K.K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ew Formulation of D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 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Single path as a quantum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★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rton level cross section and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★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f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　　　　　　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ull dynamical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　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.  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．　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top at CD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5440" y="4508640"/>
            <a:ext cx="718920" cy="142560"/>
          </a:xfrm>
          <a:prstGeom prst="rightArrow">
            <a:avLst>
              <a:gd name="adj1" fmla="val 50000"/>
              <a:gd name="adj2" fmla="val 126073"/>
            </a:avLst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11556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fer Function defined by M.C.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763200"/>
            <a:ext cx="8713800" cy="5978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Prior TF: M.C. event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ith the same cuts as applied to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Variable transformation from                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8360" y="1303200"/>
                <a:ext cx="6624720" cy="27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/>
                            </m:sSup>
                          </m:den>
                        </m:f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/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403280" y="4869000"/>
                <a:ext cx="49690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d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340000" y="6237360"/>
            <a:ext cx="32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5280" y="717228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22701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    efficiency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04000" y="2263680"/>
            <a:ext cx="2017800" cy="1887840"/>
            <a:chOff x="6804000" y="2263680"/>
            <a:chExt cx="2017800" cy="1887840"/>
          </a:xfrm>
        </p:grpSpPr>
        <p:sp>
          <p:nvSpPr>
            <p:cNvPr id="215" name=""/>
            <p:cNvSpPr/>
            <p:nvPr/>
          </p:nvSpPr>
          <p:spPr>
            <a:xfrm>
              <a:off x="6804000" y="22636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6360" y="22636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236000" y="2559240"/>
              <a:ext cx="1223640" cy="122400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8360" y="28400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3124800">
              <a:off x="7742160" y="2268360"/>
              <a:ext cx="431640" cy="1587600"/>
            </a:xfrm>
            <a:prstGeom prst="ellipse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948360" y="26301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36000" y="3998880"/>
              <a:ext cx="100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6000" y="2990880"/>
              <a:ext cx="122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6000" y="3133800"/>
              <a:ext cx="122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85080" y="2630520"/>
              <a:ext cx="0" cy="12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740720" y="2630520"/>
              <a:ext cx="0" cy="12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000" y="37832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6000" y="2486160"/>
              <a:ext cx="1223640" cy="122400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8360" y="35672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643280" y="4503600"/>
                <a:ext cx="1081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300720" y="4541760"/>
                <a:ext cx="876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erior T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214280" y="1700280"/>
                <a:ext cx="63612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i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  <m:r>
                          <m:t xml:space="preserve">: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teri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  <m:r>
                          <m:t xml:space="preserve">: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=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755640" y="13413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x , y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: indicates1-d quantity in th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35640" y="2637000"/>
            <a:ext cx="288144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F includes effici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843280" y="2997360"/>
            <a:ext cx="3600360" cy="287280"/>
            <a:chOff x="2843280" y="2997360"/>
            <a:chExt cx="3600360" cy="287280"/>
          </a:xfrm>
        </p:grpSpPr>
        <p:sp>
          <p:nvSpPr>
            <p:cNvPr id="236" name=""/>
            <p:cNvSpPr/>
            <p:nvPr/>
          </p:nvSpPr>
          <p:spPr>
            <a:xfrm>
              <a:off x="6443640" y="2997360"/>
              <a:ext cx="0" cy="28728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43280" y="3284640"/>
              <a:ext cx="3600360" cy="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843280" y="2997360"/>
              <a:ext cx="0" cy="28728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65400" y="3448080"/>
                <a:ext cx="6324480" cy="27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cal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ble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ce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  <m:sup/>
                                </m:sSup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ence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J</m:t>
                                            </m:r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116000" y="6021360"/>
            <a:ext cx="431640" cy="71640"/>
          </a:xfrm>
          <a:prstGeom prst="rightArrow">
            <a:avLst>
              <a:gd name="adj1" fmla="val 50000"/>
              <a:gd name="adj2" fmla="val 15062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8147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ummary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f QD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assume a single path occupies a unit p.s.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1. The cross section for the path is given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variable space in a single pat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likelihood for the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th path in the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th event is defi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ior TF is obtained by the MC events satisfying the event selection criteria.   Posterior TF is given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expectation value of the event likelihood is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likelihood of dynamical constant 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435640" y="1484280"/>
                <a:ext cx="2521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∗</m:t>
                    </m:r>
                    <m:r>
                      <m:t xml:space="preserve">Δy</m:t>
                    </m:r>
                    <m:r>
                      <m:t xml:space="preserve">∗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ΔΦ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0" y="1125360"/>
                <a:ext cx="28400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Φ</m:t>
                        </m:r>
                      </m:den>
                    </m:f>
                    <m:sSub>
                      <m:e>
                        <m:r>
                          <m:t xml:space="preserve">∗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dσ</m:t>
                        </m:r>
                      </m:num>
                      <m:den>
                        <m:sSubSup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63640" y="2276640"/>
                <a:ext cx="532152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p>
                    </m:sSubSup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667400" y="3645000"/>
                <a:ext cx="3360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141560" y="4424400"/>
                <a:ext cx="69037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sSubSup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th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th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p>
                        </m:sSubSup>
                      </m:e>
                    </m:nary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σ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Φ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 rot="5400000">
            <a:off x="6552360" y="2672640"/>
            <a:ext cx="216000" cy="43344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3440"/>
              <a:gd name="textAreaBottom" fmla="*/ 4222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2924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-1949400" y="1384200"/>
          <a:ext cx="1801800" cy="15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49400" y="1384200"/>
                    <a:ext cx="18018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68360" y="5877000"/>
                <a:ext cx="3961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 rot="5400000">
            <a:off x="4787280" y="508464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53672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rrection factor (mapping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ja-JP" sz="2800" spc="-1" strike="noStrike">
                <a:solidFill>
                  <a:srgbClr val="cc00cc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rton-jet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match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is not guarant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rton→parton shower→fragmentation→detector→j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ven if a parton and a jet are match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topolog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assignment is not u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solut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for unmeasured mo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3860640"/>
            <a:ext cx="215640" cy="216000"/>
          </a:xfrm>
          <a:prstGeom prst="star5">
            <a:avLst/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2565360"/>
            <a:ext cx="215640" cy="216000"/>
          </a:xfrm>
          <a:prstGeom prst="star5">
            <a:avLst/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5300640"/>
            <a:ext cx="215640" cy="216000"/>
          </a:xfrm>
          <a:prstGeom prst="star5">
            <a:avLst/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lving problems by likeli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0572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of likelihood can be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 vs. B) determin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p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c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missing moment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teration, one gets better estimation o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ynamical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827640" y="501228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033560" y="3789360"/>
                <a:ext cx="7075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kelihoo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4284720" y="3789360"/>
            <a:ext cx="309564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530064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47640" y="580536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175240" y="6442200"/>
            <a:ext cx="71748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戸谷・蛯名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649680" cy="4114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648320" y="2060640"/>
            <a:ext cx="4033800" cy="41972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16000" y="476280"/>
            <a:ext cx="7632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TTbar 6 jet channel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：　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parton-jet idetification by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57280" y="1042920"/>
            <a:ext cx="1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148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ark lev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15415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bserv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1989000"/>
            <a:ext cx="3456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2205000"/>
            <a:ext cx="338436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久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608360" cy="4175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643280" y="4638600"/>
            <a:ext cx="3810240" cy="1670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4000" y="83664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Parton ID by Moments             </a:t>
            </a:r>
            <a:r>
              <a:rPr b="1" lang="ja-JP" sz="2000" spc="-1" strike="noStrike">
                <a:solidFill>
                  <a:srgbClr val="cc0099"/>
                </a:solidFill>
                <a:latin typeface="Times New Roman"/>
              </a:rPr>
              <a:t> in TTbar to l4j(1b tagg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765000"/>
            <a:ext cx="3311280" cy="863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3887640" cy="3205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39640" y="2060640"/>
            <a:ext cx="338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particle momentum distribution in a jet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-. E-mo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33360"/>
            <a:ext cx="273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-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12920" y="260280"/>
            <a:ext cx="8316720" cy="58849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0" y="6497640"/>
            <a:ext cx="95058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24000" y="6453360"/>
            <a:ext cx="568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M(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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） 既知として事象再構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7080" y="260280"/>
            <a:ext cx="53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How much does d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/d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help 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ｙｎａｍｉｃａｌ　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ｉｋｅｌｉｈｏｏｄ　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ｅｔｈｏ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量子力学的尤度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353440" cy="5184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　　　　　　　　　　　　　　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Ｍｏｔｉｖａｔｉｏ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Uncertainties in collider even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cc"/>
                </a:solidFill>
                <a:latin typeface="Arial"/>
              </a:rPr>
              <a:t>　　　</a:t>
            </a:r>
            <a:r>
              <a:rPr b="1" lang="ja-JP" sz="2000" spc="-1" strike="noStrike">
                <a:solidFill>
                  <a:srgbClr val="cc00cc"/>
                </a:solidFill>
                <a:latin typeface="Arial"/>
              </a:rPr>
              <a:t>quarks, gluons  </a:t>
            </a:r>
            <a:r>
              <a:rPr b="1" lang="ja-JP" sz="2400" spc="-1" strike="noStrike">
                <a:solidFill>
                  <a:srgbClr val="cc00cc"/>
                </a:solidFill>
                <a:latin typeface="Arial"/>
              </a:rPr>
              <a:t>→  </a:t>
            </a:r>
            <a:r>
              <a:rPr b="1" lang="ja-JP" sz="2000" spc="-1" strike="noStrike">
                <a:solidFill>
                  <a:srgbClr val="cc00cc"/>
                </a:solidFill>
                <a:latin typeface="Arial"/>
              </a:rPr>
              <a:t>jet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 　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omentum/energy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ja-JP" sz="2000" spc="-1" strike="noStrike">
                <a:solidFill>
                  <a:srgbClr val="cc00cc"/>
                </a:solidFill>
                <a:latin typeface="Arial"/>
              </a:rPr>
              <a:t>missing particles</a:t>
            </a:r>
            <a:r>
              <a:rPr b="1" lang="ja-JP" sz="2400" spc="-1" strike="noStrike">
                <a:solidFill>
                  <a:srgbClr val="cc00cc"/>
                </a:solidFill>
                <a:latin typeface="Arial"/>
              </a:rPr>
              <a:t>→ME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parton-jet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nknown initi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gnal/backgroun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bbe0e3"/>
                </a:solidFill>
                <a:latin typeface="Arial"/>
              </a:rPr>
              <a:t>         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Spectroscopy: </a:t>
            </a:r>
            <a:r>
              <a:rPr b="1" i="1" lang="ja-JP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ja-JP" sz="24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           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Collider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： </a:t>
            </a:r>
            <a:r>
              <a:rPr b="1" i="1" lang="ja-JP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ja-JP" sz="2400" spc="-1" strike="noStrike" baseline="-25000">
                <a:solidFill>
                  <a:srgbClr val="333399"/>
                </a:solidFill>
                <a:latin typeface="Arial"/>
              </a:rPr>
              <a:t>int 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       d</a:t>
            </a:r>
            <a:r>
              <a:rPr b="1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99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cc0099"/>
                </a:solidFill>
                <a:latin typeface="Arial"/>
              </a:rPr>
              <a:t>Reconstruction of parton process based on</a:t>
            </a:r>
            <a:r>
              <a:rPr b="0" lang="ja-JP" sz="2400" spc="-1" strike="noStrike">
                <a:solidFill>
                  <a:srgbClr val="cc0099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cc0099"/>
                </a:solidFill>
                <a:latin typeface="Arial"/>
              </a:rPr>
              <a:t>theor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99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cc0099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　　　　　　　＜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use of differential cross sectio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　　　　　　　　　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Traditional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/dx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man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　　　　　　　　　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ＤＬＭ　      　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ja-JP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/d</a:t>
            </a:r>
            <a:r>
              <a:rPr b="0" lang="ja-JP" sz="2400" spc="-1" strike="noStrike">
                <a:solidFill>
                  <a:srgbClr val="ff3300"/>
                </a:solidFill>
                <a:latin typeface="Symbol"/>
                <a:ea typeface="Symbol"/>
              </a:rPr>
              <a:t></a:t>
            </a:r>
            <a:r>
              <a:rPr b="0" lang="ja-JP" sz="2400" spc="-1" strike="noStrike">
                <a:solidFill>
                  <a:srgbClr val="ff3300"/>
                </a:solidFill>
                <a:latin typeface="Symbol"/>
                <a:ea typeface="Symbol"/>
              </a:rPr>
              <a:t>　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singl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4149720"/>
            <a:ext cx="792360" cy="142920"/>
          </a:xfrm>
          <a:prstGeom prst="leftRightArrow">
            <a:avLst>
              <a:gd name="adj1" fmla="val 50000"/>
              <a:gd name="adj2" fmla="val 110368"/>
            </a:avLst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5640" y="4221000"/>
            <a:ext cx="433080" cy="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349360"/>
            <a:ext cx="3313080" cy="86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005360"/>
            <a:ext cx="6553440" cy="43164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De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1276200"/>
            <a:ext cx="4343400" cy="3848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114800" y="1066680"/>
            <a:ext cx="5029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vents are energ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Ht,Su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vents are central and sphe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|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ja-JP" sz="20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|&lt; 2.0, aplan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Two high  </a:t>
            </a: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Comic Sans MS"/>
              </a:rPr>
              <a:t>T  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b-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Displaced secondary 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Soft lepton inside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High energy jets and isolated lep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missing Et from neutrino in leptonic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High Et 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ossible additional jets from gluon radiation (isr,f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DF approaches to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top mass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story:  DLM (1988)          Top discovery (19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mplate, Multi-varian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LM       DZero ( Dalitz-Goldstein )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AT, FLAME,MADCOW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D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66920" y="3141720"/>
                <a:ext cx="6337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σ</m:t>
                    </m:r>
                    <m:r>
                      <m:t xml:space="preserve">∝</m:t>
                    </m:r>
                    <m:r>
                      <m:t xml:space="preserve">Π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ussian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403280" y="263700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1844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327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F Takes Three Paths for The Top M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ermilab today 05-May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808280" y="1197000"/>
            <a:ext cx="5321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Top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-82080" y="849240"/>
            <a:ext cx="47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Comic Sans MS"/>
              </a:rPr>
              <a:t>Mt </a:t>
            </a: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ja-JP" sz="2000" spc="-1" strike="noStrike">
                <a:solidFill>
                  <a:srgbClr val="ff0000"/>
                </a:solidFill>
                <a:latin typeface="Comic Sans MS"/>
              </a:rPr>
              <a:t> 175 GeV </a:t>
            </a: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ff0000"/>
                </a:solidFill>
                <a:latin typeface="Comic Sans MS"/>
              </a:rPr>
              <a:t> Yukawa coupling </a:t>
            </a: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ja-JP" sz="2000" spc="-1" strike="noStrike">
                <a:solidFill>
                  <a:srgbClr val="ff0000"/>
                </a:solidFill>
                <a:latin typeface="Comic Sans MS"/>
              </a:rPr>
              <a:t>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22960" y="8492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pecial role in EWS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6320" y="1749600"/>
            <a:ext cx="3962160" cy="1755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324320" y="2362320"/>
            <a:ext cx="4743360" cy="730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876920" y="1752480"/>
            <a:ext cx="2765160" cy="628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-115560" y="1314360"/>
            <a:ext cx="59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Dominant parameter in radiative corr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581280"/>
            <a:ext cx="403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99"/>
                </a:solidFill>
                <a:latin typeface="Times New Roman"/>
              </a:rPr>
              <a:t>quadratic in m</a:t>
            </a:r>
            <a:r>
              <a:rPr b="1" lang="ja-JP" sz="20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ja-JP" sz="2000" spc="-1" strike="noStrike">
                <a:solidFill>
                  <a:srgbClr val="333399"/>
                </a:solidFill>
                <a:latin typeface="Times New Roman"/>
              </a:rPr>
              <a:t> , logarithmic in m</a:t>
            </a:r>
            <a:r>
              <a:rPr b="1" lang="ja-JP" sz="2000" spc="-1" strike="noStrike" baseline="-25000">
                <a:solidFill>
                  <a:srgbClr val="333399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280" y="4389480"/>
                <a:ext cx="37386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81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G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52280" y="5499000"/>
                <a:ext cx="2362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gg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rPr>
                        <m:lit/>
                        <m:nor/>
                      </m:rPr>
                      <m:t xml:space="preserve">G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 flipV="1">
            <a:off x="3200400" y="3124080"/>
            <a:ext cx="1981080" cy="5335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752480" y="5105520"/>
            <a:ext cx="533520" cy="380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5778360" y="3213000"/>
            <a:ext cx="3257640" cy="3456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flipV="1">
            <a:off x="5029200" y="2971440"/>
            <a:ext cx="2209680" cy="685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2743200" y="5486400"/>
                <a:ext cx="30481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W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g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80" y="4027320"/>
            <a:ext cx="48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Mt from precision EW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top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1143000"/>
            <a:ext cx="47246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Combined RunI m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ja-JP" sz="20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ja-JP" sz="2000" spc="-1" strike="noStrike">
                <a:solidFill>
                  <a:srgbClr val="ff0000"/>
                </a:solidFill>
                <a:latin typeface="Comic Sans MS"/>
              </a:rPr>
              <a:t>=178.0 ± 4.3 GeV/c</a:t>
            </a:r>
            <a:r>
              <a:rPr b="1" lang="ja-JP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800080"/>
                </a:solidFill>
                <a:latin typeface="Comic Sans MS"/>
                <a:ea typeface="ＭＳ Ｐゴシック"/>
              </a:rPr>
              <a:t>was: 174.3 ± 5.1 GeV/c</a:t>
            </a:r>
            <a:r>
              <a:rPr b="1" lang="ja-JP" sz="1800" spc="-1" strike="noStrike" baseline="30000">
                <a:solidFill>
                  <a:srgbClr val="800080"/>
                </a:solidFill>
                <a:latin typeface="Comic Sans MS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Higgs m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800080"/>
                </a:solidFill>
                <a:latin typeface="Comic Sans MS"/>
                <a:ea typeface="ＭＳ Ｐゴシック"/>
              </a:rPr>
              <a:t>Best-fit M</a:t>
            </a:r>
            <a:r>
              <a:rPr b="1" lang="ja-JP" sz="1800" spc="-1" strike="noStrike" baseline="-25000">
                <a:solidFill>
                  <a:srgbClr val="800080"/>
                </a:solidFill>
                <a:latin typeface="Comic Sans MS"/>
                <a:ea typeface="ＭＳ Ｐゴシック"/>
              </a:rPr>
              <a:t>H</a:t>
            </a:r>
            <a:r>
              <a:rPr b="1" lang="ja-JP" sz="1800" spc="-1" strike="noStrike">
                <a:solidFill>
                  <a:srgbClr val="800080"/>
                </a:solidFill>
                <a:latin typeface="Comic Sans MS"/>
                <a:ea typeface="ＭＳ Ｐゴシック"/>
              </a:rPr>
              <a:t> </a:t>
            </a:r>
            <a:r>
              <a:rPr b="1" lang="ja-JP" sz="1800" spc="-1" strike="noStrike">
                <a:solidFill>
                  <a:srgbClr val="800080"/>
                </a:solidFill>
                <a:latin typeface="Symbol"/>
                <a:ea typeface="Symbol"/>
              </a:rPr>
              <a:t></a:t>
            </a:r>
            <a:r>
              <a:rPr b="1" lang="ja-JP" sz="1800" spc="-1" strike="noStrike">
                <a:solidFill>
                  <a:srgbClr val="800080"/>
                </a:solidFill>
                <a:latin typeface="Comic Sans MS"/>
                <a:ea typeface="ＭＳ Ｐゴシック"/>
              </a:rPr>
              <a:t> 113 GeV/c</a:t>
            </a:r>
            <a:r>
              <a:rPr b="1" lang="ja-JP" sz="1800" spc="-1" strike="noStrike" baseline="30000">
                <a:solidFill>
                  <a:srgbClr val="800080"/>
                </a:solidFill>
                <a:latin typeface="Comic Sans MS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800080"/>
                </a:solidFill>
                <a:latin typeface="Comic Sans MS"/>
                <a:ea typeface="ＭＳ Ｐゴシック"/>
              </a:rPr>
              <a:t>95% C.L. : M</a:t>
            </a:r>
            <a:r>
              <a:rPr b="1" lang="ja-JP" sz="1800" spc="-1" strike="noStrike" baseline="-25000">
                <a:solidFill>
                  <a:srgbClr val="800080"/>
                </a:solidFill>
                <a:latin typeface="Comic Sans MS"/>
                <a:ea typeface="ＭＳ Ｐゴシック"/>
              </a:rPr>
              <a:t>H</a:t>
            </a:r>
            <a:r>
              <a:rPr b="1" lang="ja-JP" sz="1800" spc="-1" strike="noStrike">
                <a:solidFill>
                  <a:srgbClr val="800080"/>
                </a:solidFill>
                <a:latin typeface="Comic Sans MS"/>
                <a:ea typeface="ＭＳ Ｐゴシック"/>
              </a:rPr>
              <a:t> &lt; 237 GeV/c</a:t>
            </a:r>
            <a:r>
              <a:rPr b="1" lang="ja-JP" sz="1800" spc="-1" strike="noStrike" baseline="30000">
                <a:solidFill>
                  <a:srgbClr val="800080"/>
                </a:solidFill>
                <a:latin typeface="Comic Sans MS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Run II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Systematic uncertainty largely dominated by jet energy correction: will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RunII goal is </a:t>
            </a:r>
            <a:r>
              <a:rPr b="1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ja-JP" sz="20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m~2-3 </a:t>
            </a:r>
            <a:r>
              <a:rPr b="1" lang="ja-JP" sz="1800" spc="-1" strike="noStrike">
                <a:solidFill>
                  <a:srgbClr val="333399"/>
                </a:solidFill>
                <a:latin typeface="Comic Sans MS"/>
                <a:ea typeface="ＭＳ Ｐゴシック"/>
              </a:rPr>
              <a:t>GeV/c</a:t>
            </a:r>
            <a:r>
              <a:rPr b="1" lang="ja-JP" sz="1800" spc="-1" strike="noStrike" baseline="30000">
                <a:solidFill>
                  <a:srgbClr val="333399"/>
                </a:solidFill>
                <a:latin typeface="Comic Sans MS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162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top: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7621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ss templet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construct one top mass for each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mpare Mtop distribution to simulated top templates at various m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nimize -ln L vs Mtop to extract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495680" y="4191120"/>
            <a:ext cx="2743200" cy="2055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36400" y="2717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Dilept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6172200" y="2057400"/>
            <a:ext cx="2971800" cy="20145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896000" y="24382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b-tagged l+j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5157720"/>
            <a:ext cx="44956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b-tagged l+jets w/ multivar templ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obability for Mt from likelihood based on MC multidimesional templa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02560" y="549360"/>
            <a:ext cx="2346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000"/>
                </a:solidFill>
                <a:latin typeface="Times New Roman"/>
              </a:rPr>
              <a:t>loop over j-p ass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000"/>
                </a:solidFill>
                <a:latin typeface="Times New Roman"/>
              </a:rPr>
              <a:t>loop over P</a:t>
            </a:r>
            <a:r>
              <a:rPr b="1" lang="en-US" sz="1400" spc="-1" strike="noStrike" baseline="-25000">
                <a:solidFill>
                  <a:srgbClr val="ff8000"/>
                </a:solidFill>
                <a:latin typeface="Times New Roman"/>
              </a:rPr>
              <a:t>Z</a:t>
            </a:r>
            <a:r>
              <a:rPr b="1" lang="en-US" sz="1400" spc="-1" strike="noStrike">
                <a:solidFill>
                  <a:srgbClr val="ff8000"/>
                </a:solidFill>
                <a:latin typeface="Times New Roman"/>
              </a:rPr>
              <a:t> for </a:t>
            </a:r>
            <a:r>
              <a:rPr b="1" lang="en-US" sz="1400" spc="-1" strike="noStrike">
                <a:solidFill>
                  <a:srgbClr val="ff8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000"/>
                </a:solidFill>
                <a:latin typeface="Times New Roman"/>
              </a:rPr>
              <a:t>impose kinematic constr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000"/>
                </a:solidFill>
                <a:latin typeface="Times New Roman"/>
              </a:rPr>
              <a:t>choose m that best fits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562720" y="9144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6320" y="3746520"/>
                <a:ext cx="18288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8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G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495680" y="3048120"/>
                <a:ext cx="18288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8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G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010280" y="5105520"/>
                <a:ext cx="18478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6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G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304920"/>
            <a:ext cx="8305560" cy="1218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gnal/Background separat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ikelihood Distrib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124440" cy="3657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3124440" cy="3657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848160" y="5486400"/>
            <a:ext cx="76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expect the background makes likelihood peak dow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it is multiplied to signal ev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68680" y="1676520"/>
            <a:ext cx="2261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1752480"/>
            <a:ext cx="22860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167652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art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484800" y="1828800"/>
            <a:ext cx="23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x = Mtop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y =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–2ln(likelih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971480" y="472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66440" y="220968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4080" y="48006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gnal:175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0760" y="220968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60080" y="3278160"/>
            <a:ext cx="270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            : input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grounds: lower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77440" y="28954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429000" y="3921120"/>
                <a:ext cx="2303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7524720" y="61405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D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997520" y="1600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7200" y="152280"/>
            <a:ext cx="8381880" cy="838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More Checks on MC vs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435640" y="1052640"/>
                <a:ext cx="25923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5634000" y="4005360"/>
            <a:ext cx="1098720" cy="12016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71400" y="5784840"/>
            <a:ext cx="407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ly to b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14640" y="5257800"/>
            <a:ext cx="15876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4753080" cy="32256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539640" y="6014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D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Arial"/>
              </a:rPr>
              <a:t>Extracted top mass from Run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5181840" cy="3970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144792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Observed  :Total </a:t>
            </a:r>
            <a:r>
              <a:rPr b="1" lang="ja-JP" sz="22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 events; electrons 12, Muons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894560" y="1905120"/>
            <a:ext cx="41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rrect background-pu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.2 events exp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038480" y="3962520"/>
            <a:ext cx="24386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800600" y="3352320"/>
            <a:ext cx="1295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58240" y="5891040"/>
            <a:ext cx="740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t : Two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der polynomials for positive/negative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85080" y="6308640"/>
            <a:ext cx="10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D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830320" y="228600"/>
            <a:ext cx="31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LC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での精密測定の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381880" cy="56005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468440" y="6310440"/>
            <a:ext cx="29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クォークの閾値近辺でのエネルギースキャ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02960" y="1216080"/>
            <a:ext cx="2795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トップクォークの質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ワインバーグアング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の精密測定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高次補正に現れる新しい物理の精密検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102520" y="6297120"/>
            <a:ext cx="1077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topm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Arial"/>
              </a:rPr>
              <a:t>Ｃｏｎｃｅｐｔ　</a:t>
            </a:r>
            <a:r>
              <a:rPr b="0" lang="ja-JP" sz="4000" spc="-1" strike="noStrike">
                <a:solidFill>
                  <a:srgbClr val="ff0000"/>
                </a:solidFill>
                <a:latin typeface="Arial"/>
              </a:rPr>
              <a:t>of DLM</a:t>
            </a:r>
            <a:br>
              <a:rPr sz="4000"/>
            </a:b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DLM : Reconstruction/Inference of Part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492360" y="1968480"/>
                <a:ext cx="288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900000" y="1484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55736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581360"/>
            <a:ext cx="1656000" cy="71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1916280"/>
            <a:ext cx="3240000" cy="1511280"/>
          </a:xfrm>
          <a:prstGeom prst="rect">
            <a:avLst/>
          </a:pr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4581360"/>
            <a:ext cx="1871640" cy="71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92360" y="4762440"/>
                <a:ext cx="15112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21320" y="4653000"/>
                <a:ext cx="1711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835280" y="530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522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428000">
            <a:off x="2195280" y="3933720"/>
            <a:ext cx="1512720" cy="216000"/>
          </a:xfrm>
          <a:prstGeom prst="rightArrow">
            <a:avLst>
              <a:gd name="adj1" fmla="val 50000"/>
              <a:gd name="adj2" fmla="val 17508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68360" y="3645000"/>
                <a:ext cx="4669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132000" y="4044960"/>
            <a:ext cx="129564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ore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4044960"/>
            <a:ext cx="158436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940440" y="3600360"/>
                <a:ext cx="1592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486240" y="6041880"/>
                <a:ext cx="3009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dσ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994200" y="1557360"/>
            <a:ext cx="20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part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rot="2172000">
            <a:off x="6155280" y="3933720"/>
            <a:ext cx="1512720" cy="216000"/>
          </a:xfrm>
          <a:prstGeom prst="rightArrow">
            <a:avLst>
              <a:gd name="adj1" fmla="val 50000"/>
              <a:gd name="adj2" fmla="val 175083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2060640"/>
            <a:ext cx="28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2924280"/>
            <a:ext cx="172872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5805360"/>
            <a:ext cx="3097080" cy="936720"/>
          </a:xfrm>
          <a:prstGeom prst="rect">
            <a:avLst/>
          </a:pr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93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LM is easy to use for any process. It should be the standard method in the near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parton-jet, S/B and solution identifications can be improved by the likelihood itself. This is not fully demonstrated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ping function saves you at any stage of your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t is ammusing to notic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285920" y="4405320"/>
                <a:ext cx="705492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milton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incipl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th</m:t>
                            </m:r>
                          </m:sub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LM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vent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th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 </m:t>
                                        </m:r>
                                      </m:e>
                                    </m:nary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vent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5560920" y="494172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Lagrang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11640" y="6230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keli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3850920" y="6021000"/>
            <a:ext cx="36036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076720" y="4868640"/>
            <a:ext cx="432000" cy="21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LM and D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2001960"/>
            <a:ext cx="4038480" cy="372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219640" y="1917720"/>
                <a:ext cx="3303720" cy="38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mponent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L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dΦ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G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L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G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kelihood in D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640" y="1123560"/>
            <a:ext cx="77817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A single path likelihoo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A single event likelihood:  expectation value of path likeli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Joint likelihood from multiple events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651040" y="1533600"/>
                <a:ext cx="47037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p>
                    </m:sSubSup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386080" y="3141720"/>
                <a:ext cx="47736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043000" y="5157720"/>
                <a:ext cx="46227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vt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vt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vt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ximum Likelihood Method (ML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69480" y="1341000"/>
            <a:ext cx="7489800" cy="4824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MLM in general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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 data in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th event,     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: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: probability density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fine 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i=1</a:t>
            </a:r>
            <a:r>
              <a:rPr b="1" i="1" lang="ja-JP" sz="20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) ,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then (</a:t>
            </a:r>
            <a:r>
              <a:rPr b="1" i="1" lang="ja-JP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1" lang="ja-JP" sz="2000" spc="-1" strike="noStrike" baseline="-15000">
                <a:solidFill>
                  <a:srgbClr val="ff0066"/>
                </a:solidFill>
                <a:latin typeface="Arial"/>
              </a:rPr>
              <a:t>0</a:t>
            </a:r>
            <a:r>
              <a:rPr b="0" lang="ja-JP" sz="2000" spc="-1" strike="noStrike" baseline="-15000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true value of </a:t>
            </a:r>
            <a:r>
              <a:rPr b="1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ja-JP" sz="1800" spc="-1" strike="noStrike">
                <a:solidFill>
                  <a:srgbClr val="ff0000"/>
                </a:solidFill>
                <a:latin typeface="Arial"/>
              </a:rPr>
              <a:t>MLM in DLM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i="1" lang="ja-JP" sz="2400" spc="-1" strike="noStrike">
                <a:solidFill>
                  <a:srgbClr val="cc00cc"/>
                </a:solidFill>
                <a:latin typeface="Arial"/>
              </a:rPr>
              <a:t>c</a:t>
            </a:r>
            <a:r>
              <a:rPr b="1" i="1" lang="ja-JP" sz="2400" spc="-1" strike="noStrike" baseline="-25000">
                <a:solidFill>
                  <a:srgbClr val="cc00cc"/>
                </a:solidFill>
                <a:latin typeface="Arial"/>
              </a:rPr>
              <a:t>i</a:t>
            </a:r>
            <a:r>
              <a:rPr b="1" lang="ja-JP" sz="2400" spc="-1" strike="noStrike" baseline="-25000">
                <a:solidFill>
                  <a:srgbClr val="cc00cc"/>
                </a:solidFill>
                <a:latin typeface="Arial"/>
              </a:rPr>
              <a:t>0 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cc00cc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common to all paths in an ev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cc00cc"/>
                </a:solidFill>
                <a:latin typeface="Symbol"/>
                <a:ea typeface="Symbol"/>
              </a:rPr>
              <a:t></a:t>
            </a:r>
            <a:r>
              <a:rPr b="1" lang="ja-JP" sz="2400" spc="-1" strike="noStrike" baseline="-25000">
                <a:solidFill>
                  <a:srgbClr val="cc00cc"/>
                </a:solidFill>
                <a:latin typeface="Symbol"/>
                <a:ea typeface="Symbol"/>
              </a:rPr>
              <a:t></a:t>
            </a:r>
            <a:r>
              <a:rPr b="1" lang="ja-JP" sz="2400" spc="-1" strike="noStrike" baseline="-25000">
                <a:solidFill>
                  <a:srgbClr val="cc00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cc00cc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common to al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For </a:t>
            </a:r>
            <a:r>
              <a:rPr b="1" i="1" lang="ja-JP" sz="2400" spc="-1" strike="noStrike">
                <a:solidFill>
                  <a:srgbClr val="cc00cc"/>
                </a:solidFill>
                <a:latin typeface="Arial"/>
              </a:rPr>
              <a:t>c</a:t>
            </a:r>
            <a:r>
              <a:rPr b="1" i="1" lang="ja-JP" sz="2400" spc="-1" strike="noStrike" baseline="-25000">
                <a:solidFill>
                  <a:srgbClr val="cc00cc"/>
                </a:solidFill>
                <a:latin typeface="Arial"/>
              </a:rPr>
              <a:t>i</a:t>
            </a:r>
            <a:r>
              <a:rPr b="1" lang="ja-JP" sz="2400" spc="-1" strike="noStrike" baseline="-25000">
                <a:solidFill>
                  <a:srgbClr val="cc00cc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ja-JP" sz="2000" spc="-1" strike="noStrike" baseline="-15000">
                <a:solidFill>
                  <a:srgbClr val="000000"/>
                </a:solidFill>
                <a:latin typeface="Arial"/>
              </a:rPr>
              <a:t>ik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= c*</a:t>
            </a:r>
            <a:r>
              <a:rPr b="1" i="1" lang="ja-JP" sz="2000" spc="-1" strike="noStrike" baseline="25000">
                <a:solidFill>
                  <a:srgbClr val="000000"/>
                </a:solidFill>
                <a:latin typeface="Arial"/>
              </a:rPr>
              <a:t>ik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) = l</a:t>
            </a:r>
            <a:r>
              <a:rPr b="1" lang="ja-JP" sz="2000" spc="-1" strike="noStrike" baseline="-20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/dc*</a:t>
            </a:r>
            <a:r>
              <a:rPr b="1" i="1" lang="ja-JP" sz="2000" spc="-1" strike="noStrike" baseline="25000">
                <a:solidFill>
                  <a:srgbClr val="000000"/>
                </a:solidFill>
                <a:latin typeface="Arial"/>
              </a:rPr>
              <a:t>ik</a:t>
            </a:r>
            <a:r>
              <a:rPr b="1" i="1" lang="ja-JP" sz="2400" spc="-1" strike="noStrike" baseline="25000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ja-JP" sz="20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 an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F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2400" spc="-1" strike="noStrike">
                <a:solidFill>
                  <a:srgbClr val="cc00cc"/>
                </a:solidFill>
                <a:latin typeface="Symbol"/>
                <a:ea typeface="Symbol"/>
              </a:rPr>
              <a:t></a:t>
            </a:r>
            <a:r>
              <a:rPr b="1" lang="ja-JP" sz="2400" spc="-1" strike="noStrike" baseline="-25000">
                <a:solidFill>
                  <a:srgbClr val="cc00cc"/>
                </a:solidFill>
                <a:latin typeface="Symbol"/>
                <a:ea typeface="Symbol"/>
              </a:rPr>
              <a:t></a:t>
            </a:r>
            <a:r>
              <a:rPr b="1" lang="ja-JP" sz="2400" spc="-1" strike="noStrike" baseline="-25000">
                <a:solidFill>
                  <a:srgbClr val="cc00cc"/>
                </a:solidFill>
                <a:latin typeface="Arial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ja-JP" sz="20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= y*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i  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) = l</a:t>
            </a:r>
            <a:r>
              <a:rPr b="1" lang="ja-JP" sz="2000" spc="-1" strike="noStrike" baseline="-20000">
                <a:solidFill>
                  <a:srgbClr val="000000"/>
                </a:solidFill>
                <a:latin typeface="Arial"/>
              </a:rPr>
              <a:t>0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/dy*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ja-JP" sz="2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for multi-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981080" y="2924280"/>
                <a:ext cx="496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β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5796000" y="4581360"/>
            <a:ext cx="287280" cy="576360"/>
          </a:xfrm>
          <a:custGeom>
            <a:avLst/>
            <a:gdLst>
              <a:gd name="textAreaLeft" fmla="*/ 0 w 287280"/>
              <a:gd name="textAreaRight" fmla="*/ 103680 w 287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56360" y="4653000"/>
            <a:ext cx="158436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Production at Teva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3809880" cy="2305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811320" y="358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134800" y="990720"/>
            <a:ext cx="4113720" cy="471240"/>
            <a:chOff x="2134800" y="990720"/>
            <a:chExt cx="4113720" cy="471240"/>
          </a:xfrm>
        </p:grpSpPr>
        <p:sp>
          <p:nvSpPr>
            <p:cNvPr id="400" name=""/>
            <p:cNvSpPr/>
            <p:nvPr/>
          </p:nvSpPr>
          <p:spPr>
            <a:xfrm>
              <a:off x="2134800" y="1002240"/>
              <a:ext cx="156132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Tevatron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581640" y="990720"/>
                  <a:ext cx="2666880" cy="45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@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s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rPr>
                          <m:lit/>
                          <m:nor/>
                        </m:rPr>
                        <m:t xml:space="preserve">Te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2" name=""/>
          <p:cNvSpPr/>
          <p:nvPr/>
        </p:nvSpPr>
        <p:spPr>
          <a:xfrm>
            <a:off x="5318280" y="2263680"/>
            <a:ext cx="18396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20920" y="2362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095880" y="3657600"/>
            <a:ext cx="1447920" cy="11415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5029200" y="1981080"/>
            <a:ext cx="4114800" cy="1293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87520" y="161604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omic Sans MS"/>
              </a:rPr>
              <a:t>top-antitop pai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00720" y="1600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omic Sans MS"/>
              </a:rPr>
              <a:t>single t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22280" y="4038480"/>
            <a:ext cx="11286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0.88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89000" y="3124080"/>
            <a:ext cx="11286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98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50920" y="4267080"/>
                <a:ext cx="3940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)</m:t>
                    </m:r>
                    <m:r>
                      <m:t xml:space="preserve">»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p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030320" y="5029200"/>
                <a:ext cx="6894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e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»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b</m:t>
                    </m:r>
                    <m:r>
                      <m:t xml:space="preserve">»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´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t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)</m:t>
                    </m:r>
                    <m:r>
                      <m:t xml:space="preserve">»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p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494640" y="5595840"/>
            <a:ext cx="80992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~ one top event every 10 BILLION inelastic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124440" cy="2220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t Energy Cor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17640" y="1851120"/>
            <a:ext cx="2877840" cy="43210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3200400" cy="2297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76320" y="1060560"/>
            <a:ext cx="4114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etermine true “particle”, “parto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jet E from measured jet E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1136520"/>
            <a:ext cx="42670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Non-linea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Uninstrument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Response to different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Out of cone E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pectato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Underly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27200" y="5486400"/>
            <a:ext cx="19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Jet Energy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(MC deri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17880" y="554688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Total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fferential cross section for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singl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11280" y="1268280"/>
                <a:ext cx="7993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art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ocess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332000" y="2276640"/>
                <a:ext cx="6553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dσ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)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/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  <m:r>
                              <m:t xml:space="preserve">→</m:t>
                            </m:r>
                            <m:r>
                              <m:t xml:space="preserve">C</m:t>
                            </m:r>
                            <m:r>
                              <m:t xml:space="preserve">;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0720" y="33577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826920" y="1844640"/>
            <a:ext cx="763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hen (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ja-JP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,…,c</a:t>
            </a:r>
            <a:r>
              <a:rPr b="1" i="1" lang="ja-JP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 is given, integrate by (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56000" y="3716280"/>
                <a:ext cx="2679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187280" y="321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a*,b*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parton flux fa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797360"/>
            <a:ext cx="7272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/d</a:t>
            </a:r>
            <a:r>
              <a:rPr b="1" i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</a:t>
            </a:r>
            <a:r>
              <a:rPr b="1" i="1" lang="ja-JP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i="1" lang="ja-JP" sz="2400" spc="-1" strike="noStrike" baseline="30000">
                <a:solidFill>
                  <a:srgbClr val="ff0000"/>
                </a:solidFill>
                <a:latin typeface="Arial"/>
              </a:rPr>
              <a:t>(f)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 Probability to have  final phase space 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i="1" lang="ja-JP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ｎ</a:t>
            </a:r>
            <a:r>
              <a:rPr b="1" i="1" lang="ja-JP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</a:t>
            </a:r>
            <a:r>
              <a:rPr b="1" i="1" lang="ja-JP" sz="2400" spc="-1" strike="noStrike" baseline="30000">
                <a:solidFill>
                  <a:srgbClr val="ff0000"/>
                </a:solidFill>
                <a:latin typeface="Arial"/>
              </a:rPr>
              <a:t>f</a:t>
            </a:r>
            <a:r>
              <a:rPr b="1" i="1" lang="ja-JP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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for a unit luminosity of the incident b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ux(particles/cm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sec)           particles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uminosity(particles/cm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      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9500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5080" y="6524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79640" y="335772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Cross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section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and</a:t>
            </a:r>
            <a:br>
              <a:rPr sz="3200"/>
            </a:b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probability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density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function (p.d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818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Take an example of </a:t>
            </a:r>
            <a:r>
              <a:rPr b="1" i="1" lang="ja-JP" sz="2000" spc="-1" strike="noStrike">
                <a:solidFill>
                  <a:srgbClr val="cc00cc"/>
                </a:solidFill>
                <a:latin typeface="Symbol"/>
                <a:ea typeface="Symbol"/>
              </a:rPr>
              <a:t></a:t>
            </a:r>
            <a:r>
              <a:rPr b="1" i="1" lang="ja-JP" sz="2000" spc="-1" strike="noStrike">
                <a:solidFill>
                  <a:srgbClr val="cc00cc"/>
                </a:solidFill>
                <a:latin typeface="Arial"/>
              </a:rPr>
              <a:t>= M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.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2000" spc="-1" strike="noStrike">
                <a:solidFill>
                  <a:srgbClr val="cc00cc"/>
                </a:solidFill>
                <a:latin typeface="Arial"/>
              </a:rPr>
              <a:t>f(x;</a:t>
            </a:r>
            <a:r>
              <a:rPr b="1" i="1" lang="ja-JP" sz="2000" spc="-1" strike="noStrike">
                <a:solidFill>
                  <a:srgbClr val="cc00cc"/>
                </a:solidFill>
                <a:latin typeface="Symbol"/>
                <a:ea typeface="Symbol"/>
              </a:rPr>
              <a:t></a:t>
            </a:r>
            <a:r>
              <a:rPr b="1" i="1" lang="ja-JP" sz="2000" spc="-1" strike="noStrike">
                <a:solidFill>
                  <a:srgbClr val="cc00cc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cc00cc"/>
                </a:solidFill>
                <a:latin typeface="Arial"/>
              </a:rPr>
              <a:t>= p.d.f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                                                                        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(Axiom No.1 for p.d.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( Dalitz-Goldstein,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is is quite reasonable for a general p.d.f., 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/d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epends on the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choice of </a:t>
            </a: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while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oes no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 a probability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per unit beam luminosit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is concept is missing in the general p.d.f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f(x:M)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332000" y="2133720"/>
                <a:ext cx="468000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Normalization of likelihood at part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01800" y="1409760"/>
                <a:ext cx="33829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sSubSup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41720" y="3284640"/>
                <a:ext cx="4201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</m:acc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36560" y="2492280"/>
            <a:ext cx="772308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assume Bayes’ Postulate (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Principle of Equidistribution of Ignoran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antities</a:t>
            </a:r>
            <a:r>
              <a:rPr b="0" lang="ja-JP" sz="2000" spc="-1" strike="noStrike" baseline="-10000">
                <a:solidFill>
                  <a:srgbClr val="cc00cc"/>
                </a:solidFill>
                <a:latin typeface="Arial"/>
              </a:rPr>
              <a:t>              </a:t>
            </a:r>
            <a:r>
              <a:rPr b="0" lang="ja-JP" sz="2000" spc="-1" strike="noStrike">
                <a:solidFill>
                  <a:srgbClr val="cc00cc"/>
                </a:solidFill>
                <a:latin typeface="Arial"/>
              </a:rPr>
              <a:t> parameters:  </a:t>
            </a:r>
            <a:r>
              <a:rPr b="1" i="1" lang="ja-JP" sz="2000" spc="-1" strike="noStrike">
                <a:solidFill>
                  <a:srgbClr val="cc00cc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cc"/>
                </a:solidFill>
                <a:latin typeface="Symbol"/>
                <a:ea typeface="Symbol"/>
              </a:rPr>
              <a:t></a:t>
            </a:r>
            <a:r>
              <a:rPr b="0" lang="ja-JP" sz="1800" spc="-1" strike="noStrike">
                <a:solidFill>
                  <a:srgbClr val="cc00cc"/>
                </a:solidFill>
                <a:latin typeface="Arial"/>
              </a:rPr>
              <a:t>variables:  </a:t>
            </a:r>
            <a:r>
              <a:rPr b="1" i="1" lang="ja-JP" sz="1800" spc="-1" strike="noStrike">
                <a:solidFill>
                  <a:srgbClr val="cc00cc"/>
                </a:solidFill>
                <a:latin typeface="Arial"/>
              </a:rPr>
              <a:t>x</a:t>
            </a:r>
            <a:r>
              <a:rPr b="0" lang="ja-JP" sz="1800" spc="-1" strike="noStrike">
                <a:solidFill>
                  <a:srgbClr val="cc00cc"/>
                </a:solidFill>
                <a:latin typeface="Arial"/>
              </a:rPr>
              <a:t>, </a:t>
            </a:r>
            <a:r>
              <a:rPr b="1" i="1" lang="ja-JP" sz="1800" spc="-1" strike="noStrike">
                <a:solidFill>
                  <a:srgbClr val="cc00cc"/>
                </a:solidFill>
                <a:latin typeface="Arial"/>
              </a:rPr>
              <a:t>L</a:t>
            </a:r>
            <a:r>
              <a:rPr b="1" lang="ja-JP" sz="1800" spc="-1" strike="noStrike" baseline="-25000">
                <a:solidFill>
                  <a:srgbClr val="cc00cc"/>
                </a:solidFill>
                <a:latin typeface="Arial"/>
              </a:rPr>
              <a:t>int</a:t>
            </a:r>
            <a:r>
              <a:rPr b="0" lang="ja-JP" sz="1800" spc="-1" strike="noStrike">
                <a:solidFill>
                  <a:srgbClr val="cc00cc"/>
                </a:solidFill>
                <a:latin typeface="Arial"/>
              </a:rPr>
              <a:t>  and </a:t>
            </a:r>
            <a:r>
              <a:rPr b="1" i="1" lang="ja-JP" sz="1800" spc="-1" strike="noStrike">
                <a:solidFill>
                  <a:srgbClr val="cc00cc"/>
                </a:solidFill>
                <a:latin typeface="Arial"/>
              </a:rPr>
              <a:t>N</a:t>
            </a:r>
            <a:r>
              <a:rPr b="1" lang="ja-JP" sz="1800" spc="-1" strike="noStrike" baseline="-25000">
                <a:solidFill>
                  <a:srgbClr val="cc00cc"/>
                </a:solidFill>
                <a:latin typeface="Arial"/>
              </a:rPr>
              <a:t>tot</a:t>
            </a:r>
            <a:r>
              <a:rPr b="0" lang="ja-JP" sz="1800" spc="-1" strike="noStrike">
                <a:solidFill>
                  <a:srgbClr val="cc00cc"/>
                </a:solidFill>
                <a:latin typeface="Arial"/>
              </a:rPr>
              <a:t> ( depend on </a:t>
            </a:r>
            <a:r>
              <a:rPr b="1" i="1" lang="ja-JP" sz="2000" spc="-1" strike="noStrike">
                <a:solidFill>
                  <a:srgbClr val="cc00cc"/>
                </a:solidFill>
                <a:latin typeface="Symbol"/>
                <a:ea typeface="Symbol"/>
              </a:rPr>
              <a:t></a:t>
            </a:r>
            <a:r>
              <a:rPr b="1" lang="ja-JP" sz="2000" spc="-1" strike="noStrike">
                <a:solidFill>
                  <a:srgbClr val="cc00cc"/>
                </a:solidFill>
                <a:latin typeface="Symbol"/>
                <a:ea typeface="Symbol"/>
              </a:rPr>
              <a:t></a:t>
            </a:r>
            <a:r>
              <a:rPr b="0" lang="ja-JP" sz="1800" spc="-1" strike="noStrike">
                <a:solidFill>
                  <a:srgbClr val="cc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5013360"/>
            <a:ext cx="21600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69280" y="1484280"/>
            <a:ext cx="32868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: Prior probabili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[ l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] = [L] 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</a:rPr>
              <a:t>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565360"/>
            <a:ext cx="21600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5084640"/>
            <a:ext cx="287280" cy="57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47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 value of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651280" y="4581360"/>
            <a:ext cx="36036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7200" y="705960"/>
            <a:ext cx="7210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single path as a quantum process</a:t>
            </a:r>
            <a:br>
              <a:rPr sz="3200"/>
            </a:b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antized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D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14240" y="1873080"/>
                <a:ext cx="7715520" cy="29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ΔΦ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rodu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t xml:space="preserve">dΦ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Δ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Δ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Δ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826920" y="5127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00cc"/>
                </a:solidFill>
                <a:latin typeface="Arial"/>
              </a:rPr>
              <a:t>For a single path, the phase volume and Jacobian- scaled transfer variables are both quant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55736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hase spa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observ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95640" y="1700280"/>
            <a:ext cx="5184720" cy="576000"/>
            <a:chOff x="2195640" y="1700280"/>
            <a:chExt cx="5184720" cy="576000"/>
          </a:xfrm>
        </p:grpSpPr>
        <p:sp>
          <p:nvSpPr>
            <p:cNvPr id="105" name=""/>
            <p:cNvSpPr/>
            <p:nvPr/>
          </p:nvSpPr>
          <p:spPr>
            <a:xfrm>
              <a:off x="2195640" y="1700280"/>
              <a:ext cx="5184720" cy="57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51280" y="170028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27640" y="170028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640" y="170028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80000" y="170028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56360" y="170028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32720" y="170028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71640" y="170028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76720" y="170028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68360" y="2997360"/>
            <a:ext cx="5185080" cy="576000"/>
            <a:chOff x="2268360" y="2997360"/>
            <a:chExt cx="5185080" cy="576000"/>
          </a:xfrm>
        </p:grpSpPr>
        <p:sp>
          <p:nvSpPr>
            <p:cNvPr id="115" name=""/>
            <p:cNvSpPr/>
            <p:nvPr/>
          </p:nvSpPr>
          <p:spPr>
            <a:xfrm>
              <a:off x="2268360" y="2997360"/>
              <a:ext cx="5185080" cy="57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3080" y="299736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2720" y="299736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51640" y="299736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27640" y="299736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32360" y="299736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1280" y="299736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95640" y="2276640"/>
            <a:ext cx="72720" cy="718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2276640"/>
            <a:ext cx="1079640" cy="72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276640"/>
            <a:ext cx="1655640" cy="72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2276640"/>
            <a:ext cx="1800360" cy="72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2276640"/>
            <a:ext cx="1728720" cy="72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2276640"/>
            <a:ext cx="1729080" cy="72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2276640"/>
            <a:ext cx="1513080" cy="72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2276640"/>
            <a:ext cx="1295280" cy="72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48000" y="3573000"/>
            <a:ext cx="1582920" cy="647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843280" y="3573360"/>
            <a:ext cx="1008000" cy="647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357336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651640" y="3573360"/>
            <a:ext cx="1441440" cy="647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03280" y="3573360"/>
            <a:ext cx="1729080" cy="647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571640" y="357336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24360" y="3573360"/>
            <a:ext cx="1727280" cy="647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357336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27640" y="4797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4797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5164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1757520"/>
            <a:ext cx="107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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997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43657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200" y="544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30000">
                <a:solidFill>
                  <a:srgbClr val="009999"/>
                </a:solidFill>
                <a:latin typeface="Arial"/>
              </a:rPr>
              <a:t>3n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1989000"/>
            <a:ext cx="1871640" cy="12956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211280" y="3284640"/>
            <a:ext cx="1800360" cy="1224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4508640"/>
            <a:ext cx="1150920" cy="1152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4581360"/>
            <a:ext cx="2233440" cy="122400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059280" y="3284640"/>
            <a:ext cx="1295280" cy="129672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1916280"/>
            <a:ext cx="1368360" cy="136836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1700280"/>
            <a:ext cx="18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720" y="544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1" lang="ja-JP" sz="2800" spc="-1" strike="noStrike">
                <a:solidFill>
                  <a:srgbClr val="009999"/>
                </a:solidFill>
                <a:latin typeface="Symbol"/>
                <a:ea typeface="Symbol"/>
              </a:rPr>
              <a:t></a:t>
            </a:r>
            <a:r>
              <a:rPr b="1" lang="ja-JP" sz="2800" spc="-1" strike="noStrike">
                <a:solidFill>
                  <a:srgbClr val="009999"/>
                </a:solidFill>
                <a:latin typeface="Arial"/>
              </a:rPr>
              <a:t>/d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20400" y="422928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/dx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68360" y="5445000"/>
            <a:ext cx="5184720" cy="576000"/>
            <a:chOff x="2268360" y="5445000"/>
            <a:chExt cx="5184720" cy="576000"/>
          </a:xfrm>
        </p:grpSpPr>
        <p:sp>
          <p:nvSpPr>
            <p:cNvPr id="160" name=""/>
            <p:cNvSpPr/>
            <p:nvPr/>
          </p:nvSpPr>
          <p:spPr>
            <a:xfrm>
              <a:off x="2268360" y="5445000"/>
              <a:ext cx="5184720" cy="57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24000" y="5445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0360" y="5445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76360" y="5445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52720" y="5445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29080" y="5445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05440" y="5445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44360" y="5445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49440" y="5445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68360" y="4221000"/>
            <a:ext cx="5184720" cy="576000"/>
            <a:chOff x="2268360" y="4221000"/>
            <a:chExt cx="5184720" cy="576000"/>
          </a:xfrm>
        </p:grpSpPr>
        <p:sp>
          <p:nvSpPr>
            <p:cNvPr id="170" name=""/>
            <p:cNvSpPr/>
            <p:nvPr/>
          </p:nvSpPr>
          <p:spPr>
            <a:xfrm>
              <a:off x="2268360" y="4221000"/>
              <a:ext cx="5184720" cy="57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24000" y="4221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00360" y="4221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76360" y="4221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52720" y="4221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9080" y="4221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5440" y="4221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44360" y="4221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9440" y="4221000"/>
              <a:ext cx="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07672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4797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227640" y="3573360"/>
            <a:ext cx="1224000" cy="647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133720"/>
            <a:ext cx="1440000" cy="115236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940000" y="3284640"/>
            <a:ext cx="1295640" cy="122400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08360" y="4437000"/>
            <a:ext cx="431640" cy="144000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4941720"/>
            <a:ext cx="142920" cy="432000"/>
          </a:xfrm>
          <a:prstGeom prst="downArrow">
            <a:avLst>
              <a:gd name="adj1" fmla="val 50000"/>
              <a:gd name="adj2" fmla="val 7556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08720" y="4941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w(y|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2349360"/>
            <a:ext cx="71640" cy="1727280"/>
          </a:xfrm>
          <a:prstGeom prst="downArrow">
            <a:avLst>
              <a:gd name="adj1" fmla="val 50000"/>
              <a:gd name="adj2" fmla="val 60276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2492280"/>
            <a:ext cx="107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onance “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zh-CN" sz="3200" spc="-1" strike="noStrike" baseline="-25000">
                <a:solidFill>
                  <a:srgbClr val="ff0000"/>
                </a:solidFill>
                <a:latin typeface="Arial"/>
              </a:rPr>
              <a:t>ｒ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”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 re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08000" y="3840120"/>
                <a:ext cx="6524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dσ</m:t>
                        </m:r>
                      </m:num>
                      <m:den>
                        <m:sSubSup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619280" y="1095480"/>
                <a:ext cx="628632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Γ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Γ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700360" y="2492280"/>
                <a:ext cx="5327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sup>
                    </m:sSubSup>
                    <m:sSub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11280" y="2637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spac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3141720"/>
            <a:ext cx="8208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cc00cc"/>
                </a:solidFill>
                <a:latin typeface="Arial"/>
              </a:rPr>
              <a:t>If parton kinematics is determined by inferring </a:t>
            </a:r>
            <a:r>
              <a:rPr b="1" i="1" lang="ja-JP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cc00cc"/>
                </a:solidFill>
                <a:latin typeface="Arial"/>
              </a:rPr>
              <a:t> with propagator factor </a:t>
            </a:r>
            <a:r>
              <a:rPr b="1" i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</a:t>
            </a:r>
            <a:r>
              <a:rPr b="1" i="1" lang="ja-JP" sz="1800" spc="-1" strike="noStrike">
                <a:solidFill>
                  <a:srgbClr val="ff0000"/>
                </a:solidFill>
                <a:latin typeface="Arial"/>
              </a:rPr>
              <a:t>(s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Arial"/>
              </a:rPr>
              <a:t>ｒ</a:t>
            </a:r>
            <a:r>
              <a:rPr b="1" i="1" lang="ja-JP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ja-JP" sz="1800" spc="-1" strike="noStrike">
                <a:solidFill>
                  <a:srgbClr val="cc00cc"/>
                </a:solidFill>
                <a:latin typeface="Arial"/>
              </a:rPr>
              <a:t> , resonance </a:t>
            </a:r>
            <a:r>
              <a:rPr b="1" i="1" lang="ja-JP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ja-JP" sz="1800" spc="-1" strike="noStrike">
                <a:solidFill>
                  <a:srgbClr val="cc00cc"/>
                </a:solidFill>
                <a:latin typeface="Arial"/>
              </a:rPr>
              <a:t>occupies a unit p.s. The cross section per unit p.s. is giv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79640" y="4886280"/>
                <a:ext cx="1444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84360" y="4869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4869000"/>
            <a:ext cx="25923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i="1" lang="ja-JP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Arial"/>
              </a:rPr>
              <a:t>ｒ</a:t>
            </a:r>
            <a:r>
              <a:rPr b="1" i="1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is in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if all </a:t>
            </a:r>
            <a:r>
              <a:rPr b="1" i="1" lang="ja-JP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1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are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1700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4920" y="1652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n – j+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2349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3240000" y="173664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 rot="16200000">
            <a:off x="3526560" y="655560"/>
            <a:ext cx="216000" cy="1873080"/>
          </a:xfrm>
          <a:custGeom>
            <a:avLst/>
            <a:gdLst>
              <a:gd name="textAreaLeft" fmla="*/ 360 w 216000"/>
              <a:gd name="textAreaRight" fmla="*/ 7848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 rot="16200000">
            <a:off x="6227280" y="2636640"/>
            <a:ext cx="288720" cy="4032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472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27280" y="1916280"/>
            <a:ext cx="289080" cy="288720"/>
          </a:xfrm>
          <a:prstGeom prst="ellips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1916280"/>
            <a:ext cx="289080" cy="288720"/>
          </a:xfrm>
          <a:prstGeom prst="ellips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00:32:25Z</dcterms:created>
  <dc:creator>kkondo</dc:creator>
  <dc:description/>
  <dc:language>en-US</dc:language>
  <cp:lastModifiedBy>早稲田大学</cp:lastModifiedBy>
  <dcterms:modified xsi:type="dcterms:W3CDTF">2005-03-08T01:28:34Z</dcterms:modified>
  <cp:revision>142</cp:revision>
  <dc:subject/>
  <dc:title>CDF実験の経緯</dc:title>
</cp:coreProperties>
</file>