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6.wmf" ContentType="image/x-wmf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29EE-A9C6-4401-AB5C-B771BD0A00A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bine with pipi. </a:t>
            </a:r>
            <a:r>
              <a:rPr b="0" lang="ja-JP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bine with pipi. </a:t>
            </a:r>
            <a:r>
              <a:rPr b="0" lang="ja-JP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bine with pipi. </a:t>
            </a:r>
            <a:r>
              <a:rPr b="0" lang="ja-JP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bine with pipi. </a:t>
            </a:r>
            <a:r>
              <a:rPr b="0" lang="ja-JP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28A4E-EC88-4728-B2C2-1AAB8BA910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82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903480"/>
            <a:ext cx="8382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B279-496B-4AA4-9659-EB8E183E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12682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9034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39034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FB0A-A9DE-494E-934C-B0F83E33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26989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1268280"/>
            <a:ext cx="26989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1268280"/>
            <a:ext cx="26989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903480"/>
            <a:ext cx="26989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3903480"/>
            <a:ext cx="26989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3903480"/>
            <a:ext cx="26989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EA55-B481-4DC3-9CA4-EDFCC510B5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99CAE-EA3C-4003-B05E-33D24335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880" y="1268280"/>
            <a:ext cx="83822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07380-418B-4B22-90D5-39E098D1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82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FBE48-8C17-4ED3-B5E1-99EF605B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40903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268280"/>
            <a:ext cx="40903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5A392-BBC8-4662-AB07-EBB22D65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11407-2016-4A5F-9F60-D6EEADF9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3818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62FD7-C2E3-4B26-85D3-D25F12F0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268280"/>
            <a:ext cx="40903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9034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3C0EC-E0B3-46F9-A4DE-7745DFCA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268280"/>
            <a:ext cx="83822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94F9-AAAA-4BE8-8BF1-79C11AAA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40903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2682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6040" y="39034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955ED-7F46-47B1-B59D-41183916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12682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903480"/>
            <a:ext cx="8382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EFB1C-43AB-4F2E-BEF4-F09B7A1F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82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880" y="3903480"/>
            <a:ext cx="8382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A69D2-4471-4470-9BF7-97346253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6040" y="12682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9034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6040" y="39034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E8C6E-668D-4682-B682-65FFFA34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26989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5160" y="1268280"/>
            <a:ext cx="26989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9440" y="1268280"/>
            <a:ext cx="26989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880" y="3903480"/>
            <a:ext cx="26989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5160" y="3903480"/>
            <a:ext cx="26989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9440" y="3903480"/>
            <a:ext cx="26989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DFBBB-B411-4530-88F4-883D2669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82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0EDF0-12DE-43A7-9ED3-41DA0370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40903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268280"/>
            <a:ext cx="40903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BCDB-7A92-4C28-99E2-07B4556E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0DDC-A887-4CA3-A6C3-23675D1C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3818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3749B-7B5C-42A5-A5E3-B087C585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268280"/>
            <a:ext cx="40903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9034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720BD-A23E-4B3D-AEA8-70027697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40903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2682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39034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146EF-053E-475A-A3BD-06F4A9B0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1268280"/>
            <a:ext cx="40903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903480"/>
            <a:ext cx="8382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0163-2CC7-4EB2-987A-23EC7004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003366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66"/>
                </a:solidFill>
                <a:latin typeface="ＭＳ Ｐゴシック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502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003366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EE16-533B-4C92-9454-53254E642886}" type="slidenum">
              <a:rPr b="0" lang="ja-JP" sz="1600" spc="-1" strike="noStrike">
                <a:solidFill>
                  <a:srgbClr val="003366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380880" y="1268280"/>
            <a:ext cx="8382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585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-26964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2682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43160" indent="-27000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43160" indent="-2700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43160" indent="-2700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440"/>
            <a:ext cx="9144000" cy="22860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6868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360"/>
            <a:ext cx="228600" cy="228600"/>
          </a:xfrm>
          <a:prstGeom prst="rect">
            <a:avLst/>
          </a:prstGeom>
          <a:gradFill rotWithShape="0">
            <a:gsLst>
              <a:gs pos="0">
                <a:srgbClr val="fe8d42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228600"/>
            <a:ext cx="0" cy="66294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0" y="65530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240000" y="6553080"/>
            <a:ext cx="266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7391520" y="65530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9F0C-EE52-4DDE-8B54-F3F2176532A7}" type="slidenum">
              <a:rPr b="0" lang="ja-JP" sz="1400" spc="-1" strike="noStrike">
                <a:solidFill>
                  <a:srgbClr val="003366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440"/>
            <a:ext cx="9144000" cy="9129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6868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0" y="1080"/>
            <a:ext cx="914400" cy="914400"/>
          </a:xfrm>
          <a:prstGeom prst="rect">
            <a:avLst/>
          </a:prstGeom>
          <a:gradFill rotWithShape="0">
            <a:gsLst>
              <a:gs pos="0">
                <a:srgbClr val="fe8d42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914400" y="914400"/>
            <a:ext cx="457200" cy="457200"/>
          </a:xfrm>
          <a:prstGeom prst="rect">
            <a:avLst/>
          </a:prstGeom>
          <a:gradFill rotWithShape="0">
            <a:gsLst>
              <a:gs pos="0">
                <a:srgbClr val="fe8d42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9480" y="1370880"/>
            <a:ext cx="304920" cy="304920"/>
          </a:xfrm>
          <a:prstGeom prst="rect">
            <a:avLst/>
          </a:prstGeom>
          <a:gradFill rotWithShape="0">
            <a:gsLst>
              <a:gs pos="0">
                <a:srgbClr val="fe8d42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4920" y="1065960"/>
            <a:ext cx="30456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81000" algn="ctr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62000" algn="ctr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5408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44360" algn="ctr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443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443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6.png"/><Relationship Id="rId3" Type="http://schemas.openxmlformats.org/officeDocument/2006/relationships/image" Target="../media/image26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onstraint on CKM angle </a:t>
            </a:r>
            <a:r>
              <a:rPr b="0" lang="en-US" sz="4400" spc="-1" strike="noStrike">
                <a:solidFill>
                  <a:srgbClr val="ff6600"/>
                </a:solidFill>
                <a:latin typeface="Symbol"/>
                <a:ea typeface="Symbol"/>
              </a:rPr>
              <a:t></a:t>
            </a:r>
            <a:r>
              <a:rPr b="0" lang="en-US" sz="44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 from B decays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537372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usaka (University of Tokyo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behalf of Bell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4880" y="3959280"/>
            <a:ext cx="575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Osaka"/>
              </a:rPr>
              <a:t>Fourth Workshop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Osaka"/>
              </a:rPr>
              <a:t>Mass Origin and Supersymmetry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Osaka"/>
              </a:rPr>
              <a:t>Mar. 6-8, 2006, Tsukuba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09480" y="1627200"/>
            <a:ext cx="3818160" cy="38178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0" lang="ja-JP" sz="4400" spc="-1" strike="noStrike" baseline="30000">
                <a:solidFill>
                  <a:srgbClr val="ff6600"/>
                </a:solidFill>
                <a:latin typeface="Arial"/>
              </a:rPr>
              <a:t>0</a:t>
            </a:r>
            <a:r>
              <a:rPr b="0" lang="ja-JP" sz="44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ja-JP" sz="44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r>
              <a:rPr b="0" lang="ja-JP" sz="4400" spc="-1" strike="noStrike" baseline="30000">
                <a:solidFill>
                  <a:srgbClr val="ff6600"/>
                </a:solidFill>
                <a:latin typeface="Symbol"/>
                <a:ea typeface="Symbol"/>
              </a:rPr>
              <a:t></a:t>
            </a:r>
            <a:r>
              <a:rPr b="0" lang="ja-JP" sz="44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r>
              <a:rPr b="0" lang="ja-JP" sz="4400" spc="-1" strike="noStrike" baseline="30000">
                <a:solidFill>
                  <a:srgbClr val="ff6600"/>
                </a:solidFill>
                <a:latin typeface="Symbol"/>
                <a:ea typeface="Symbol"/>
              </a:rPr>
              <a:t></a:t>
            </a:r>
            <a:r>
              <a:rPr b="0" lang="ja-JP" sz="4400" spc="-1" strike="noStrike">
                <a:solidFill>
                  <a:srgbClr val="ff6600"/>
                </a:solidFill>
                <a:latin typeface="Arial"/>
              </a:rPr>
              <a:t>: Belle vs. BaBar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848120" y="1496880"/>
            <a:ext cx="3714840" cy="40197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371720" y="1528920"/>
            <a:ext cx="17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tag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92600" y="2784600"/>
            <a:ext cx="17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tag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82160" y="2568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859280" y="1193760"/>
            <a:ext cx="649440" cy="8668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312320" y="64911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PRL 95, 1518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13200" y="5553000"/>
            <a:ext cx="3966120" cy="94716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Monotype Corsiva"/>
              </a:rPr>
              <a:t>S</a:t>
            </a:r>
            <a:r>
              <a:rPr b="1" lang="ja-JP" sz="2800" spc="-1" strike="noStrike" baseline="-2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0.30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0.17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01680" y="5553000"/>
            <a:ext cx="40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2800" spc="-1" strike="noStrike" baseline="-2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+0.09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26880" y="3429000"/>
            <a:ext cx="72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Monotype Corsiva"/>
                <a:ea typeface="Osaka"/>
              </a:rPr>
              <a:t>S</a:t>
            </a:r>
            <a:r>
              <a:rPr b="0" lang="ja-JP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75440" y="1484280"/>
            <a:ext cx="762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  <a:ea typeface="Osaka"/>
              </a:rPr>
              <a:t>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880" y="5229360"/>
            <a:ext cx="41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Osaka"/>
              </a:rPr>
              <a:t>2.3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Osaka"/>
              </a:rPr>
              <a:t> discrep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Osaka"/>
              </a:rPr>
              <a:t>between Belle and Ba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0080" y="2023920"/>
            <a:ext cx="2108520" cy="459720"/>
          </a:xfrm>
          <a:prstGeom prst="rect">
            <a:avLst/>
          </a:prstGeom>
          <a:solidFill>
            <a:srgbClr val="cce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Osaka"/>
              </a:rPr>
              <a:t>Belle 275M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8520" y="3767040"/>
            <a:ext cx="2279160" cy="459720"/>
          </a:xfrm>
          <a:prstGeom prst="rect">
            <a:avLst/>
          </a:prstGeom>
          <a:solidFill>
            <a:srgbClr val="ffccc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  <a:ea typeface="Osaka"/>
              </a:rPr>
              <a:t>BaBar 227M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1347840" y="3645000"/>
            <a:ext cx="541440" cy="720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rcRect l="1718" t="2223" r="1718" b="2223"/>
          <a:stretch/>
        </p:blipFill>
        <p:spPr>
          <a:xfrm>
            <a:off x="71280" y="1989000"/>
            <a:ext cx="684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PV measurement of B</a:t>
            </a:r>
            <a:r>
              <a:rPr b="0" lang="en-US" sz="4400" spc="-1" strike="noStrike" baseline="30000">
                <a:solidFill>
                  <a:srgbClr val="ff66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6600"/>
                </a:solidFill>
                <a:latin typeface="Symbol"/>
                <a:ea typeface="Symbol"/>
              </a:rPr>
              <a:t></a:t>
            </a:r>
            <a:r>
              <a:rPr b="0" lang="en-US" sz="4400" spc="-1" strike="noStrike" baseline="30000">
                <a:solidFill>
                  <a:srgbClr val="ff66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ff6600"/>
                </a:solidFill>
                <a:latin typeface="Symbol"/>
                <a:ea typeface="Symbol"/>
              </a:rPr>
              <a:t></a:t>
            </a:r>
            <a:r>
              <a:rPr b="0" lang="en-US" sz="4400" spc="-1" strike="noStrike" baseline="30000">
                <a:solidFill>
                  <a:srgbClr val="ff6600"/>
                </a:solidFill>
                <a:latin typeface="Arial"/>
              </a:rPr>
              <a:t>–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82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from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5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ranching fraction of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&lt;1/20) compared with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penguin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(difficult)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5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y product contains tw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efficiency, larger B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5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three polarizatio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zation measurement is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0" lang="en-US" sz="4400" spc="-1" strike="noStrike" baseline="30000">
                <a:solidFill>
                  <a:srgbClr val="ff66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6600"/>
                </a:solidFill>
                <a:latin typeface="Symbol"/>
                <a:ea typeface="Symbol"/>
              </a:rPr>
              <a:t></a:t>
            </a:r>
            <a:r>
              <a:rPr b="0" lang="en-US" sz="4400" spc="-1" strike="noStrike" baseline="30000">
                <a:solidFill>
                  <a:srgbClr val="ff6600"/>
                </a:solidFill>
                <a:latin typeface="Symbol"/>
                <a:ea typeface="Symbol"/>
              </a:rPr>
              <a:t></a:t>
            </a:r>
            <a:r>
              <a:rPr b="0" lang="en-US" sz="4400" spc="-1" strike="noStrike">
                <a:solidFill>
                  <a:srgbClr val="ff6600"/>
                </a:solidFill>
                <a:latin typeface="Symbol"/>
                <a:ea typeface="Symbol"/>
              </a:rPr>
              <a:t></a:t>
            </a:r>
            <a:r>
              <a:rPr b="0" lang="en-US" sz="4400" spc="-1" strike="noStrike" baseline="30000">
                <a:solidFill>
                  <a:srgbClr val="ff66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: Event selection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17080" y="1268280"/>
            <a:ext cx="44989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ame technique as B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80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, 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808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808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FW + tagging inf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information of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mass is also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808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62&lt;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0.92 (GeV/c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751280" y="3833640"/>
            <a:ext cx="3637080" cy="3084480"/>
            <a:chOff x="4751280" y="3833640"/>
            <a:chExt cx="3637080" cy="308448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5154480" y="3920760"/>
              <a:ext cx="3162600" cy="25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033600" y="6338520"/>
              <a:ext cx="174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M</a:t>
              </a:r>
              <a:r>
                <a:rPr b="0" lang="ja-JP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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 (GeV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3855240" y="4844520"/>
              <a:ext cx="21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Osaka"/>
                </a:rPr>
                <a:t>Number of ev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2"/>
            <a:srcRect l="1718" t="2223" r="1718" b="2223"/>
            <a:stretch/>
          </p:blipFill>
          <p:spPr>
            <a:xfrm>
              <a:off x="7596360" y="3833640"/>
              <a:ext cx="792000" cy="60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"/>
          <p:cNvGrpSpPr/>
          <p:nvPr/>
        </p:nvGrpSpPr>
        <p:grpSpPr>
          <a:xfrm>
            <a:off x="4354560" y="981000"/>
            <a:ext cx="4608360" cy="2624760"/>
            <a:chOff x="4354560" y="981000"/>
            <a:chExt cx="4608360" cy="262476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4867560" y="1364760"/>
              <a:ext cx="395280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7527960" y="98100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Good ta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02080" y="3165120"/>
              <a:ext cx="1348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Osaka"/>
                </a:rPr>
                <a:t>M</a:t>
              </a:r>
              <a:r>
                <a:rPr b="0" lang="ja-JP" sz="2000" spc="-1" strike="noStrike" baseline="-25000">
                  <a:solidFill>
                    <a:srgbClr val="000000"/>
                  </a:solidFill>
                  <a:latin typeface="Arial"/>
                  <a:ea typeface="Osaka"/>
                </a:rPr>
                <a:t>BC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Osaka"/>
                </a:rPr>
                <a:t> (Ge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99360" y="316512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Osaka"/>
                </a:rPr>
                <a:t>E (Ge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3458520" y="2115000"/>
              <a:ext cx="21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Osaka"/>
                </a:rPr>
                <a:t>Number of ev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4"/>
            <a:srcRect l="1718" t="2223" r="1718" b="2223"/>
            <a:stretch/>
          </p:blipFill>
          <p:spPr>
            <a:xfrm>
              <a:off x="8170920" y="1401480"/>
              <a:ext cx="720720" cy="55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Polarization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82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has 3 polarization states with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different CP eigen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187280" y="2420640"/>
            <a:ext cx="1871280" cy="1295280"/>
            <a:chOff x="1187280" y="2420640"/>
            <a:chExt cx="1871280" cy="1295280"/>
          </a:xfrm>
        </p:grpSpPr>
        <p:sp>
          <p:nvSpPr>
            <p:cNvPr id="283" name=""/>
            <p:cNvSpPr/>
            <p:nvPr/>
          </p:nvSpPr>
          <p:spPr>
            <a:xfrm flipV="1">
              <a:off x="2123640" y="2708280"/>
              <a:ext cx="574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547640" y="3068640"/>
              <a:ext cx="57600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1187280" y="3213000"/>
              <a:ext cx="360360" cy="502920"/>
              <a:chOff x="1187280" y="3213000"/>
              <a:chExt cx="360360" cy="502920"/>
            </a:xfrm>
          </p:grpSpPr>
          <p:sp>
            <p:nvSpPr>
              <p:cNvPr id="286" name=""/>
              <p:cNvSpPr/>
              <p:nvPr/>
            </p:nvSpPr>
            <p:spPr>
              <a:xfrm>
                <a:off x="1187280" y="3213000"/>
                <a:ext cx="360360" cy="502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258560" y="3355560"/>
                <a:ext cx="289080" cy="2869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98200" y="2420640"/>
              <a:ext cx="360360" cy="502920"/>
              <a:chOff x="2698200" y="2420640"/>
              <a:chExt cx="360360" cy="502920"/>
            </a:xfrm>
          </p:grpSpPr>
          <p:sp>
            <p:nvSpPr>
              <p:cNvPr id="289" name=""/>
              <p:cNvSpPr/>
              <p:nvPr/>
            </p:nvSpPr>
            <p:spPr>
              <a:xfrm flipH="1" flipV="1">
                <a:off x="2698200" y="2420640"/>
                <a:ext cx="360360" cy="502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2697840" y="2493720"/>
                <a:ext cx="289080" cy="2869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906200" y="2852640"/>
              <a:ext cx="433440" cy="43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605480" y="2473200"/>
            <a:ext cx="3079440" cy="1190520"/>
            <a:chOff x="4605480" y="2473200"/>
            <a:chExt cx="3079440" cy="1190520"/>
          </a:xfrm>
        </p:grpSpPr>
        <p:sp>
          <p:nvSpPr>
            <p:cNvPr id="293" name=""/>
            <p:cNvSpPr/>
            <p:nvPr/>
          </p:nvSpPr>
          <p:spPr>
            <a:xfrm flipV="1">
              <a:off x="5508720" y="2789280"/>
              <a:ext cx="43164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076720" y="3076560"/>
              <a:ext cx="43200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4605480" y="3365640"/>
              <a:ext cx="449280" cy="298080"/>
              <a:chOff x="4605480" y="3365640"/>
              <a:chExt cx="449280" cy="298080"/>
            </a:xfrm>
          </p:grpSpPr>
          <p:sp>
            <p:nvSpPr>
              <p:cNvPr id="296" name=""/>
              <p:cNvSpPr/>
              <p:nvPr/>
            </p:nvSpPr>
            <p:spPr>
              <a:xfrm flipV="1">
                <a:off x="4605480" y="3376080"/>
                <a:ext cx="449280" cy="28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sm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10240" y="3365640"/>
                <a:ext cx="288720" cy="2872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5291280" y="2860560"/>
              <a:ext cx="433080" cy="432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5973840" y="2473200"/>
              <a:ext cx="449280" cy="298080"/>
              <a:chOff x="5973840" y="2473200"/>
              <a:chExt cx="449280" cy="298080"/>
            </a:xfrm>
          </p:grpSpPr>
          <p:sp>
            <p:nvSpPr>
              <p:cNvPr id="300" name=""/>
              <p:cNvSpPr/>
              <p:nvPr/>
            </p:nvSpPr>
            <p:spPr>
              <a:xfrm flipH="1">
                <a:off x="5973840" y="2473200"/>
                <a:ext cx="449280" cy="28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sm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6029640" y="2484000"/>
                <a:ext cx="288720" cy="2872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 flipV="1">
              <a:off x="6770520" y="2789280"/>
              <a:ext cx="43200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338520" y="3076560"/>
              <a:ext cx="43164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5867280" y="3365640"/>
              <a:ext cx="449280" cy="298080"/>
              <a:chOff x="5867280" y="3365640"/>
              <a:chExt cx="449280" cy="298080"/>
            </a:xfrm>
          </p:grpSpPr>
          <p:sp>
            <p:nvSpPr>
              <p:cNvPr id="305" name=""/>
              <p:cNvSpPr/>
              <p:nvPr/>
            </p:nvSpPr>
            <p:spPr>
              <a:xfrm flipH="1">
                <a:off x="5867280" y="3365640"/>
                <a:ext cx="449280" cy="28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sm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5923080" y="3376440"/>
                <a:ext cx="288720" cy="2872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6553080" y="2860560"/>
              <a:ext cx="433440" cy="432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7236000" y="2473200"/>
              <a:ext cx="448920" cy="298080"/>
              <a:chOff x="7236000" y="2473200"/>
              <a:chExt cx="448920" cy="298080"/>
            </a:xfrm>
          </p:grpSpPr>
          <p:sp>
            <p:nvSpPr>
              <p:cNvPr id="309" name=""/>
              <p:cNvSpPr/>
              <p:nvPr/>
            </p:nvSpPr>
            <p:spPr>
              <a:xfrm flipV="1">
                <a:off x="7236000" y="2483640"/>
                <a:ext cx="448920" cy="28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sm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340400" y="2473200"/>
                <a:ext cx="288360" cy="2872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1809000" y="340344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Longitud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52520" y="33750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Trans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66840" y="4076640"/>
            <a:ext cx="8526240" cy="2739600"/>
            <a:chOff x="366840" y="4076640"/>
            <a:chExt cx="8526240" cy="2739600"/>
          </a:xfrm>
        </p:grpSpPr>
        <p:grpSp>
          <p:nvGrpSpPr>
            <p:cNvPr id="314" name=""/>
            <p:cNvGrpSpPr/>
            <p:nvPr/>
          </p:nvGrpSpPr>
          <p:grpSpPr>
            <a:xfrm>
              <a:off x="366840" y="4076640"/>
              <a:ext cx="8451000" cy="2739600"/>
              <a:chOff x="366840" y="4076640"/>
              <a:chExt cx="8451000" cy="2739600"/>
            </a:xfrm>
          </p:grpSpPr>
          <p:pic>
            <p:nvPicPr>
              <p:cNvPr id="3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896080" y="4699080"/>
                <a:ext cx="2774880" cy="18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8004600" y="6356520"/>
                <a:ext cx="81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cos</a:t>
                </a:r>
                <a:r>
                  <a:rPr b="0" lang="ja-JP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7" name=""/>
                  <p:cNvSpPr txBox="1"/>
                  <p:nvPr/>
                </p:nvSpPr>
                <p:spPr>
                  <a:xfrm>
                    <a:off x="1324080" y="5516640"/>
                    <a:ext cx="3768480" cy="60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1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9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3</m:t>
                            </m:r>
                          </m:sup>
                        </m:sSubSup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8" name=""/>
              <p:cNvSpPr/>
              <p:nvPr/>
            </p:nvSpPr>
            <p:spPr>
              <a:xfrm rot="19974000">
                <a:off x="3792240" y="5635440"/>
                <a:ext cx="243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  <a:ea typeface="Osaka"/>
                  </a:rPr>
                  <a:t>Belle prelimina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6200000">
                <a:off x="4880520" y="5322960"/>
                <a:ext cx="170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# of Even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6840" y="4076640"/>
                <a:ext cx="8381880" cy="11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58920" indent="-358920">
                  <a:spcBef>
                    <a:spcPts val="799"/>
                  </a:spcBef>
                  <a:buClr>
                    <a:srgbClr val="ff6600"/>
                  </a:buClr>
                  <a:buSzPct val="80000"/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Fortunately, longitudinal polarization is dominant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1" name="" descr=""/>
            <p:cNvPicPr/>
            <p:nvPr/>
          </p:nvPicPr>
          <p:blipFill>
            <a:blip r:embed="rId2"/>
            <a:srcRect l="1718" t="2223" r="1718" b="2223"/>
            <a:stretch/>
          </p:blipFill>
          <p:spPr>
            <a:xfrm>
              <a:off x="8101080" y="4365720"/>
              <a:ext cx="792000" cy="60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Time dependent fi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-613" b="0"/>
          <a:stretch/>
        </p:blipFill>
        <p:spPr>
          <a:xfrm>
            <a:off x="324000" y="1768320"/>
            <a:ext cx="4464000" cy="43596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621080" y="1844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Osaka"/>
              </a:rPr>
              <a:t>q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8560" y="181440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Osaka"/>
              </a:rPr>
              <a:t>q=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Osak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58920" y="5337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oor 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0200" y="53006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good 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151160" y="1522440"/>
            <a:ext cx="4773600" cy="2009880"/>
            <a:chOff x="4151160" y="1522440"/>
            <a:chExt cx="4773600" cy="2009880"/>
          </a:xfrm>
        </p:grpSpPr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5176800" y="2198880"/>
                  <a:ext cx="3747960" cy="13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ρρ</m:t>
                              </m:r>
                            </m:sub>
                            <m:sup>
                              <m:r>
                                <m:t xml:space="preserve">L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  <m:r>
                            <m:t xml:space="preserve">±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±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8</m:t>
                          </m:r>
                        </m:e>
                        <m:e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ρρ</m:t>
                              </m:r>
                            </m:sub>
                            <m:sup>
                              <m:r>
                                <m:t xml:space="preserve">L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8</m:t>
                          </m:r>
                          <m:r>
                            <m:t xml:space="preserve">±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  <m:r>
                            <m:t xml:space="preserve">±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8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0" name=""/>
            <p:cNvSpPr/>
            <p:nvPr/>
          </p:nvSpPr>
          <p:spPr>
            <a:xfrm rot="20185800">
              <a:off x="4141440" y="1989000"/>
              <a:ext cx="243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Osaka"/>
                </a:rPr>
                <a:t>Belle prelimin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509800" y="4149720"/>
            <a:ext cx="29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No CP vi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389920" y="4869000"/>
            <a:ext cx="3324600" cy="1296360"/>
            <a:chOff x="5389920" y="4869000"/>
            <a:chExt cx="3324600" cy="1296360"/>
          </a:xfrm>
        </p:grpSpPr>
        <p:sp>
          <p:nvSpPr>
            <p:cNvPr id="333" name=""/>
            <p:cNvSpPr/>
            <p:nvPr/>
          </p:nvSpPr>
          <p:spPr>
            <a:xfrm>
              <a:off x="5389920" y="5516640"/>
              <a:ext cx="332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  <a:ea typeface="Osaka"/>
                </a:rPr>
                <a:t>2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eff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 ~ 180 (deg.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72360" y="4869000"/>
              <a:ext cx="1295280" cy="504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" descr=""/>
          <p:cNvPicPr/>
          <p:nvPr/>
        </p:nvPicPr>
        <p:blipFill>
          <a:blip r:embed="rId2"/>
          <a:srcRect l="1718" t="2223" r="1718" b="2223"/>
          <a:stretch/>
        </p:blipFill>
        <p:spPr>
          <a:xfrm>
            <a:off x="324000" y="1700280"/>
            <a:ext cx="792000" cy="604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201840" y="6165720"/>
            <a:ext cx="20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hep-ex/060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3480" y="599616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32 event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609480" y="1627200"/>
            <a:ext cx="3818160" cy="38178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0" lang="ja-JP" sz="4400" spc="-1" strike="noStrike" baseline="30000">
                <a:solidFill>
                  <a:srgbClr val="ff6600"/>
                </a:solidFill>
                <a:latin typeface="Arial"/>
              </a:rPr>
              <a:t>0</a:t>
            </a:r>
            <a:r>
              <a:rPr b="0" lang="ja-JP" sz="44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ja-JP" sz="4400" spc="-1" strike="noStrike">
                <a:solidFill>
                  <a:srgbClr val="ff6600"/>
                </a:solidFill>
                <a:latin typeface="Symbol"/>
                <a:ea typeface="Symbol"/>
              </a:rPr>
              <a:t></a:t>
            </a:r>
            <a:r>
              <a:rPr b="0" lang="ja-JP" sz="4400" spc="-1" strike="noStrike" baseline="30000">
                <a:solidFill>
                  <a:srgbClr val="ff6600"/>
                </a:solidFill>
                <a:latin typeface="Symbol"/>
                <a:ea typeface="Symbol"/>
              </a:rPr>
              <a:t></a:t>
            </a:r>
            <a:r>
              <a:rPr b="0" lang="ja-JP" sz="4400" spc="-1" strike="noStrike">
                <a:solidFill>
                  <a:srgbClr val="ff6600"/>
                </a:solidFill>
                <a:latin typeface="Symbol"/>
                <a:ea typeface="Symbol"/>
              </a:rPr>
              <a:t></a:t>
            </a:r>
            <a:r>
              <a:rPr b="0" lang="ja-JP" sz="4400" spc="-1" strike="noStrike" baseline="30000">
                <a:solidFill>
                  <a:srgbClr val="ff6600"/>
                </a:solidFill>
                <a:latin typeface="Symbol"/>
                <a:ea typeface="Symbol"/>
              </a:rPr>
              <a:t></a:t>
            </a:r>
            <a:r>
              <a:rPr b="0" lang="ja-JP" sz="4400" spc="-1" strike="noStrike">
                <a:solidFill>
                  <a:srgbClr val="ff6600"/>
                </a:solidFill>
                <a:latin typeface="Arial"/>
              </a:rPr>
              <a:t>: Belle vs. BaBar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3657600" cy="39052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932360" y="1125360"/>
            <a:ext cx="649440" cy="8668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7312320" y="64911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PRL 95, 0418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178600" y="5229360"/>
                <a:ext cx="3641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ρρ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ρρ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3926880" y="3429000"/>
            <a:ext cx="72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Monotype Corsiva"/>
                <a:ea typeface="Osaka"/>
              </a:rPr>
              <a:t>S</a:t>
            </a:r>
            <a:r>
              <a:rPr b="0" lang="ja-JP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75440" y="1484280"/>
            <a:ext cx="762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  <a:ea typeface="Osaka"/>
              </a:rPr>
              <a:t>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9040" y="2421000"/>
            <a:ext cx="2108520" cy="459720"/>
          </a:xfrm>
          <a:prstGeom prst="rect">
            <a:avLst/>
          </a:prstGeom>
          <a:solidFill>
            <a:srgbClr val="ccec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Osaka"/>
              </a:rPr>
              <a:t>Belle 275M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4520" y="4051440"/>
            <a:ext cx="2279160" cy="459720"/>
          </a:xfrm>
          <a:prstGeom prst="rect">
            <a:avLst/>
          </a:prstGeom>
          <a:solidFill>
            <a:srgbClr val="ffccc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  <a:ea typeface="Osaka"/>
              </a:rPr>
              <a:t>BaBar 232M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108000" y="3860640"/>
            <a:ext cx="541440" cy="7207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rcRect l="1718" t="2223" r="1718" b="2223"/>
          <a:stretch/>
        </p:blipFill>
        <p:spPr>
          <a:xfrm>
            <a:off x="1763640" y="2349360"/>
            <a:ext cx="684360" cy="522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25440" y="566100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Consistent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554560" y="2997360"/>
            <a:ext cx="413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  <a:ea typeface="Osaka"/>
              </a:rPr>
              <a:t>Isospin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Penguin pollution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60640" y="2349360"/>
            <a:ext cx="3580560" cy="2163960"/>
            <a:chOff x="260640" y="2349360"/>
            <a:chExt cx="3580560" cy="2163960"/>
          </a:xfrm>
        </p:grpSpPr>
        <p:sp>
          <p:nvSpPr>
            <p:cNvPr id="354" name=""/>
            <p:cNvSpPr/>
            <p:nvPr/>
          </p:nvSpPr>
          <p:spPr>
            <a:xfrm>
              <a:off x="3258000" y="3138480"/>
              <a:ext cx="58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B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"/>
            <a:stretch/>
          </p:blipFill>
          <p:spPr>
            <a:xfrm>
              <a:off x="900000" y="2852640"/>
              <a:ext cx="23097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829080" y="3524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828720" y="2781360"/>
              <a:ext cx="353160" cy="646920"/>
              <a:chOff x="828720" y="2781360"/>
              <a:chExt cx="353160" cy="646920"/>
            </a:xfrm>
          </p:grpSpPr>
          <p:sp>
            <p:nvSpPr>
              <p:cNvPr id="358" name=""/>
              <p:cNvSpPr/>
              <p:nvPr/>
            </p:nvSpPr>
            <p:spPr>
              <a:xfrm>
                <a:off x="831960" y="2968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28720" y="278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918160" y="2752560"/>
              <a:ext cx="349920" cy="678600"/>
              <a:chOff x="2918160" y="2752560"/>
              <a:chExt cx="349920" cy="678600"/>
            </a:xfrm>
          </p:grpSpPr>
          <p:sp>
            <p:nvSpPr>
              <p:cNvPr id="361" name=""/>
              <p:cNvSpPr/>
              <p:nvPr/>
            </p:nvSpPr>
            <p:spPr>
              <a:xfrm>
                <a:off x="2918160" y="2971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18160" y="275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2918160" y="3502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9080" y="35020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914840" y="2803680"/>
              <a:ext cx="349920" cy="627840"/>
              <a:chOff x="1914840" y="2803680"/>
              <a:chExt cx="349920" cy="627840"/>
            </a:xfrm>
          </p:grpSpPr>
          <p:sp>
            <p:nvSpPr>
              <p:cNvPr id="366" name=""/>
              <p:cNvSpPr/>
              <p:nvPr/>
            </p:nvSpPr>
            <p:spPr>
              <a:xfrm>
                <a:off x="1914840" y="2803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42560" y="29718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260640" y="3151080"/>
              <a:ext cx="58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B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78160" y="2852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80160" y="2349360"/>
              <a:ext cx="588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V</a:t>
              </a:r>
              <a:r>
                <a:rPr b="0" lang="ja-JP" sz="2800" spc="-1" strike="noStrike" baseline="-25000">
                  <a:solidFill>
                    <a:srgbClr val="000000"/>
                  </a:solidFill>
                  <a:latin typeface="Arial"/>
                  <a:ea typeface="Osaka"/>
                </a:rPr>
                <a:t>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63040" y="2349360"/>
              <a:ext cx="66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*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Osaka"/>
                </a:rPr>
                <a:t>t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94640" y="3933720"/>
              <a:ext cx="66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V</a:t>
              </a:r>
              <a:r>
                <a:rPr b="0" lang="ja-JP" sz="28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*</a:t>
              </a:r>
              <a:r>
                <a:rPr b="0" lang="ja-JP" sz="2800" spc="-1" strike="noStrike" baseline="-25000">
                  <a:solidFill>
                    <a:srgbClr val="000000"/>
                  </a:solidFill>
                  <a:latin typeface="Arial"/>
                  <a:ea typeface="Osaka"/>
                </a:rPr>
                <a:t>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02480" y="3933720"/>
              <a:ext cx="588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V</a:t>
              </a:r>
              <a:r>
                <a:rPr b="0" lang="ja-JP" sz="2800" spc="-1" strike="noStrike" baseline="-25000">
                  <a:solidFill>
                    <a:srgbClr val="000000"/>
                  </a:solidFill>
                  <a:latin typeface="Arial"/>
                  <a:ea typeface="Osaka"/>
                </a:rPr>
                <a:t>t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08000" y="2349360"/>
            <a:ext cx="3816360" cy="22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560" y="451008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Osaka"/>
              </a:rPr>
              <a:t>Mixing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26520" y="3014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Osak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500720" y="2349360"/>
            <a:ext cx="4553280" cy="2741760"/>
            <a:chOff x="4500720" y="2349360"/>
            <a:chExt cx="4553280" cy="2741760"/>
          </a:xfrm>
        </p:grpSpPr>
        <p:sp>
          <p:nvSpPr>
            <p:cNvPr id="378" name=""/>
            <p:cNvSpPr/>
            <p:nvPr/>
          </p:nvSpPr>
          <p:spPr>
            <a:xfrm>
              <a:off x="8402040" y="2919240"/>
              <a:ext cx="6519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</a:t>
              </a:r>
              <a:r>
                <a:rPr b="0" lang="en-US" sz="4400" spc="-1" strike="noStrike" baseline="-25000">
                  <a:solidFill>
                    <a:srgbClr val="0000ff"/>
                  </a:solidFill>
                  <a:latin typeface="Arial"/>
                  <a:ea typeface="Osaka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4500720" y="2349360"/>
              <a:ext cx="3816360" cy="2741760"/>
              <a:chOff x="4500720" y="2349360"/>
              <a:chExt cx="3816360" cy="274176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4500720" y="2349360"/>
                <a:ext cx="3816360" cy="2741760"/>
                <a:chOff x="4500720" y="2349360"/>
                <a:chExt cx="3816360" cy="2741760"/>
              </a:xfrm>
            </p:grpSpPr>
            <p:grpSp>
              <p:nvGrpSpPr>
                <p:cNvPr id="381" name=""/>
                <p:cNvGrpSpPr/>
                <p:nvPr/>
              </p:nvGrpSpPr>
              <p:grpSpPr>
                <a:xfrm>
                  <a:off x="4510800" y="2421000"/>
                  <a:ext cx="3804480" cy="1971000"/>
                  <a:chOff x="4510800" y="2421000"/>
                  <a:chExt cx="3804480" cy="1971000"/>
                </a:xfrm>
              </p:grpSpPr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7720" y="2779920"/>
                    <a:ext cx="23144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3" name=""/>
                  <p:cNvSpPr/>
                  <p:nvPr/>
                </p:nvSpPr>
                <p:spPr>
                  <a:xfrm>
                    <a:off x="4510800" y="3654360"/>
                    <a:ext cx="5832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B</a:t>
                    </a:r>
                    <a:r>
                      <a:rPr b="0" lang="en-US" sz="3200" spc="-1" strike="noStrike" baseline="30000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0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4721760" y="3071880"/>
                    <a:ext cx="353160" cy="646920"/>
                    <a:chOff x="4721760" y="3071880"/>
                    <a:chExt cx="353160" cy="64692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4725000" y="3259080"/>
                      <a:ext cx="3499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4721760" y="3071880"/>
                      <a:ext cx="3499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>
                    <a:off x="7317360" y="393228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7314120" y="3359160"/>
                    <a:ext cx="353160" cy="646920"/>
                    <a:chOff x="7314120" y="3359160"/>
                    <a:chExt cx="353160" cy="64692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7317360" y="3546360"/>
                      <a:ext cx="3499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7314120" y="3359160"/>
                      <a:ext cx="3499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7310880" y="2708280"/>
                    <a:ext cx="353160" cy="646920"/>
                    <a:chOff x="7310880" y="2708280"/>
                    <a:chExt cx="353160" cy="6469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7314120" y="2895480"/>
                      <a:ext cx="3499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7310880" y="2708280"/>
                      <a:ext cx="3499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4" name=""/>
                  <p:cNvSpPr/>
                  <p:nvPr/>
                </p:nvSpPr>
                <p:spPr>
                  <a:xfrm>
                    <a:off x="7574040" y="3568680"/>
                    <a:ext cx="7412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</a:t>
                    </a:r>
                    <a:r>
                      <a:rPr b="0" lang="ja-JP" sz="3200" spc="-1" strike="noStrike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/</a:t>
                    </a:r>
                    <a:r>
                      <a:rPr b="0" lang="ja-JP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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7526520" y="2563920"/>
                    <a:ext cx="7412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</a:t>
                    </a:r>
                    <a:r>
                      <a:rPr b="0" lang="ja-JP" sz="3200" spc="-1" strike="noStrike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/</a:t>
                    </a:r>
                    <a:r>
                      <a:rPr b="0" lang="ja-JP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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5906160" y="2421000"/>
                    <a:ext cx="7261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2800" spc="-1" strike="noStrike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V</a:t>
                    </a:r>
                    <a:r>
                      <a:rPr b="0" lang="ja-JP" sz="2800" spc="-1" strike="noStrike" baseline="30000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*</a:t>
                    </a:r>
                    <a:r>
                      <a:rPr b="0" lang="ja-JP" sz="2800" spc="-1" strike="noStrike" baseline="-25000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u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5172480" y="2849760"/>
                    <a:ext cx="680760" cy="63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3200" spc="-1" strike="noStrike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V</a:t>
                    </a:r>
                    <a:r>
                      <a:rPr b="0" lang="ja-JP" sz="2800" spc="-1" strike="noStrike" baseline="-25000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u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4500720" y="2349360"/>
                  <a:ext cx="3816360" cy="2741760"/>
                  <a:chOff x="4500720" y="2349360"/>
                  <a:chExt cx="3816360" cy="274176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4500720" y="2349360"/>
                    <a:ext cx="3816360" cy="223200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3816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5196600" y="4509720"/>
                    <a:ext cx="25948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33cc"/>
                        </a:solidFill>
                        <a:latin typeface="Arial"/>
                        <a:ea typeface="Osaka"/>
                      </a:rPr>
                      <a:t>Tree diagram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4947120" y="2442960"/>
                <a:ext cx="2720160" cy="2042280"/>
                <a:chOff x="4947120" y="2442960"/>
                <a:chExt cx="2720160" cy="20422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4947120" y="40255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317360" y="24429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826920" y="5589720"/>
                <a:ext cx="19321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301760" y="6234120"/>
                <a:ext cx="981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2344E-006 L 0.00226 -0.16805 E">
                                      <p:cBhvr>
                                        <p:cTn id="231" dur="1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01711E-007 L -0.0026 -0.17938 E">
                                      <p:cBhvr>
                                        <p:cTn id="233" dur="1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Penguin pollution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60640" y="2349360"/>
            <a:ext cx="3580560" cy="2163960"/>
            <a:chOff x="260640" y="2349360"/>
            <a:chExt cx="3580560" cy="2163960"/>
          </a:xfrm>
        </p:grpSpPr>
        <p:sp>
          <p:nvSpPr>
            <p:cNvPr id="408" name=""/>
            <p:cNvSpPr/>
            <p:nvPr/>
          </p:nvSpPr>
          <p:spPr>
            <a:xfrm>
              <a:off x="3258000" y="3138480"/>
              <a:ext cx="58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B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900000" y="2852640"/>
              <a:ext cx="23097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829080" y="3524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828720" y="2781360"/>
              <a:ext cx="353160" cy="646920"/>
              <a:chOff x="828720" y="2781360"/>
              <a:chExt cx="353160" cy="646920"/>
            </a:xfrm>
          </p:grpSpPr>
          <p:sp>
            <p:nvSpPr>
              <p:cNvPr id="412" name=""/>
              <p:cNvSpPr/>
              <p:nvPr/>
            </p:nvSpPr>
            <p:spPr>
              <a:xfrm>
                <a:off x="831960" y="2968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28720" y="278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918160" y="2752560"/>
              <a:ext cx="349920" cy="678600"/>
              <a:chOff x="2918160" y="2752560"/>
              <a:chExt cx="349920" cy="678600"/>
            </a:xfrm>
          </p:grpSpPr>
          <p:sp>
            <p:nvSpPr>
              <p:cNvPr id="415" name=""/>
              <p:cNvSpPr/>
              <p:nvPr/>
            </p:nvSpPr>
            <p:spPr>
              <a:xfrm>
                <a:off x="2918160" y="2971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18160" y="2752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2918160" y="3502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09080" y="35020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1914840" y="2803680"/>
              <a:ext cx="349920" cy="627840"/>
              <a:chOff x="1914840" y="2803680"/>
              <a:chExt cx="349920" cy="627840"/>
            </a:xfrm>
          </p:grpSpPr>
          <p:sp>
            <p:nvSpPr>
              <p:cNvPr id="420" name=""/>
              <p:cNvSpPr/>
              <p:nvPr/>
            </p:nvSpPr>
            <p:spPr>
              <a:xfrm>
                <a:off x="1914840" y="2803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942560" y="29718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260640" y="3151080"/>
              <a:ext cx="58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B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8160" y="2852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80160" y="2349360"/>
              <a:ext cx="588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V</a:t>
              </a:r>
              <a:r>
                <a:rPr b="0" lang="ja-JP" sz="2800" spc="-1" strike="noStrike" baseline="-25000">
                  <a:solidFill>
                    <a:srgbClr val="000000"/>
                  </a:solidFill>
                  <a:latin typeface="Arial"/>
                  <a:ea typeface="Osaka"/>
                </a:rPr>
                <a:t>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63040" y="2349360"/>
              <a:ext cx="66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*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Osaka"/>
                </a:rPr>
                <a:t>t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94640" y="3933720"/>
              <a:ext cx="66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V</a:t>
              </a:r>
              <a:r>
                <a:rPr b="0" lang="ja-JP" sz="28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*</a:t>
              </a:r>
              <a:r>
                <a:rPr b="0" lang="ja-JP" sz="2800" spc="-1" strike="noStrike" baseline="-25000">
                  <a:solidFill>
                    <a:srgbClr val="000000"/>
                  </a:solidFill>
                  <a:latin typeface="Arial"/>
                  <a:ea typeface="Osaka"/>
                </a:rPr>
                <a:t>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02480" y="3933720"/>
              <a:ext cx="588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V</a:t>
              </a:r>
              <a:r>
                <a:rPr b="0" lang="ja-JP" sz="2800" spc="-1" strike="noStrike" baseline="-25000">
                  <a:solidFill>
                    <a:srgbClr val="000000"/>
                  </a:solidFill>
                  <a:latin typeface="Arial"/>
                  <a:ea typeface="Osaka"/>
                </a:rPr>
                <a:t>t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08000" y="2349360"/>
            <a:ext cx="3816360" cy="22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560" y="451008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Osaka"/>
              </a:rPr>
              <a:t>Mixing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77200" y="177336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Osak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4500720" y="4076640"/>
            <a:ext cx="4457160" cy="2738880"/>
            <a:chOff x="4500720" y="4076640"/>
            <a:chExt cx="4457160" cy="2738880"/>
          </a:xfrm>
        </p:grpSpPr>
        <p:grpSp>
          <p:nvGrpSpPr>
            <p:cNvPr id="432" name=""/>
            <p:cNvGrpSpPr/>
            <p:nvPr/>
          </p:nvGrpSpPr>
          <p:grpSpPr>
            <a:xfrm>
              <a:off x="4500720" y="4076640"/>
              <a:ext cx="3816360" cy="2738880"/>
              <a:chOff x="4500720" y="4076640"/>
              <a:chExt cx="3816360" cy="2738880"/>
            </a:xfrm>
          </p:grpSpPr>
          <p:sp>
            <p:nvSpPr>
              <p:cNvPr id="433" name=""/>
              <p:cNvSpPr/>
              <p:nvPr/>
            </p:nvSpPr>
            <p:spPr>
              <a:xfrm>
                <a:off x="4500720" y="4076640"/>
                <a:ext cx="3816360" cy="22320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822200" y="6234120"/>
                <a:ext cx="3248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  <a:ea typeface="Osaka"/>
                  </a:rPr>
                  <a:t>Penguin diagra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4510440" y="4076640"/>
              <a:ext cx="3756960" cy="2117160"/>
              <a:chOff x="4510440" y="4076640"/>
              <a:chExt cx="3756960" cy="2117160"/>
            </a:xfrm>
          </p:grpSpPr>
          <p:pic>
            <p:nvPicPr>
              <p:cNvPr id="4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76720" y="4292640"/>
                <a:ext cx="2328840" cy="170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>
                <a:off x="4510440" y="5013360"/>
                <a:ext cx="583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B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Arial"/>
                    <a:ea typeface="Osaka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934160" y="5492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5007240" y="4584600"/>
                <a:ext cx="353160" cy="646920"/>
                <a:chOff x="5007240" y="4584600"/>
                <a:chExt cx="353160" cy="6469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5010480" y="47718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007240" y="45846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6019920" y="4221000"/>
                <a:ext cx="349920" cy="646920"/>
                <a:chOff x="6019920" y="4221000"/>
                <a:chExt cx="349920" cy="6469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6022440" y="4408200"/>
                  <a:ext cx="266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019920" y="4221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7310520" y="4221000"/>
                <a:ext cx="353160" cy="646920"/>
                <a:chOff x="7310520" y="4221000"/>
                <a:chExt cx="353160" cy="6469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7313760" y="44082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310520" y="4221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7310880" y="4772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7310520" y="5084640"/>
                <a:ext cx="353160" cy="646920"/>
                <a:chOff x="7310520" y="5084640"/>
                <a:chExt cx="353160" cy="6469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7313760" y="52718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310520" y="5084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7310880" y="5734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526160" y="5445000"/>
                <a:ext cx="74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ja-JP" sz="32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/</a:t>
                </a:r>
                <a:r>
                  <a:rPr b="0" lang="ja-JP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26160" y="4440240"/>
                <a:ext cx="74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ja-JP" sz="32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/</a:t>
                </a:r>
                <a:r>
                  <a:rPr b="0" lang="ja-JP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164560" y="4076640"/>
                <a:ext cx="62424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32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V</a:t>
                </a:r>
                <a:r>
                  <a:rPr b="0" lang="ja-JP" sz="2800" spc="-1" strike="noStrike" baseline="-25000">
                    <a:solidFill>
                      <a:srgbClr val="000000"/>
                    </a:solidFill>
                    <a:latin typeface="Arial"/>
                    <a:ea typeface="Osaka"/>
                  </a:rPr>
                  <a:t>t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395400" y="4149720"/>
                <a:ext cx="669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V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  <a:ea typeface="Osaka"/>
                  </a:rPr>
                  <a:t>*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rial"/>
                    <a:ea typeface="Osaka"/>
                  </a:rPr>
                  <a:t>t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8466120" y="48052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"/>
                  <a:ea typeface="Osaka"/>
                </a:rPr>
                <a:t>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3926520" y="46530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Osak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449280" y="5451480"/>
                <a:ext cx="3389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06360" y="6170760"/>
                <a:ext cx="2320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1" name=""/>
          <p:cNvGrpSpPr/>
          <p:nvPr/>
        </p:nvGrpSpPr>
        <p:grpSpPr>
          <a:xfrm>
            <a:off x="4500720" y="1193760"/>
            <a:ext cx="4553280" cy="2741760"/>
            <a:chOff x="4500720" y="1193760"/>
            <a:chExt cx="4553280" cy="2741760"/>
          </a:xfrm>
        </p:grpSpPr>
        <p:sp>
          <p:nvSpPr>
            <p:cNvPr id="462" name=""/>
            <p:cNvSpPr/>
            <p:nvPr/>
          </p:nvSpPr>
          <p:spPr>
            <a:xfrm>
              <a:off x="8402040" y="1763280"/>
              <a:ext cx="6519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</a:t>
              </a:r>
              <a:r>
                <a:rPr b="0" lang="en-US" sz="4400" spc="-1" strike="noStrike" baseline="-25000">
                  <a:solidFill>
                    <a:srgbClr val="0000ff"/>
                  </a:solidFill>
                  <a:latin typeface="Arial"/>
                  <a:ea typeface="Osaka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4500720" y="1193760"/>
              <a:ext cx="3816360" cy="2741760"/>
              <a:chOff x="4500720" y="1193760"/>
              <a:chExt cx="3816360" cy="274176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4500720" y="1193760"/>
                <a:ext cx="3816360" cy="2741760"/>
                <a:chOff x="4500720" y="1193760"/>
                <a:chExt cx="3816360" cy="2741760"/>
              </a:xfrm>
            </p:grpSpPr>
            <p:grpSp>
              <p:nvGrpSpPr>
                <p:cNvPr id="465" name=""/>
                <p:cNvGrpSpPr/>
                <p:nvPr/>
              </p:nvGrpSpPr>
              <p:grpSpPr>
                <a:xfrm>
                  <a:off x="4510800" y="1265400"/>
                  <a:ext cx="3804480" cy="1971000"/>
                  <a:chOff x="4510800" y="1265400"/>
                  <a:chExt cx="3804480" cy="1971000"/>
                </a:xfrm>
              </p:grpSpPr>
              <p:pic>
                <p:nvPicPr>
                  <p:cNvPr id="4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67720" y="1624320"/>
                    <a:ext cx="23144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7" name=""/>
                  <p:cNvSpPr/>
                  <p:nvPr/>
                </p:nvSpPr>
                <p:spPr>
                  <a:xfrm>
                    <a:off x="4510800" y="2498760"/>
                    <a:ext cx="5832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B</a:t>
                    </a:r>
                    <a:r>
                      <a:rPr b="0" lang="en-US" sz="3200" spc="-1" strike="noStrike" baseline="30000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0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4721760" y="1916280"/>
                    <a:ext cx="353160" cy="646920"/>
                    <a:chOff x="4721760" y="1916280"/>
                    <a:chExt cx="353160" cy="6469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4725000" y="2103480"/>
                      <a:ext cx="3499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4721760" y="1916280"/>
                      <a:ext cx="3499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7317360" y="277668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7314120" y="2203560"/>
                    <a:ext cx="353160" cy="646920"/>
                    <a:chOff x="7314120" y="2203560"/>
                    <a:chExt cx="353160" cy="64692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7317360" y="2390760"/>
                      <a:ext cx="3499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7314120" y="2203560"/>
                      <a:ext cx="3499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7310880" y="1552680"/>
                    <a:ext cx="353160" cy="646920"/>
                    <a:chOff x="7310880" y="1552680"/>
                    <a:chExt cx="353160" cy="646920"/>
                  </a:xfrm>
                </p:grpSpPr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7314120" y="1739880"/>
                      <a:ext cx="3499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7310880" y="1552680"/>
                      <a:ext cx="3499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8" name=""/>
                  <p:cNvSpPr/>
                  <p:nvPr/>
                </p:nvSpPr>
                <p:spPr>
                  <a:xfrm>
                    <a:off x="7574040" y="2413080"/>
                    <a:ext cx="7412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</a:t>
                    </a:r>
                    <a:r>
                      <a:rPr b="0" lang="ja-JP" sz="3200" spc="-1" strike="noStrike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/</a:t>
                    </a:r>
                    <a:r>
                      <a:rPr b="0" lang="ja-JP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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7526520" y="1408320"/>
                    <a:ext cx="7412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</a:t>
                    </a:r>
                    <a:r>
                      <a:rPr b="0" lang="ja-JP" sz="3200" spc="-1" strike="noStrike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/</a:t>
                    </a:r>
                    <a:r>
                      <a:rPr b="0" lang="ja-JP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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5906160" y="1265400"/>
                    <a:ext cx="7261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2800" spc="-1" strike="noStrike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V</a:t>
                    </a:r>
                    <a:r>
                      <a:rPr b="0" lang="ja-JP" sz="2800" spc="-1" strike="noStrike" baseline="30000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*</a:t>
                    </a:r>
                    <a:r>
                      <a:rPr b="0" lang="ja-JP" sz="2800" spc="-1" strike="noStrike" baseline="-25000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u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5172480" y="1694160"/>
                    <a:ext cx="680760" cy="63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3200" spc="-1" strike="noStrike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V</a:t>
                    </a:r>
                    <a:r>
                      <a:rPr b="0" lang="ja-JP" sz="2800" spc="-1" strike="noStrike" baseline="-25000">
                        <a:solidFill>
                          <a:srgbClr val="000000"/>
                        </a:solidFill>
                        <a:latin typeface="Arial"/>
                        <a:ea typeface="Osaka"/>
                      </a:rPr>
                      <a:t>u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4500720" y="1193760"/>
                  <a:ext cx="3816360" cy="2741760"/>
                  <a:chOff x="4500720" y="1193760"/>
                  <a:chExt cx="3816360" cy="27417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4500720" y="1193760"/>
                    <a:ext cx="3816360" cy="223200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3816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5196600" y="3354120"/>
                    <a:ext cx="25948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33cc"/>
                        </a:solidFill>
                        <a:latin typeface="Arial"/>
                        <a:ea typeface="Osaka"/>
                      </a:rPr>
                      <a:t>Tree diagram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4947120" y="1287360"/>
                <a:ext cx="2720160" cy="2042280"/>
                <a:chOff x="4947120" y="1287360"/>
                <a:chExt cx="2720160" cy="20422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947120" y="2869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317360" y="12873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5219640" y="1413000"/>
            <a:ext cx="3384720" cy="1944720"/>
            <a:chOff x="5219640" y="1413000"/>
            <a:chExt cx="3384720" cy="1944720"/>
          </a:xfrm>
        </p:grpSpPr>
        <p:sp>
          <p:nvSpPr>
            <p:cNvPr id="489" name=""/>
            <p:cNvSpPr/>
            <p:nvPr/>
          </p:nvSpPr>
          <p:spPr>
            <a:xfrm flipV="1">
              <a:off x="5219640" y="1413000"/>
              <a:ext cx="1440000" cy="1944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59640" y="1413000"/>
              <a:ext cx="1944720" cy="1944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219640" y="1557360"/>
            <a:ext cx="3384360" cy="1800000"/>
            <a:chOff x="5219640" y="1557360"/>
            <a:chExt cx="3384360" cy="1800000"/>
          </a:xfrm>
        </p:grpSpPr>
        <p:sp>
          <p:nvSpPr>
            <p:cNvPr id="492" name=""/>
            <p:cNvSpPr/>
            <p:nvPr/>
          </p:nvSpPr>
          <p:spPr>
            <a:xfrm>
              <a:off x="5219640" y="3357360"/>
              <a:ext cx="3384360" cy="0"/>
            </a:xfrm>
            <a:prstGeom prst="line">
              <a:avLst/>
            </a:prstGeom>
            <a:ln w="572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5219640" y="1557360"/>
              <a:ext cx="3024000" cy="1800000"/>
            </a:xfrm>
            <a:prstGeom prst="line">
              <a:avLst/>
            </a:prstGeom>
            <a:ln w="572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8243280" y="1557360"/>
              <a:ext cx="360360" cy="1800000"/>
            </a:xfrm>
            <a:prstGeom prst="line">
              <a:avLst/>
            </a:prstGeom>
            <a:ln w="572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Isospin analysis (how to get </a:t>
            </a:r>
            <a:r>
              <a:rPr b="0" lang="en-US" sz="4400" spc="-1" strike="noStrike">
                <a:solidFill>
                  <a:srgbClr val="ff6600"/>
                </a:solidFill>
                <a:latin typeface="Symbol"/>
                <a:ea typeface="Symbol"/>
              </a:rPr>
              <a:t>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4500720" y="4437000"/>
                <a:ext cx="27874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97" name=""/>
          <p:cNvGrpSpPr/>
          <p:nvPr/>
        </p:nvGrpSpPr>
        <p:grpSpPr>
          <a:xfrm>
            <a:off x="636480" y="1809720"/>
            <a:ext cx="3364200" cy="1111320"/>
            <a:chOff x="636480" y="1809720"/>
            <a:chExt cx="3364200" cy="1111320"/>
          </a:xfrm>
        </p:grpSpPr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636480" y="1809720"/>
                  <a:ext cx="336420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Α</m:t>
                          </m:r>
                        </m:e>
                        <m:sup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→</m:t>
                      </m:r>
                      <m:sSup>
                        <m:e>
                          <m:r>
                            <m:t xml:space="preserve">π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sSup>
                        <m:e>
                          <m:r>
                            <m:t xml:space="preserve">π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636480" y="2349360"/>
                  <a:ext cx="33004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Α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→</m:t>
                      </m:r>
                      <m:sSup>
                        <m:e>
                          <m:r>
                            <m:t xml:space="preserve">π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sSup>
                        <m:e>
                          <m:r>
                            <m:t xml:space="preserve">π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636480" y="1268280"/>
                <a:ext cx="3399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611280" y="3357720"/>
                <a:ext cx="373212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−</m:t>
                        </m:r>
                      </m:sup>
                    </m:sSup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5219640" y="3357720"/>
            <a:ext cx="338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219640" y="1557000"/>
            <a:ext cx="3024360" cy="180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8243640" y="1557000"/>
            <a:ext cx="360360" cy="180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6588000" y="3429000"/>
                <a:ext cx="763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8399520" y="1916280"/>
                <a:ext cx="72540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200560" y="1628640"/>
                <a:ext cx="16034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−</m:t>
                        </m:r>
                      </m:sup>
                    </m:sSup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492360" y="3284640"/>
            <a:ext cx="936720" cy="865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40000" y="3284640"/>
            <a:ext cx="936720" cy="865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11280" y="3284640"/>
            <a:ext cx="1584360" cy="865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434920" y="2781360"/>
            <a:ext cx="4330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590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59073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859280" y="2924280"/>
            <a:ext cx="865080" cy="1512720"/>
          </a:xfrm>
          <a:custGeom>
            <a:avLst/>
            <a:gdLst/>
            <a:ahLst/>
            <a:rect l="l" t="t" r="r" b="b"/>
            <a:pathLst>
              <a:path w="635" h="1180">
                <a:moveTo>
                  <a:pt x="635" y="0"/>
                </a:moveTo>
                <a:cubicBezTo>
                  <a:pt x="537" y="22"/>
                  <a:pt x="439" y="45"/>
                  <a:pt x="363" y="91"/>
                </a:cubicBezTo>
                <a:cubicBezTo>
                  <a:pt x="287" y="137"/>
                  <a:pt x="227" y="197"/>
                  <a:pt x="182" y="273"/>
                </a:cubicBezTo>
                <a:cubicBezTo>
                  <a:pt x="137" y="349"/>
                  <a:pt x="91" y="477"/>
                  <a:pt x="91" y="545"/>
                </a:cubicBezTo>
                <a:cubicBezTo>
                  <a:pt x="91" y="613"/>
                  <a:pt x="152" y="674"/>
                  <a:pt x="182" y="681"/>
                </a:cubicBezTo>
                <a:cubicBezTo>
                  <a:pt x="212" y="688"/>
                  <a:pt x="272" y="620"/>
                  <a:pt x="272" y="590"/>
                </a:cubicBezTo>
                <a:cubicBezTo>
                  <a:pt x="272" y="560"/>
                  <a:pt x="220" y="491"/>
                  <a:pt x="182" y="499"/>
                </a:cubicBezTo>
                <a:cubicBezTo>
                  <a:pt x="144" y="507"/>
                  <a:pt x="76" y="560"/>
                  <a:pt x="46" y="636"/>
                </a:cubicBezTo>
                <a:cubicBezTo>
                  <a:pt x="16" y="712"/>
                  <a:pt x="0" y="862"/>
                  <a:pt x="0" y="953"/>
                </a:cubicBezTo>
                <a:cubicBezTo>
                  <a:pt x="0" y="1044"/>
                  <a:pt x="23" y="1112"/>
                  <a:pt x="46" y="118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3600" y="5591160"/>
            <a:ext cx="750312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Osaka"/>
              </a:rPr>
              <a:t>BF and asymmetries: World average (HF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Osaka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Monotype Corsiva"/>
                <a:ea typeface="Osaka"/>
              </a:rPr>
              <a:t>A</a:t>
            </a:r>
            <a:r>
              <a:rPr b="0" i="1" lang="ja-JP" sz="28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hh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Osaka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Monotype Corsiva"/>
                <a:ea typeface="Osaka"/>
              </a:rPr>
              <a:t>S</a:t>
            </a:r>
            <a:r>
              <a:rPr b="0" i="1" lang="ja-JP" sz="28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h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Osaka"/>
              </a:rPr>
              <a:t>: Belle measurement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500" fill="hold"/>
                                        <p:tgtEl>
                                          <p:spTgt spid="51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New “phase” of B factories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822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32544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nfirmation of KM model of C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880" indent="239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2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by J/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880" indent="239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880" indent="239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880" indent="239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u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3866760"/>
            <a:ext cx="838224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6680" indent="-34668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rch for the physics beyond SM              =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New “phase”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from new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2548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are dec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2548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istency check (Unitarity Triangle clos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6600"/>
                </a:solidFill>
                <a:latin typeface="Arial"/>
              </a:rPr>
              <a:t>Situation of B</a:t>
            </a:r>
            <a:r>
              <a:rPr b="0" lang="ja-JP" sz="44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ja-JP" sz="4400" spc="-1" strike="noStrike">
                <a:solidFill>
                  <a:srgbClr val="ff6600"/>
                </a:solidFill>
                <a:latin typeface="Symbol"/>
                <a:ea typeface="Symbol"/>
              </a:rPr>
              <a:t>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25440" y="1773360"/>
            <a:ext cx="4030560" cy="3261240"/>
            <a:chOff x="325440" y="1773360"/>
            <a:chExt cx="4030560" cy="3261240"/>
          </a:xfrm>
        </p:grpSpPr>
        <p:sp>
          <p:nvSpPr>
            <p:cNvPr id="516" name=""/>
            <p:cNvSpPr/>
            <p:nvPr/>
          </p:nvSpPr>
          <p:spPr>
            <a:xfrm>
              <a:off x="611280" y="3286080"/>
              <a:ext cx="2305080" cy="7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2916360" y="3285720"/>
              <a:ext cx="934920" cy="7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1280" y="3286080"/>
              <a:ext cx="3240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851280" y="2205000"/>
              <a:ext cx="504720" cy="10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25440" y="1773360"/>
              <a:ext cx="4030560" cy="3261240"/>
              <a:chOff x="325440" y="1773360"/>
              <a:chExt cx="4030560" cy="3261240"/>
            </a:xfrm>
          </p:grpSpPr>
          <p:sp>
            <p:nvSpPr>
              <p:cNvPr id="521" name=""/>
              <p:cNvSpPr/>
              <p:nvPr/>
            </p:nvSpPr>
            <p:spPr>
              <a:xfrm flipV="1">
                <a:off x="611280" y="2204640"/>
                <a:ext cx="3744720" cy="108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754920" y="2133720"/>
                <a:ext cx="289080" cy="1079280"/>
              </a:xfrm>
              <a:custGeom>
                <a:avLst/>
                <a:gdLst/>
                <a:ahLst/>
                <a:rect l="l" t="t" r="r" b="b"/>
                <a:pathLst>
                  <a:path w="287" h="680">
                    <a:moveTo>
                      <a:pt x="0" y="0"/>
                    </a:moveTo>
                    <a:cubicBezTo>
                      <a:pt x="128" y="79"/>
                      <a:pt x="257" y="159"/>
                      <a:pt x="272" y="272"/>
                    </a:cubicBezTo>
                    <a:cubicBezTo>
                      <a:pt x="287" y="385"/>
                      <a:pt x="188" y="532"/>
                      <a:pt x="90" y="68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3" name=""/>
                  <p:cNvSpPr txBox="1"/>
                  <p:nvPr/>
                </p:nvSpPr>
                <p:spPr>
                  <a:xfrm>
                    <a:off x="996840" y="1773360"/>
                    <a:ext cx="2062440" cy="687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ff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4" name=""/>
              <p:cNvSpPr/>
              <p:nvPr/>
            </p:nvSpPr>
            <p:spPr>
              <a:xfrm>
                <a:off x="325440" y="3500280"/>
                <a:ext cx="3826080" cy="15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Due to the large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Monotype Corsiva"/>
                    <a:ea typeface="Osaka"/>
                  </a:rPr>
                  <a:t>A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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one of the triangles ar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squeezed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"/>
          <p:cNvSpPr/>
          <p:nvPr/>
        </p:nvSpPr>
        <p:spPr>
          <a:xfrm>
            <a:off x="4332240" y="5300640"/>
            <a:ext cx="4681440" cy="1008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468680" y="5322960"/>
                <a:ext cx="3151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7" name=""/>
          <p:cNvSpPr/>
          <p:nvPr/>
        </p:nvSpPr>
        <p:spPr>
          <a:xfrm>
            <a:off x="6204600" y="585144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uded at 90% C.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790400" y="52768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4583160" y="1773360"/>
            <a:ext cx="4381560" cy="31240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rcRect l="1718" t="2223" r="1718" b="2223"/>
          <a:stretch/>
        </p:blipFill>
        <p:spPr>
          <a:xfrm>
            <a:off x="5219640" y="1662120"/>
            <a:ext cx="936720" cy="71604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4191480" y="47322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Osaka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6600"/>
                </a:solidFill>
                <a:latin typeface="Arial"/>
              </a:rPr>
              <a:t>Situation of B</a:t>
            </a:r>
            <a:r>
              <a:rPr b="0" lang="ja-JP" sz="44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ja-JP" sz="4400" spc="-1" strike="noStrike">
                <a:solidFill>
                  <a:srgbClr val="ff6600"/>
                </a:solidFill>
                <a:latin typeface="Symbol"/>
                <a:ea typeface="Symbol"/>
              </a:rPr>
              <a:t>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90440" y="1484280"/>
            <a:ext cx="4381560" cy="3235320"/>
            <a:chOff x="190440" y="1484280"/>
            <a:chExt cx="4381560" cy="3235320"/>
          </a:xfrm>
        </p:grpSpPr>
        <p:pic>
          <p:nvPicPr>
            <p:cNvPr id="534" name="" descr=""/>
            <p:cNvPicPr/>
            <p:nvPr/>
          </p:nvPicPr>
          <p:blipFill>
            <a:blip r:embed="rId1"/>
            <a:stretch/>
          </p:blipFill>
          <p:spPr>
            <a:xfrm>
              <a:off x="190440" y="1595520"/>
              <a:ext cx="438156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2"/>
            <a:srcRect l="1718" t="2223" r="1718" b="2223"/>
            <a:stretch/>
          </p:blipFill>
          <p:spPr>
            <a:xfrm>
              <a:off x="826920" y="1484280"/>
              <a:ext cx="936720" cy="71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6" name=""/>
          <p:cNvGrpSpPr/>
          <p:nvPr/>
        </p:nvGrpSpPr>
        <p:grpSpPr>
          <a:xfrm>
            <a:off x="181440" y="4653000"/>
            <a:ext cx="4845600" cy="1578960"/>
            <a:chOff x="181440" y="4653000"/>
            <a:chExt cx="4845600" cy="1578960"/>
          </a:xfrm>
        </p:grpSpPr>
        <p:sp>
          <p:nvSpPr>
            <p:cNvPr id="537" name=""/>
            <p:cNvSpPr/>
            <p:nvPr/>
          </p:nvSpPr>
          <p:spPr>
            <a:xfrm>
              <a:off x="322200" y="5221440"/>
              <a:ext cx="4681440" cy="1008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8" name=""/>
                <p:cNvSpPr txBox="1"/>
                <p:nvPr/>
              </p:nvSpPr>
              <p:spPr>
                <a:xfrm>
                  <a:off x="458640" y="5243760"/>
                  <a:ext cx="315144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&lt;</m:t>
                          </m:r>
                          <m:sSup>
                            <m:e>
                              <m:r>
                                <m:t xml:space="preserve">8</m:t>
                              </m:r>
                            </m:e>
                            <m:sup>
                              <m:r>
                                <m:t xml:space="preserve">∘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2</m:t>
                          </m:r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&lt;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</m:e>
                            <m:sup>
                              <m:r>
                                <m:t xml:space="preserve">∘</m:t>
                              </m:r>
                            </m:sup>
                          </m:sSup>
                        </m:e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sup>
                              <m:r>
                                <m:t xml:space="preserve">∘</m:t>
                              </m:r>
                            </m:sup>
                          </m:sSup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&lt;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e>
                            <m:sup>
                              <m:r>
                                <m:t xml:space="preserve">∘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39" name=""/>
            <p:cNvSpPr/>
            <p:nvPr/>
          </p:nvSpPr>
          <p:spPr>
            <a:xfrm>
              <a:off x="2194560" y="5772240"/>
              <a:ext cx="283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cluded at 90% C.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80360" y="5197680"/>
              <a:ext cx="8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1440" y="465300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  <a:ea typeface="Osaka"/>
                </a:rPr>
                <a:t>Bel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4548240" y="1881360"/>
            <a:ext cx="4416480" cy="2700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4840200" y="905040"/>
            <a:ext cx="812880" cy="10839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506920" y="5229360"/>
            <a:ext cx="3097440" cy="1008000"/>
          </a:xfrm>
          <a:prstGeom prst="rect">
            <a:avLst/>
          </a:prstGeom>
          <a:solidFill>
            <a:srgbClr val="ffcc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5651640" y="5284800"/>
                <a:ext cx="1728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&lt;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>
            <a:off x="5579280" y="574200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uded at 90% C.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365440" y="466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  <a:ea typeface="Osaka"/>
              </a:rPr>
              <a:t>Ba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786200" y="5300640"/>
            <a:ext cx="4249800" cy="129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6600"/>
                </a:solidFill>
                <a:latin typeface="Arial"/>
              </a:rPr>
              <a:t>Situation of B</a:t>
            </a:r>
            <a:r>
              <a:rPr b="0" lang="ja-JP" sz="44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ja-JP" sz="4400" spc="-1" strike="noStrike">
                <a:solidFill>
                  <a:srgbClr val="ff6600"/>
                </a:solidFill>
                <a:latin typeface="Symbol"/>
                <a:ea typeface="Symbol"/>
              </a:rPr>
              <a:t>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427640" y="1670040"/>
            <a:ext cx="4570200" cy="319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5002200" y="5351400"/>
                <a:ext cx="218448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±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7077240" y="5956200"/>
            <a:ext cx="18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90% C.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035120" y="533880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8160" y="1773360"/>
            <a:ext cx="4296960" cy="4664880"/>
            <a:chOff x="38160" y="1773360"/>
            <a:chExt cx="4296960" cy="4664880"/>
          </a:xfrm>
        </p:grpSpPr>
        <p:sp>
          <p:nvSpPr>
            <p:cNvPr id="555" name=""/>
            <p:cNvSpPr/>
            <p:nvPr/>
          </p:nvSpPr>
          <p:spPr>
            <a:xfrm>
              <a:off x="611280" y="3286080"/>
              <a:ext cx="2592360" cy="7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3132000" y="3285720"/>
              <a:ext cx="719280" cy="7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1280" y="3286080"/>
              <a:ext cx="3240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11280" y="3141360"/>
              <a:ext cx="280836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19640" y="3141720"/>
              <a:ext cx="43164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5800" y="3645000"/>
              <a:ext cx="3885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Due to the small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Br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 o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, both of tw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triangles are squeezed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47640" y="5013360"/>
              <a:ext cx="1511640" cy="503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160" y="5492880"/>
              <a:ext cx="429696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Good determination of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Osak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(with only two mirror solution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81200" y="2133720"/>
              <a:ext cx="288720" cy="1079280"/>
            </a:xfrm>
            <a:custGeom>
              <a:avLst/>
              <a:gdLst/>
              <a:ahLst/>
              <a:rect l="l" t="t" r="r" b="b"/>
              <a:pathLst>
                <a:path w="287" h="680">
                  <a:moveTo>
                    <a:pt x="0" y="0"/>
                  </a:moveTo>
                  <a:cubicBezTo>
                    <a:pt x="128" y="79"/>
                    <a:pt x="257" y="159"/>
                    <a:pt x="272" y="272"/>
                  </a:cubicBezTo>
                  <a:cubicBezTo>
                    <a:pt x="287" y="385"/>
                    <a:pt x="188" y="532"/>
                    <a:pt x="90" y="6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996840" y="1773360"/>
                  <a:ext cx="206244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eff</m:t>
                              </m:r>
                            </m:sup>
                          </m:sSub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65" name="" descr=""/>
          <p:cNvPicPr/>
          <p:nvPr/>
        </p:nvPicPr>
        <p:blipFill>
          <a:blip r:embed="rId2"/>
          <a:srcRect l="1718" t="2223" r="1718" b="2223"/>
          <a:stretch/>
        </p:blipFill>
        <p:spPr>
          <a:xfrm>
            <a:off x="5146560" y="1663560"/>
            <a:ext cx="936720" cy="7146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709160" y="47322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Osaka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6600"/>
                </a:solidFill>
                <a:latin typeface="Arial"/>
              </a:rPr>
              <a:t>Situation of B</a:t>
            </a:r>
            <a:r>
              <a:rPr b="0" lang="ja-JP" sz="44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ja-JP" sz="4400" spc="-1" strike="noStrike">
                <a:solidFill>
                  <a:srgbClr val="ff6600"/>
                </a:solidFill>
                <a:latin typeface="Symbol"/>
                <a:ea typeface="Symbol"/>
              </a:rPr>
              <a:t>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-36360" y="1519200"/>
            <a:ext cx="4608360" cy="4934160"/>
            <a:chOff x="-36360" y="1519200"/>
            <a:chExt cx="4608360" cy="4934160"/>
          </a:xfrm>
        </p:grpSpPr>
        <p:sp>
          <p:nvSpPr>
            <p:cNvPr id="569" name=""/>
            <p:cNvSpPr/>
            <p:nvPr/>
          </p:nvSpPr>
          <p:spPr>
            <a:xfrm>
              <a:off x="322200" y="5156280"/>
              <a:ext cx="4249800" cy="12970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" descr=""/>
            <p:cNvPicPr/>
            <p:nvPr/>
          </p:nvPicPr>
          <p:blipFill>
            <a:blip r:embed="rId1"/>
            <a:stretch/>
          </p:blipFill>
          <p:spPr>
            <a:xfrm>
              <a:off x="-36360" y="1525680"/>
              <a:ext cx="4570200" cy="3198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538200" y="5207040"/>
                  <a:ext cx="2184480" cy="12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88</m:t>
                          </m:r>
                          <m:r>
                            <m:t xml:space="preserve">±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sup>
                              <m:r>
                                <m:t xml:space="preserve">∘</m:t>
                              </m:r>
                            </m:sup>
                          </m:sSup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9</m:t>
                          </m:r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&lt;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5</m:t>
                              </m:r>
                            </m:e>
                            <m:sup>
                              <m:r>
                                <m:t xml:space="preserve">∘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72" name=""/>
            <p:cNvSpPr/>
            <p:nvPr/>
          </p:nvSpPr>
          <p:spPr>
            <a:xfrm>
              <a:off x="2613240" y="581184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 90% C.L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71120" y="5194440"/>
              <a:ext cx="91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 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" descr=""/>
            <p:cNvPicPr/>
            <p:nvPr/>
          </p:nvPicPr>
          <p:blipFill>
            <a:blip r:embed="rId2"/>
            <a:srcRect l="1718" t="2223" r="1718" b="2223"/>
            <a:stretch/>
          </p:blipFill>
          <p:spPr>
            <a:xfrm>
              <a:off x="682560" y="1519200"/>
              <a:ext cx="93672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245160" y="458784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  <a:ea typeface="Osaka"/>
                </a:rPr>
                <a:t>Bel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635360" y="1276200"/>
            <a:ext cx="4400640" cy="5176800"/>
            <a:chOff x="4635360" y="1276200"/>
            <a:chExt cx="4400640" cy="5176800"/>
          </a:xfrm>
        </p:grpSpPr>
        <p:pic>
          <p:nvPicPr>
            <p:cNvPr id="577" name="" descr=""/>
            <p:cNvPicPr/>
            <p:nvPr/>
          </p:nvPicPr>
          <p:blipFill>
            <a:blip r:embed="rId3"/>
            <a:stretch/>
          </p:blipFill>
          <p:spPr>
            <a:xfrm>
              <a:off x="4635360" y="2195280"/>
              <a:ext cx="4200480" cy="23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4786200" y="5155920"/>
              <a:ext cx="4249800" cy="12970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5002200" y="5206680"/>
                  <a:ext cx="2184480" cy="12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r>
                            <m:t xml:space="preserve">±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  <m:sup>
                              <m:r>
                                <m:t xml:space="preserve">∘</m:t>
                              </m:r>
                            </m:sup>
                          </m:sSup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79</m:t>
                          </m:r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&lt;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3</m:t>
                              </m:r>
                            </m:e>
                            <m:sup>
                              <m:r>
                                <m:t xml:space="preserve">∘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0" name=""/>
            <p:cNvSpPr/>
            <p:nvPr/>
          </p:nvSpPr>
          <p:spPr>
            <a:xfrm>
              <a:off x="7076880" y="581148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 90% C.L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35120" y="5194080"/>
              <a:ext cx="91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 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08440" y="4587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f0000"/>
                  </a:solidFill>
                  <a:latin typeface="Arial"/>
                  <a:ea typeface="Osaka"/>
                </a:rPr>
                <a:t>BaB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" descr="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>
              <a:off x="4815000" y="1276200"/>
              <a:ext cx="703080" cy="93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837720" y="2989440"/>
            <a:ext cx="747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6600"/>
                </a:solidFill>
                <a:latin typeface="Arial"/>
                <a:ea typeface="Osaka"/>
              </a:rPr>
              <a:t>Dalitz-</a:t>
            </a:r>
            <a:r>
              <a:rPr b="0" lang="ja-JP" sz="4400" spc="-1" strike="noStrike">
                <a:solidFill>
                  <a:srgbClr val="ff6600"/>
                </a:solidFill>
                <a:latin typeface="Symbol"/>
                <a:ea typeface="Symbol"/>
              </a:rPr>
              <a:t></a:t>
            </a:r>
            <a:r>
              <a:rPr b="0" lang="ja-JP" sz="4400" spc="-1" strike="noStrike">
                <a:solidFill>
                  <a:srgbClr val="ff6600"/>
                </a:solidFill>
                <a:latin typeface="Arial"/>
                <a:ea typeface="Osaka"/>
              </a:rPr>
              <a:t>t analysis with B</a:t>
            </a:r>
            <a:r>
              <a:rPr b="0" lang="ja-JP" sz="4400" spc="-1" strike="noStrike" baseline="30000">
                <a:solidFill>
                  <a:srgbClr val="ff6600"/>
                </a:solidFill>
                <a:latin typeface="Arial"/>
                <a:ea typeface="Osaka"/>
              </a:rPr>
              <a:t>0</a:t>
            </a:r>
            <a:r>
              <a:rPr b="0" lang="ja-JP" sz="44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ja-JP" sz="4400" spc="-1" strike="noStrike">
                <a:solidFill>
                  <a:srgbClr val="ff6600"/>
                </a:solidFill>
                <a:latin typeface="Symbol"/>
                <a:ea typeface="Symbol"/>
              </a:rPr>
              <a:t>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596360" y="3933720"/>
            <a:ext cx="9745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6600"/>
                </a:solidFill>
                <a:latin typeface="Arial"/>
              </a:rPr>
              <a:t>Dalitz-</a:t>
            </a:r>
            <a:r>
              <a:rPr b="0" lang="ja-JP" sz="4400" spc="-1" strike="noStrike">
                <a:solidFill>
                  <a:srgbClr val="ff6600"/>
                </a:solidFill>
                <a:latin typeface="Symbol"/>
                <a:ea typeface="Symbol"/>
              </a:rPr>
              <a:t></a:t>
            </a:r>
            <a:r>
              <a:rPr b="0" lang="ja-JP" sz="4400" spc="-1" strike="noStrike">
                <a:solidFill>
                  <a:srgbClr val="ff6600"/>
                </a:solidFill>
                <a:latin typeface="Arial"/>
              </a:rPr>
              <a:t>t analysis with </a:t>
            </a:r>
            <a:r>
              <a:rPr b="0" lang="ja-JP" sz="4400" spc="-1" strike="noStrike">
                <a:solidFill>
                  <a:srgbClr val="ff6600"/>
                </a:solidFill>
                <a:latin typeface="Arial"/>
                <a:ea typeface="Osaka"/>
              </a:rPr>
              <a:t>B</a:t>
            </a:r>
            <a:r>
              <a:rPr b="0" lang="ja-JP" sz="4400" spc="-1" strike="noStrike" baseline="30000">
                <a:solidFill>
                  <a:srgbClr val="ff6600"/>
                </a:solidFill>
                <a:latin typeface="Arial"/>
                <a:ea typeface="Osaka"/>
              </a:rPr>
              <a:t>0</a:t>
            </a:r>
            <a:r>
              <a:rPr b="0" lang="ja-JP" sz="44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ja-JP" sz="4400" spc="-1" strike="noStrike">
                <a:solidFill>
                  <a:srgbClr val="ff6600"/>
                </a:solidFill>
                <a:latin typeface="Symbol"/>
                <a:ea typeface="Symbol"/>
              </a:rPr>
              <a:t>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80880" y="1267920"/>
            <a:ext cx="4114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litz Plot </a:t>
            </a:r>
            <a:r>
              <a:rPr b="0" lang="ja-JP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Final states can be re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, +inter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asure their time depen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ufficient information to determine all the amplitudes, including strong phase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763640" y="4149720"/>
            <a:ext cx="129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999960" y="61657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hep-ex/04080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rcRect l="42128" t="56982" r="0" b="0"/>
          <a:stretch/>
        </p:blipFill>
        <p:spPr>
          <a:xfrm>
            <a:off x="4859280" y="1197000"/>
            <a:ext cx="3462480" cy="326880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8028000" y="1484280"/>
            <a:ext cx="701640" cy="9367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7239600" y="4267080"/>
            <a:ext cx="170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=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rot="16200000">
            <a:off x="4284360" y="194256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=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5533920" y="4797360"/>
            <a:ext cx="3070440" cy="2001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8589240" y="63453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4654440" y="5345280"/>
                <a:ext cx="2578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  <m: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</m:sSubSup>
                    <m:r>
                      <m:t xml:space="preserve">±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97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8244000" y="4724280"/>
            <a:ext cx="701640" cy="93672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 rot="20185800">
            <a:off x="3928680" y="472392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  <a:ea typeface="Osaka"/>
              </a:rPr>
              <a:t>BaBar prelim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80160" y="98100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Snyder &amp; Quinn,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46080" y="1457280"/>
            <a:ext cx="4381560" cy="312408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ombined results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4465800" y="1341360"/>
            <a:ext cx="45702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0" dur="1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52" dur="1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ombined results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2486520" y="4721400"/>
            <a:ext cx="4317480" cy="1803240"/>
            <a:chOff x="2486520" y="4721400"/>
            <a:chExt cx="4317480" cy="1803240"/>
          </a:xfrm>
        </p:grpSpPr>
        <p:sp>
          <p:nvSpPr>
            <p:cNvPr id="605" name=""/>
            <p:cNvSpPr/>
            <p:nvPr/>
          </p:nvSpPr>
          <p:spPr>
            <a:xfrm>
              <a:off x="2554200" y="5227560"/>
              <a:ext cx="4249800" cy="12970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6" name=""/>
                <p:cNvSpPr txBox="1"/>
                <p:nvPr/>
              </p:nvSpPr>
              <p:spPr>
                <a:xfrm>
                  <a:off x="2628720" y="5187960"/>
                  <a:ext cx="2184480" cy="12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3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  <m:sup>
                              <m:sSup>
                                <m:e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  <m:sup>
                                  <m:r>
                                    <m:t xml:space="preserve">∘</m:t>
                                  </m:r>
                                </m:sup>
                              </m:sSup>
                            </m:sup>
                          </m:sSubSup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&lt;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3</m:t>
                              </m:r>
                            </m:e>
                            <m:sup>
                              <m:r>
                                <m:t xml:space="preserve">∘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07" name=""/>
            <p:cNvSpPr/>
            <p:nvPr/>
          </p:nvSpPr>
          <p:spPr>
            <a:xfrm>
              <a:off x="4844880" y="588312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 90% C.L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03120" y="5265720"/>
              <a:ext cx="91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 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86520" y="472140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  <a:ea typeface="Osaka"/>
                </a:rPr>
                <a:t>Bel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268360" y="1341360"/>
            <a:ext cx="4570560" cy="3198960"/>
            <a:chOff x="2268360" y="1341360"/>
            <a:chExt cx="4570560" cy="3198960"/>
          </a:xfrm>
        </p:grpSpPr>
        <p:pic>
          <p:nvPicPr>
            <p:cNvPr id="611" name="" descr=""/>
            <p:cNvPicPr/>
            <p:nvPr/>
          </p:nvPicPr>
          <p:blipFill>
            <a:blip r:embed="rId1"/>
            <a:stretch/>
          </p:blipFill>
          <p:spPr>
            <a:xfrm>
              <a:off x="2268360" y="1341360"/>
              <a:ext cx="4570560" cy="31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" descr=""/>
            <p:cNvPicPr/>
            <p:nvPr/>
          </p:nvPicPr>
          <p:blipFill>
            <a:blip r:embed="rId2"/>
            <a:srcRect l="1718" t="2223" r="1718" b="2223"/>
            <a:stretch/>
          </p:blipFill>
          <p:spPr>
            <a:xfrm>
              <a:off x="2987640" y="1341360"/>
              <a:ext cx="1008000" cy="77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92279E-007 L -0.24202 8.92279E-007 E">
                                      <p:cBhvr>
                                        <p:cTn id="373" dur="5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75" dur="5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ombined results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183240" y="4724280"/>
            <a:ext cx="4317480" cy="1803240"/>
            <a:chOff x="183240" y="4724280"/>
            <a:chExt cx="4317480" cy="1803240"/>
          </a:xfrm>
        </p:grpSpPr>
        <p:sp>
          <p:nvSpPr>
            <p:cNvPr id="615" name=""/>
            <p:cNvSpPr/>
            <p:nvPr/>
          </p:nvSpPr>
          <p:spPr>
            <a:xfrm>
              <a:off x="250920" y="5230440"/>
              <a:ext cx="4249800" cy="12970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325440" y="5190840"/>
                  <a:ext cx="2184480" cy="12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3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  <m:sup>
                              <m:sSup>
                                <m:e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  <m:sup>
                                  <m:r>
                                    <m:t xml:space="preserve">∘</m:t>
                                  </m:r>
                                </m:sup>
                              </m:sSup>
                            </m:sup>
                          </m:sSubSup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&lt;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3</m:t>
                              </m:r>
                            </m:e>
                            <m:sup>
                              <m:r>
                                <m:t xml:space="preserve">∘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2541600" y="5886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 90% C.L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99840" y="5268600"/>
              <a:ext cx="91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 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3240" y="472428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  <a:ea typeface="Osaka"/>
                </a:rPr>
                <a:t>Bel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4920" y="1341360"/>
            <a:ext cx="4570560" cy="3198960"/>
            <a:chOff x="34920" y="1341360"/>
            <a:chExt cx="4570560" cy="3198960"/>
          </a:xfrm>
        </p:grpSpPr>
        <p:pic>
          <p:nvPicPr>
            <p:cNvPr id="621" name="" descr=""/>
            <p:cNvPicPr/>
            <p:nvPr/>
          </p:nvPicPr>
          <p:blipFill>
            <a:blip r:embed="rId1"/>
            <a:stretch/>
          </p:blipFill>
          <p:spPr>
            <a:xfrm>
              <a:off x="34920" y="1341360"/>
              <a:ext cx="4570560" cy="31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2"/>
            <a:srcRect l="1718" t="2223" r="1718" b="2223"/>
            <a:stretch/>
          </p:blipFill>
          <p:spPr>
            <a:xfrm>
              <a:off x="754200" y="1341360"/>
              <a:ext cx="1008000" cy="77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"/>
          <p:cNvGrpSpPr/>
          <p:nvPr/>
        </p:nvGrpSpPr>
        <p:grpSpPr>
          <a:xfrm>
            <a:off x="5014800" y="981000"/>
            <a:ext cx="3878280" cy="4969080"/>
            <a:chOff x="5014800" y="981000"/>
            <a:chExt cx="3878280" cy="4969080"/>
          </a:xfrm>
        </p:grpSpPr>
        <p:pic>
          <p:nvPicPr>
            <p:cNvPr id="624" name="" descr=""/>
            <p:cNvPicPr/>
            <p:nvPr/>
          </p:nvPicPr>
          <p:blipFill>
            <a:blip r:embed="rId3"/>
            <a:stretch/>
          </p:blipFill>
          <p:spPr>
            <a:xfrm>
              <a:off x="5014800" y="1341360"/>
              <a:ext cx="3878280" cy="33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>
              <a:off x="5056200" y="981000"/>
              <a:ext cx="811080" cy="107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6" name=""/>
            <p:cNvGrpSpPr/>
            <p:nvPr/>
          </p:nvGrpSpPr>
          <p:grpSpPr>
            <a:xfrm>
              <a:off x="5221080" y="4724280"/>
              <a:ext cx="3454560" cy="1225800"/>
              <a:chOff x="5221080" y="4724280"/>
              <a:chExt cx="3454560" cy="1225800"/>
            </a:xfrm>
          </p:grpSpPr>
          <p:sp>
            <p:nvSpPr>
              <p:cNvPr id="627" name=""/>
              <p:cNvSpPr/>
              <p:nvPr/>
            </p:nvSpPr>
            <p:spPr>
              <a:xfrm>
                <a:off x="5289480" y="5230800"/>
                <a:ext cx="3386160" cy="719280"/>
              </a:xfrm>
              <a:prstGeom prst="rect">
                <a:avLst/>
              </a:prstGeom>
              <a:solidFill>
                <a:srgbClr val="ffcccc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8" name=""/>
                  <p:cNvSpPr txBox="1"/>
                  <p:nvPr/>
                </p:nvSpPr>
                <p:spPr>
                  <a:xfrm>
                    <a:off x="5506920" y="5157720"/>
                    <a:ext cx="1898640" cy="69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3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9" name=""/>
              <p:cNvSpPr/>
              <p:nvPr/>
            </p:nvSpPr>
            <p:spPr>
              <a:xfrm>
                <a:off x="7538400" y="5286240"/>
                <a:ext cx="91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t 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221080" y="4724280"/>
                <a:ext cx="131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3200" spc="-1" strike="noStrike">
                    <a:solidFill>
                      <a:srgbClr val="ff0000"/>
                    </a:solidFill>
                    <a:latin typeface="Arial"/>
                    <a:ea typeface="Osaka"/>
                  </a:rPr>
                  <a:t>BaBa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ombined results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83240" y="4724280"/>
            <a:ext cx="4317480" cy="1803240"/>
            <a:chOff x="183240" y="4724280"/>
            <a:chExt cx="4317480" cy="1803240"/>
          </a:xfrm>
        </p:grpSpPr>
        <p:sp>
          <p:nvSpPr>
            <p:cNvPr id="633" name=""/>
            <p:cNvSpPr/>
            <p:nvPr/>
          </p:nvSpPr>
          <p:spPr>
            <a:xfrm>
              <a:off x="250920" y="5230440"/>
              <a:ext cx="4249800" cy="12970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4" name=""/>
                <p:cNvSpPr txBox="1"/>
                <p:nvPr/>
              </p:nvSpPr>
              <p:spPr>
                <a:xfrm>
                  <a:off x="325440" y="5190840"/>
                  <a:ext cx="2184480" cy="12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3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  <m:sup>
                              <m:sSup>
                                <m:e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  <m:sup>
                                  <m:r>
                                    <m:t xml:space="preserve">∘</m:t>
                                  </m:r>
                                </m:sup>
                              </m:sSup>
                            </m:sup>
                          </m:sSubSup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&lt;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3</m:t>
                              </m:r>
                            </m:e>
                            <m:sup>
                              <m:r>
                                <m:t xml:space="preserve">∘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35" name=""/>
            <p:cNvSpPr/>
            <p:nvPr/>
          </p:nvSpPr>
          <p:spPr>
            <a:xfrm>
              <a:off x="2541600" y="5886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 90% C.L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499840" y="5268600"/>
              <a:ext cx="91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 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3240" y="472428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  <a:ea typeface="Osaka"/>
                </a:rPr>
                <a:t>Bel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4881600" y="5300640"/>
            <a:ext cx="4154400" cy="736560"/>
            <a:chOff x="4881600" y="5300640"/>
            <a:chExt cx="4154400" cy="736560"/>
          </a:xfrm>
        </p:grpSpPr>
        <p:sp>
          <p:nvSpPr>
            <p:cNvPr id="639" name=""/>
            <p:cNvSpPr/>
            <p:nvPr/>
          </p:nvSpPr>
          <p:spPr>
            <a:xfrm>
              <a:off x="6875640" y="5388120"/>
              <a:ext cx="2160360" cy="64908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0" name=""/>
                <p:cNvSpPr txBox="1"/>
                <p:nvPr/>
              </p:nvSpPr>
              <p:spPr>
                <a:xfrm>
                  <a:off x="7093080" y="5300640"/>
                  <a:ext cx="1741320" cy="69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97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sub>
                        <m:sup>
                          <m:sSup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  <m:sup>
                              <m:r>
                                <m:t xml:space="preserve">∘</m:t>
                              </m:r>
                            </m:sup>
                          </m:sSup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641" name=""/>
            <p:cNvSpPr/>
            <p:nvPr/>
          </p:nvSpPr>
          <p:spPr>
            <a:xfrm>
              <a:off x="4881600" y="5388120"/>
              <a:ext cx="20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Osaka"/>
                  <a:ea typeface="Osaka"/>
                </a:rPr>
                <a:t>CKM</a:t>
              </a:r>
              <a:r>
                <a:rPr b="0" lang="en-US" sz="1800" spc="-1" strike="noStrike">
                  <a:solidFill>
                    <a:srgbClr val="006600"/>
                  </a:solidFill>
                  <a:latin typeface="Osaka"/>
                  <a:ea typeface="Osaka"/>
                </a:rPr>
                <a:t> (indirec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034600" y="6021360"/>
            <a:ext cx="4001400" cy="736560"/>
            <a:chOff x="5034600" y="6021360"/>
            <a:chExt cx="4001400" cy="736560"/>
          </a:xfrm>
        </p:grpSpPr>
        <p:sp>
          <p:nvSpPr>
            <p:cNvPr id="643" name=""/>
            <p:cNvSpPr/>
            <p:nvPr/>
          </p:nvSpPr>
          <p:spPr>
            <a:xfrm>
              <a:off x="6875640" y="6108840"/>
              <a:ext cx="2160360" cy="649080"/>
            </a:xfrm>
            <a:prstGeom prst="rect">
              <a:avLst/>
            </a:prstGeom>
            <a:solidFill>
              <a:srgbClr val="ffcc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6919920" y="6021360"/>
                  <a:ext cx="2089080" cy="69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Sup>
                        <m:e>
                          <m:r>
                            <m:t xml:space="preserve">1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sub>
                        <m:sup>
                          <m:sSup>
                            <m:e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∘</m:t>
                              </m:r>
                            </m:sup>
                          </m:sSup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645" name=""/>
            <p:cNvSpPr/>
            <p:nvPr/>
          </p:nvSpPr>
          <p:spPr>
            <a:xfrm>
              <a:off x="5034600" y="6108840"/>
              <a:ext cx="161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Osaka"/>
                  <a:ea typeface="Osaka"/>
                </a:rPr>
                <a:t>All W.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5073840" y="1341360"/>
            <a:ext cx="4008240" cy="3960360"/>
            <a:chOff x="5073840" y="1341360"/>
            <a:chExt cx="4008240" cy="3960360"/>
          </a:xfrm>
        </p:grpSpPr>
        <p:pic>
          <p:nvPicPr>
            <p:cNvPr id="647" name="" descr=""/>
            <p:cNvPicPr/>
            <p:nvPr/>
          </p:nvPicPr>
          <p:blipFill>
            <a:blip r:embed="rId1"/>
            <a:stretch/>
          </p:blipFill>
          <p:spPr>
            <a:xfrm>
              <a:off x="5292720" y="1341360"/>
              <a:ext cx="3675240" cy="321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8" name=""/>
            <p:cNvGrpSpPr/>
            <p:nvPr/>
          </p:nvGrpSpPr>
          <p:grpSpPr>
            <a:xfrm>
              <a:off x="5073840" y="4579920"/>
              <a:ext cx="4008240" cy="721800"/>
              <a:chOff x="5073840" y="4579920"/>
              <a:chExt cx="4008240" cy="721800"/>
            </a:xfrm>
          </p:grpSpPr>
          <p:sp>
            <p:nvSpPr>
              <p:cNvPr id="649" name=""/>
              <p:cNvSpPr/>
              <p:nvPr/>
            </p:nvSpPr>
            <p:spPr>
              <a:xfrm>
                <a:off x="6863040" y="4653000"/>
                <a:ext cx="2160360" cy="64764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0" name=""/>
                  <p:cNvSpPr txBox="1"/>
                  <p:nvPr/>
                </p:nvSpPr>
                <p:spPr>
                  <a:xfrm>
                    <a:off x="6864480" y="4579920"/>
                    <a:ext cx="2217600" cy="69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6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51" name=""/>
              <p:cNvSpPr/>
              <p:nvPr/>
            </p:nvSpPr>
            <p:spPr>
              <a:xfrm>
                <a:off x="5073840" y="4653000"/>
                <a:ext cx="1517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66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3200" spc="-1" strike="noStrike" baseline="-25000">
                    <a:solidFill>
                      <a:srgbClr val="ff6600"/>
                    </a:solidFill>
                    <a:latin typeface="Arial"/>
                    <a:ea typeface="Osaka"/>
                  </a:rPr>
                  <a:t>2</a:t>
                </a:r>
                <a:r>
                  <a:rPr b="0" lang="en-US" sz="3200" spc="-1" strike="noStrike">
                    <a:solidFill>
                      <a:srgbClr val="ff6600"/>
                    </a:solidFill>
                    <a:latin typeface="Arial"/>
                    <a:ea typeface="Osaka"/>
                  </a:rPr>
                  <a:t> W.A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2" name=""/>
          <p:cNvGrpSpPr/>
          <p:nvPr/>
        </p:nvGrpSpPr>
        <p:grpSpPr>
          <a:xfrm>
            <a:off x="34920" y="1341360"/>
            <a:ext cx="4570560" cy="3198960"/>
            <a:chOff x="34920" y="1341360"/>
            <a:chExt cx="4570560" cy="3198960"/>
          </a:xfrm>
        </p:grpSpPr>
        <p:pic>
          <p:nvPicPr>
            <p:cNvPr id="653" name="" descr=""/>
            <p:cNvPicPr/>
            <p:nvPr/>
          </p:nvPicPr>
          <p:blipFill>
            <a:blip r:embed="rId2"/>
            <a:stretch/>
          </p:blipFill>
          <p:spPr>
            <a:xfrm>
              <a:off x="34920" y="1341360"/>
              <a:ext cx="4570560" cy="31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3"/>
            <a:srcRect l="1718" t="2223" r="1718" b="2223"/>
            <a:stretch/>
          </p:blipFill>
          <p:spPr>
            <a:xfrm>
              <a:off x="754200" y="1341360"/>
              <a:ext cx="1008000" cy="77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o, why </a:t>
            </a:r>
            <a:r>
              <a:rPr b="0" lang="en-US" sz="4400" spc="-1" strike="noStrike">
                <a:solidFill>
                  <a:srgbClr val="ff6600"/>
                </a:solidFill>
                <a:latin typeface="Symbol"/>
                <a:ea typeface="Symbol"/>
              </a:rPr>
              <a:t></a:t>
            </a:r>
            <a:r>
              <a:rPr b="0" lang="en-US" sz="44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-1709" b="0"/>
          <a:stretch/>
        </p:blipFill>
        <p:spPr>
          <a:xfrm>
            <a:off x="885960" y="1434960"/>
            <a:ext cx="7286400" cy="4025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9800" y="6032520"/>
            <a:ext cx="8739360" cy="5814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Osaka"/>
              </a:rPr>
              <a:t>Essential to check the Unitarity Triangle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5229360"/>
            <a:ext cx="8713800" cy="5814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Fundamental parameter of KM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ummary and prospects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82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KM angle 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is measured with B</a:t>
            </a:r>
            <a:r>
              <a:rPr b="0" lang="ja-JP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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bining B</a:t>
            </a:r>
            <a:r>
              <a:rPr b="0" lang="ja-JP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ja-JP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from Belle, we constrain 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=93+12-11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for 1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value from direct measurements is consistent with that from indirect measu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ith increased data set and modes, we will soon obtain the result with much better prec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6600"/>
                </a:solidFill>
                <a:latin typeface="Arial"/>
              </a:rPr>
              <a:t>SU(3) expectation on </a:t>
            </a:r>
            <a:r>
              <a:rPr b="0" lang="ja-JP" sz="4400" spc="-1" strike="noStrike">
                <a:solidFill>
                  <a:srgbClr val="ff6600"/>
                </a:solidFill>
                <a:latin typeface="Monotype Corsiva"/>
              </a:rPr>
              <a:t>A</a:t>
            </a:r>
            <a:r>
              <a:rPr b="0" lang="ja-JP" sz="4400" spc="-1" strike="noStrike" baseline="-25000">
                <a:solidFill>
                  <a:srgbClr val="ff6600"/>
                </a:solidFill>
                <a:latin typeface="Symbol"/>
                <a:ea typeface="Symbol"/>
              </a:rPr>
              <a:t></a:t>
            </a:r>
            <a:r>
              <a:rPr b="0" lang="ja-JP" sz="4400" spc="-1" strike="noStrike">
                <a:solidFill>
                  <a:srgbClr val="ff6600"/>
                </a:solidFill>
                <a:latin typeface="Arial"/>
              </a:rPr>
              <a:t> and </a:t>
            </a:r>
            <a:r>
              <a:rPr b="0" lang="ja-JP" sz="4400" spc="-1" strike="noStrike">
                <a:solidFill>
                  <a:srgbClr val="ff6600"/>
                </a:solidFill>
                <a:latin typeface="Monotype Corsiva"/>
              </a:rPr>
              <a:t>A</a:t>
            </a:r>
            <a:r>
              <a:rPr b="0" lang="ja-JP" sz="4400" spc="-1" strike="noStrike" baseline="-25000">
                <a:solidFill>
                  <a:srgbClr val="ff6600"/>
                </a:solidFill>
                <a:latin typeface="Arial"/>
              </a:rPr>
              <a:t>K</a:t>
            </a:r>
            <a:r>
              <a:rPr b="0" lang="ja-JP" sz="4400" spc="-1" strike="noStrike" baseline="-25000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82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0920" indent="-340920"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ctation by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40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~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. G. Deshpande, and X.-G. He, Phys. Rev. Lett. 75, 1703-1706 (1995), hep-ph/941239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8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ronau, and J. L. Rosner, Phys. Lett. B595, 339-346 (2004), hep-ph/040517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8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700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asurements b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4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+0.56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12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06 (Bel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4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+0.09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15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04 (Ba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4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113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022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008 (Bel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40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133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030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009 (Ba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B.F. used for Isospin analysis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82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r(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ja-JP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 = 25.6 +- 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r(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ja-JP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 = 24.4 +- 3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r(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 = 0.54+0.407-0.3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ym(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 = N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r(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 = 5.5 +- 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r(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 = 4.6 +- 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r(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 = 1.51 +- 0.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ym(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 = 0.28 +- 0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6600"/>
                </a:solidFill>
                <a:latin typeface="Arial"/>
              </a:rPr>
              <a:t>chi2 of isospin analysis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82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hi2 of isospin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585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 0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585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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 0.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585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bined: 1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95280" y="4292640"/>
            <a:ext cx="4032360" cy="1295280"/>
          </a:xfrm>
          <a:prstGeom prst="rect">
            <a:avLst/>
          </a:prstGeom>
          <a:solidFill>
            <a:srgbClr val="ffcc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59280" y="4294080"/>
            <a:ext cx="4032360" cy="1295640"/>
          </a:xfrm>
          <a:prstGeom prst="rect">
            <a:avLst/>
          </a:prstGeom>
          <a:solidFill>
            <a:srgbClr val="ffcc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859280" y="2133720"/>
            <a:ext cx="4032360" cy="1295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95280" y="2133720"/>
            <a:ext cx="4032360" cy="1295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6600"/>
                </a:solidFill>
                <a:latin typeface="Arial"/>
              </a:rPr>
              <a:t>Comparison with BaBar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003640" y="2127240"/>
                <a:ext cx="36846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ρρ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ρρ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396720" y="2197080"/>
                <a:ext cx="3970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5280" y="4356000"/>
                <a:ext cx="3970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944960" y="4292640"/>
                <a:ext cx="3875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ρρ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ρρ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324720" y="1492200"/>
            <a:ext cx="29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Osaka"/>
              </a:rPr>
              <a:t>Bell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Osaka"/>
              </a:rPr>
              <a:t>275M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5080" y="3651120"/>
            <a:ext cx="32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Arial"/>
                <a:ea typeface="Osaka"/>
              </a:rPr>
              <a:t>BaBar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  <a:ea typeface="Osaka"/>
              </a:rPr>
              <a:t>227M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14640" y="369396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Osaka"/>
              </a:rPr>
              <a:t>232M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71320" y="6100920"/>
            <a:ext cx="80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Osaka"/>
              </a:rPr>
              <a:t>Results are consistent with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5640" y="560376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Difference from Belle is 2.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380880" y="1268280"/>
            <a:ext cx="8382240" cy="504504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Data used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5146560" y="1628280"/>
            <a:ext cx="0" cy="446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889160" y="981000"/>
            <a:ext cx="130860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253/f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09840" y="6305400"/>
            <a:ext cx="83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253/fb (275M BB) until 2004 summer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421080" y="6021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12880" y="1268280"/>
            <a:ext cx="72151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P violation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585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PV measurement of B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585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PV measurement of B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sospi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585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enguin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585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sospi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alitz-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 analysis with B</a:t>
            </a:r>
            <a:r>
              <a:rPr b="0" lang="ja-JP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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4869360" y="4076640"/>
            <a:ext cx="3804480" cy="2042640"/>
            <a:chOff x="4869360" y="4076640"/>
            <a:chExt cx="3804480" cy="20426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425920" y="4435560"/>
              <a:ext cx="23148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869360" y="5310360"/>
              <a:ext cx="58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B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080320" y="4727520"/>
              <a:ext cx="353160" cy="646920"/>
              <a:chOff x="5080320" y="4727520"/>
              <a:chExt cx="353160" cy="646920"/>
            </a:xfrm>
          </p:grpSpPr>
          <p:sp>
            <p:nvSpPr>
              <p:cNvPr id="115" name=""/>
              <p:cNvSpPr/>
              <p:nvPr/>
            </p:nvSpPr>
            <p:spPr>
              <a:xfrm>
                <a:off x="5083560" y="4914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80320" y="4727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299560" y="565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75920" y="5587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7672680" y="5014800"/>
              <a:ext cx="353160" cy="646920"/>
              <a:chOff x="7672680" y="5014800"/>
              <a:chExt cx="353160" cy="646920"/>
            </a:xfrm>
          </p:grpSpPr>
          <p:sp>
            <p:nvSpPr>
              <p:cNvPr id="120" name=""/>
              <p:cNvSpPr/>
              <p:nvPr/>
            </p:nvSpPr>
            <p:spPr>
              <a:xfrm>
                <a:off x="7675920" y="5202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2680" y="5014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7669440" y="4363920"/>
              <a:ext cx="353160" cy="646920"/>
              <a:chOff x="7669440" y="4363920"/>
              <a:chExt cx="353160" cy="646920"/>
            </a:xfrm>
          </p:grpSpPr>
          <p:sp>
            <p:nvSpPr>
              <p:cNvPr id="123" name=""/>
              <p:cNvSpPr/>
              <p:nvPr/>
            </p:nvSpPr>
            <p:spPr>
              <a:xfrm>
                <a:off x="7672680" y="4551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69440" y="4363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7669440" y="4076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32600" y="5224320"/>
              <a:ext cx="74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/</a:t>
              </a:r>
              <a:r>
                <a:rPr b="0" lang="ja-JP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85080" y="4219560"/>
              <a:ext cx="74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/</a:t>
              </a:r>
              <a:r>
                <a:rPr b="0" lang="ja-JP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KM triangle and </a:t>
            </a:r>
            <a:r>
              <a:rPr b="0" lang="en-US" sz="4400" spc="-1" strike="noStrike">
                <a:solidFill>
                  <a:srgbClr val="ff6600"/>
                </a:solidFill>
                <a:latin typeface="Symbol"/>
                <a:ea typeface="Symbol"/>
              </a:rPr>
              <a:t></a:t>
            </a:r>
            <a:r>
              <a:rPr b="0" lang="en-US" sz="44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335400" y="1483920"/>
            <a:ext cx="720720" cy="15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56120" y="1484280"/>
            <a:ext cx="2016000" cy="15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35400" y="2997360"/>
            <a:ext cx="27367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93360" y="249228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88400" y="249228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09960" y="1484280"/>
            <a:ext cx="651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59440" y="1795320"/>
            <a:ext cx="12261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Osaka"/>
              </a:rPr>
              <a:t>V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u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Osaka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*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11640" y="1700280"/>
            <a:ext cx="107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Osaka"/>
              </a:rPr>
              <a:t>V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Osaka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*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61600" y="3094200"/>
            <a:ext cx="102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Osaka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c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Osaka"/>
              </a:rPr>
              <a:t>V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*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21000" y="4408560"/>
            <a:ext cx="3580560" cy="1268280"/>
            <a:chOff x="621000" y="4408560"/>
            <a:chExt cx="3580560" cy="1268280"/>
          </a:xfrm>
        </p:grpSpPr>
        <p:sp>
          <p:nvSpPr>
            <p:cNvPr id="139" name=""/>
            <p:cNvSpPr/>
            <p:nvPr/>
          </p:nvSpPr>
          <p:spPr>
            <a:xfrm>
              <a:off x="3618360" y="4794120"/>
              <a:ext cx="58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B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1260360" y="4508640"/>
              <a:ext cx="230976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189440" y="518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189080" y="4437000"/>
              <a:ext cx="353160" cy="646920"/>
              <a:chOff x="1189080" y="4437000"/>
              <a:chExt cx="353160" cy="646920"/>
            </a:xfrm>
          </p:grpSpPr>
          <p:sp>
            <p:nvSpPr>
              <p:cNvPr id="143" name=""/>
              <p:cNvSpPr/>
              <p:nvPr/>
            </p:nvSpPr>
            <p:spPr>
              <a:xfrm>
                <a:off x="1192320" y="4624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8908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78520" y="4408560"/>
              <a:ext cx="349920" cy="678600"/>
              <a:chOff x="3278520" y="4408560"/>
              <a:chExt cx="349920" cy="678600"/>
            </a:xfrm>
          </p:grpSpPr>
          <p:sp>
            <p:nvSpPr>
              <p:cNvPr id="146" name=""/>
              <p:cNvSpPr/>
              <p:nvPr/>
            </p:nvSpPr>
            <p:spPr>
              <a:xfrm>
                <a:off x="3278520" y="4627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78520" y="4408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278520" y="5157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69440" y="51577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275200" y="4459320"/>
              <a:ext cx="349920" cy="627840"/>
              <a:chOff x="2275200" y="4459320"/>
              <a:chExt cx="349920" cy="627840"/>
            </a:xfrm>
          </p:grpSpPr>
          <p:sp>
            <p:nvSpPr>
              <p:cNvPr id="151" name=""/>
              <p:cNvSpPr/>
              <p:nvPr/>
            </p:nvSpPr>
            <p:spPr>
              <a:xfrm>
                <a:off x="2275200" y="4459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02920" y="46274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621000" y="4807080"/>
              <a:ext cx="58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B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36720" y="450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640520" y="4005360"/>
            <a:ext cx="58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Osaka"/>
              </a:rPr>
              <a:t>V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23400" y="4005360"/>
            <a:ext cx="6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55000" y="5589720"/>
            <a:ext cx="6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Osaka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*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62840" y="5589720"/>
            <a:ext cx="58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Osaka"/>
              </a:rPr>
              <a:t>V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64720" y="4076640"/>
            <a:ext cx="72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Osaka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*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31040" y="4505400"/>
            <a:ext cx="6807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Osaka"/>
              </a:rPr>
              <a:t>V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  <a:ea typeface="Osaka"/>
              </a:rPr>
              <a:t>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68360" y="4005360"/>
            <a:ext cx="3816360" cy="2741760"/>
            <a:chOff x="468360" y="4005360"/>
            <a:chExt cx="3816360" cy="2741760"/>
          </a:xfrm>
        </p:grpSpPr>
        <p:sp>
          <p:nvSpPr>
            <p:cNvPr id="162" name=""/>
            <p:cNvSpPr/>
            <p:nvPr/>
          </p:nvSpPr>
          <p:spPr>
            <a:xfrm>
              <a:off x="468360" y="4005360"/>
              <a:ext cx="3816360" cy="2232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16920" y="6165720"/>
              <a:ext cx="293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Arial"/>
                  <a:ea typeface="Osaka"/>
                </a:rPr>
                <a:t>Mixing diagra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858200" y="4005360"/>
            <a:ext cx="3996720" cy="2741760"/>
            <a:chOff x="4858200" y="4005360"/>
            <a:chExt cx="3996720" cy="2741760"/>
          </a:xfrm>
        </p:grpSpPr>
        <p:sp>
          <p:nvSpPr>
            <p:cNvPr id="165" name=""/>
            <p:cNvSpPr/>
            <p:nvPr/>
          </p:nvSpPr>
          <p:spPr>
            <a:xfrm>
              <a:off x="4859280" y="4005360"/>
              <a:ext cx="3816360" cy="2232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58200" y="6165720"/>
              <a:ext cx="39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Arial"/>
                  <a:ea typeface="Osaka"/>
                </a:rPr>
                <a:t>Decay diagram (tree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4" autoRev="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autoRev="1" nodeType="clickEffect" fill="hold" presetClass="emph" presetID="7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autoRev="1" nodeType="with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autoRev="1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autoRev="1" nodeType="clickEffect" fill="hold" presetClass="emph" presetID="7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autoRev="1" nodeType="with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" autoRev="1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5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autoRev="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autoRev="1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" autoRev="1" nodeType="with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" autoRev="1" nodeType="with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" autoRev="1" nodeType="with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2" autoRev="1" nodeType="with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autoRev="1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8" autoRev="1" nodeType="withEffect" fill="hold" presetClass="emph" presetID="7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autoRev="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5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autoRev="1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0" autoRev="1" nodeType="with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2" autoRev="1" nodeType="with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96533E-006 L -0.4842 -0.35806 E">
                                      <p:cBhvr>
                                        <p:cTn id="155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8.7841E-007 L -0.48473 -0.36269 E">
                                      <p:cBhvr>
                                        <p:cTn id="157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48451E-006 L -0.49635 -0.36662 E">
                                      <p:cBhvr>
                                        <p:cTn id="159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KM triangle and </a:t>
            </a:r>
            <a:r>
              <a:rPr b="0" lang="en-US" sz="4400" spc="-1" strike="noStrike">
                <a:solidFill>
                  <a:srgbClr val="ff6600"/>
                </a:solidFill>
                <a:latin typeface="Symbol"/>
                <a:ea typeface="Symbol"/>
              </a:rPr>
              <a:t></a:t>
            </a:r>
            <a:r>
              <a:rPr b="0" lang="en-US" sz="44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05360" y="1628640"/>
            <a:ext cx="3804480" cy="2042640"/>
            <a:chOff x="405360" y="1628640"/>
            <a:chExt cx="3804480" cy="2042640"/>
          </a:xfrm>
        </p:grpSpPr>
        <p:grpSp>
          <p:nvGrpSpPr>
            <p:cNvPr id="169" name=""/>
            <p:cNvGrpSpPr/>
            <p:nvPr/>
          </p:nvGrpSpPr>
          <p:grpSpPr>
            <a:xfrm>
              <a:off x="405360" y="1628640"/>
              <a:ext cx="3804480" cy="2042640"/>
              <a:chOff x="405360" y="1628640"/>
              <a:chExt cx="3804480" cy="2042640"/>
            </a:xfrm>
          </p:grpSpPr>
          <p:pic>
            <p:nvPicPr>
              <p:cNvPr id="1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61920" y="1987560"/>
                <a:ext cx="23148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405360" y="2862360"/>
                <a:ext cx="583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B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Arial"/>
                    <a:ea typeface="Osaka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616320" y="2279520"/>
                <a:ext cx="353160" cy="646920"/>
                <a:chOff x="616320" y="2279520"/>
                <a:chExt cx="353160" cy="6469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19560" y="24667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16320" y="22795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835560" y="3211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11920" y="3139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3208680" y="2566800"/>
                <a:ext cx="353160" cy="646920"/>
                <a:chOff x="3208680" y="2566800"/>
                <a:chExt cx="353160" cy="6469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211920" y="2754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208680" y="25668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205440" y="1915920"/>
                <a:ext cx="353160" cy="646920"/>
                <a:chOff x="3205440" y="1915920"/>
                <a:chExt cx="353160" cy="6469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08680" y="21031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205440" y="1915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Osaka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3205440" y="1628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68600" y="2776320"/>
                <a:ext cx="74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ja-JP" sz="32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/</a:t>
                </a:r>
                <a:r>
                  <a:rPr b="0" lang="ja-JP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21080" y="1771560"/>
                <a:ext cx="74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ja-JP" sz="32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/</a:t>
                </a:r>
                <a:r>
                  <a:rPr b="0" lang="ja-JP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1800720" y="1628640"/>
              <a:ext cx="72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V</a:t>
              </a:r>
              <a:r>
                <a:rPr b="0" lang="ja-JP" sz="28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*</a:t>
              </a:r>
              <a:r>
                <a:rPr b="0" lang="ja-JP" sz="2800" spc="-1" strike="noStrike" baseline="-25000">
                  <a:solidFill>
                    <a:srgbClr val="000000"/>
                  </a:solidFill>
                  <a:latin typeface="Arial"/>
                  <a:ea typeface="Osaka"/>
                </a:rPr>
                <a:t>u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67040" y="2057400"/>
              <a:ext cx="68076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V</a:t>
              </a:r>
              <a:r>
                <a:rPr b="0" lang="ja-JP" sz="2800" spc="-1" strike="noStrike" baseline="-25000">
                  <a:solidFill>
                    <a:srgbClr val="000000"/>
                  </a:solidFill>
                  <a:latin typeface="Arial"/>
                  <a:ea typeface="Osaka"/>
                </a:rPr>
                <a:t>u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99480" y="4251240"/>
            <a:ext cx="22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Osaka"/>
              </a:rPr>
              <a:t>B</a:t>
            </a:r>
            <a:r>
              <a:rPr b="0" lang="ja-JP" sz="40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0 </a:t>
            </a:r>
            <a:r>
              <a:rPr b="0" lang="ja-JP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4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4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12080" y="4959360"/>
            <a:ext cx="22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Osaka"/>
              </a:rPr>
              <a:t>B</a:t>
            </a:r>
            <a:r>
              <a:rPr b="0" lang="ja-JP" sz="40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0 </a:t>
            </a:r>
            <a:r>
              <a:rPr b="0" lang="ja-JP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4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4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ja-JP" sz="4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33600" y="5607000"/>
            <a:ext cx="2120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Osaka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15000" y="2997360"/>
            <a:ext cx="67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  <a:ea typeface="Osaka"/>
              </a:rPr>
              <a:t>CP violation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0" lang="en-US" sz="4400" spc="-1" strike="noStrike" baseline="30000">
                <a:solidFill>
                  <a:srgbClr val="ff66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ff6600"/>
                </a:solidFill>
                <a:latin typeface="Symbol"/>
                <a:ea typeface="Symbol"/>
              </a:rPr>
              <a:t></a:t>
            </a:r>
            <a:r>
              <a:rPr b="0" lang="en-US" sz="44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ff66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: Event selection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382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re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D (K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pa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um suppression (modified SFW, flavor tagging in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003640" y="1236600"/>
                <a:ext cx="3087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a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sSup>
                              <m:e/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138640" y="2031840"/>
                <a:ext cx="251460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/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a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6" name=""/>
          <p:cNvGrpSpPr/>
          <p:nvPr/>
        </p:nvGrpSpPr>
        <p:grpSpPr>
          <a:xfrm>
            <a:off x="1337400" y="4508640"/>
            <a:ext cx="3153600" cy="1871640"/>
            <a:chOff x="1337400" y="4508640"/>
            <a:chExt cx="3153600" cy="1871640"/>
          </a:xfrm>
        </p:grpSpPr>
        <p:sp>
          <p:nvSpPr>
            <p:cNvPr id="197" name=""/>
            <p:cNvSpPr/>
            <p:nvPr/>
          </p:nvSpPr>
          <p:spPr>
            <a:xfrm>
              <a:off x="1650960" y="5372280"/>
              <a:ext cx="11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803680" y="53722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660400" y="5372280"/>
              <a:ext cx="14292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803680" y="5229000"/>
              <a:ext cx="21744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019320" y="4652640"/>
              <a:ext cx="64944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2227320" y="4797360"/>
              <a:ext cx="79200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19320" y="5229360"/>
              <a:ext cx="57636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868040" y="5589720"/>
              <a:ext cx="792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60760" y="5589720"/>
              <a:ext cx="2872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11320" y="4869000"/>
              <a:ext cx="1368360" cy="136836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79215"/>
                  </a:srgbClr>
                </a:gs>
                <a:gs pos="100000">
                  <a:srgbClr val="ff7c8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1680" y="4508640"/>
              <a:ext cx="1368360" cy="1368360"/>
            </a:xfrm>
            <a:prstGeom prst="ellipse">
              <a:avLst/>
            </a:prstGeom>
            <a:gradFill rotWithShape="0">
              <a:gsLst>
                <a:gs pos="0">
                  <a:srgbClr val="6699ff">
                    <a:alpha val="81176"/>
                  </a:srgbClr>
                </a:gs>
                <a:gs pos="100000">
                  <a:srgbClr val="6699ff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37400" y="49881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37400" y="49881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05480" y="4653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00400" y="5573880"/>
              <a:ext cx="42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941000" y="4195800"/>
            <a:ext cx="3153600" cy="2427120"/>
            <a:chOff x="4941000" y="4195800"/>
            <a:chExt cx="3153600" cy="2427120"/>
          </a:xfrm>
        </p:grpSpPr>
        <p:sp>
          <p:nvSpPr>
            <p:cNvPr id="213" name=""/>
            <p:cNvSpPr/>
            <p:nvPr/>
          </p:nvSpPr>
          <p:spPr>
            <a:xfrm>
              <a:off x="5254560" y="5397480"/>
              <a:ext cx="11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407280" y="53974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07280" y="4437000"/>
              <a:ext cx="115236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407280" y="4437000"/>
              <a:ext cx="93492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407280" y="4653000"/>
              <a:ext cx="107928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03280" y="5373720"/>
              <a:ext cx="140364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292720" y="5373720"/>
              <a:ext cx="111456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41000" y="50133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41000" y="50133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Osak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36000" y="4437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86440" y="5662800"/>
              <a:ext cx="42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Osaka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260680" y="4195800"/>
              <a:ext cx="2265480" cy="240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" y="6116"/>
                  </a:moveTo>
                  <a:arcTo wR="10800" hR="10800" stAng="-9257864" swAng="16419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" y="6116"/>
                  </a:moveTo>
                  <a:arcTo wR="10800" hR="10800" stAng="-9257864" swAng="1641922"/>
                </a:path>
              </a:pathLst>
            </a:custGeom>
            <a:gradFill rotWithShape="0">
              <a:gsLst>
                <a:gs pos="0">
                  <a:srgbClr val="6699ff">
                    <a:alpha val="81176"/>
                  </a:srgbClr>
                </a:gs>
                <a:gs pos="100000">
                  <a:srgbClr val="6699ff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214240" y="4216680"/>
              <a:ext cx="2264760" cy="240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" y="6116"/>
                  </a:moveTo>
                  <a:arcTo wR="10800" hR="10800" stAng="-9257864" swAng="16419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" y="6116"/>
                  </a:moveTo>
                  <a:arcTo wR="10800" hR="10800" stAng="-9257864" swAng="1641922"/>
                </a:path>
              </a:pathLst>
            </a:custGeom>
            <a:gradFill rotWithShape="0">
              <a:gsLst>
                <a:gs pos="0">
                  <a:srgbClr val="ff7c80">
                    <a:alpha val="81176"/>
                  </a:srgbClr>
                </a:gs>
                <a:gs pos="100000">
                  <a:srgbClr val="ff7c8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PV measurement of B</a:t>
            </a:r>
            <a:r>
              <a:rPr b="0" lang="en-US" sz="4400" spc="-1" strike="noStrike" baseline="30000">
                <a:solidFill>
                  <a:srgbClr val="ff66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ff66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ff6600"/>
                </a:solidFill>
                <a:latin typeface="Arial"/>
              </a:rPr>
              <a:t>–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70120" y="4365720"/>
            <a:ext cx="3966120" cy="9471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Monotype Corsiva"/>
              </a:rPr>
              <a:t>S</a:t>
            </a:r>
            <a:r>
              <a:rPr b="1" lang="ja-JP" sz="2800" spc="-1" strike="noStrike" baseline="-2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0.67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0.16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3440" y="5518080"/>
            <a:ext cx="44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Osaka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Osaka"/>
              </a:rPr>
              <a:t> evidence of Direct CPV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2160" y="623880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Published as PRL 95, 10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500720" y="1305000"/>
            <a:ext cx="4535280" cy="2888640"/>
            <a:chOff x="4500720" y="1305000"/>
            <a:chExt cx="4535280" cy="2888640"/>
          </a:xfrm>
        </p:grpSpPr>
        <p:sp>
          <p:nvSpPr>
            <p:cNvPr id="231" name=""/>
            <p:cNvSpPr/>
            <p:nvPr/>
          </p:nvSpPr>
          <p:spPr>
            <a:xfrm>
              <a:off x="6591960" y="1305000"/>
              <a:ext cx="21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Osaka"/>
                </a:rPr>
                <a:t>High Quality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500720" y="1518480"/>
              <a:ext cx="4535280" cy="2675160"/>
              <a:chOff x="4500720" y="1518480"/>
              <a:chExt cx="4535280" cy="2675160"/>
            </a:xfrm>
          </p:grpSpPr>
          <p:sp>
            <p:nvSpPr>
              <p:cNvPr id="233" name=""/>
              <p:cNvSpPr/>
              <p:nvPr/>
            </p:nvSpPr>
            <p:spPr>
              <a:xfrm>
                <a:off x="5444640" y="3753000"/>
                <a:ext cx="1348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M</a:t>
                </a:r>
                <a:r>
                  <a:rPr b="0" lang="ja-JP" sz="2000" spc="-1" strike="noStrike" baseline="-25000">
                    <a:solidFill>
                      <a:srgbClr val="000000"/>
                    </a:solidFill>
                    <a:latin typeface="Arial"/>
                    <a:ea typeface="Osaka"/>
                  </a:rPr>
                  <a:t>BC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 (GeV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493040" y="3753000"/>
                <a:ext cx="125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ja-JP" sz="20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E (GeV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3604680" y="2414520"/>
                <a:ext cx="21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Number of ev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92760" y="1700280"/>
                <a:ext cx="2152440" cy="204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10280" y="1686240"/>
                <a:ext cx="2025720" cy="20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8" name=""/>
          <p:cNvSpPr/>
          <p:nvPr/>
        </p:nvSpPr>
        <p:spPr>
          <a:xfrm>
            <a:off x="4458960" y="4365720"/>
            <a:ext cx="40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2800" spc="-1" strike="noStrike" baseline="-2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+0.5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rcRect l="1718" t="2223" r="1718" b="2223"/>
          <a:stretch/>
        </p:blipFill>
        <p:spPr>
          <a:xfrm>
            <a:off x="5148360" y="1557360"/>
            <a:ext cx="792000" cy="60624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-181080" y="1258920"/>
            <a:ext cx="4837320" cy="5052240"/>
            <a:chOff x="-181080" y="1258920"/>
            <a:chExt cx="4837320" cy="5052240"/>
          </a:xfrm>
        </p:grpSpPr>
        <p:grpSp>
          <p:nvGrpSpPr>
            <p:cNvPr id="241" name=""/>
            <p:cNvGrpSpPr/>
            <p:nvPr/>
          </p:nvGrpSpPr>
          <p:grpSpPr>
            <a:xfrm>
              <a:off x="-181080" y="1258920"/>
              <a:ext cx="4837320" cy="4762440"/>
              <a:chOff x="-181080" y="1258920"/>
              <a:chExt cx="4837320" cy="4762440"/>
            </a:xfrm>
          </p:grpSpPr>
          <p:pic>
            <p:nvPicPr>
              <p:cNvPr id="242" name="" descr=""/>
              <p:cNvPicPr/>
              <p:nvPr/>
            </p:nvPicPr>
            <p:blipFill>
              <a:blip r:embed="rId4"/>
              <a:srcRect l="0" t="48875" r="0" b="0"/>
              <a:stretch/>
            </p:blipFill>
            <p:spPr>
              <a:xfrm>
                <a:off x="-168120" y="4221000"/>
                <a:ext cx="4787640" cy="180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-181080" y="1258920"/>
                <a:ext cx="4837320" cy="332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4" name=""/>
            <p:cNvSpPr/>
            <p:nvPr/>
          </p:nvSpPr>
          <p:spPr>
            <a:xfrm>
              <a:off x="902520" y="517536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Osaka"/>
                </a:rPr>
                <a:t>good ta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6"/>
            <a:srcRect l="1718" t="2223" r="1718" b="2223"/>
            <a:stretch/>
          </p:blipFill>
          <p:spPr>
            <a:xfrm>
              <a:off x="755640" y="1484280"/>
              <a:ext cx="79200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217080" y="5851440"/>
              <a:ext cx="299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666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43 events u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autoRev="1" nodeType="with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4T15:24:55Z</dcterms:created>
  <dc:creator>akito</dc:creator>
  <dc:description/>
  <dc:language>en-US</dc:language>
  <cp:lastModifiedBy>akito</cp:lastModifiedBy>
  <dcterms:modified xsi:type="dcterms:W3CDTF">2006-03-07T02:56:38Z</dcterms:modified>
  <cp:revision>77</cp:revision>
  <dc:subject/>
  <dc:title>スライド 1</dc:title>
</cp:coreProperties>
</file>