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16.jpeg" ContentType="image/jpe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1385-7D50-43FE-B7D1-B685F037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F6B-1291-4205-ADA2-7D0470E0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5BA6-C863-4716-AD8B-72468556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97CE-ECA0-4ACB-9D38-4D2638C6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A82F-33F9-49FF-8D13-CA8AAE0F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C502-2F68-4291-9105-670066BB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B5F9-08B8-4AF8-AE31-58B75DDA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80E2-63A2-4B38-9FA7-C380F820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A95F-1A63-435D-AB9E-84EF7E3D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8C87-9D3D-4D5F-9DD1-5D851433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B850-1255-4F99-BA51-FA7B21CF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8FA6-C68F-411B-9019-2851D650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4DAD-0C01-4C6E-A487-5130AA00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7B8C-6666-4441-96B8-0BC73D52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9731-4D56-440C-AB61-45067922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4704-CB54-4281-83A1-EFA39CE3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6310-41EF-43B4-B234-CF3D8319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102-01F4-4E28-AC18-5267B45C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2F2-4DC5-4A19-AB19-8A9FFED6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8A0-0C5E-4B7A-89AB-426530D0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200-15BA-407B-B89F-9C53CEB7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2DD-028A-4D01-BB0B-D93B18AF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06B-4E75-4FD3-BFB9-E7F4E3DF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C16-ABEB-427C-95F5-46E99286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9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76E0-6CFF-4E41-89AF-9D0F55467B07}" type="slidenum">
              <a:rPr b="0" lang="ja-JP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5920"/>
            <a:ext cx="8459640" cy="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0720" y="1052640"/>
            <a:ext cx="8459640" cy="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820000" y="0"/>
            <a:ext cx="216000" cy="122400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8d8d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4360" y="6670800"/>
            <a:ext cx="8459640" cy="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5600" y="2246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86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2590920" y="594324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Int. Workshop on Mass Origin and Supersymmetry Phy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Grant in Aid for Scientific Research on Priority Are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09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94D9-BF40-48AB-832C-9B16C0111E4B}" type="slidenum">
              <a:rPr b="0" lang="ja-JP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8459640" cy="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2421000"/>
            <a:ext cx="216000" cy="122400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8d8d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6464160"/>
            <a:ext cx="8459640" cy="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634000"/>
            <a:ext cx="216000" cy="122400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8d8d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VD diamond detector as a beam monitor for a high intensity and high luminosity accelerator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1241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Kodai Matsuoka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(Kyoto Univ.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r T2K muon monitor group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quirements for MUMON syste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5181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tabilit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diation hardnes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# of particles coming into MUM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5f5f5f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μ/cm</a:t>
            </a:r>
            <a:r>
              <a:rPr b="0" lang="en-US" sz="2400" spc="-1" strike="noStrike" baseline="30000">
                <a:solidFill>
                  <a:srgbClr val="5f5f5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/spil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10</a:t>
            </a:r>
            <a:r>
              <a:rPr b="0" lang="en-US" sz="2400" spc="-1" strike="noStrike" baseline="30000">
                <a:solidFill>
                  <a:srgbClr val="5f5f5f"/>
                </a:solidFill>
                <a:latin typeface="Arial"/>
                <a:ea typeface="Arial"/>
              </a:rPr>
              <a:t>7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 neutron/cm</a:t>
            </a:r>
            <a:r>
              <a:rPr b="0" lang="en-US" sz="2400" spc="-1" strike="noStrike" baseline="30000">
                <a:solidFill>
                  <a:srgbClr val="5f5f5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/spil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f5f5f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5f5f5f"/>
                </a:solidFill>
                <a:latin typeface="Arial"/>
              </a:rPr>
              <a:t>(1000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imes as much as in K2K MUMON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38080" y="449532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 viable alternative to Si PIN photodiode is required for T2K MUMON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 new candidate: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VD diamond detector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648320"/>
            <a:ext cx="457200" cy="152280"/>
          </a:xfrm>
          <a:prstGeom prst="rightArrow">
            <a:avLst>
              <a:gd name="adj1" fmla="val 50000"/>
              <a:gd name="adj2" fmla="val 126141"/>
            </a:avLst>
          </a:prstGeom>
          <a:solidFill>
            <a:srgbClr val="5f5f5f">
              <a:alpha val="50000"/>
            </a:srgbClr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181480" y="1371600"/>
            <a:ext cx="3962520" cy="3900600"/>
            <a:chOff x="5181480" y="1371600"/>
            <a:chExt cx="3962520" cy="3900600"/>
          </a:xfrm>
        </p:grpSpPr>
        <p:pic>
          <p:nvPicPr>
            <p:cNvPr id="207" name="K2K_mumon" descr=""/>
            <p:cNvPicPr/>
            <p:nvPr/>
          </p:nvPicPr>
          <p:blipFill>
            <a:blip r:embed="rId1"/>
            <a:stretch/>
          </p:blipFill>
          <p:spPr>
            <a:xfrm>
              <a:off x="5181480" y="1371600"/>
              <a:ext cx="3726000" cy="28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318280" y="4267440"/>
              <a:ext cx="382572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Arial"/>
                </a:rPr>
                <a:t>K2K MUM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an ionization chamber hodoscope and an array of Si PIN photodi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635-FD3C-43C7-9F73-B7AEB7A236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eam test w/ electron LINAC @ Uji IC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0" name="CVD_diamond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1828800" cy="1782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62120" y="1143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VD diamond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1600200"/>
            <a:ext cx="214956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Develop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CERN RD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ctive ar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9.5 x 9.5 mm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ickne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500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Arial"/>
              </a:rPr>
              <a:t>μ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20574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6720" y="2286000"/>
            <a:ext cx="9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9.5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295280" y="1828800"/>
            <a:ext cx="838440" cy="76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92520" y="1523880"/>
            <a:ext cx="9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9.5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029200" y="1143000"/>
            <a:ext cx="3886200" cy="5486400"/>
            <a:chOff x="5029200" y="1143000"/>
            <a:chExt cx="3886200" cy="5486400"/>
          </a:xfrm>
        </p:grpSpPr>
        <p:pic>
          <p:nvPicPr>
            <p:cNvPr id="218" name="photo_linac" descr=""/>
            <p:cNvPicPr/>
            <p:nvPr/>
          </p:nvPicPr>
          <p:blipFill>
            <a:blip r:embed="rId2"/>
            <a:stretch/>
          </p:blipFill>
          <p:spPr>
            <a:xfrm>
              <a:off x="5181480" y="2057400"/>
              <a:ext cx="355284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486400" y="4724280"/>
              <a:ext cx="34290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Arial"/>
                </a:rPr>
                <a:t>Beam param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5f5f5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Arial"/>
                </a:rPr>
                <a:t>100 MeV electr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5f5f5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Arial"/>
                </a:rPr>
                <a:t>Intensity &gt; 10</a:t>
              </a:r>
              <a:r>
                <a:rPr b="0" lang="en-US" sz="2000" spc="-1" strike="noStrike" baseline="30000">
                  <a:solidFill>
                    <a:srgbClr val="5f5f5f"/>
                  </a:solidFill>
                  <a:latin typeface="Arial"/>
                </a:rPr>
                <a:t>7</a:t>
              </a:r>
              <a:r>
                <a:rPr b="0" lang="en-US" sz="2000" spc="-1" strike="noStrike">
                  <a:solidFill>
                    <a:srgbClr val="5f5f5f"/>
                  </a:solidFill>
                  <a:latin typeface="Arial"/>
                </a:rPr>
                <a:t> e/spi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5f5f5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Arial"/>
                </a:rPr>
                <a:t>Radius: ~2 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5f5f5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Arial"/>
                </a:rPr>
                <a:t>Pulse width: ~40 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logo_AccLabBmSci~" descr=""/>
            <p:cNvPicPr/>
            <p:nvPr/>
          </p:nvPicPr>
          <p:blipFill>
            <a:blip r:embed="rId3"/>
            <a:stretch/>
          </p:blipFill>
          <p:spPr>
            <a:xfrm>
              <a:off x="7391520" y="3733920"/>
              <a:ext cx="1439640" cy="10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029200" y="1143000"/>
              <a:ext cx="382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Arial"/>
                </a:rPr>
                <a:t>Electron LINAC @ Inst. for Chem. Res. Kyoto Uni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687240" y="3886200"/>
            <a:ext cx="40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 PIN photodiode (as a re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hoto_SiPINphoto" descr=""/>
          <p:cNvPicPr/>
          <p:nvPr/>
        </p:nvPicPr>
        <p:blipFill>
          <a:blip r:embed="rId4"/>
          <a:stretch/>
        </p:blipFill>
        <p:spPr>
          <a:xfrm>
            <a:off x="838080" y="441972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028880" y="5372280"/>
            <a:ext cx="679320" cy="420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5638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990720" y="4571640"/>
            <a:ext cx="471240" cy="500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2680" y="4495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4343400"/>
            <a:ext cx="2149560" cy="25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HAMAMAT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3590-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ctive ar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0 x 10 mm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ickne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300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Arial"/>
              </a:rPr>
              <a:t>μ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C76-8672-4AF9-BD04-FBB9D11670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asured ite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ias voltage sca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ime dependenc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inearity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@ the flux expected in T2K MUM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876920" y="4038480"/>
            <a:ext cx="3954240" cy="2456280"/>
            <a:chOff x="4876920" y="4038480"/>
            <a:chExt cx="3954240" cy="2456280"/>
          </a:xfrm>
        </p:grpSpPr>
        <p:pic>
          <p:nvPicPr>
            <p:cNvPr id="232" name="LINAC_profile" descr=""/>
            <p:cNvPicPr/>
            <p:nvPr/>
          </p:nvPicPr>
          <p:blipFill>
            <a:blip r:embed="rId1"/>
            <a:stretch/>
          </p:blipFill>
          <p:spPr>
            <a:xfrm>
              <a:off x="4876920" y="4038480"/>
              <a:ext cx="3954240" cy="22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172560" y="6095880"/>
              <a:ext cx="160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Arial"/>
                </a:rPr>
                <a:t>Beam 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81840" y="4114800"/>
            <a:ext cx="3829320" cy="2151360"/>
            <a:chOff x="681840" y="4114800"/>
            <a:chExt cx="3829320" cy="2151360"/>
          </a:xfrm>
        </p:grpSpPr>
        <p:grpSp>
          <p:nvGrpSpPr>
            <p:cNvPr id="235" name=""/>
            <p:cNvGrpSpPr/>
            <p:nvPr/>
          </p:nvGrpSpPr>
          <p:grpSpPr>
            <a:xfrm>
              <a:off x="3048120" y="4952880"/>
              <a:ext cx="999000" cy="703440"/>
              <a:chOff x="3048120" y="4952880"/>
              <a:chExt cx="999000" cy="703440"/>
            </a:xfrm>
          </p:grpSpPr>
          <p:sp>
            <p:nvSpPr>
              <p:cNvPr id="236" name=""/>
              <p:cNvSpPr/>
              <p:nvPr/>
            </p:nvSpPr>
            <p:spPr>
              <a:xfrm>
                <a:off x="3048120" y="4952880"/>
                <a:ext cx="914400" cy="380880"/>
              </a:xfrm>
              <a:prstGeom prst="leftArrow">
                <a:avLst>
                  <a:gd name="adj1" fmla="val 50833"/>
                  <a:gd name="adj2" fmla="val 73779"/>
                </a:avLst>
              </a:prstGeom>
              <a:solidFill>
                <a:srgbClr val="4d4d4d">
                  <a:alpha val="50000"/>
                </a:srgbClr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201840" y="5257440"/>
                <a:ext cx="84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f5f5f"/>
                    </a:solidFill>
                    <a:latin typeface="Arial"/>
                  </a:rPr>
                  <a:t>Be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905120" y="4724280"/>
              <a:ext cx="152280" cy="91440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23880" y="4724280"/>
              <a:ext cx="152640" cy="91440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43000" y="4724280"/>
              <a:ext cx="152280" cy="91440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86000" y="4724280"/>
              <a:ext cx="152280" cy="914400"/>
            </a:xfrm>
            <a:prstGeom prst="rect">
              <a:avLst/>
            </a:prstGeom>
            <a:solidFill>
              <a:srgbClr val="00cc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90720" y="41148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Diamon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4800" y="4267080"/>
              <a:ext cx="142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Si (as a ref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67040" y="4368960"/>
              <a:ext cx="10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5f5f5f"/>
                  </a:solidFill>
                  <a:latin typeface="Arial"/>
                </a:rPr>
                <a:t>1    2   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1840" y="5867280"/>
              <a:ext cx="382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Arial"/>
                </a:rPr>
                <a:t>Schematic view of the test set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2F78-5494-44C9-8CD2-7B88546DB9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ias voltage sca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40480" y="5486400"/>
            <a:ext cx="6450480" cy="76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signal of diamond is ~1/5 of  that of Si as exp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ias voltage dependence is &lt; 0.1 %/V at 500 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648320" y="1143000"/>
            <a:ext cx="4343400" cy="4697280"/>
            <a:chOff x="4648320" y="1143000"/>
            <a:chExt cx="4343400" cy="4697280"/>
          </a:xfrm>
        </p:grpSpPr>
        <p:pic>
          <p:nvPicPr>
            <p:cNvPr id="249" name="plateau" descr=""/>
            <p:cNvPicPr/>
            <p:nvPr/>
          </p:nvPicPr>
          <p:blipFill>
            <a:blip r:embed="rId1"/>
            <a:stretch/>
          </p:blipFill>
          <p:spPr>
            <a:xfrm>
              <a:off x="4648320" y="1143000"/>
              <a:ext cx="4343400" cy="469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 flipV="1">
              <a:off x="7888320" y="1447920"/>
              <a:ext cx="0" cy="3657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75080" y="4343400"/>
              <a:ext cx="1727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Operation bi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00 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43360" y="6348240"/>
            <a:ext cx="346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Beam intensity: ~5 x 10</a:t>
            </a:r>
            <a:r>
              <a:rPr b="0" lang="en-US" sz="1600" spc="-1" strike="noStrike" baseline="30000">
                <a:solidFill>
                  <a:srgbClr val="5f5f5f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 e/cm</a:t>
            </a:r>
            <a:r>
              <a:rPr b="0" lang="en-US" sz="1600" spc="-1" strike="noStrike" baseline="30000">
                <a:solidFill>
                  <a:srgbClr val="5f5f5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/pu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99880" y="1295280"/>
            <a:ext cx="4586400" cy="3915360"/>
            <a:chOff x="299880" y="1295280"/>
            <a:chExt cx="4586400" cy="3915360"/>
          </a:xfrm>
        </p:grpSpPr>
        <p:sp>
          <p:nvSpPr>
            <p:cNvPr id="254" name=""/>
            <p:cNvSpPr/>
            <p:nvPr/>
          </p:nvSpPr>
          <p:spPr>
            <a:xfrm>
              <a:off x="299880" y="1295280"/>
              <a:ext cx="443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Arial"/>
                </a:rPr>
                <a:t>Raw signal measured by oscillosc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5" name="dia_signal" descr=""/>
            <p:cNvPicPr/>
            <p:nvPr/>
          </p:nvPicPr>
          <p:blipFill>
            <a:blip r:embed="rId2"/>
            <a:stretch/>
          </p:blipFill>
          <p:spPr>
            <a:xfrm>
              <a:off x="533520" y="1752480"/>
              <a:ext cx="3786120" cy="304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"/>
            <p:cNvGrpSpPr/>
            <p:nvPr/>
          </p:nvGrpSpPr>
          <p:grpSpPr>
            <a:xfrm>
              <a:off x="1053720" y="2057400"/>
              <a:ext cx="951120" cy="780840"/>
              <a:chOff x="1053720" y="2057400"/>
              <a:chExt cx="951120" cy="78084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1435320" y="2438280"/>
                <a:ext cx="0" cy="39996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1587600" y="2438280"/>
                <a:ext cx="0" cy="39996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1053720" y="2590920"/>
                <a:ext cx="3812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1587600" y="2590920"/>
                <a:ext cx="38088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132200" y="2057400"/>
                <a:ext cx="87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5f5f5f"/>
                    </a:solidFill>
                    <a:latin typeface="Arial"/>
                  </a:rPr>
                  <a:t>~80 </a:t>
                </a:r>
                <a:r>
                  <a:rPr b="0" lang="en-US" sz="1800" spc="-1" strike="noStrike">
                    <a:solidFill>
                      <a:srgbClr val="5f5f5f"/>
                    </a:solidFill>
                    <a:latin typeface="Arial"/>
                  </a:rPr>
                  <a:t>n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1371600" y="3581280"/>
              <a:ext cx="1752480" cy="609480"/>
              <a:chOff x="1371600" y="3581280"/>
              <a:chExt cx="1752480" cy="609480"/>
            </a:xfrm>
          </p:grpSpPr>
          <p:sp>
            <p:nvSpPr>
              <p:cNvPr id="263" name=""/>
              <p:cNvSpPr/>
              <p:nvPr/>
            </p:nvSpPr>
            <p:spPr>
              <a:xfrm>
                <a:off x="1371600" y="3657240"/>
                <a:ext cx="0" cy="53352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124080" y="3657240"/>
                <a:ext cx="0" cy="53352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371600" y="3962160"/>
                <a:ext cx="175248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830960" y="3581280"/>
                <a:ext cx="99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5f5f5f"/>
                    </a:solidFill>
                    <a:latin typeface="Arial"/>
                  </a:rPr>
                  <a:t>~800 </a:t>
                </a:r>
                <a:r>
                  <a:rPr b="0" lang="en-US" sz="1800" spc="-1" strike="noStrike">
                    <a:solidFill>
                      <a:srgbClr val="5f5f5f"/>
                    </a:solidFill>
                    <a:latin typeface="Arial"/>
                  </a:rPr>
                  <a:t>n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2498760" y="2246400"/>
              <a:ext cx="153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ff"/>
                  </a:solidFill>
                  <a:latin typeface="Arial"/>
                </a:rPr>
                <a:t>Diamond1 (bias: 500 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45360" y="3276720"/>
              <a:ext cx="16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Si (bias: -80 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0760" y="4811760"/>
              <a:ext cx="429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The diamond signal is faster than Si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CF7D-DF76-4160-B16D-3874A62E60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me dependen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05440" y="5830920"/>
            <a:ext cx="42984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ble within 0.5 % for 10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219320" y="5334120"/>
            <a:ext cx="7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360" y="6348240"/>
            <a:ext cx="346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Beam intensity: ~5 x 10</a:t>
            </a:r>
            <a:r>
              <a:rPr b="0" lang="en-US" sz="1600" spc="-1" strike="noStrike" baseline="30000">
                <a:solidFill>
                  <a:srgbClr val="5f5f5f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 e/cm</a:t>
            </a:r>
            <a:r>
              <a:rPr b="0" lang="en-US" sz="1600" spc="-1" strike="noStrike" baseline="30000">
                <a:solidFill>
                  <a:srgbClr val="5f5f5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/pu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724280" y="1593720"/>
            <a:ext cx="4011840" cy="4035600"/>
            <a:chOff x="4724280" y="1593720"/>
            <a:chExt cx="4011840" cy="4035600"/>
          </a:xfrm>
        </p:grpSpPr>
        <p:sp>
          <p:nvSpPr>
            <p:cNvPr id="275" name=""/>
            <p:cNvSpPr/>
            <p:nvPr/>
          </p:nvSpPr>
          <p:spPr>
            <a:xfrm>
              <a:off x="5486400" y="2514600"/>
              <a:ext cx="3184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86400" y="4191120"/>
              <a:ext cx="3184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46720" y="4230720"/>
              <a:ext cx="147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Arial"/>
                </a:rPr>
                <a:t>&lt; </a:t>
              </a:r>
              <a:r>
                <a:rPr b="0" lang="ja-JP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± </a:t>
              </a:r>
              <a:r>
                <a:rPr b="0" lang="ja-JP" sz="2400" spc="-1" strike="noStrike">
                  <a:solidFill>
                    <a:srgbClr val="ff0000"/>
                  </a:solidFill>
                  <a:latin typeface="Arial"/>
                </a:rPr>
                <a:t>0.5 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8" name="biastime2" descr=""/>
            <p:cNvPicPr/>
            <p:nvPr/>
          </p:nvPicPr>
          <p:blipFill>
            <a:blip r:embed="rId1"/>
            <a:stretch/>
          </p:blipFill>
          <p:spPr>
            <a:xfrm>
              <a:off x="4724280" y="1593720"/>
              <a:ext cx="4011840" cy="403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"/>
          <p:cNvGrpSpPr/>
          <p:nvPr/>
        </p:nvGrpSpPr>
        <p:grpSpPr>
          <a:xfrm>
            <a:off x="380880" y="1447920"/>
            <a:ext cx="4057920" cy="4662000"/>
            <a:chOff x="380880" y="1447920"/>
            <a:chExt cx="4057920" cy="4662000"/>
          </a:xfrm>
        </p:grpSpPr>
        <p:sp>
          <p:nvSpPr>
            <p:cNvPr id="280" name=""/>
            <p:cNvSpPr/>
            <p:nvPr/>
          </p:nvSpPr>
          <p:spPr>
            <a:xfrm>
              <a:off x="1603440" y="5410080"/>
              <a:ext cx="1739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Bias voltage 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Beam 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"/>
            <p:cNvCxnSpPr>
              <a:stCxn id="272" idx="0"/>
              <a:endCxn id="280" idx="1"/>
            </p:cNvCxnSpPr>
            <p:nvPr/>
          </p:nvCxnSpPr>
          <p:spPr>
            <a:xfrm flipH="1" rot="16200000">
              <a:off x="1197720" y="5356440"/>
              <a:ext cx="425880" cy="380160"/>
            </a:xfrm>
            <a:prstGeom prst="bentConnector2">
              <a:avLst/>
            </a:prstGeom>
            <a:ln w="38160">
              <a:solidFill>
                <a:srgbClr val="5f5f5f"/>
              </a:solidFill>
              <a:miter/>
              <a:headEnd len="med" type="triangle" w="med"/>
            </a:ln>
          </p:spPr>
        </p:cxnSp>
        <p:pic>
          <p:nvPicPr>
            <p:cNvPr id="282" name="biastime1" descr=""/>
            <p:cNvPicPr/>
            <p:nvPr/>
          </p:nvPicPr>
          <p:blipFill>
            <a:blip r:embed="rId2"/>
            <a:stretch/>
          </p:blipFill>
          <p:spPr>
            <a:xfrm>
              <a:off x="380880" y="1447920"/>
              <a:ext cx="4057920" cy="42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599840" y="4038480"/>
              <a:ext cx="187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umping eff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C138-BF3B-4424-9686-F42BC3F3B3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inearit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4038480"/>
            <a:ext cx="36576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response of diamond is linear within 5.2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1480" y="1905120"/>
            <a:ext cx="32925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 seems to be saturated at the higher intensities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9480" y="6348240"/>
            <a:ext cx="354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Beam intensity: 10</a:t>
            </a:r>
            <a:r>
              <a:rPr b="0" lang="en-US" sz="1600" spc="-1" strike="noStrike" baseline="30000">
                <a:solidFill>
                  <a:srgbClr val="5f5f5f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 ~ 10</a:t>
            </a:r>
            <a:r>
              <a:rPr b="0" lang="en-US" sz="1600" spc="-1" strike="noStrike" baseline="30000">
                <a:solidFill>
                  <a:srgbClr val="5f5f5f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 e/cm</a:t>
            </a:r>
            <a:r>
              <a:rPr b="0" lang="en-US" sz="1600" spc="-1" strike="noStrike" baseline="30000">
                <a:solidFill>
                  <a:srgbClr val="5f5f5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/pu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linearity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4675320" cy="444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B579-8670-4CCE-A171-D047D5F80D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Intensity and luminosity frontiers has been improved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Radiation-hard detectors are required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CVD diamond is a new material tolerant of radiation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VD diamond detectors in BaBar, Bell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Operated w/ no problem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hould surpass performance of Si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VD diamond is a candidate for T2K MUMON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We succeeded in the beam test of CVD diamonds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Bias voltage dependence &lt; 0.1 %/V at 500 V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table within 0.5 % for 10 min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Linear response within 5.2 % up to 10</a:t>
            </a:r>
            <a:r>
              <a:rPr b="0" lang="en-US" sz="1800" spc="-1" strike="noStrike" baseline="30000">
                <a:solidFill>
                  <a:srgbClr val="5f5f5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e/spill (T2K full intensity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ere remain some issues to be considered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Individuality, Long-term stability, etc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VD diamond is involving in real alternative for detectors in extreme radiation environment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03D0-14B9-4566-AEF2-40DFEB66BC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6CD8-10AB-4020-BE3E-E1B7EBB264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ppleme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94C2-5E84-4895-86CB-BEF17BB7E4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in goals of T2K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arch for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ν</a:t>
            </a:r>
            <a:r>
              <a:rPr b="0" lang="en-US" sz="2400" spc="-1" strike="noStrike" baseline="-25000">
                <a:solidFill>
                  <a:srgbClr val="5f5f5f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 appearance, then determination of θ</a:t>
            </a:r>
            <a:r>
              <a:rPr b="0" lang="en-US" sz="2400" spc="-1" strike="noStrike" baseline="-25000">
                <a:solidFill>
                  <a:srgbClr val="5f5f5f"/>
                </a:solidFill>
                <a:latin typeface="Arial"/>
                <a:ea typeface="Arial"/>
              </a:rPr>
              <a:t>13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496080" indent="-496080"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Precise measurement of oscillation parameters, θ</a:t>
            </a:r>
            <a:r>
              <a:rPr b="0" lang="en-US" sz="2400" spc="-1" strike="noStrike" baseline="-25000">
                <a:solidFill>
                  <a:srgbClr val="5f5f5f"/>
                </a:solidFill>
                <a:latin typeface="Arial"/>
                <a:ea typeface="Arial"/>
              </a:rPr>
              <a:t>23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 and Δm</a:t>
            </a:r>
            <a:r>
              <a:rPr b="0" lang="en-US" sz="2400" spc="-1" strike="noStrike" baseline="-25000">
                <a:solidFill>
                  <a:srgbClr val="5f5f5f"/>
                </a:solidFill>
                <a:latin typeface="Arial"/>
                <a:ea typeface="Arial"/>
              </a:rPr>
              <a:t>23</a:t>
            </a:r>
            <a:r>
              <a:rPr b="0" lang="en-US" sz="2400" spc="-1" strike="noStrike" baseline="30000">
                <a:solidFill>
                  <a:srgbClr val="5f5f5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, by ν</a:t>
            </a:r>
            <a:r>
              <a:rPr b="0" lang="en-US" sz="2400" spc="-1" strike="noStrike" baseline="-25000">
                <a:solidFill>
                  <a:srgbClr val="5f5f5f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 disappearanc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496080" indent="-496080"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arch for sterile components in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ν</a:t>
            </a:r>
            <a:r>
              <a:rPr b="0" lang="en-US" sz="2400" spc="-1" strike="noStrike" baseline="-25000">
                <a:solidFill>
                  <a:srgbClr val="5f5f5f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 disappearanc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49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496080" indent="-496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Expected sensitivities assuming 0.75MW and 170 days operation for five year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50320" indent="-4251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ν</a:t>
            </a:r>
            <a:r>
              <a:rPr b="0" lang="en-US" sz="2400" spc="-1" strike="noStrike" baseline="-25000">
                <a:solidFill>
                  <a:srgbClr val="5f5f5f"/>
                </a:solidFill>
                <a:latin typeface="Arial"/>
                <a:ea typeface="Arial"/>
              </a:rPr>
              <a:t>μ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disappearanc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204560" indent="-3538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δ(Δm</a:t>
            </a:r>
            <a:r>
              <a:rPr b="0" lang="en-US" sz="2400" spc="-1" strike="noStrike" baseline="-25000">
                <a:solidFill>
                  <a:srgbClr val="5f5f5f"/>
                </a:solidFill>
                <a:latin typeface="Arial"/>
                <a:ea typeface="Arial"/>
              </a:rPr>
              <a:t>23</a:t>
            </a:r>
            <a:r>
              <a:rPr b="0" lang="en-US" sz="2400" spc="-1" strike="noStrike" baseline="30000">
                <a:solidFill>
                  <a:srgbClr val="5f5f5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) = 10</a:t>
            </a:r>
            <a:r>
              <a:rPr b="0" lang="en-US" sz="2400" spc="-1" strike="noStrike" baseline="30000">
                <a:solidFill>
                  <a:srgbClr val="5f5f5f"/>
                </a:solidFill>
                <a:latin typeface="Arial"/>
                <a:ea typeface="Arial"/>
              </a:rPr>
              <a:t>-4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 eV</a:t>
            </a:r>
            <a:r>
              <a:rPr b="0" lang="en-US" sz="2400" spc="-1" strike="noStrike" baseline="30000">
                <a:solidFill>
                  <a:srgbClr val="5f5f5f"/>
                </a:solidFill>
                <a:latin typeface="Arial"/>
                <a:ea typeface="Arial"/>
              </a:rPr>
              <a:t>-2</a:t>
            </a:r>
            <a:r>
              <a:rPr b="0" lang="en-US" sz="2400" spc="-1" strike="noStrike" baseline="30000">
                <a:solidFill>
                  <a:srgbClr val="5f5f5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•   δ(sin</a:t>
            </a:r>
            <a:r>
              <a:rPr b="0" lang="en-US" sz="2400" spc="-1" strike="noStrike" baseline="30000">
                <a:solidFill>
                  <a:srgbClr val="5f5f5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2θ</a:t>
            </a:r>
            <a:r>
              <a:rPr b="0" lang="en-US" sz="2400" spc="-1" strike="noStrike" baseline="-25000">
                <a:solidFill>
                  <a:srgbClr val="5f5f5f"/>
                </a:solidFill>
                <a:latin typeface="Arial"/>
                <a:ea typeface="Arial"/>
              </a:rPr>
              <a:t>23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) = 0.01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50320" indent="-4251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iscovery of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ν</a:t>
            </a:r>
            <a:r>
              <a:rPr b="0" lang="en-US" sz="2400" spc="-1" strike="noStrike" baseline="-25000">
                <a:solidFill>
                  <a:srgbClr val="5f5f5f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       ν</a:t>
            </a:r>
            <a:r>
              <a:rPr b="0" lang="en-US" sz="2400" spc="-1" strike="noStrike" baseline="-25000">
                <a:solidFill>
                  <a:srgbClr val="5f5f5f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204560" indent="-3538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Δm</a:t>
            </a:r>
            <a:r>
              <a:rPr b="0" lang="en-US" sz="2400" spc="-1" strike="noStrike" baseline="30000">
                <a:solidFill>
                  <a:srgbClr val="5f5f5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 ~ 3 x 10</a:t>
            </a:r>
            <a:r>
              <a:rPr b="0" lang="en-US" sz="2400" spc="-1" strike="noStrike" baseline="30000">
                <a:solidFill>
                  <a:srgbClr val="5f5f5f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 eV</a:t>
            </a:r>
            <a:r>
              <a:rPr b="0" lang="en-US" sz="2400" spc="-1" strike="noStrike" baseline="30000">
                <a:solidFill>
                  <a:srgbClr val="5f5f5f"/>
                </a:solidFill>
                <a:latin typeface="Arial"/>
                <a:ea typeface="Arial"/>
              </a:rPr>
              <a:t>-2</a:t>
            </a:r>
            <a:r>
              <a:rPr b="0" lang="en-US" sz="2400" spc="-1" strike="noStrike" baseline="30000">
                <a:solidFill>
                  <a:srgbClr val="5f5f5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•   sin</a:t>
            </a:r>
            <a:r>
              <a:rPr b="0" lang="en-US" sz="2400" spc="-1" strike="noStrike" baseline="30000">
                <a:solidFill>
                  <a:srgbClr val="5f5f5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2θ</a:t>
            </a:r>
            <a:r>
              <a:rPr b="0" lang="en-US" sz="2400" spc="-1" strike="noStrike" baseline="-25000">
                <a:solidFill>
                  <a:srgbClr val="5f5f5f"/>
                </a:solidFill>
                <a:latin typeface="Arial"/>
                <a:ea typeface="Arial"/>
              </a:rPr>
              <a:t>13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 ~ 0.006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49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5334120"/>
            <a:ext cx="380880" cy="0"/>
          </a:xfrm>
          <a:prstGeom prst="line">
            <a:avLst/>
          </a:prstGeom>
          <a:ln w="19080">
            <a:solidFill>
              <a:srgbClr val="5f5f5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838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DC7E-C8D6-415C-B3A2-1D5CB11E7B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hemical Vapor Deposition (CVD) diamon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operti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VD diamond detectors in BaBar, Bell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 candidate for T2K muon monitor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Beam test results of CVD diamond detector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Bias voltage sca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ime dependenc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Linearit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EF0-6BB7-4233-9C59-68ACC3E12E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ff-axis (OA) neutrino bea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Off-axi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ν flux at the desired energy is higher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 than on-axis flux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Arial"/>
              </a:rPr>
              <a:t>(Oscillation max. ~ 0.8 GeV for L = 295 km and Δm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Arial"/>
              </a:rPr>
              <a:t> ~ 3 x 10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  <a:ea typeface="Arial"/>
              </a:rPr>
              <a:t>-3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Arial"/>
              </a:rPr>
              <a:t> eV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  <a:ea typeface="Arial"/>
              </a:rPr>
              <a:t>-2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There a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ew high energy neutrinos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 which contribute not to the appearance signal but to its background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ackground due to intrinsic contamination of the beam by ν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is less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 than at on-axis position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638680" y="2286000"/>
            <a:ext cx="3292560" cy="3447000"/>
            <a:chOff x="5638680" y="2286000"/>
            <a:chExt cx="3292560" cy="3447000"/>
          </a:xfrm>
        </p:grpSpPr>
        <p:pic>
          <p:nvPicPr>
            <p:cNvPr id="299" name="nu_flux" descr=""/>
            <p:cNvPicPr/>
            <p:nvPr/>
          </p:nvPicPr>
          <p:blipFill>
            <a:blip r:embed="rId1"/>
            <a:stretch/>
          </p:blipFill>
          <p:spPr>
            <a:xfrm>
              <a:off x="5638680" y="2286000"/>
              <a:ext cx="300672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5715000" y="5029200"/>
              <a:ext cx="3216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Arial"/>
                </a:rPr>
                <a:t>Neutrino energy spectrum from OA bea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44CE-3D63-4534-9521-636210EB15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VD diamond results in BaBa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ully correlated with nearby Si signa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ovide very clean signal due to their tiny dark curren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No operational problem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590920" y="2743200"/>
            <a:ext cx="4606920" cy="3888720"/>
            <a:chOff x="2590920" y="2743200"/>
            <a:chExt cx="4606920" cy="3888720"/>
          </a:xfrm>
        </p:grpSpPr>
        <p:pic>
          <p:nvPicPr>
            <p:cNvPr id="304" name="BaBar_dia_result" descr=""/>
            <p:cNvPicPr/>
            <p:nvPr/>
          </p:nvPicPr>
          <p:blipFill>
            <a:blip r:embed="rId1"/>
            <a:stretch/>
          </p:blipFill>
          <p:spPr>
            <a:xfrm>
              <a:off x="2590920" y="2743200"/>
              <a:ext cx="460692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2666880" y="5715000"/>
              <a:ext cx="4496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Radiation-induced cur. in CVD diamond detector and Si PIN photodiode during typical operation of the accel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63F-2003-43FE-8554-10D0EAFE06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VD diamond in K2K MUM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607680" y="1143000"/>
            <a:ext cx="4421520" cy="5351760"/>
            <a:chOff x="607680" y="1143000"/>
            <a:chExt cx="4421520" cy="5351760"/>
          </a:xfrm>
        </p:grpSpPr>
        <p:pic>
          <p:nvPicPr>
            <p:cNvPr id="308" name="K2K_mumon2" descr=""/>
            <p:cNvPicPr/>
            <p:nvPr/>
          </p:nvPicPr>
          <p:blipFill>
            <a:blip r:embed="rId1"/>
            <a:stretch/>
          </p:blipFill>
          <p:spPr>
            <a:xfrm>
              <a:off x="685800" y="1143000"/>
              <a:ext cx="2789280" cy="501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"/>
            <p:cNvGrpSpPr/>
            <p:nvPr/>
          </p:nvGrpSpPr>
          <p:grpSpPr>
            <a:xfrm>
              <a:off x="3352680" y="3276720"/>
              <a:ext cx="999000" cy="703440"/>
              <a:chOff x="3352680" y="3276720"/>
              <a:chExt cx="999000" cy="703440"/>
            </a:xfrm>
          </p:grpSpPr>
          <p:sp>
            <p:nvSpPr>
              <p:cNvPr id="310" name=""/>
              <p:cNvSpPr/>
              <p:nvPr/>
            </p:nvSpPr>
            <p:spPr>
              <a:xfrm>
                <a:off x="3352680" y="3276720"/>
                <a:ext cx="914400" cy="380880"/>
              </a:xfrm>
              <a:prstGeom prst="leftArrow">
                <a:avLst>
                  <a:gd name="adj1" fmla="val 50833"/>
                  <a:gd name="adj2" fmla="val 73779"/>
                </a:avLst>
              </a:prstGeom>
              <a:solidFill>
                <a:srgbClr val="4d4d4d">
                  <a:alpha val="50000"/>
                </a:srgbClr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06400" y="3581280"/>
                <a:ext cx="84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f5f5f"/>
                    </a:solidFill>
                    <a:latin typeface="Arial"/>
                  </a:rPr>
                  <a:t>Be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607680" y="6095880"/>
              <a:ext cx="298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Arial"/>
                </a:rPr>
                <a:t>K2K MUMON SSD-arr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2571480" y="3429000"/>
              <a:ext cx="152640" cy="75960"/>
            </a:xfrm>
            <a:custGeom>
              <a:avLst/>
              <a:gdLst>
                <a:gd name="textAreaLeft" fmla="*/ 21240 w 152640"/>
                <a:gd name="textAreaRight" fmla="*/ 131400 w 152640"/>
                <a:gd name="textAreaTop" fmla="*/ 10440 h 75960"/>
                <a:gd name="textAreaBottom" fmla="*/ 6552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0" y="21600"/>
                  </a:lnTo>
                  <a:lnTo>
                    <a:pt x="225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743200" y="2286000"/>
              <a:ext cx="99072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18080" y="1916280"/>
              <a:ext cx="1311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CVD diamo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6" name="K2K_dia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3932280" cy="1942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486400" y="5105520"/>
            <a:ext cx="283536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Collected charge ratio of diamond /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= 13.8 pC / 160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.6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76D-F701-4C72-B0C5-02E68AF117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umping effec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(t) = d</a:t>
            </a:r>
            <a:r>
              <a:rPr b="0" lang="en-US" sz="3200" spc="-1" strike="noStrike" baseline="-25000">
                <a:solidFill>
                  <a:srgbClr val="5f5f5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[1 – r exp(-t /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  <a:ea typeface="Arial"/>
              </a:rPr>
              <a:t>τ)]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514600" y="2514600"/>
            <a:ext cx="3962160" cy="3686760"/>
            <a:chOff x="2514600" y="2514600"/>
            <a:chExt cx="3962160" cy="3686760"/>
          </a:xfrm>
        </p:grpSpPr>
        <p:pic>
          <p:nvPicPr>
            <p:cNvPr id="321" name="pumping" descr=""/>
            <p:cNvPicPr/>
            <p:nvPr/>
          </p:nvPicPr>
          <p:blipFill>
            <a:blip r:embed="rId1"/>
            <a:stretch/>
          </p:blipFill>
          <p:spPr>
            <a:xfrm>
              <a:off x="2514600" y="2514600"/>
              <a:ext cx="3725640" cy="26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2879640" y="5192640"/>
              <a:ext cx="3597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Arial"/>
                </a:rPr>
                <a:t>Charge collection distance in irradiation with </a:t>
              </a:r>
              <a:r>
                <a:rPr b="0" lang="en-US" sz="2000" spc="-1" strike="noStrike" baseline="30000">
                  <a:solidFill>
                    <a:srgbClr val="5f5f5f"/>
                  </a:solidFill>
                  <a:latin typeface="Arial"/>
                </a:rPr>
                <a:t>90</a:t>
              </a:r>
              <a:r>
                <a:rPr b="0" lang="en-US" sz="2000" spc="-1" strike="noStrike">
                  <a:solidFill>
                    <a:srgbClr val="5f5f5f"/>
                  </a:solidFill>
                  <a:latin typeface="Arial"/>
                </a:rPr>
                <a:t>Sr source with an activity of 37Mr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03160" y="3744720"/>
              <a:ext cx="14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Arial"/>
                  <a:ea typeface="Arial"/>
                </a:rPr>
                <a:t>τ = 64 mi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E946-E091-4CEC-A601-B72059A27D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43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tivation to study CVD diamond detecto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 high intensity and high luminosity accelerator helps us to push back the frontiers in HEP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0520" y="510516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Need more radiation-hard detector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 new material tolerant of radiation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emical Vapor Deposition (CVD) diamon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727160" y="2362320"/>
            <a:ext cx="3426120" cy="2684520"/>
            <a:chOff x="4727160" y="2362320"/>
            <a:chExt cx="3426120" cy="2684520"/>
          </a:xfrm>
        </p:grpSpPr>
        <p:sp>
          <p:nvSpPr>
            <p:cNvPr id="100" name=""/>
            <p:cNvSpPr/>
            <p:nvPr/>
          </p:nvSpPr>
          <p:spPr>
            <a:xfrm>
              <a:off x="4727160" y="2438280"/>
              <a:ext cx="85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KEK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81920" y="4647960"/>
              <a:ext cx="285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Arial"/>
                </a:rPr>
                <a:t>Luminosity: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Arial"/>
                </a:rPr>
                <a:t>34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cm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Arial"/>
                </a:rPr>
                <a:t>-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KEKB" descr=""/>
            <p:cNvPicPr/>
            <p:nvPr/>
          </p:nvPicPr>
          <p:blipFill>
            <a:blip r:embed="rId1"/>
            <a:stretch/>
          </p:blipFill>
          <p:spPr>
            <a:xfrm>
              <a:off x="5029200" y="2362320"/>
              <a:ext cx="3124080" cy="212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609480" y="2362320"/>
            <a:ext cx="4108680" cy="2684880"/>
            <a:chOff x="609480" y="2362320"/>
            <a:chExt cx="4108680" cy="2684880"/>
          </a:xfrm>
        </p:grpSpPr>
        <p:pic>
          <p:nvPicPr>
            <p:cNvPr id="104" name="J-PARK1" descr=""/>
            <p:cNvPicPr/>
            <p:nvPr/>
          </p:nvPicPr>
          <p:blipFill>
            <a:blip r:embed="rId2"/>
            <a:stretch/>
          </p:blipFill>
          <p:spPr>
            <a:xfrm>
              <a:off x="609480" y="2362320"/>
              <a:ext cx="400536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10560" y="2438280"/>
              <a:ext cx="110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J-PAR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6800" y="4648320"/>
              <a:ext cx="39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Arial"/>
                </a:rPr>
                <a:t>Intensity: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3.3 x 10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Arial"/>
                </a:rPr>
                <a:t>14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proton / pul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75BD-52F2-4AF0-AECD-96211524DF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VD diamon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rmed by using a gas at low temp. (&lt; 1000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°C)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nd low pressure (~0.1 atm) in a non-equilibrium process, Chemical Vapor Deposition (CVD) growth proces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oduced economically over a large area and w/ high purity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olycrystalline w/ a columnar structure of grain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9" name="CVDreactor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2503440" cy="347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14400" y="5638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chematic diagram of a CVD re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943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canning electron micrograph from the growth side of a CVD diamond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334120" y="3505320"/>
            <a:ext cx="3081600" cy="2359080"/>
            <a:chOff x="5334120" y="3505320"/>
            <a:chExt cx="3081600" cy="2359080"/>
          </a:xfrm>
        </p:grpSpPr>
        <p:pic>
          <p:nvPicPr>
            <p:cNvPr id="113" name="grain" descr=""/>
            <p:cNvPicPr/>
            <p:nvPr/>
          </p:nvPicPr>
          <p:blipFill>
            <a:blip r:embed="rId2"/>
            <a:stretch/>
          </p:blipFill>
          <p:spPr>
            <a:xfrm>
              <a:off x="5334120" y="3505320"/>
              <a:ext cx="3036600" cy="235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" name=""/>
            <p:cNvGrpSpPr/>
            <p:nvPr/>
          </p:nvGrpSpPr>
          <p:grpSpPr>
            <a:xfrm>
              <a:off x="7470000" y="4952880"/>
              <a:ext cx="945720" cy="542880"/>
              <a:chOff x="7470000" y="4952880"/>
              <a:chExt cx="945720" cy="542880"/>
            </a:xfrm>
          </p:grpSpPr>
          <p:sp>
            <p:nvSpPr>
              <p:cNvPr id="115" name=""/>
              <p:cNvSpPr/>
              <p:nvPr/>
            </p:nvSpPr>
            <p:spPr>
              <a:xfrm>
                <a:off x="7620120" y="5410080"/>
                <a:ext cx="533160" cy="0"/>
              </a:xfrm>
              <a:prstGeom prst="line">
                <a:avLst/>
              </a:prstGeom>
              <a:ln w="1908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20120" y="5343480"/>
                <a:ext cx="0" cy="152280"/>
              </a:xfrm>
              <a:prstGeom prst="line">
                <a:avLst/>
              </a:prstGeom>
              <a:ln w="1908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153280" y="5334120"/>
                <a:ext cx="0" cy="152280"/>
              </a:xfrm>
              <a:prstGeom prst="line">
                <a:avLst/>
              </a:prstGeom>
              <a:ln w="1908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470000" y="4952880"/>
                <a:ext cx="94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ffff66"/>
                    </a:solidFill>
                    <a:latin typeface="Arial"/>
                  </a:rPr>
                  <a:t>200 </a:t>
                </a:r>
                <a:r>
                  <a:rPr b="0" lang="en-US" sz="1800" spc="-1" strike="noStrike">
                    <a:solidFill>
                      <a:srgbClr val="ffff66"/>
                    </a:solidFill>
                    <a:latin typeface="Arial"/>
                    <a:ea typeface="Arial"/>
                  </a:rPr>
                  <a:t>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390D-2680-4CC9-8AFF-2272FEBEF1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operties of diamon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219320"/>
          <a:ext cx="8229600" cy="4911480"/>
        </p:xfrm>
        <a:graphic>
          <a:graphicData uri="http://schemas.openxmlformats.org/drawingml/2006/table">
            <a:tbl>
              <a:tblPr/>
              <a:tblGrid>
                <a:gridCol w="3200400"/>
                <a:gridCol w="3657600"/>
                <a:gridCol w="137160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Diam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and gap [eV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5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1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Electron mobility [cm</a:t>
                      </a:r>
                      <a:r>
                        <a:rPr b="0" lang="en-US" sz="2000" spc="-1" strike="noStrike" baseline="30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/V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2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1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Hole mobility [cm</a:t>
                      </a:r>
                      <a:r>
                        <a:rPr b="0" lang="en-US" sz="2000" spc="-1" strike="noStrike" baseline="30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/V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Saturation velocity [cm/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x 10</a:t>
                      </a:r>
                      <a:r>
                        <a:rPr b="0" lang="en-US" sz="2000" spc="-1" strike="noStrike" baseline="30000">
                          <a:solidFill>
                            <a:srgbClr val="5f5f5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.8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x 10</a:t>
                      </a:r>
                      <a:r>
                        <a:rPr b="0" lang="en-US" sz="2000" spc="-1" strike="noStrike" baseline="30000">
                          <a:solidFill>
                            <a:srgbClr val="5f5f5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Dielectric 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1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e-h creation energy [eV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e-h pairs per MIP [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μm</a:t>
                      </a:r>
                      <a:r>
                        <a:rPr b="0" lang="en-US" sz="2000" spc="-1" strike="noStrike" baseline="30000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-1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Displacement energy [eV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13 ~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Decrease in charge collection after irradiation with 1 x 10</a:t>
                      </a:r>
                      <a:r>
                        <a:rPr b="0" lang="en-US" sz="2000" spc="-1" strike="noStrike" baseline="30000">
                          <a:solidFill>
                            <a:srgbClr val="5f5f5f"/>
                          </a:solidFill>
                          <a:latin typeface="Arial"/>
                        </a:rPr>
                        <a:t>15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 proton/cm</a:t>
                      </a:r>
                      <a:r>
                        <a:rPr b="0" lang="en-US" sz="2000" spc="-1" strike="noStrike" baseline="30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Not obser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(by ~40 % at 5 x 10</a:t>
                      </a:r>
                      <a:r>
                        <a:rPr b="0" lang="en-US" sz="2000" spc="-1" strike="noStrike" baseline="30000">
                          <a:solidFill>
                            <a:srgbClr val="5f5f5f"/>
                          </a:solidFill>
                          <a:latin typeface="Arial"/>
                        </a:rPr>
                        <a:t>15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 p/cm</a:t>
                      </a:r>
                      <a:r>
                        <a:rPr b="0" lang="en-US" sz="2000" spc="-1" strike="noStrike" baseline="30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No sig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493880" y="1676520"/>
            <a:ext cx="21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ow leakage c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3160" y="3429000"/>
            <a:ext cx="28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ow capacitance,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472428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igh radiation hard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23623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st signal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133720"/>
            <a:ext cx="228600" cy="121896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2840" y="6324480"/>
            <a:ext cx="21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ERN-EP/98-79 (199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8862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962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maller signal (typically 1/5 of S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5145120"/>
            <a:ext cx="8229600" cy="99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3760" y="6248520"/>
            <a:ext cx="50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amond is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 better material than sili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A728-2201-452F-84F9-C137320DD9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6477120" y="4267080"/>
            <a:ext cx="2438280" cy="2395440"/>
            <a:chOff x="6477120" y="4267080"/>
            <a:chExt cx="2438280" cy="2395440"/>
          </a:xfrm>
        </p:grpSpPr>
        <p:pic>
          <p:nvPicPr>
            <p:cNvPr id="132" name="photo_BaBarSVT" descr=""/>
            <p:cNvPicPr/>
            <p:nvPr/>
          </p:nvPicPr>
          <p:blipFill>
            <a:blip r:embed="rId1"/>
            <a:stretch/>
          </p:blipFill>
          <p:spPr>
            <a:xfrm>
              <a:off x="6477120" y="4267080"/>
              <a:ext cx="229536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477120" y="601992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Photo of BaBar device inside SV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67480" y="50292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48720" y="54100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VD diamo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VD diamonds in BaBa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VTRAD system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Radiation monitoring and protection system to safeguard the Silicon Vertex Tracker (SVT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wo CVD diamonds were installed in Aug. 2002 to determine whether they presented a viable alternative to Si PIN photodiodes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09480" y="4572000"/>
            <a:ext cx="5105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 operation problem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ower noise than Si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n to replace all the Si PIN photodiodes w/ CVD diamond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410080" y="1219320"/>
            <a:ext cx="3581640" cy="3004560"/>
            <a:chOff x="5410080" y="1219320"/>
            <a:chExt cx="3581640" cy="3004560"/>
          </a:xfrm>
        </p:grpSpPr>
        <p:sp>
          <p:nvSpPr>
            <p:cNvPr id="140" name=""/>
            <p:cNvSpPr/>
            <p:nvPr/>
          </p:nvSpPr>
          <p:spPr>
            <a:xfrm>
              <a:off x="5486400" y="35812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Cross-section view of SV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BaBarSVT_cross" descr=""/>
            <p:cNvPicPr/>
            <p:nvPr/>
          </p:nvPicPr>
          <p:blipFill>
            <a:blip r:embed="rId2"/>
            <a:stretch/>
          </p:blipFill>
          <p:spPr>
            <a:xfrm>
              <a:off x="5943600" y="1219320"/>
              <a:ext cx="2503440" cy="28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467480" y="1219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Support rib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0080" y="2590920"/>
              <a:ext cx="146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Si PIN photodi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324480" y="2514240"/>
              <a:ext cx="609840" cy="152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72400" y="2895480"/>
              <a:ext cx="121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Be beam pi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7391160" y="2666520"/>
              <a:ext cx="609480" cy="22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86400" y="1295280"/>
              <a:ext cx="115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Detector wa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7280" y="1981080"/>
              <a:ext cx="304920" cy="15264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381520" y="1600200"/>
              <a:ext cx="1800" cy="60948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8229240" y="1600200"/>
              <a:ext cx="152280" cy="22860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381880" y="3505320"/>
            <a:ext cx="0" cy="1371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5F39-B2E8-44EC-9AE9-B4FDF3A53E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VD diamonds in Bel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milar sensors as BaBar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Installed just outside of Silicon Vertex Detector (SVD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8320" y="3352320"/>
            <a:ext cx="4114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VD diamond has ever been no more than used as a radiation monitor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e performance is not clear yet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Linearity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tability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Reproducibility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Individuality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5" name="photo_BelleSVD" descr=""/>
          <p:cNvPicPr/>
          <p:nvPr/>
        </p:nvPicPr>
        <p:blipFill>
          <a:blip r:embed="rId1"/>
          <a:stretch/>
        </p:blipFill>
        <p:spPr>
          <a:xfrm>
            <a:off x="533520" y="2895480"/>
            <a:ext cx="3875040" cy="3006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362320" y="3733920"/>
            <a:ext cx="5331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41148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VD diam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6480" y="6019920"/>
            <a:ext cx="405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Photo of Belle device outside S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9CBF-E7FE-4131-97BF-BA154F5486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map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810560" cy="5210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1523880"/>
            <a:ext cx="6172200" cy="457200"/>
          </a:xfrm>
          <a:prstGeom prst="leftRightArrow">
            <a:avLst>
              <a:gd name="adj1" fmla="val 32639"/>
              <a:gd name="adj2" fmla="val 106000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2K long baseline neutrino oscillation exp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80880" y="3200400"/>
            <a:ext cx="1954080" cy="3370680"/>
            <a:chOff x="380880" y="3200400"/>
            <a:chExt cx="1954080" cy="3370680"/>
          </a:xfrm>
        </p:grpSpPr>
        <p:pic>
          <p:nvPicPr>
            <p:cNvPr id="163" name="SuperK" descr=""/>
            <p:cNvPicPr/>
            <p:nvPr/>
          </p:nvPicPr>
          <p:blipFill>
            <a:blip r:embed="rId2"/>
            <a:stretch/>
          </p:blipFill>
          <p:spPr>
            <a:xfrm>
              <a:off x="380880" y="3200400"/>
              <a:ext cx="1954080" cy="30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38440" y="617220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99"/>
                  </a:solidFill>
                  <a:latin typeface="Arial"/>
                </a:rPr>
                <a:t>Super-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486400" y="12952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66"/>
                </a:solidFill>
                <a:latin typeface="Arial"/>
              </a:rPr>
              <a:t>295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477840" y="1554120"/>
            <a:ext cx="2339280" cy="5303880"/>
            <a:chOff x="6477840" y="1554120"/>
            <a:chExt cx="2339280" cy="5303880"/>
          </a:xfrm>
        </p:grpSpPr>
        <p:pic>
          <p:nvPicPr>
            <p:cNvPr id="167" name="J-PARK" descr=""/>
            <p:cNvPicPr/>
            <p:nvPr/>
          </p:nvPicPr>
          <p:blipFill>
            <a:blip r:embed="rId3"/>
            <a:stretch/>
          </p:blipFill>
          <p:spPr>
            <a:xfrm>
              <a:off x="6781680" y="1554120"/>
              <a:ext cx="2035440" cy="530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6477840" y="6324480"/>
              <a:ext cx="110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99"/>
                  </a:solidFill>
                  <a:latin typeface="Arial"/>
                </a:rPr>
                <a:t>J-PAR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437920" y="4483800"/>
            <a:ext cx="4419720" cy="1035720"/>
            <a:chOff x="2437920" y="4483800"/>
            <a:chExt cx="4419720" cy="1035720"/>
          </a:xfrm>
        </p:grpSpPr>
        <p:sp>
          <p:nvSpPr>
            <p:cNvPr id="170" name=""/>
            <p:cNvSpPr/>
            <p:nvPr/>
          </p:nvSpPr>
          <p:spPr>
            <a:xfrm flipH="1" flipV="1">
              <a:off x="2437920" y="4724280"/>
              <a:ext cx="4419720" cy="4572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300000">
              <a:off x="4115880" y="4571640"/>
              <a:ext cx="204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  <a:ea typeface="Arial"/>
                </a:rPr>
                <a:t>~1 GeV ν</a:t>
              </a:r>
              <a:r>
                <a:rPr b="0" lang="en-US" sz="2000" spc="-1" strike="noStrike" baseline="-25000">
                  <a:solidFill>
                    <a:srgbClr val="009999"/>
                  </a:solidFill>
                  <a:latin typeface="Arial"/>
                  <a:ea typeface="Arial"/>
                </a:rPr>
                <a:t>μ</a:t>
              </a:r>
              <a:r>
                <a:rPr b="0" lang="en-US" sz="2000" spc="-1" strike="noStrike">
                  <a:solidFill>
                    <a:srgbClr val="009999"/>
                  </a:solidFill>
                  <a:latin typeface="Arial"/>
                  <a:ea typeface="Arial"/>
                </a:rPr>
                <a:t> b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504960" y="5181480"/>
              <a:ext cx="3352680" cy="0"/>
            </a:xfrm>
            <a:prstGeom prst="line">
              <a:avLst/>
            </a:prstGeom>
            <a:ln w="381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06760" y="4952880"/>
              <a:ext cx="88920" cy="22860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56" y="0"/>
                  </a:moveTo>
                  <a:cubicBezTo>
                    <a:pt x="36" y="16"/>
                    <a:pt x="16" y="32"/>
                    <a:pt x="8" y="48"/>
                  </a:cubicBezTo>
                  <a:cubicBezTo>
                    <a:pt x="0" y="64"/>
                    <a:pt x="0" y="80"/>
                    <a:pt x="8" y="96"/>
                  </a:cubicBezTo>
                  <a:cubicBezTo>
                    <a:pt x="16" y="112"/>
                    <a:pt x="36" y="128"/>
                    <a:pt x="56" y="1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95480" y="487692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Off-axis (O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362320" y="5562720"/>
            <a:ext cx="4114800" cy="825480"/>
            <a:chOff x="2362320" y="5562720"/>
            <a:chExt cx="4114800" cy="825480"/>
          </a:xfrm>
        </p:grpSpPr>
        <p:sp>
          <p:nvSpPr>
            <p:cNvPr id="176" name=""/>
            <p:cNvSpPr/>
            <p:nvPr/>
          </p:nvSpPr>
          <p:spPr>
            <a:xfrm>
              <a:off x="2362320" y="5562720"/>
              <a:ext cx="4114800" cy="825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It is necessary to monitor the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ν direction.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Muon moni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62520" y="6172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514600" y="2133720"/>
            <a:ext cx="4664160" cy="2354040"/>
            <a:chOff x="2514600" y="2133720"/>
            <a:chExt cx="4664160" cy="2354040"/>
          </a:xfrm>
        </p:grpSpPr>
        <p:pic>
          <p:nvPicPr>
            <p:cNvPr id="179" name="nu_flux1~" descr=""/>
            <p:cNvPicPr/>
            <p:nvPr/>
          </p:nvPicPr>
          <p:blipFill>
            <a:blip r:embed="rId4"/>
            <a:stretch/>
          </p:blipFill>
          <p:spPr>
            <a:xfrm>
              <a:off x="2514600" y="2133720"/>
              <a:ext cx="2103480" cy="23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114800" y="2133720"/>
              <a:ext cx="1996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Arial"/>
                </a:rPr>
                <a:t>Neutrino energy spect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87720" y="3429000"/>
              <a:ext cx="0" cy="53352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87720" y="3429000"/>
              <a:ext cx="1676520" cy="144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00600" y="32004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Arial"/>
                </a:rPr>
                <a:t>Energy maximizing </a:t>
              </a:r>
              <a:r>
                <a:rPr b="0" lang="en-US" sz="2000" spc="-1" strike="noStrike">
                  <a:solidFill>
                    <a:srgbClr val="5f5f5f"/>
                  </a:solidFill>
                  <a:latin typeface="Arial"/>
                  <a:ea typeface="Arial"/>
                </a:rPr>
                <a:t>ν</a:t>
              </a:r>
              <a:r>
                <a:rPr b="0" lang="en-US" sz="2000" spc="-1" strike="noStrike">
                  <a:solidFill>
                    <a:srgbClr val="5f5f5f"/>
                  </a:solidFill>
                  <a:latin typeface="Arial"/>
                </a:rPr>
                <a:t> oscillation prob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8E4-4DA3-47DC-B4B5-4D1F05AB54F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uon monitor (MUMON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nitor of secondary beam direction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by monitoring profile of muons which pass through beam dump on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pill by spill basis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57200" y="2819520"/>
            <a:ext cx="4038120" cy="1358640"/>
            <a:chOff x="457200" y="2819520"/>
            <a:chExt cx="4038120" cy="1358640"/>
          </a:xfrm>
        </p:grpSpPr>
        <p:sp>
          <p:nvSpPr>
            <p:cNvPr id="187" name=""/>
            <p:cNvSpPr/>
            <p:nvPr/>
          </p:nvSpPr>
          <p:spPr>
            <a:xfrm flipH="1">
              <a:off x="3733560" y="3581280"/>
              <a:ext cx="76176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2971080" y="3592440"/>
              <a:ext cx="45684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457200" y="3352680"/>
              <a:ext cx="2514240" cy="23976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1904760" y="3592440"/>
              <a:ext cx="1066320" cy="76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62160" y="297180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5f5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60000" y="2960640"/>
              <a:ext cx="5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5f5f"/>
                  </a:solidFill>
                  <a:latin typeface="Arial"/>
                  <a:ea typeface="Arial"/>
                </a:rPr>
                <a:t>π</a:t>
              </a:r>
              <a:r>
                <a:rPr b="0" lang="en-US" sz="2800" spc="-1" strike="noStrike" baseline="30000">
                  <a:solidFill>
                    <a:srgbClr val="5f5f5f"/>
                  </a:solidFill>
                  <a:latin typeface="Arial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29760" y="365760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μ</a:t>
              </a:r>
              <a:r>
                <a:rPr b="0" lang="en-US" sz="28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38680" y="2819520"/>
              <a:ext cx="477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Arial"/>
                  <a:ea typeface="Arial"/>
                </a:rPr>
                <a:t>ν</a:t>
              </a:r>
              <a:r>
                <a:rPr b="0" lang="en-US" sz="2800" spc="-1" strike="noStrike" baseline="-25000">
                  <a:solidFill>
                    <a:srgbClr val="ff3399"/>
                  </a:solidFill>
                  <a:latin typeface="Arial"/>
                  <a:ea typeface="Arial"/>
                </a:rPr>
                <a:t>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2680" y="3429000"/>
              <a:ext cx="380520" cy="304920"/>
            </a:xfrm>
            <a:prstGeom prst="irregularSeal1">
              <a:avLst/>
            </a:prstGeom>
            <a:solidFill>
              <a:srgbClr val="ffff66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beamline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398952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mumon" descr=""/>
          <p:cNvPicPr/>
          <p:nvPr/>
        </p:nvPicPr>
        <p:blipFill>
          <a:blip r:embed="rId2"/>
          <a:stretch/>
        </p:blipFill>
        <p:spPr>
          <a:xfrm>
            <a:off x="4952880" y="3048120"/>
            <a:ext cx="3679920" cy="2217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952880" y="5334120"/>
            <a:ext cx="40546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MUMON baseline desig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an array of ionization chambers and an array of semiconductor det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924680" y="3962520"/>
            <a:ext cx="999000" cy="703440"/>
            <a:chOff x="7924680" y="3962520"/>
            <a:chExt cx="999000" cy="703440"/>
          </a:xfrm>
        </p:grpSpPr>
        <p:sp>
          <p:nvSpPr>
            <p:cNvPr id="200" name=""/>
            <p:cNvSpPr/>
            <p:nvPr/>
          </p:nvSpPr>
          <p:spPr>
            <a:xfrm>
              <a:off x="7924680" y="3962520"/>
              <a:ext cx="914400" cy="380880"/>
            </a:xfrm>
            <a:prstGeom prst="leftArrow">
              <a:avLst>
                <a:gd name="adj1" fmla="val 50833"/>
                <a:gd name="adj2" fmla="val 73779"/>
              </a:avLst>
            </a:prstGeom>
            <a:solidFill>
              <a:srgbClr val="4d4d4d">
                <a:alpha val="50000"/>
              </a:srgbClr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78400" y="4267080"/>
              <a:ext cx="84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Arial"/>
                </a:rPr>
                <a:t>B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29F9-F258-456E-A52C-D1A25D5E5A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松岡広大</cp:lastModifiedBy>
  <dcterms:modified xsi:type="dcterms:W3CDTF">2006-03-06T06:06:18Z</dcterms:modified>
  <cp:revision>88</cp:revision>
  <dc:subject/>
  <dc:title>PowerPoint Presentation</dc:title>
</cp:coreProperties>
</file>