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6.png" ContentType="image/png"/>
  <Override PartName="/ppt/media/image14.wmf" ContentType="image/x-wmf"/>
  <Override PartName="/ppt/media/image5.png" ContentType="image/png"/>
  <Override PartName="/ppt/media/image13.jpeg" ContentType="image/jpeg"/>
  <Override PartName="/ppt/media/image23.png" ContentType="image/png"/>
  <Override PartName="/ppt/media/image24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jpeg" ContentType="image/jpeg"/>
  <Override PartName="/ppt/media/image15.png" ContentType="image/pn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B802-6E9F-4431-BE8F-9EF9FA06214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page; Lepton Flavor Violati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nection to Supersy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von PHAM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FV beyond the SM; SUSY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FV beyond the SM; SUSY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pectives at b-fa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pectives at b-fa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FV-decays at the LH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lots from C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pton Number in the SM. intro, definition,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to Z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au m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to Z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au m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to Z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au m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to Z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au m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to Z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au m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ook CMS: mu-ID, Vertex-Fit; Phi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u mu gamma back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FV in neutrino osci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D063-FFF6-489B-A620-957535DB3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DB30-7B1C-4173-B84D-6D166885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3B89-DBB0-44F2-8FEA-B5EBC1D91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C262-CB54-4BAF-AE13-6DF1EA335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EF1D-E04E-4D0B-A053-771D588A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EDCA-D7BE-43C1-B8C9-16315CBD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753D-C388-4F0E-B8F0-BC7EAB7B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36D3-1358-48DC-B2BD-84EE8E68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EC8C-D802-492D-BC82-907FB544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71D3-4CBF-4476-B8EA-B4EACFDE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63AF-8653-413F-A007-D94566E0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7203-16E0-4587-97AC-869F157D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044E-2E95-41D3-9364-661E5E991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21.wmf"/><Relationship Id="rId4" Type="http://schemas.openxmlformats.org/officeDocument/2006/relationships/image" Target="../media/image22.png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362320" y="1066680"/>
            <a:ext cx="3932280" cy="116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 tau Lepton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828800" y="3332160"/>
            <a:ext cx="5257800" cy="108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Flavour Violation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038480" y="2476440"/>
            <a:ext cx="536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nd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89360" y="5562720"/>
            <a:ext cx="218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chim Stah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WTH Aa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29640" y="5518080"/>
            <a:ext cx="488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Mass Origin and Supersym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March 6 -8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Tsuku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1725120" y="4724280"/>
            <a:ext cx="2432880" cy="611640"/>
            <a:chOff x="1725120" y="4724280"/>
            <a:chExt cx="2432880" cy="611640"/>
          </a:xfrm>
        </p:grpSpPr>
        <p:sp>
          <p:nvSpPr>
            <p:cNvPr id="258" name=""/>
            <p:cNvSpPr/>
            <p:nvPr/>
          </p:nvSpPr>
          <p:spPr>
            <a:xfrm>
              <a:off x="1725120" y="4724280"/>
              <a:ext cx="2432880" cy="611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Comic Sans MS"/>
                </a:rPr>
                <a:t>A </a:t>
              </a:r>
              <a:r>
                <a:rPr b="0" lang="de-DE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</a:t>
              </a:r>
              <a:r>
                <a:rPr b="0" lang="de-DE" sz="2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de-DE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</a:t>
              </a:r>
              <a:r>
                <a:rPr b="0" lang="de-DE" sz="2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U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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Comic Sans MS"/>
                </a:rPr>
                <a:t>i </a:t>
              </a: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U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Comic Sans MS"/>
                </a:rPr>
                <a:t>i</a:t>
              </a:r>
              <a:r>
                <a:rPr b="0" lang="de-DE" sz="2400" spc="-1" strike="noStrike">
                  <a:solidFill>
                    <a:srgbClr val="ffffff"/>
                  </a:solidFill>
                  <a:latin typeface="Comic Sans MS"/>
                </a:rPr>
                <a:t>  = 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291480" y="4789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616280" y="3607920"/>
            <a:ext cx="3826080" cy="855720"/>
            <a:chOff x="4616280" y="3607920"/>
            <a:chExt cx="3826080" cy="855720"/>
          </a:xfrm>
        </p:grpSpPr>
        <p:sp>
          <p:nvSpPr>
            <p:cNvPr id="261" name=""/>
            <p:cNvSpPr/>
            <p:nvPr/>
          </p:nvSpPr>
          <p:spPr>
            <a:xfrm>
              <a:off x="8170920" y="4103640"/>
              <a:ext cx="271440" cy="270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6200000">
              <a:off x="6372000" y="3833280"/>
              <a:ext cx="855720" cy="40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616280" y="4149720"/>
              <a:ext cx="1260720" cy="270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 txBox="1"/>
          <p:nvPr/>
        </p:nvSpPr>
        <p:spPr>
          <a:xfrm>
            <a:off x="395280" y="189000"/>
            <a:ext cx="5091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IM-Mechanism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176120" y="3429000"/>
            <a:ext cx="1760040" cy="703440"/>
            <a:chOff x="1176120" y="3429000"/>
            <a:chExt cx="1760040" cy="703440"/>
          </a:xfrm>
        </p:grpSpPr>
        <p:sp>
          <p:nvSpPr>
            <p:cNvPr id="266" name=""/>
            <p:cNvSpPr/>
            <p:nvPr/>
          </p:nvSpPr>
          <p:spPr>
            <a:xfrm>
              <a:off x="1176120" y="3429000"/>
              <a:ext cx="176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</a:t>
              </a:r>
              <a:r>
                <a:rPr b="1" lang="en-US" sz="4000" spc="-1" strike="noStrike" baseline="36000">
                  <a:solidFill>
                    <a:srgbClr val="ffffff"/>
                  </a:solidFill>
                  <a:latin typeface="Arial"/>
                </a:rPr>
                <a:t>- </a:t>
              </a:r>
              <a:r>
                <a:rPr b="1" lang="en-US" sz="24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1" lang="en-US" sz="4000" spc="-1" strike="noStrike" baseline="36000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482200" y="348912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5867280" y="1263600"/>
            <a:ext cx="2743200" cy="1410840"/>
            <a:chOff x="5867280" y="1263600"/>
            <a:chExt cx="2743200" cy="1410840"/>
          </a:xfrm>
        </p:grpSpPr>
        <p:sp>
          <p:nvSpPr>
            <p:cNvPr id="269" name=""/>
            <p:cNvSpPr/>
            <p:nvPr/>
          </p:nvSpPr>
          <p:spPr>
            <a:xfrm>
              <a:off x="6629040" y="1303200"/>
              <a:ext cx="1447920" cy="914400"/>
            </a:xfrm>
            <a:prstGeom prst="bracketPair">
              <a:avLst>
                <a:gd name="adj" fmla="val 17129"/>
              </a:avLst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737400" y="1263600"/>
              <a:ext cx="1259640" cy="14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1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2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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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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229240" y="1303200"/>
              <a:ext cx="381240" cy="914400"/>
            </a:xfrm>
            <a:prstGeom prst="bracketPair">
              <a:avLst>
                <a:gd name="adj" fmla="val 17129"/>
              </a:avLst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236440" y="1303200"/>
              <a:ext cx="372600" cy="102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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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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67280" y="1303200"/>
              <a:ext cx="380880" cy="914400"/>
            </a:xfrm>
            <a:prstGeom prst="bracketPair">
              <a:avLst>
                <a:gd name="adj" fmla="val 17129"/>
              </a:avLst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874480" y="1303200"/>
              <a:ext cx="375840" cy="102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</a:t>
              </a:r>
              <a:r>
                <a:rPr b="0" lang="de-DE" sz="1800" spc="-1" strike="noStrike" baseline="-25000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</a:t>
              </a:r>
              <a:r>
                <a:rPr b="1" lang="de-DE" sz="18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</a:t>
              </a:r>
              <a:r>
                <a:rPr b="1" lang="de-DE" sz="18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240960" y="1531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927000" y="2176560"/>
            <a:ext cx="801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649520" y="2171880"/>
            <a:ext cx="652320" cy="46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301840" y="1703520"/>
            <a:ext cx="498600" cy="4730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759040" y="1343160"/>
            <a:ext cx="399960" cy="388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01840" y="2176560"/>
            <a:ext cx="971640" cy="38736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73480" y="2563920"/>
            <a:ext cx="458640" cy="277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586320" y="2759040"/>
            <a:ext cx="546120" cy="3031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3647880" y="1879560"/>
            <a:ext cx="455400" cy="387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273480" y="2230560"/>
            <a:ext cx="401760" cy="3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44600" y="2119320"/>
            <a:ext cx="114480" cy="111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18040" y="2508120"/>
            <a:ext cx="114120" cy="111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95760" y="158436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596040" y="2876400"/>
            <a:ext cx="57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1240" y="907920"/>
            <a:ext cx="477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de-DE" sz="36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50520" y="2341440"/>
            <a:ext cx="5281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2400" spc="-1" strike="noStrike" baseline="60000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162240" y="1351080"/>
            <a:ext cx="909720" cy="528480"/>
          </a:xfrm>
          <a:prstGeom prst="line">
            <a:avLst/>
          </a:prstGeom>
          <a:ln w="57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162240" y="1351080"/>
            <a:ext cx="486000" cy="293400"/>
          </a:xfrm>
          <a:prstGeom prst="line">
            <a:avLst/>
          </a:prstGeom>
          <a:ln w="57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3344760" y="2112840"/>
            <a:ext cx="1562400" cy="642600"/>
            <a:chOff x="3344760" y="2112840"/>
            <a:chExt cx="1562400" cy="642600"/>
          </a:xfrm>
        </p:grpSpPr>
        <p:sp>
          <p:nvSpPr>
            <p:cNvPr id="294" name=""/>
            <p:cNvSpPr/>
            <p:nvPr/>
          </p:nvSpPr>
          <p:spPr>
            <a:xfrm flipV="1">
              <a:off x="3404880" y="2464920"/>
              <a:ext cx="1090080" cy="17604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44760" y="2583000"/>
              <a:ext cx="114480" cy="111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69040" y="211284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1954080" y="2162160"/>
            <a:ext cx="54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U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914920" y="2573280"/>
            <a:ext cx="56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U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39920" y="2567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1717200" y="4724280"/>
            <a:ext cx="2474280" cy="611640"/>
            <a:chOff x="1717200" y="4724280"/>
            <a:chExt cx="2474280" cy="611640"/>
          </a:xfrm>
        </p:grpSpPr>
        <p:sp>
          <p:nvSpPr>
            <p:cNvPr id="301" name=""/>
            <p:cNvSpPr/>
            <p:nvPr/>
          </p:nvSpPr>
          <p:spPr>
            <a:xfrm>
              <a:off x="1717200" y="4724280"/>
              <a:ext cx="2474280" cy="611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Comic Sans MS"/>
                </a:rPr>
                <a:t>A </a:t>
              </a:r>
              <a:r>
                <a:rPr b="0" lang="de-DE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</a:t>
              </a:r>
              <a:r>
                <a:rPr b="0" lang="de-DE" sz="2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de-DE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</a:t>
              </a:r>
              <a:r>
                <a:rPr b="0" lang="de-DE" sz="2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U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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Comic Sans MS"/>
                </a:rPr>
                <a:t>i </a:t>
              </a: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U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Comic Sans MS"/>
                </a:rPr>
                <a:t>i</a:t>
              </a:r>
              <a:r>
                <a:rPr b="0" lang="de-DE" sz="2400" spc="-1" strike="noStrike">
                  <a:solidFill>
                    <a:srgbClr val="ffffff"/>
                  </a:solidFill>
                  <a:latin typeface="Comic Sans MS"/>
                </a:rPr>
                <a:t>  =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91120" y="4789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2525040" y="5638680"/>
            <a:ext cx="15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br ≈ 10</a:t>
            </a:r>
            <a:r>
              <a:rPr b="0" lang="de-DE" sz="2400" spc="-1" strike="noStrike" baseline="40000">
                <a:solidFill>
                  <a:srgbClr val="ffffff"/>
                </a:solidFill>
                <a:latin typeface="Comic Sans MS"/>
              </a:rPr>
              <a:t>-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1736640" y="4724280"/>
            <a:ext cx="3354840" cy="611640"/>
            <a:chOff x="1736640" y="4724280"/>
            <a:chExt cx="3354840" cy="611640"/>
          </a:xfrm>
        </p:grpSpPr>
        <p:sp>
          <p:nvSpPr>
            <p:cNvPr id="305" name=""/>
            <p:cNvSpPr/>
            <p:nvPr/>
          </p:nvSpPr>
          <p:spPr>
            <a:xfrm>
              <a:off x="1736640" y="4724280"/>
              <a:ext cx="3354840" cy="611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Comic Sans MS"/>
                </a:rPr>
                <a:t>A </a:t>
              </a:r>
              <a:r>
                <a:rPr b="0" lang="de-DE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</a:t>
              </a:r>
              <a:r>
                <a:rPr b="0" lang="de-DE" sz="2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de-DE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</a:t>
              </a:r>
              <a:r>
                <a:rPr b="0" lang="de-DE" sz="2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U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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Comic Sans MS"/>
                </a:rPr>
                <a:t>i </a:t>
              </a: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U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Comic Sans MS"/>
                </a:rPr>
                <a:t>i</a:t>
              </a:r>
              <a:r>
                <a:rPr b="0" lang="de-DE" sz="2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de-DE" sz="2400" spc="-1" strike="noStrike">
                  <a:solidFill>
                    <a:srgbClr val="ffffff"/>
                  </a:solidFill>
                  <a:latin typeface="Comic Sans MS"/>
                </a:rPr>
                <a:t>f(m</a:t>
              </a:r>
              <a:r>
                <a:rPr b="0" lang="de-DE" sz="2400" spc="-1" strike="noStrike" baseline="-25000">
                  <a:solidFill>
                    <a:srgbClr val="ffffff"/>
                  </a:solidFill>
                  <a:latin typeface="Comic Sans MS"/>
                </a:rPr>
                <a:t>i</a:t>
              </a:r>
              <a:r>
                <a:rPr b="0" lang="de-DE" sz="2400" spc="-1" strike="noStrike" baseline="40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de-DE" sz="2400" spc="-1" strike="noStrike">
                  <a:solidFill>
                    <a:srgbClr val="ffffff"/>
                  </a:solidFill>
                  <a:latin typeface="Comic Sans MS"/>
                </a:rPr>
                <a:t>) ≈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75640" y="4800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4527720" y="3021120"/>
            <a:ext cx="4266720" cy="1925280"/>
            <a:chOff x="4527720" y="3021120"/>
            <a:chExt cx="4266720" cy="1925280"/>
          </a:xfrm>
        </p:grpSpPr>
        <p:grpSp>
          <p:nvGrpSpPr>
            <p:cNvPr id="308" name=""/>
            <p:cNvGrpSpPr/>
            <p:nvPr/>
          </p:nvGrpSpPr>
          <p:grpSpPr>
            <a:xfrm>
              <a:off x="4527720" y="3490920"/>
              <a:ext cx="4266720" cy="1455480"/>
              <a:chOff x="4527720" y="3490920"/>
              <a:chExt cx="4266720" cy="145548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4527720" y="3500640"/>
                <a:ext cx="1447560" cy="1410840"/>
                <a:chOff x="4527720" y="3500640"/>
                <a:chExt cx="1447560" cy="141084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4527720" y="3540240"/>
                  <a:ext cx="1447560" cy="914400"/>
                </a:xfrm>
                <a:prstGeom prst="bracketPair">
                  <a:avLst>
                    <a:gd name="adj" fmla="val 17129"/>
                  </a:avLst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635720" y="3500640"/>
                  <a:ext cx="1259640" cy="141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e1 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e2 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e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1" lang="en-US" sz="2000" spc="-1" strike="noStrike" baseline="-25000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 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1" lang="en-US" sz="2000" spc="-1" strike="noStrike" baseline="-25000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1" lang="en-US" sz="2000" spc="-1" strike="noStrike" baseline="-25000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1" lang="en-US" sz="2000" spc="-1" strike="noStrike" baseline="-25000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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 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1" lang="en-US" sz="2000" spc="-1" strike="noStrike" baseline="-25000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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1" lang="en-US" sz="2000" spc="-1" strike="noStrike" baseline="-25000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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6051600" y="3500640"/>
                <a:ext cx="1447200" cy="1445760"/>
                <a:chOff x="6051600" y="3500640"/>
                <a:chExt cx="1447200" cy="144576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6051600" y="3540240"/>
                  <a:ext cx="1447200" cy="914400"/>
                </a:xfrm>
                <a:prstGeom prst="bracketPair">
                  <a:avLst>
                    <a:gd name="adj" fmla="val 17129"/>
                  </a:avLst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156720" y="3500640"/>
                  <a:ext cx="1272960" cy="144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e1 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1" lang="en-US" sz="2000" spc="-1" strike="noStrike" baseline="-25000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 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1" lang="en-US" sz="2000" spc="-1" strike="noStrike" baseline="-25000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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1" lang="en-US" sz="2000" spc="-1" strike="noStrike" baseline="-25000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1" lang="en-US" sz="2000" spc="-1" strike="noStrike" baseline="-25000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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3 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1" lang="en-US" sz="2000" spc="-1" strike="noStrike" baseline="-25000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3 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1" lang="en-US" sz="2000" spc="-1" strike="noStrike" baseline="-25000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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7842240" y="3500640"/>
                <a:ext cx="952200" cy="1303560"/>
                <a:chOff x="7842240" y="3500640"/>
                <a:chExt cx="952200" cy="130356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7842240" y="3540240"/>
                  <a:ext cx="952200" cy="914400"/>
                </a:xfrm>
                <a:prstGeom prst="bracketPair">
                  <a:avLst>
                    <a:gd name="adj" fmla="val 17129"/>
                  </a:avLst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893000" y="3500640"/>
                  <a:ext cx="861840" cy="130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0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1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 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0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>
                <a:off x="7491600" y="37609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949720" y="3490920"/>
                <a:ext cx="1447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*     *     *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  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*     *     *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  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*     *     *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5147640" y="3021120"/>
              <a:ext cx="281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Comic Sans MS"/>
                </a:rPr>
                <a:t>unitarity condi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95280" y="189000"/>
            <a:ext cx="5091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Paper of X.-Y. Pham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82440" y="1523880"/>
            <a:ext cx="8977320" cy="34401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071000" y="5029200"/>
            <a:ext cx="63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uro Phys J C8 (1999) 513,  hep-ph/98104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072800" y="5715000"/>
            <a:ext cx="641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for discussion see Tord Riemanns home-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http://www-zeuthen.desy.de/~riemann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4"/>
          <a:stretch/>
        </p:blipFill>
        <p:spPr>
          <a:xfrm>
            <a:off x="1382760" y="1066680"/>
            <a:ext cx="6377040" cy="5018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 rot="1627800">
            <a:off x="6333840" y="685800"/>
            <a:ext cx="2809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s this true ?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1447920" y="1600200"/>
            <a:ext cx="3047760" cy="4343400"/>
            <a:chOff x="1447920" y="1600200"/>
            <a:chExt cx="3047760" cy="4343400"/>
          </a:xfrm>
        </p:grpSpPr>
        <p:sp>
          <p:nvSpPr>
            <p:cNvPr id="328" name=""/>
            <p:cNvSpPr/>
            <p:nvPr/>
          </p:nvSpPr>
          <p:spPr>
            <a:xfrm>
              <a:off x="1447920" y="1600200"/>
              <a:ext cx="3047760" cy="434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9" name="" descr=""/>
            <p:cNvPicPr/>
            <p:nvPr/>
          </p:nvPicPr>
          <p:blipFill>
            <a:blip r:embed="rId1"/>
            <a:stretch/>
          </p:blipFill>
          <p:spPr>
            <a:xfrm>
              <a:off x="1669680" y="1773360"/>
              <a:ext cx="2601720" cy="395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0" name=""/>
          <p:cNvSpPr txBox="1"/>
          <p:nvPr/>
        </p:nvSpPr>
        <p:spPr>
          <a:xfrm>
            <a:off x="395280" y="189000"/>
            <a:ext cx="5091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eyond the S.M.</a:t>
            </a:r>
            <a:endParaRPr b="0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1" name=""/>
          <p:cNvSpPr/>
          <p:nvPr/>
        </p:nvSpPr>
        <p:spPr>
          <a:xfrm>
            <a:off x="4799160" y="5562720"/>
            <a:ext cx="36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new physics breaks G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1447920" y="1600200"/>
            <a:ext cx="3047760" cy="4343400"/>
            <a:chOff x="1447920" y="1600200"/>
            <a:chExt cx="3047760" cy="4343400"/>
          </a:xfrm>
        </p:grpSpPr>
        <p:sp>
          <p:nvSpPr>
            <p:cNvPr id="333" name=""/>
            <p:cNvSpPr/>
            <p:nvPr/>
          </p:nvSpPr>
          <p:spPr>
            <a:xfrm>
              <a:off x="1447920" y="1600200"/>
              <a:ext cx="3047760" cy="434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4" name="" descr=""/>
            <p:cNvPicPr/>
            <p:nvPr/>
          </p:nvPicPr>
          <p:blipFill>
            <a:blip r:embed="rId1"/>
            <a:stretch/>
          </p:blipFill>
          <p:spPr>
            <a:xfrm>
              <a:off x="1669680" y="1773360"/>
              <a:ext cx="2601720" cy="395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5" name=""/>
          <p:cNvSpPr txBox="1"/>
          <p:nvPr/>
        </p:nvSpPr>
        <p:spPr>
          <a:xfrm>
            <a:off x="395280" y="189000"/>
            <a:ext cx="5091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eyond the S.M.</a:t>
            </a:r>
            <a:endParaRPr b="0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6" name=""/>
          <p:cNvSpPr/>
          <p:nvPr/>
        </p:nvSpPr>
        <p:spPr>
          <a:xfrm>
            <a:off x="4799160" y="5562720"/>
            <a:ext cx="36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new physics breaks G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533520" y="1905120"/>
            <a:ext cx="7162560" cy="2895480"/>
            <a:chOff x="533520" y="1905120"/>
            <a:chExt cx="7162560" cy="2895480"/>
          </a:xfrm>
        </p:grpSpPr>
        <p:sp>
          <p:nvSpPr>
            <p:cNvPr id="338" name=""/>
            <p:cNvSpPr/>
            <p:nvPr/>
          </p:nvSpPr>
          <p:spPr>
            <a:xfrm>
              <a:off x="533520" y="1905120"/>
              <a:ext cx="7162560" cy="2895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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USY SO(10)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PB649(2003)189 PRD68(2003)033012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de-DE" sz="1800" spc="-1" strike="noStrike" baseline="40000">
                  <a:solidFill>
                    <a:srgbClr val="000000"/>
                  </a:solidFill>
                  <a:latin typeface="Arial"/>
                </a:rPr>
                <a:t>-8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de-DE" sz="1800" spc="-1" strike="noStrike" baseline="40000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USY HIGGS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LB549(2002)159 PLB566(2003)217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de-DE" sz="1800" spc="-1" strike="noStrike" baseline="40000">
                  <a:solidFill>
                    <a:srgbClr val="000000"/>
                  </a:solidFill>
                  <a:latin typeface="Arial"/>
                </a:rPr>
                <a:t>-10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de-DE" sz="1800" spc="-1" strike="noStrike" baseline="40000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mSUGRA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PJC14(2000)319 PRD66(2002)115013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de-DE" sz="1800" spc="-1" strike="noStrike" baseline="40000">
                  <a:solidFill>
                    <a:srgbClr val="000000"/>
                  </a:solidFill>
                  <a:latin typeface="Arial"/>
                </a:rPr>
                <a:t>-7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de-DE" sz="1800" spc="-1" strike="noStrike" baseline="40000">
                  <a:solidFill>
                    <a:srgbClr val="000000"/>
                  </a:solidFill>
                  <a:latin typeface="Arial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non-universal Z´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LB547(2002)252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de-DE" sz="1800" spc="-1" strike="noStrike" baseline="40000">
                  <a:solidFill>
                    <a:srgbClr val="000000"/>
                  </a:solidFill>
                  <a:latin typeface="Arial"/>
                </a:rPr>
                <a:t>-9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de-DE" sz="1800" spc="-1" strike="noStrike" baseline="40000">
                  <a:solidFill>
                    <a:srgbClr val="000000"/>
                  </a:solidFill>
                  <a:latin typeface="Arial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Heavy Maj. N</a:t>
              </a:r>
              <a:r>
                <a:rPr b="0" lang="de-DE" sz="18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RD66(2002)034008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de-DE" sz="1800" spc="-1" strike="noStrike" baseline="40000">
                  <a:solidFill>
                    <a:srgbClr val="000000"/>
                  </a:solidFill>
                  <a:latin typeface="Arial"/>
                </a:rPr>
                <a:t>-9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de-DE" sz="1800" spc="-1" strike="noStrike" baseline="40000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136600" y="2057400"/>
              <a:ext cx="385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Some theoretical estim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971640" y="1084320"/>
            <a:ext cx="7200720" cy="54403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385920" y="189000"/>
            <a:ext cx="583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xperimental Searches</a:t>
            </a:r>
            <a:endParaRPr b="0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2" name=""/>
          <p:cNvSpPr/>
          <p:nvPr/>
        </p:nvSpPr>
        <p:spPr>
          <a:xfrm>
            <a:off x="971640" y="2708280"/>
            <a:ext cx="216036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71640" y="1916280"/>
            <a:ext cx="72072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3086280" y="1403280"/>
            <a:ext cx="5638680" cy="387504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385920" y="189000"/>
            <a:ext cx="583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xperimental Searches</a:t>
            </a:r>
            <a:endParaRPr b="0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50520" y="1808280"/>
            <a:ext cx="1760040" cy="703440"/>
            <a:chOff x="650520" y="1808280"/>
            <a:chExt cx="1760040" cy="703440"/>
          </a:xfrm>
        </p:grpSpPr>
        <p:sp>
          <p:nvSpPr>
            <p:cNvPr id="347" name=""/>
            <p:cNvSpPr/>
            <p:nvPr/>
          </p:nvSpPr>
          <p:spPr>
            <a:xfrm>
              <a:off x="650520" y="1808280"/>
              <a:ext cx="176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</a:t>
              </a:r>
              <a:r>
                <a:rPr b="1" lang="en-US" sz="4000" spc="-1" strike="noStrike" baseline="36000">
                  <a:solidFill>
                    <a:srgbClr val="ffffff"/>
                  </a:solidFill>
                  <a:latin typeface="Arial"/>
                </a:rPr>
                <a:t>- </a:t>
              </a:r>
              <a:r>
                <a:rPr b="1" lang="en-US" sz="24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1" lang="en-US" sz="4000" spc="-1" strike="noStrike" baseline="36000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956600" y="186840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338400" y="148608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gn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94480" y="28684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ackgrou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30920" y="3346560"/>
            <a:ext cx="19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de-DE" sz="2400" spc="-1" strike="noStrike" baseline="40000">
                <a:solidFill>
                  <a:srgbClr val="ffffff"/>
                </a:solidFill>
                <a:latin typeface="Arial"/>
              </a:rPr>
              <a:t>+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de-DE" sz="2400" spc="-1" strike="noStrike" baseline="40000">
                <a:solidFill>
                  <a:srgbClr val="ffffff"/>
                </a:solidFill>
                <a:latin typeface="Arial"/>
              </a:rPr>
              <a:t>-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de-DE" sz="2400" spc="-1" strike="noStrike" baseline="40000">
                <a:solidFill>
                  <a:srgbClr val="ffffff"/>
                </a:solidFill>
                <a:latin typeface="Arial"/>
              </a:rPr>
              <a:t>+</a:t>
            </a:r>
            <a:r>
              <a:rPr b="1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de-DE" sz="2400" spc="-1" strike="noStrike" baseline="40000">
                <a:solidFill>
                  <a:srgbClr val="ffffff"/>
                </a:solidFill>
                <a:latin typeface="Arial"/>
              </a:rPr>
              <a:t>-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53960" y="4059360"/>
            <a:ext cx="163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de-DE" sz="2400" spc="-1" strike="noStrike" baseline="40000">
                <a:solidFill>
                  <a:srgbClr val="ffffff"/>
                </a:solidFill>
                <a:latin typeface="Arial"/>
              </a:rPr>
              <a:t>+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de-DE" sz="2400" spc="-1" strike="noStrike" baseline="40000">
                <a:solidFill>
                  <a:srgbClr val="ffffff"/>
                </a:solidFill>
                <a:latin typeface="Arial"/>
              </a:rPr>
              <a:t>-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de-DE" sz="2400" spc="-1" strike="noStrike" baseline="40000">
                <a:solidFill>
                  <a:srgbClr val="ffffff"/>
                </a:solidFill>
                <a:latin typeface="Arial"/>
              </a:rPr>
              <a:t>+</a:t>
            </a:r>
            <a:r>
              <a:rPr b="1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de-DE" sz="2400" spc="-1" strike="noStrike" baseline="40000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760680" y="4424400"/>
            <a:ext cx="2280960" cy="630360"/>
            <a:chOff x="760680" y="4424400"/>
            <a:chExt cx="2280960" cy="630360"/>
          </a:xfrm>
        </p:grpSpPr>
        <p:sp>
          <p:nvSpPr>
            <p:cNvPr id="354" name=""/>
            <p:cNvSpPr/>
            <p:nvPr/>
          </p:nvSpPr>
          <p:spPr>
            <a:xfrm>
              <a:off x="760680" y="4424400"/>
              <a:ext cx="228096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</a:t>
              </a:r>
              <a:r>
                <a:rPr b="0" lang="de-DE" sz="2800" spc="-1" strike="noStrike" baseline="30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de-DE" sz="18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de-DE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de-DE" sz="18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de-DE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de-DE" sz="2800" spc="-1" strike="noStrike" baseline="30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de-DE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</a:t>
              </a:r>
              <a:r>
                <a:rPr b="0" lang="de-DE" sz="28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de-DE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</a:t>
              </a:r>
              <a:r>
                <a:rPr b="0" lang="de-DE" sz="28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</a:t>
              </a:r>
              <a:r>
                <a:rPr b="0" lang="de-DE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936800" y="4654440"/>
              <a:ext cx="144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441720" y="5280120"/>
            <a:ext cx="15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de-DE" sz="2400" spc="-1" strike="noStrike" baseline="40000">
                <a:solidFill>
                  <a:srgbClr val="ffffff"/>
                </a:solidFill>
                <a:latin typeface="Arial"/>
              </a:rPr>
              <a:t>+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de-DE" sz="2400" spc="-1" strike="noStrike" baseline="40000">
                <a:solidFill>
                  <a:srgbClr val="ffffff"/>
                </a:solidFill>
                <a:latin typeface="Arial"/>
              </a:rPr>
              <a:t>-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q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75440" y="5049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4876920" y="1828800"/>
            <a:ext cx="3767040" cy="376704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395280" y="190440"/>
            <a:ext cx="5091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VF @ b-factories</a:t>
            </a:r>
            <a:endParaRPr b="0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0" name=""/>
          <p:cNvSpPr/>
          <p:nvPr/>
        </p:nvSpPr>
        <p:spPr>
          <a:xfrm>
            <a:off x="726120" y="1112760"/>
            <a:ext cx="31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currently best limits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64120" y="1687680"/>
            <a:ext cx="359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approaching 10</a:t>
            </a:r>
            <a:r>
              <a:rPr b="0" lang="de-DE" sz="2400" spc="-1" strike="noStrike" baseline="40000">
                <a:solidFill>
                  <a:srgbClr val="ffffff"/>
                </a:solidFill>
                <a:latin typeface="Comic Sans MS"/>
              </a:rPr>
              <a:t>9</a:t>
            </a: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-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368360" y="2540160"/>
            <a:ext cx="22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4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85520" y="3932280"/>
            <a:ext cx="332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Belle 2004:    &lt; 3.1 10</a:t>
            </a:r>
            <a:r>
              <a:rPr b="0" lang="de-DE" sz="2400" spc="-1" strike="noStrike" baseline="40000">
                <a:solidFill>
                  <a:srgbClr val="ffffff"/>
                </a:solidFill>
                <a:latin typeface="Comic Sans MS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BaBar 2005:  &lt; 6.8 10</a:t>
            </a:r>
            <a:r>
              <a:rPr b="0" lang="de-DE" sz="2400" spc="-1" strike="noStrike" baseline="40000">
                <a:solidFill>
                  <a:srgbClr val="ffffff"/>
                </a:solidFill>
                <a:latin typeface="Comic Sans MS"/>
              </a:rPr>
              <a:t>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651800" y="14479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Ba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4876920" y="1828800"/>
            <a:ext cx="380988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95280" y="190440"/>
            <a:ext cx="5091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VF @ b-factories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7" name=""/>
          <p:cNvSpPr/>
          <p:nvPr/>
        </p:nvSpPr>
        <p:spPr>
          <a:xfrm>
            <a:off x="726120" y="1112760"/>
            <a:ext cx="31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currently best limits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64120" y="1687680"/>
            <a:ext cx="359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approaching 10</a:t>
            </a:r>
            <a:r>
              <a:rPr b="0" lang="de-DE" sz="2400" spc="-1" strike="noStrike" baseline="40000">
                <a:solidFill>
                  <a:srgbClr val="ffffff"/>
                </a:solidFill>
                <a:latin typeface="Comic Sans MS"/>
              </a:rPr>
              <a:t>9</a:t>
            </a: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-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368360" y="2540160"/>
            <a:ext cx="215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4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85520" y="3932280"/>
            <a:ext cx="332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Belle 2004:    &lt; 3.1 10</a:t>
            </a:r>
            <a:r>
              <a:rPr b="0" lang="de-DE" sz="2400" spc="-1" strike="noStrike" baseline="40000">
                <a:solidFill>
                  <a:srgbClr val="ffffff"/>
                </a:solidFill>
                <a:latin typeface="Comic Sans MS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BaBar 2005:  &lt; 6.8 10</a:t>
            </a:r>
            <a:r>
              <a:rPr b="0" lang="de-DE" sz="2400" spc="-1" strike="noStrike" baseline="40000">
                <a:solidFill>
                  <a:srgbClr val="ffffff"/>
                </a:solidFill>
                <a:latin typeface="Comic Sans MS"/>
              </a:rPr>
              <a:t>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51800" y="14479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Ba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359040" y="19810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rel. ’03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  final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248080" y="2585880"/>
            <a:ext cx="3066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/e-tag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)    5.2 %        3.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total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                     9.4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exp. BGD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/e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)    7.8 ev.       2.8 e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total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)                    6.2 e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limit (10</a:t>
            </a:r>
            <a:r>
              <a:rPr b="0" lang="de-DE" sz="1800" spc="-1" strike="noStrike" baseline="40000">
                <a:solidFill>
                  <a:srgbClr val="000000"/>
                </a:solidFill>
                <a:latin typeface="Comic Sans MS"/>
              </a:rPr>
              <a:t>-8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)   &lt; 200        &lt; 6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396440" y="5989680"/>
            <a:ext cx="58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b-factories  reaching the limits   at x 10</a:t>
            </a:r>
            <a:r>
              <a:rPr b="0" lang="de-DE" sz="2400" spc="-1" strike="noStrike" baseline="40000">
                <a:solidFill>
                  <a:srgbClr val="ffffff"/>
                </a:solidFill>
                <a:latin typeface="Comic Sans MS"/>
              </a:rPr>
              <a:t>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95280" y="190440"/>
            <a:ext cx="34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VF @ LHC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6" name=""/>
          <p:cNvSpPr/>
          <p:nvPr/>
        </p:nvSpPr>
        <p:spPr>
          <a:xfrm>
            <a:off x="873360" y="1365120"/>
            <a:ext cx="317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</a:t>
            </a:r>
            <a:r>
              <a:rPr b="0" lang="de-DE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r>
              <a:rPr b="0" lang="de-DE" sz="2400" spc="-1" strike="noStrike" u="sng">
                <a:solidFill>
                  <a:srgbClr val="ffffff"/>
                </a:solidFill>
                <a:uFillTx/>
                <a:latin typeface="Comic Sans MS"/>
              </a:rPr>
              <a:t>sources at the LH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218240" y="2322360"/>
            <a:ext cx="2488320" cy="41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 p </a:t>
            </a:r>
            <a:r>
              <a:rPr b="0" lang="de-DE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W </a:t>
            </a:r>
            <a:r>
              <a:rPr b="0" lang="de-DE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</a:t>
            </a:r>
            <a:r>
              <a:rPr b="0" lang="de-DE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 p </a:t>
            </a:r>
            <a:r>
              <a:rPr b="0" lang="de-DE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Z/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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 p </a:t>
            </a:r>
            <a:r>
              <a:rPr b="0" lang="de-DE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B</a:t>
            </a:r>
            <a:r>
              <a:rPr b="0" lang="de-DE" sz="2400" spc="-1" strike="noStrike" baseline="40000">
                <a:solidFill>
                  <a:srgbClr val="ffffff"/>
                </a:solidFill>
                <a:latin typeface="Arial"/>
              </a:rPr>
              <a:t>0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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 p </a:t>
            </a:r>
            <a:r>
              <a:rPr b="0" lang="de-DE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B</a:t>
            </a:r>
            <a:r>
              <a:rPr b="0" lang="en-US" sz="2400" spc="-1" strike="noStrike" baseline="40000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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 p </a:t>
            </a:r>
            <a:r>
              <a:rPr b="0" lang="de-DE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B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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 p </a:t>
            </a:r>
            <a:r>
              <a:rPr b="0" lang="de-DE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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282560" y="2363760"/>
            <a:ext cx="1226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7 10</a:t>
            </a:r>
            <a:r>
              <a:rPr b="0" lang="en-US" sz="2400" spc="-1" strike="noStrike" baseline="40000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.0 10</a:t>
            </a:r>
            <a:r>
              <a:rPr b="0" lang="en-US" sz="2400" spc="-1" strike="noStrike" baseline="40000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0 10</a:t>
            </a:r>
            <a:r>
              <a:rPr b="0" lang="en-US" sz="2400" spc="-1" strike="noStrike" baseline="40000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8 10</a:t>
            </a:r>
            <a:r>
              <a:rPr b="0" lang="en-US" sz="2400" spc="-1" strike="noStrike" baseline="40000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.9 10</a:t>
            </a:r>
            <a:r>
              <a:rPr b="0" lang="en-US" sz="2400" spc="-1" strike="noStrike" baseline="40000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5 10</a:t>
            </a:r>
            <a:r>
              <a:rPr b="0" lang="en-US" sz="2400" spc="-1" strike="noStrike" baseline="40000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474960" y="1722600"/>
            <a:ext cx="22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1 year ru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low lumin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490440" y="339876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plenty of taus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1066680" y="2448000"/>
            <a:ext cx="4419720" cy="380052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6509160" y="4694400"/>
            <a:ext cx="2590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no chance to 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1" lang="de-DE" sz="2800" spc="-1" strike="noStrike" baseline="36000">
                <a:solidFill>
                  <a:srgbClr val="ffffff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de-DE" sz="2800" spc="-1" strike="noStrike" baseline="36000">
                <a:solidFill>
                  <a:srgbClr val="ffffff"/>
                </a:solidFill>
                <a:latin typeface="Arial"/>
              </a:rPr>
              <a:t>- 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7905960" cy="47815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395280" y="190440"/>
            <a:ext cx="34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VF @ LHC</a:t>
            </a:r>
            <a:endParaRPr b="0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5" name=""/>
          <p:cNvSpPr/>
          <p:nvPr/>
        </p:nvSpPr>
        <p:spPr>
          <a:xfrm>
            <a:off x="4277160" y="533520"/>
            <a:ext cx="440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de-DE" sz="4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de-DE" sz="4000" spc="-1" strike="noStrike">
                <a:solidFill>
                  <a:srgbClr val="ffffff"/>
                </a:solidFill>
                <a:latin typeface="Comic Sans MS"/>
              </a:rPr>
              <a:t>Try</a:t>
            </a:r>
            <a:r>
              <a:rPr b="0" lang="de-DE" sz="4000" spc="-1" strike="noStrike">
                <a:solidFill>
                  <a:srgbClr val="ffffff"/>
                </a:solidFill>
                <a:latin typeface="Symbol"/>
                <a:ea typeface="Symbol"/>
              </a:rPr>
              <a:t></a:t>
            </a:r>
            <a:r>
              <a:rPr b="1" lang="de-DE" sz="4000" spc="-1" strike="noStrike" baseline="36000">
                <a:solidFill>
                  <a:srgbClr val="ffffff"/>
                </a:solidFill>
                <a:latin typeface="Arial"/>
              </a:rPr>
              <a:t>- </a:t>
            </a:r>
            <a:r>
              <a:rPr b="1" lang="de-DE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4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de-DE" sz="4000" spc="-1" strike="noStrike" baseline="36000">
                <a:solidFill>
                  <a:srgbClr val="ffffff"/>
                </a:solidFill>
                <a:latin typeface="Arial"/>
              </a:rPr>
              <a:t>- </a:t>
            </a:r>
            <a:r>
              <a:rPr b="0" lang="de-DE" sz="4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de-DE" sz="4000" spc="-1" strike="noStrike" baseline="36000">
                <a:solidFill>
                  <a:srgbClr val="ffffff"/>
                </a:solidFill>
                <a:latin typeface="Arial"/>
              </a:rPr>
              <a:t>+ </a:t>
            </a:r>
            <a:r>
              <a:rPr b="0" lang="de-DE" sz="4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de-DE" sz="4000" spc="-1" strike="noStrike" baseline="36000">
                <a:solidFill>
                  <a:srgbClr val="ffffff"/>
                </a:solidFill>
                <a:latin typeface="Arial"/>
              </a:rPr>
              <a:t>-</a:t>
            </a:r>
            <a:r>
              <a:rPr b="1" lang="de-DE" sz="4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4"/>
          <a:stretch/>
        </p:blipFill>
        <p:spPr>
          <a:xfrm>
            <a:off x="304920" y="3789360"/>
            <a:ext cx="3333600" cy="28670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552560" y="5832360"/>
            <a:ext cx="37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mic Sans MS"/>
              </a:rPr>
              <a:t>Simulation with underlying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omic Sans MS"/>
              </a:rPr>
              <a:t>low lumino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5"/>
          <a:stretch/>
        </p:blipFill>
        <p:spPr>
          <a:xfrm>
            <a:off x="228600" y="1146240"/>
            <a:ext cx="914400" cy="91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28600" y="228600"/>
            <a:ext cx="4191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epton Number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1181520" y="928800"/>
            <a:ext cx="6288840" cy="12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l-GR" sz="7200" spc="-1" strike="noStrike" baseline="-10000">
                <a:solidFill>
                  <a:srgbClr val="ffffff"/>
                </a:solidFill>
                <a:latin typeface="Arial"/>
              </a:rPr>
              <a:t>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# Lepton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Gen 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# Antilepton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Ge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92880" y="1905120"/>
            <a:ext cx="49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erved in the Standard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066680" y="2743200"/>
            <a:ext cx="2651400" cy="3225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600920" y="5943600"/>
            <a:ext cx="16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lfgang Pau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4251960" y="2909880"/>
            <a:ext cx="1803960" cy="579600"/>
            <a:chOff x="4251960" y="2909880"/>
            <a:chExt cx="1803960" cy="579600"/>
          </a:xfrm>
        </p:grpSpPr>
        <p:sp>
          <p:nvSpPr>
            <p:cNvPr id="59" name=""/>
            <p:cNvSpPr/>
            <p:nvPr/>
          </p:nvSpPr>
          <p:spPr>
            <a:xfrm>
              <a:off x="4251960" y="2909880"/>
              <a:ext cx="1803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2800" spc="-1" strike="noStrike" baseline="40000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0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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646600" y="3090960"/>
              <a:ext cx="1447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776120" y="4937040"/>
            <a:ext cx="2108880" cy="1057320"/>
            <a:chOff x="4776120" y="4937040"/>
            <a:chExt cx="2108880" cy="1057320"/>
          </a:xfrm>
        </p:grpSpPr>
        <p:grpSp>
          <p:nvGrpSpPr>
            <p:cNvPr id="62" name=""/>
            <p:cNvGrpSpPr/>
            <p:nvPr/>
          </p:nvGrpSpPr>
          <p:grpSpPr>
            <a:xfrm>
              <a:off x="4908960" y="5364000"/>
              <a:ext cx="1976040" cy="630360"/>
              <a:chOff x="4908960" y="5364000"/>
              <a:chExt cx="1976040" cy="630360"/>
            </a:xfrm>
          </p:grpSpPr>
          <p:sp>
            <p:nvSpPr>
              <p:cNvPr id="63" name=""/>
              <p:cNvSpPr/>
              <p:nvPr/>
            </p:nvSpPr>
            <p:spPr>
              <a:xfrm>
                <a:off x="4908960" y="5364000"/>
                <a:ext cx="1976040" cy="63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3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</a:t>
                </a:r>
                <a:r>
                  <a:rPr b="0" lang="de-DE" sz="2800" spc="-1" strike="noStrike" baseline="30000">
                    <a:solidFill>
                      <a:srgbClr val="ffffff"/>
                    </a:solidFill>
                    <a:latin typeface="Comic Sans MS"/>
                  </a:rPr>
                  <a:t>-</a:t>
                </a:r>
                <a:r>
                  <a:rPr b="0" lang="de-DE" sz="1800" spc="-1" strike="noStrike">
                    <a:solidFill>
                      <a:srgbClr val="ffffff"/>
                    </a:solidFill>
                    <a:latin typeface="Comic Sans MS"/>
                  </a:rPr>
                  <a:t> </a:t>
                </a:r>
                <a:r>
                  <a:rPr b="0" lang="de-DE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de-DE" sz="1800" spc="-1" strike="noStrike">
                    <a:solidFill>
                      <a:srgbClr val="ffffff"/>
                    </a:solidFill>
                    <a:latin typeface="Comic Sans MS"/>
                  </a:rPr>
                  <a:t> </a:t>
                </a:r>
                <a:r>
                  <a:rPr b="0" lang="de-DE" sz="2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r>
                  <a:rPr b="0" lang="de-DE" sz="2800" spc="-1" strike="noStrike" baseline="30000">
                    <a:solidFill>
                      <a:srgbClr val="ffffff"/>
                    </a:solidFill>
                    <a:latin typeface="Comic Sans MS"/>
                  </a:rPr>
                  <a:t>-</a:t>
                </a:r>
                <a:r>
                  <a:rPr b="0" lang="de-DE" sz="2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</a:t>
                </a:r>
                <a:r>
                  <a:rPr b="0" lang="de-DE" sz="2800" spc="-1" strike="noStrike" baseline="-25000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r>
                  <a:rPr b="0" lang="de-DE" sz="2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</a:t>
                </a:r>
                <a:r>
                  <a:rPr b="0" lang="de-DE" sz="2800" spc="-1" strike="noStrike" baseline="-25000">
                    <a:solidFill>
                      <a:srgbClr val="ffffff"/>
                    </a:solidFill>
                    <a:latin typeface="Symbol"/>
                    <a:ea typeface="Symbol"/>
                  </a:rPr>
                  <a:t>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035760" y="5594040"/>
                <a:ext cx="144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4776120" y="4937040"/>
              <a:ext cx="151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ffff"/>
                  </a:solidFill>
                  <a:uFillTx/>
                  <a:latin typeface="Symbol"/>
                  <a:ea typeface="Symbol"/>
                </a:rPr>
                <a:t></a:t>
              </a: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-decay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4638600" y="41148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oday: many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4419720" y="228600"/>
            <a:ext cx="4521240" cy="64008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4491000" y="228600"/>
            <a:ext cx="4348080" cy="64008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395280" y="190440"/>
            <a:ext cx="34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VF @ LHC</a:t>
            </a:r>
            <a:endParaRPr b="0" lang="en-US" sz="4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5"/>
          <a:stretch/>
        </p:blipFill>
        <p:spPr>
          <a:xfrm>
            <a:off x="8001000" y="152280"/>
            <a:ext cx="914400" cy="9129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537480" y="1295280"/>
            <a:ext cx="2852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ffffff"/>
                </a:solidFill>
                <a:uFillTx/>
                <a:latin typeface="Comic Sans MS"/>
              </a:rPr>
              <a:t>Source:  W </a:t>
            </a:r>
            <a:r>
              <a:rPr b="0" lang="de-DE" sz="2400" spc="-1" strike="noStrike" u="sng">
                <a:solidFill>
                  <a:srgbClr val="ffffff"/>
                </a:solidFill>
                <a:uFillTx/>
                <a:latin typeface="Wingdings"/>
                <a:ea typeface="Wingdings"/>
              </a:rPr>
              <a:t></a:t>
            </a:r>
            <a:r>
              <a:rPr b="0" lang="de-DE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</a:t>
            </a:r>
            <a:r>
              <a:rPr b="0" lang="de-DE" sz="3200" spc="-1" strike="noStrike" u="sng" baseline="-25000">
                <a:solidFill>
                  <a:srgbClr val="ffffff"/>
                </a:solidFill>
                <a:uFillTx/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29960" y="2133720"/>
            <a:ext cx="32011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Trigger: Single-Mu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L1: </a:t>
            </a: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de-DE" sz="2400" spc="-1" strike="noStrike">
                <a:solidFill>
                  <a:srgbClr val="99cc00"/>
                </a:solidFill>
                <a:latin typeface="Comic Sans MS"/>
              </a:rPr>
              <a:t>p</a:t>
            </a:r>
            <a:r>
              <a:rPr b="0" lang="de-DE" sz="2400" spc="-1" strike="noStrike" baseline="-25000">
                <a:solidFill>
                  <a:srgbClr val="99cc00"/>
                </a:solidFill>
                <a:latin typeface="Comic Sans MS"/>
              </a:rPr>
              <a:t>T</a:t>
            </a:r>
            <a:r>
              <a:rPr b="0" lang="de-DE" sz="2400" spc="-1" strike="noStrike">
                <a:solidFill>
                  <a:srgbClr val="99cc00"/>
                </a:solidFill>
                <a:latin typeface="Comic Sans MS"/>
              </a:rPr>
              <a:t> &gt; 14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HLT:</a:t>
            </a: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de-DE" sz="24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de-DE" sz="2400" spc="-1" strike="noStrike" baseline="-25000">
                <a:solidFill>
                  <a:srgbClr val="ffff00"/>
                </a:solidFill>
                <a:latin typeface="Comic Sans MS"/>
              </a:rPr>
              <a:t>T</a:t>
            </a:r>
            <a:r>
              <a:rPr b="0" lang="de-DE" sz="2400" spc="-1" strike="noStrike">
                <a:solidFill>
                  <a:srgbClr val="ffff00"/>
                </a:solidFill>
                <a:latin typeface="Comic Sans MS"/>
              </a:rPr>
              <a:t> &gt; 19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49400" y="3689280"/>
            <a:ext cx="27014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Trigger: Di-Mu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L1: </a:t>
            </a: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de-DE" sz="2400" spc="-1" strike="noStrike">
                <a:solidFill>
                  <a:srgbClr val="33ccff"/>
                </a:solidFill>
                <a:latin typeface="Comic Sans MS"/>
              </a:rPr>
              <a:t>p</a:t>
            </a:r>
            <a:r>
              <a:rPr b="0" lang="de-DE" sz="2400" spc="-1" strike="noStrike" baseline="-25000">
                <a:solidFill>
                  <a:srgbClr val="33ccff"/>
                </a:solidFill>
                <a:latin typeface="Comic Sans MS"/>
              </a:rPr>
              <a:t>T</a:t>
            </a:r>
            <a:r>
              <a:rPr b="0" lang="de-DE" sz="2400" spc="-1" strike="noStrike">
                <a:solidFill>
                  <a:srgbClr val="33ccff"/>
                </a:solidFill>
                <a:latin typeface="Comic Sans MS"/>
              </a:rPr>
              <a:t> &gt; 3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HLT:</a:t>
            </a: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de-DE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0" lang="de-DE" sz="2400" spc="-1" strike="noStrike" baseline="-25000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de-DE" sz="2400" spc="-1" strike="noStrike">
                <a:solidFill>
                  <a:srgbClr val="ff0000"/>
                </a:solidFill>
                <a:latin typeface="Comic Sans MS"/>
              </a:rPr>
              <a:t> &gt; 7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6440" y="5380200"/>
            <a:ext cx="312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Looks ok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1.7 10</a:t>
            </a:r>
            <a:r>
              <a:rPr b="0" lang="de-DE" sz="2400" spc="-1" strike="noStrike" baseline="40000">
                <a:solidFill>
                  <a:srgbClr val="ffffff"/>
                </a:solidFill>
                <a:latin typeface="Comic Sans MS"/>
              </a:rPr>
              <a:t>8</a:t>
            </a: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 p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95280" y="190440"/>
            <a:ext cx="34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VF @ LHC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8" name=""/>
          <p:cNvSpPr/>
          <p:nvPr/>
        </p:nvSpPr>
        <p:spPr>
          <a:xfrm>
            <a:off x="792360" y="1406520"/>
            <a:ext cx="1742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ffffff"/>
                </a:solidFill>
                <a:uFillTx/>
                <a:latin typeface="Comic Sans MS"/>
              </a:rPr>
              <a:t>D</a:t>
            </a:r>
            <a:r>
              <a:rPr b="0" lang="de-DE" sz="2400" spc="-1" strike="noStrike" u="sng" baseline="-25000">
                <a:solidFill>
                  <a:srgbClr val="ffffff"/>
                </a:solidFill>
                <a:uFillTx/>
                <a:latin typeface="Comic Sans MS"/>
              </a:rPr>
              <a:t>S</a:t>
            </a:r>
            <a:r>
              <a:rPr b="0" lang="de-DE" sz="2400" spc="-1" strike="noStrike" u="sng">
                <a:solidFill>
                  <a:srgbClr val="ffffff"/>
                </a:solidFill>
                <a:uFillTx/>
                <a:latin typeface="Comic Sans MS"/>
              </a:rPr>
              <a:t> -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29960" y="2133720"/>
            <a:ext cx="32011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Trigger: Single-Mu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L1: </a:t>
            </a: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de-DE" sz="2400" spc="-1" strike="noStrike">
                <a:solidFill>
                  <a:srgbClr val="99cc00"/>
                </a:solidFill>
                <a:latin typeface="Comic Sans MS"/>
              </a:rPr>
              <a:t>p</a:t>
            </a:r>
            <a:r>
              <a:rPr b="0" lang="de-DE" sz="2400" spc="-1" strike="noStrike" baseline="-25000">
                <a:solidFill>
                  <a:srgbClr val="99cc00"/>
                </a:solidFill>
                <a:latin typeface="Comic Sans MS"/>
              </a:rPr>
              <a:t>T</a:t>
            </a:r>
            <a:r>
              <a:rPr b="0" lang="de-DE" sz="2400" spc="-1" strike="noStrike">
                <a:solidFill>
                  <a:srgbClr val="99cc00"/>
                </a:solidFill>
                <a:latin typeface="Comic Sans MS"/>
              </a:rPr>
              <a:t> &gt; 14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HLT:</a:t>
            </a: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de-DE" sz="24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de-DE" sz="2400" spc="-1" strike="noStrike" baseline="-25000">
                <a:solidFill>
                  <a:srgbClr val="ffff00"/>
                </a:solidFill>
                <a:latin typeface="Comic Sans MS"/>
              </a:rPr>
              <a:t>T</a:t>
            </a:r>
            <a:r>
              <a:rPr b="0" lang="de-DE" sz="2400" spc="-1" strike="noStrike">
                <a:solidFill>
                  <a:srgbClr val="ffff00"/>
                </a:solidFill>
                <a:latin typeface="Comic Sans MS"/>
              </a:rPr>
              <a:t> &gt; 19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49400" y="3689280"/>
            <a:ext cx="27014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Trigger: Di-Mu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L1: </a:t>
            </a: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de-DE" sz="2400" spc="-1" strike="noStrike">
                <a:solidFill>
                  <a:srgbClr val="33ccff"/>
                </a:solidFill>
                <a:latin typeface="Comic Sans MS"/>
              </a:rPr>
              <a:t>p</a:t>
            </a:r>
            <a:r>
              <a:rPr b="0" lang="de-DE" sz="2400" spc="-1" strike="noStrike" baseline="-25000">
                <a:solidFill>
                  <a:srgbClr val="33ccff"/>
                </a:solidFill>
                <a:latin typeface="Comic Sans MS"/>
              </a:rPr>
              <a:t>T</a:t>
            </a:r>
            <a:r>
              <a:rPr b="0" lang="de-DE" sz="2400" spc="-1" strike="noStrike">
                <a:solidFill>
                  <a:srgbClr val="33ccff"/>
                </a:solidFill>
                <a:latin typeface="Comic Sans MS"/>
              </a:rPr>
              <a:t> &gt; 3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HLT:</a:t>
            </a: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de-DE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0" lang="de-DE" sz="2400" spc="-1" strike="noStrike" baseline="-25000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de-DE" sz="2400" spc="-1" strike="noStrike">
                <a:solidFill>
                  <a:srgbClr val="ff0000"/>
                </a:solidFill>
                <a:latin typeface="Comic Sans MS"/>
              </a:rPr>
              <a:t> &gt; 7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2120" y="5380200"/>
            <a:ext cx="322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Trigger-Eff. only  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1.5 10</a:t>
            </a:r>
            <a:r>
              <a:rPr b="0" lang="de-DE" sz="2400" spc="-1" strike="noStrike" baseline="40000">
                <a:solidFill>
                  <a:srgbClr val="ffffff"/>
                </a:solidFill>
                <a:latin typeface="Comic Sans MS"/>
              </a:rPr>
              <a:t>12</a:t>
            </a: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 p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3"/>
          <a:stretch/>
        </p:blipFill>
        <p:spPr>
          <a:xfrm>
            <a:off x="4495680" y="304920"/>
            <a:ext cx="4332240" cy="632448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4"/>
          <a:stretch/>
        </p:blipFill>
        <p:spPr>
          <a:xfrm>
            <a:off x="4495680" y="304920"/>
            <a:ext cx="4345200" cy="632448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5"/>
          <a:stretch/>
        </p:blipFill>
        <p:spPr>
          <a:xfrm>
            <a:off x="8001000" y="152280"/>
            <a:ext cx="91440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95280" y="190440"/>
            <a:ext cx="34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VF @ LHC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6" name=""/>
          <p:cNvSpPr/>
          <p:nvPr/>
        </p:nvSpPr>
        <p:spPr>
          <a:xfrm>
            <a:off x="679680" y="1265400"/>
            <a:ext cx="536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Background Problem with D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06920" y="2203560"/>
            <a:ext cx="4509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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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 % b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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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400" spc="-1" strike="noStrike" baseline="4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11280" y="3932280"/>
            <a:ext cx="77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Does anybody know of a generator for this proces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835280" y="3357720"/>
            <a:ext cx="1008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743200" y="3352680"/>
            <a:ext cx="820800" cy="50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3564000" y="2742840"/>
            <a:ext cx="627120" cy="614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4140360" y="2276640"/>
            <a:ext cx="502920" cy="504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64000" y="3357720"/>
            <a:ext cx="1224000" cy="5029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788000" y="3860640"/>
            <a:ext cx="698400" cy="1778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3962520"/>
            <a:ext cx="83808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5257800" y="2971800"/>
            <a:ext cx="574560" cy="50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788000" y="3428640"/>
            <a:ext cx="504720" cy="431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492360" y="3284640"/>
            <a:ext cx="14472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716360" y="3789360"/>
            <a:ext cx="14472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918080" y="270828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724720" y="3505320"/>
            <a:ext cx="57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34800" y="1852560"/>
            <a:ext cx="534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de-DE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716080" y="2859120"/>
            <a:ext cx="570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750840" y="3573360"/>
            <a:ext cx="5281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2400" spc="-1" strike="noStrike" baseline="60000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048760" y="5013360"/>
            <a:ext cx="26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648320" y="2286000"/>
            <a:ext cx="1143000" cy="685800"/>
          </a:xfrm>
          <a:prstGeom prst="line">
            <a:avLst/>
          </a:prstGeom>
          <a:ln w="57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648320" y="2286000"/>
            <a:ext cx="609480" cy="380880"/>
          </a:xfrm>
          <a:prstGeom prst="line">
            <a:avLst/>
          </a:prstGeom>
          <a:ln w="57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334120" y="2666880"/>
            <a:ext cx="228600" cy="22860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4648320" y="2209680"/>
            <a:ext cx="1600200" cy="7632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0" y="220968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997520" y="1523880"/>
            <a:ext cx="7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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248520" y="1828800"/>
            <a:ext cx="914400" cy="3808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172200" y="213372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6781680" y="1600200"/>
            <a:ext cx="914400" cy="380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248520" y="2209680"/>
            <a:ext cx="761760" cy="152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248520" y="2209680"/>
            <a:ext cx="152388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711560" y="1143000"/>
            <a:ext cx="64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724880" y="2133720"/>
            <a:ext cx="57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95280" y="190440"/>
            <a:ext cx="371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VF Z-Decays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1835280" y="3357720"/>
            <a:ext cx="1008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743200" y="3352680"/>
            <a:ext cx="820800" cy="50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564000" y="2742840"/>
            <a:ext cx="627120" cy="614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4140360" y="2276640"/>
            <a:ext cx="502920" cy="504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564000" y="3357720"/>
            <a:ext cx="1224000" cy="5029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788000" y="3860640"/>
            <a:ext cx="698400" cy="1778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257800" y="3962520"/>
            <a:ext cx="83808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5257800" y="2971800"/>
            <a:ext cx="574560" cy="50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788000" y="3428640"/>
            <a:ext cx="504720" cy="431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492360" y="3284640"/>
            <a:ext cx="14472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716360" y="3789360"/>
            <a:ext cx="14472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918080" y="270828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724720" y="3505320"/>
            <a:ext cx="57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934800" y="1852560"/>
            <a:ext cx="534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de-DE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716080" y="2859120"/>
            <a:ext cx="570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739680" y="3581280"/>
            <a:ext cx="5281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2400" spc="-1" strike="noStrike" baseline="60000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055960" y="5013360"/>
            <a:ext cx="263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648320" y="2286000"/>
            <a:ext cx="1143000" cy="685800"/>
          </a:xfrm>
          <a:prstGeom prst="line">
            <a:avLst/>
          </a:prstGeom>
          <a:ln w="57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648320" y="2286000"/>
            <a:ext cx="609480" cy="380880"/>
          </a:xfrm>
          <a:prstGeom prst="line">
            <a:avLst/>
          </a:prstGeom>
          <a:ln w="57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334120" y="2666880"/>
            <a:ext cx="228600" cy="22860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3504960" y="1828800"/>
            <a:ext cx="1143000" cy="45720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72000" y="220968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778200" y="1371600"/>
            <a:ext cx="7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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2133720" y="1828440"/>
            <a:ext cx="129528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352680" y="1752480"/>
            <a:ext cx="14472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2590920" y="1828800"/>
            <a:ext cx="838080" cy="152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057400" y="1295280"/>
            <a:ext cx="762120" cy="304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 flipV="1">
            <a:off x="2590920" y="1523520"/>
            <a:ext cx="83808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539360" y="1676520"/>
            <a:ext cx="64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533600" y="838080"/>
            <a:ext cx="57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95280" y="190440"/>
            <a:ext cx="371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VF Z-Decays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 flipH="1" flipV="1">
            <a:off x="4572000" y="4190760"/>
            <a:ext cx="12952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564000" y="3357720"/>
            <a:ext cx="2303280" cy="1900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3564000" y="2742840"/>
            <a:ext cx="627120" cy="614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4140360" y="2276640"/>
            <a:ext cx="502920" cy="504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564000" y="3357720"/>
            <a:ext cx="1224000" cy="5029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788000" y="3860640"/>
            <a:ext cx="698400" cy="1778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3962520"/>
            <a:ext cx="83808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5257800" y="2971800"/>
            <a:ext cx="574560" cy="50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4788000" y="3428640"/>
            <a:ext cx="504720" cy="431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492360" y="3284640"/>
            <a:ext cx="14472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716360" y="3789360"/>
            <a:ext cx="14472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035400" y="502920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724720" y="3505320"/>
            <a:ext cx="57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934800" y="1852560"/>
            <a:ext cx="534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de-DE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716080" y="2859120"/>
            <a:ext cx="570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055240" y="5013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648320" y="2286000"/>
            <a:ext cx="1143000" cy="685800"/>
          </a:xfrm>
          <a:prstGeom prst="line">
            <a:avLst/>
          </a:prstGeom>
          <a:ln w="57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648320" y="2286000"/>
            <a:ext cx="609480" cy="380880"/>
          </a:xfrm>
          <a:prstGeom prst="line">
            <a:avLst/>
          </a:prstGeom>
          <a:ln w="57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334120" y="2666880"/>
            <a:ext cx="228600" cy="22860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 flipV="1">
            <a:off x="3504960" y="1828800"/>
            <a:ext cx="1143000" cy="45720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0" y="220968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778200" y="1371600"/>
            <a:ext cx="7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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2133720" y="1828440"/>
            <a:ext cx="129528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352680" y="1752480"/>
            <a:ext cx="14472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2590920" y="1828800"/>
            <a:ext cx="838080" cy="152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057400" y="1295280"/>
            <a:ext cx="762120" cy="304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 flipV="1">
            <a:off x="2590920" y="1523520"/>
            <a:ext cx="83808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539360" y="1676520"/>
            <a:ext cx="64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533600" y="838080"/>
            <a:ext cx="57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395280" y="190440"/>
            <a:ext cx="371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VF Z-Decays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 flipH="1" flipV="1">
            <a:off x="4572000" y="4190760"/>
            <a:ext cx="12952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H="1" flipV="1">
            <a:off x="3564000" y="3357720"/>
            <a:ext cx="2303280" cy="1900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564000" y="2742840"/>
            <a:ext cx="627120" cy="614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4140360" y="2276640"/>
            <a:ext cx="502920" cy="504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564000" y="3357720"/>
            <a:ext cx="1224000" cy="5029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788000" y="3860640"/>
            <a:ext cx="698400" cy="1778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257800" y="3962520"/>
            <a:ext cx="83808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5257800" y="2971800"/>
            <a:ext cx="574560" cy="50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4788000" y="3428640"/>
            <a:ext cx="504720" cy="431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492360" y="3284640"/>
            <a:ext cx="14472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716360" y="3789360"/>
            <a:ext cx="14472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035400" y="502920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724720" y="3505320"/>
            <a:ext cx="57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934800" y="1852560"/>
            <a:ext cx="534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de-DE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716080" y="2859120"/>
            <a:ext cx="570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022480" y="5013360"/>
            <a:ext cx="298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 p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648320" y="2286000"/>
            <a:ext cx="1143000" cy="685800"/>
          </a:xfrm>
          <a:prstGeom prst="line">
            <a:avLst/>
          </a:prstGeom>
          <a:ln w="57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648320" y="2286000"/>
            <a:ext cx="609480" cy="380880"/>
          </a:xfrm>
          <a:prstGeom prst="line">
            <a:avLst/>
          </a:prstGeom>
          <a:ln w="57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334120" y="2666880"/>
            <a:ext cx="228600" cy="22860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3504960" y="1828800"/>
            <a:ext cx="1143000" cy="45720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72000" y="220968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778200" y="1371600"/>
            <a:ext cx="7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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133720" y="1828440"/>
            <a:ext cx="129528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352680" y="1752480"/>
            <a:ext cx="14472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2133720" y="1371600"/>
            <a:ext cx="129528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525680" y="1830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525680" y="992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95280" y="190440"/>
            <a:ext cx="371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VF Z-Decays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 flipH="1" flipV="1">
            <a:off x="5562720" y="4267080"/>
            <a:ext cx="761760" cy="152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4876560" y="4114440"/>
            <a:ext cx="144756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3809880" y="2971800"/>
            <a:ext cx="53352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3809880" y="2590920"/>
            <a:ext cx="914400" cy="9144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724280" y="2590920"/>
            <a:ext cx="152640" cy="15238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4724280" y="2438280"/>
            <a:ext cx="914400" cy="152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4724280" y="2285640"/>
            <a:ext cx="160020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733920" y="342900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800600" y="403848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339960" y="403848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410520" y="2057400"/>
            <a:ext cx="57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201560" y="3809880"/>
            <a:ext cx="534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de-DE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976200" y="2133720"/>
            <a:ext cx="570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022480" y="5013360"/>
            <a:ext cx="298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 p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809880" y="3505320"/>
            <a:ext cx="1067040" cy="609480"/>
          </a:xfrm>
          <a:prstGeom prst="line">
            <a:avLst/>
          </a:prstGeom>
          <a:ln w="57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 flipV="1">
            <a:off x="4190760" y="3733920"/>
            <a:ext cx="685800" cy="380880"/>
          </a:xfrm>
          <a:prstGeom prst="line">
            <a:avLst/>
          </a:prstGeom>
          <a:ln w="57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962520" y="3124080"/>
            <a:ext cx="228600" cy="22860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2895480" y="3505320"/>
            <a:ext cx="914400" cy="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648320" y="251460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092400" y="2743200"/>
            <a:ext cx="7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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1523880" y="3504960"/>
            <a:ext cx="129564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819520" y="342900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H="1" flipV="1">
            <a:off x="1600200" y="3048120"/>
            <a:ext cx="129528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143360" y="3429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221120" y="2743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95280" y="190440"/>
            <a:ext cx="371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VF Z-Decays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5" name=""/>
          <p:cNvSpPr/>
          <p:nvPr/>
        </p:nvSpPr>
        <p:spPr>
          <a:xfrm>
            <a:off x="4802040" y="31240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80880" y="228600"/>
            <a:ext cx="3414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ummary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>
            <a:off x="228600" y="1731960"/>
            <a:ext cx="868680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1175400" y="4572000"/>
            <a:ext cx="6874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Can we improve a few channels at LHC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Also look for LVF in Z-decays at LHC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80880" y="228600"/>
            <a:ext cx="3414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nclusions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0" name=""/>
          <p:cNvSpPr/>
          <p:nvPr/>
        </p:nvSpPr>
        <p:spPr>
          <a:xfrm>
            <a:off x="587160" y="1370160"/>
            <a:ext cx="8359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LFV  tau-decays </a:t>
            </a:r>
            <a:r>
              <a:rPr b="0" lang="de-DE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Interesting search for physics beyond the S.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(SUSY  and  others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875960" y="3352680"/>
            <a:ext cx="496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b-factories will approach 10</a:t>
            </a:r>
            <a:r>
              <a:rPr b="0" lang="de-DE" sz="2800" spc="-1" strike="noStrike" baseline="40000">
                <a:solidFill>
                  <a:srgbClr val="ffffff"/>
                </a:solidFill>
                <a:latin typeface="Comic Sans MS"/>
              </a:rPr>
              <a:t>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30208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 rot="16200000">
            <a:off x="-2324160" y="3085920"/>
            <a:ext cx="6096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eutrino Oscillations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063520" y="2900520"/>
            <a:ext cx="1427760" cy="2331000"/>
            <a:chOff x="2063520" y="2900520"/>
            <a:chExt cx="1427760" cy="2331000"/>
          </a:xfrm>
        </p:grpSpPr>
        <p:sp>
          <p:nvSpPr>
            <p:cNvPr id="70" name=""/>
            <p:cNvSpPr/>
            <p:nvPr/>
          </p:nvSpPr>
          <p:spPr>
            <a:xfrm>
              <a:off x="2063520" y="4305240"/>
              <a:ext cx="702000" cy="926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</a:t>
              </a:r>
              <a:r>
                <a:rPr b="1" lang="en-US" sz="4800" spc="-1" strike="noStrike" baseline="-25000">
                  <a:solidFill>
                    <a:srgbClr val="339933"/>
                  </a:solidFill>
                  <a:latin typeface="Symbol"/>
                  <a:ea typeface="Symbol"/>
                </a:rPr>
                <a:t>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37880" y="2900520"/>
              <a:ext cx="653400" cy="926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</a:t>
              </a:r>
              <a:r>
                <a:rPr b="1" lang="en-US" sz="4800" spc="-1" strike="noStrike" baseline="-25000">
                  <a:solidFill>
                    <a:srgbClr val="339933"/>
                  </a:solidFill>
                  <a:latin typeface="Symbol"/>
                  <a:ea typeface="Symbol"/>
                </a:rPr>
                <a:t>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2590920" y="3733920"/>
              <a:ext cx="457200" cy="838080"/>
            </a:xfrm>
            <a:prstGeom prst="line">
              <a:avLst/>
            </a:prstGeom>
            <a:ln w="572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7229520" y="4495680"/>
            <a:ext cx="177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eutr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scil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io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p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umber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95280" y="189000"/>
            <a:ext cx="547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eptonic tau-Decay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/>
          <p:nvPr/>
        </p:nvSpPr>
        <p:spPr>
          <a:xfrm>
            <a:off x="1835280" y="3357720"/>
            <a:ext cx="1008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3352680"/>
            <a:ext cx="820800" cy="50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564000" y="2742840"/>
            <a:ext cx="627120" cy="614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140360" y="2276640"/>
            <a:ext cx="502920" cy="504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64000" y="3357720"/>
            <a:ext cx="1224000" cy="5029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3860640"/>
            <a:ext cx="576000" cy="360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4114800"/>
            <a:ext cx="685800" cy="3938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257800" y="2971800"/>
            <a:ext cx="574560" cy="50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788000" y="3428640"/>
            <a:ext cx="504720" cy="431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92360" y="3284640"/>
            <a:ext cx="14472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16360" y="3789360"/>
            <a:ext cx="14472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18080" y="270828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91200" y="4267080"/>
            <a:ext cx="57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34800" y="1852560"/>
            <a:ext cx="534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de-DE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16080" y="2859120"/>
            <a:ext cx="570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50840" y="3573360"/>
            <a:ext cx="5281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2400" spc="-1" strike="noStrike" baseline="60000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14200" y="5013360"/>
            <a:ext cx="176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393720" y="5013360"/>
            <a:ext cx="1261080" cy="787320"/>
            <a:chOff x="3393720" y="5013360"/>
            <a:chExt cx="1261080" cy="787320"/>
          </a:xfrm>
        </p:grpSpPr>
        <p:sp>
          <p:nvSpPr>
            <p:cNvPr id="93" name=""/>
            <p:cNvSpPr/>
            <p:nvPr/>
          </p:nvSpPr>
          <p:spPr>
            <a:xfrm>
              <a:off x="3393720" y="5013360"/>
              <a:ext cx="12610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</a:t>
              </a:r>
              <a:r>
                <a:rPr b="1" lang="de-DE" sz="4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1" lang="de-DE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</a:t>
              </a:r>
              <a:r>
                <a:rPr b="1" lang="de-DE" sz="4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2320" y="5237280"/>
              <a:ext cx="2286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648320" y="2133720"/>
            <a:ext cx="2300400" cy="838080"/>
            <a:chOff x="4648320" y="2133720"/>
            <a:chExt cx="2300400" cy="838080"/>
          </a:xfrm>
        </p:grpSpPr>
        <p:sp>
          <p:nvSpPr>
            <p:cNvPr id="96" name=""/>
            <p:cNvSpPr/>
            <p:nvPr/>
          </p:nvSpPr>
          <p:spPr>
            <a:xfrm>
              <a:off x="4648320" y="2286000"/>
              <a:ext cx="1143000" cy="685800"/>
            </a:xfrm>
            <a:prstGeom prst="line">
              <a:avLst/>
            </a:prstGeom>
            <a:ln w="57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48320" y="2286000"/>
              <a:ext cx="609480" cy="380880"/>
            </a:xfrm>
            <a:prstGeom prst="line">
              <a:avLst/>
            </a:prstGeom>
            <a:ln w="572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59440" y="2133720"/>
              <a:ext cx="188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annihi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133720" y="2276640"/>
            <a:ext cx="3733560" cy="3204720"/>
            <a:chOff x="2133720" y="2276640"/>
            <a:chExt cx="3733560" cy="3204720"/>
          </a:xfrm>
        </p:grpSpPr>
        <p:sp>
          <p:nvSpPr>
            <p:cNvPr id="100" name=""/>
            <p:cNvSpPr/>
            <p:nvPr/>
          </p:nvSpPr>
          <p:spPr>
            <a:xfrm flipV="1">
              <a:off x="4788000" y="2637000"/>
              <a:ext cx="1079280" cy="71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076720" y="2276640"/>
              <a:ext cx="432000" cy="720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2133720" y="5409720"/>
              <a:ext cx="1079280" cy="71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196680" y="5380200"/>
            <a:ext cx="1919520" cy="11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forbid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1" lang="de-DE" sz="4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de-DE" sz="4000" spc="-1" strike="noStrike">
                <a:solidFill>
                  <a:srgbClr val="ffffff"/>
                </a:solidFill>
                <a:latin typeface="Symbol"/>
                <a:ea typeface="Symbol"/>
              </a:rPr>
              <a:t></a:t>
            </a:r>
            <a:r>
              <a:rPr b="1" lang="de-DE" sz="4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95280" y="189000"/>
            <a:ext cx="547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eptonic tau-Decay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"/>
          <p:cNvSpPr/>
          <p:nvPr/>
        </p:nvSpPr>
        <p:spPr>
          <a:xfrm>
            <a:off x="1835280" y="3357720"/>
            <a:ext cx="1008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43200" y="3352680"/>
            <a:ext cx="820800" cy="50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564000" y="2742840"/>
            <a:ext cx="627120" cy="614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140360" y="2276640"/>
            <a:ext cx="502920" cy="504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64000" y="3357720"/>
            <a:ext cx="1224000" cy="5029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88000" y="3860640"/>
            <a:ext cx="576000" cy="360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81480" y="4114800"/>
            <a:ext cx="685800" cy="3938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257800" y="2971800"/>
            <a:ext cx="574560" cy="50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788000" y="3428640"/>
            <a:ext cx="504720" cy="431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92360" y="3284640"/>
            <a:ext cx="14472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16360" y="3789360"/>
            <a:ext cx="14472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18080" y="270828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91200" y="4267080"/>
            <a:ext cx="57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34800" y="1852560"/>
            <a:ext cx="534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de-DE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16080" y="2859120"/>
            <a:ext cx="570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50840" y="3573360"/>
            <a:ext cx="5281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2400" spc="-1" strike="noStrike" baseline="60000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14200" y="5013360"/>
            <a:ext cx="176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2286000"/>
            <a:ext cx="1143000" cy="685800"/>
          </a:xfrm>
          <a:prstGeom prst="line">
            <a:avLst/>
          </a:prstGeom>
          <a:ln w="57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48320" y="2286000"/>
            <a:ext cx="609480" cy="380880"/>
          </a:xfrm>
          <a:prstGeom prst="line">
            <a:avLst/>
          </a:prstGeom>
          <a:ln w="57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96680" y="5380200"/>
            <a:ext cx="1919520" cy="11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forbid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1" lang="de-DE" sz="4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de-DE" sz="4000" spc="-1" strike="noStrike">
                <a:solidFill>
                  <a:srgbClr val="ffffff"/>
                </a:solidFill>
                <a:latin typeface="Symbol"/>
                <a:ea typeface="Symbol"/>
              </a:rPr>
              <a:t></a:t>
            </a:r>
            <a:r>
              <a:rPr b="1" lang="de-DE" sz="4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2286000"/>
            <a:ext cx="228600" cy="22860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690800" y="1828800"/>
            <a:ext cx="2946960" cy="870480"/>
            <a:chOff x="4690800" y="1828800"/>
            <a:chExt cx="2946960" cy="870480"/>
          </a:xfrm>
        </p:grpSpPr>
        <p:sp>
          <p:nvSpPr>
            <p:cNvPr id="127" name=""/>
            <p:cNvSpPr/>
            <p:nvPr/>
          </p:nvSpPr>
          <p:spPr>
            <a:xfrm>
              <a:off x="4690800" y="1828800"/>
              <a:ext cx="294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neutrino oscil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19200" y="1981080"/>
              <a:ext cx="5706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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 flipV="1">
            <a:off x="6400800" y="5486400"/>
            <a:ext cx="1523880" cy="838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7880" y="6172200"/>
            <a:ext cx="55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b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energy/momentum con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133720" y="5257440"/>
            <a:ext cx="1218960" cy="30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95280" y="189000"/>
            <a:ext cx="4024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FV-Decay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"/>
          <p:cNvSpPr/>
          <p:nvPr/>
        </p:nvSpPr>
        <p:spPr>
          <a:xfrm>
            <a:off x="1835280" y="3357720"/>
            <a:ext cx="1008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43200" y="3352680"/>
            <a:ext cx="820800" cy="50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564000" y="2742840"/>
            <a:ext cx="627120" cy="614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140360" y="2276640"/>
            <a:ext cx="502920" cy="504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64000" y="3357720"/>
            <a:ext cx="1224000" cy="5029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88000" y="3860640"/>
            <a:ext cx="576000" cy="360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81480" y="4114800"/>
            <a:ext cx="685800" cy="3938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257800" y="2971800"/>
            <a:ext cx="574560" cy="50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788000" y="3428640"/>
            <a:ext cx="504720" cy="431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92360" y="3284640"/>
            <a:ext cx="14472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16360" y="3789360"/>
            <a:ext cx="14472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18080" y="270828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1200" y="4267080"/>
            <a:ext cx="57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34800" y="1852560"/>
            <a:ext cx="534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de-DE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16080" y="2859120"/>
            <a:ext cx="570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50840" y="3573360"/>
            <a:ext cx="5281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2400" spc="-1" strike="noStrike" baseline="60000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14200" y="5013360"/>
            <a:ext cx="176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48320" y="2286000"/>
            <a:ext cx="1143000" cy="685800"/>
          </a:xfrm>
          <a:prstGeom prst="line">
            <a:avLst/>
          </a:prstGeom>
          <a:ln w="57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2286000"/>
            <a:ext cx="609480" cy="380880"/>
          </a:xfrm>
          <a:prstGeom prst="line">
            <a:avLst/>
          </a:prstGeom>
          <a:ln w="57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96680" y="5380200"/>
            <a:ext cx="1919520" cy="11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forbid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1" lang="de-DE" sz="4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de-DE" sz="4000" spc="-1" strike="noStrike">
                <a:solidFill>
                  <a:srgbClr val="ffffff"/>
                </a:solidFill>
                <a:latin typeface="Symbol"/>
                <a:ea typeface="Symbol"/>
              </a:rPr>
              <a:t></a:t>
            </a:r>
            <a:r>
              <a:rPr b="1" lang="de-DE" sz="4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2286000"/>
            <a:ext cx="228600" cy="22860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690800" y="1828800"/>
            <a:ext cx="2946960" cy="870480"/>
            <a:chOff x="4690800" y="1828800"/>
            <a:chExt cx="2946960" cy="870480"/>
          </a:xfrm>
        </p:grpSpPr>
        <p:sp>
          <p:nvSpPr>
            <p:cNvPr id="155" name=""/>
            <p:cNvSpPr/>
            <p:nvPr/>
          </p:nvSpPr>
          <p:spPr>
            <a:xfrm>
              <a:off x="4690800" y="1828800"/>
              <a:ext cx="294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neutrino oscil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19200" y="1981080"/>
              <a:ext cx="5706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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 flipV="1">
            <a:off x="6400800" y="5486400"/>
            <a:ext cx="1523880" cy="838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07880" y="6172200"/>
            <a:ext cx="55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b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energy/momentum con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876920" y="3276720"/>
            <a:ext cx="1861200" cy="753840"/>
            <a:chOff x="4876920" y="3276720"/>
            <a:chExt cx="1861200" cy="753840"/>
          </a:xfrm>
        </p:grpSpPr>
        <p:sp>
          <p:nvSpPr>
            <p:cNvPr id="160" name=""/>
            <p:cNvSpPr/>
            <p:nvPr/>
          </p:nvSpPr>
          <p:spPr>
            <a:xfrm flipV="1">
              <a:off x="4952880" y="3733560"/>
              <a:ext cx="1371600" cy="22860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76920" y="3886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00000" y="327672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320280" y="50734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6400800"/>
            <a:ext cx="5410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 rot="1948800">
            <a:off x="6762240" y="609480"/>
            <a:ext cx="20764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ossible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ecay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95280" y="189000"/>
            <a:ext cx="4024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FV-Decay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1835280" y="3357720"/>
            <a:ext cx="1008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43200" y="3352680"/>
            <a:ext cx="820800" cy="50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564000" y="2742840"/>
            <a:ext cx="627120" cy="614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140360" y="2276640"/>
            <a:ext cx="502920" cy="504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64000" y="3357720"/>
            <a:ext cx="1224000" cy="5029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88000" y="3860640"/>
            <a:ext cx="698400" cy="1778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57800" y="3962520"/>
            <a:ext cx="83808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257800" y="2971800"/>
            <a:ext cx="574560" cy="50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788000" y="3428640"/>
            <a:ext cx="504720" cy="431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92360" y="3284640"/>
            <a:ext cx="14472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16360" y="3789360"/>
            <a:ext cx="14472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18080" y="270828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24720" y="3505320"/>
            <a:ext cx="57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34800" y="1852560"/>
            <a:ext cx="534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de-DE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6080" y="2859120"/>
            <a:ext cx="570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50840" y="3573360"/>
            <a:ext cx="5281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2400" spc="-1" strike="noStrike" baseline="60000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048760" y="5013360"/>
            <a:ext cx="26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48320" y="2286000"/>
            <a:ext cx="1143000" cy="685800"/>
          </a:xfrm>
          <a:prstGeom prst="line">
            <a:avLst/>
          </a:prstGeom>
          <a:ln w="57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48320" y="2286000"/>
            <a:ext cx="609480" cy="380880"/>
          </a:xfrm>
          <a:prstGeom prst="line">
            <a:avLst/>
          </a:prstGeom>
          <a:ln w="57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24280" y="2286000"/>
            <a:ext cx="228600" cy="22860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48120" y="3352680"/>
            <a:ext cx="914400" cy="106704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971800" y="327672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55800" y="3733920"/>
            <a:ext cx="7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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 rot="1948800">
            <a:off x="6762240" y="609480"/>
            <a:ext cx="20764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ossible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ecay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1" name=""/>
          <p:cNvSpPr/>
          <p:nvPr/>
        </p:nvSpPr>
        <p:spPr>
          <a:xfrm>
            <a:off x="3962520" y="4419720"/>
            <a:ext cx="9144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86200" y="435132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4723920" y="4419720"/>
            <a:ext cx="8384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4419720"/>
            <a:ext cx="685800" cy="380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95680" y="4724280"/>
            <a:ext cx="838440" cy="3812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01880" y="4114800"/>
            <a:ext cx="64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86600" y="4724280"/>
            <a:ext cx="57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324480" y="2514600"/>
            <a:ext cx="838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95280" y="189000"/>
            <a:ext cx="4024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FV-Decay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"/>
          <p:cNvSpPr/>
          <p:nvPr/>
        </p:nvSpPr>
        <p:spPr>
          <a:xfrm>
            <a:off x="1835280" y="3357720"/>
            <a:ext cx="1008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43200" y="3352680"/>
            <a:ext cx="820800" cy="50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3564000" y="2742840"/>
            <a:ext cx="627120" cy="614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140360" y="2276640"/>
            <a:ext cx="502920" cy="504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64000" y="3357720"/>
            <a:ext cx="1224000" cy="5029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88000" y="3860640"/>
            <a:ext cx="698400" cy="1778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57800" y="3962520"/>
            <a:ext cx="83808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257800" y="2971800"/>
            <a:ext cx="574560" cy="50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788000" y="3428640"/>
            <a:ext cx="504720" cy="431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2360" y="3284640"/>
            <a:ext cx="14472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716360" y="3789360"/>
            <a:ext cx="14472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18080" y="270828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05600" y="3809880"/>
            <a:ext cx="57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34800" y="1852560"/>
            <a:ext cx="534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de-DE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16080" y="2859120"/>
            <a:ext cx="570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750840" y="3573360"/>
            <a:ext cx="5281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2400" spc="-1" strike="noStrike" baseline="60000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034720" y="5013360"/>
            <a:ext cx="214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48320" y="2286000"/>
            <a:ext cx="1143000" cy="685800"/>
          </a:xfrm>
          <a:prstGeom prst="line">
            <a:avLst/>
          </a:prstGeom>
          <a:ln w="57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48320" y="2286000"/>
            <a:ext cx="609480" cy="380880"/>
          </a:xfrm>
          <a:prstGeom prst="line">
            <a:avLst/>
          </a:prstGeom>
          <a:ln w="57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2286000"/>
            <a:ext cx="228600" cy="22860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410080" y="2514240"/>
            <a:ext cx="914400" cy="22860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71800" y="327672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20320" y="21621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 rot="1948800">
            <a:off x="6762240" y="609480"/>
            <a:ext cx="20764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ossible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ecay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243828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133760" y="2057400"/>
            <a:ext cx="62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324480" y="2590920"/>
            <a:ext cx="838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66688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95280" y="189000"/>
            <a:ext cx="5091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IM-Mechanism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" name=""/>
          <p:cNvSpPr/>
          <p:nvPr/>
        </p:nvSpPr>
        <p:spPr>
          <a:xfrm>
            <a:off x="1835280" y="3357720"/>
            <a:ext cx="1008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743200" y="3352680"/>
            <a:ext cx="820800" cy="50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564000" y="2742840"/>
            <a:ext cx="627120" cy="614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140360" y="2276640"/>
            <a:ext cx="502920" cy="504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64000" y="3357720"/>
            <a:ext cx="1224000" cy="5029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788000" y="3860640"/>
            <a:ext cx="576000" cy="360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81480" y="4114800"/>
            <a:ext cx="685800" cy="3938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257800" y="2971800"/>
            <a:ext cx="574560" cy="50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88000" y="3428640"/>
            <a:ext cx="504720" cy="431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92360" y="3284640"/>
            <a:ext cx="14472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716360" y="3789360"/>
            <a:ext cx="14472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918080" y="270828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91200" y="4267080"/>
            <a:ext cx="57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34800" y="1852560"/>
            <a:ext cx="534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de-DE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16080" y="2859120"/>
            <a:ext cx="570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750840" y="3573360"/>
            <a:ext cx="5281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2400" spc="-1" strike="noStrike" baseline="60000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14200" y="5013360"/>
            <a:ext cx="176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4000" spc="-1" strike="noStrike" baseline="36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48320" y="2286000"/>
            <a:ext cx="1143000" cy="685800"/>
          </a:xfrm>
          <a:prstGeom prst="line">
            <a:avLst/>
          </a:prstGeom>
          <a:ln w="57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48320" y="2286000"/>
            <a:ext cx="609480" cy="380880"/>
          </a:xfrm>
          <a:prstGeom prst="line">
            <a:avLst/>
          </a:prstGeom>
          <a:ln w="572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24280" y="2286000"/>
            <a:ext cx="228600" cy="22860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4690800" y="1828800"/>
            <a:ext cx="2946960" cy="870480"/>
            <a:chOff x="4690800" y="1828800"/>
            <a:chExt cx="2946960" cy="870480"/>
          </a:xfrm>
        </p:grpSpPr>
        <p:sp>
          <p:nvSpPr>
            <p:cNvPr id="250" name=""/>
            <p:cNvSpPr/>
            <p:nvPr/>
          </p:nvSpPr>
          <p:spPr>
            <a:xfrm>
              <a:off x="4690800" y="1828800"/>
              <a:ext cx="294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neutrino oscil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19200" y="1981080"/>
              <a:ext cx="5706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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876920" y="3276720"/>
            <a:ext cx="1861200" cy="753840"/>
            <a:chOff x="4876920" y="3276720"/>
            <a:chExt cx="1861200" cy="753840"/>
          </a:xfrm>
        </p:grpSpPr>
        <p:sp>
          <p:nvSpPr>
            <p:cNvPr id="253" name=""/>
            <p:cNvSpPr/>
            <p:nvPr/>
          </p:nvSpPr>
          <p:spPr>
            <a:xfrm flipV="1">
              <a:off x="4952880" y="3733560"/>
              <a:ext cx="1371600" cy="22860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76920" y="3886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00000" y="327672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3320280" y="50734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ahl</cp:lastModifiedBy>
  <dcterms:modified xsi:type="dcterms:W3CDTF">2006-03-06T13:50:56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