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122-D604-45EE-A4F9-F2807464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17C-2601-43B4-A627-DEBC5571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241-0FFD-4EC5-8CF2-7701D29F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170-3A62-4E25-8100-7BF24789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1CB-C69E-4775-8B1C-BB0F563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CE0-6243-47D5-B073-7253489D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69C-1AC3-4A81-8E4C-D944512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C4C-6962-4014-9160-14C3E63C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D86-2F30-4200-BF4D-19F3EFD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378-BD16-427E-A36E-36A78FE6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6BA-2DA9-47BE-9128-54837C6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1E4-8EBE-41D6-B794-13B6B92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8E31-18D6-4D36-9D89-63D5452F15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0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s from KEK E391a Experi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Inag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urth Workshop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科研費特定領域「質量起源と超対称性の物理の研究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in Aid for Scientific Research on Priority Are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Origin and Super-symmetry Physic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-week (run-I) final p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9246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B.G. is related to the membrane (Run-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reported the result at the KAON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comparison Run-I and Run-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032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876920" y="1752480"/>
            <a:ext cx="3960720" cy="4040280"/>
            <a:chOff x="4876920" y="1752480"/>
            <a:chExt cx="3960720" cy="4040280"/>
          </a:xfrm>
        </p:grpSpPr>
        <p:pic>
          <p:nvPicPr>
            <p:cNvPr id="88" name="" descr=""/>
            <p:cNvPicPr/>
            <p:nvPr/>
          </p:nvPicPr>
          <p:blipFill>
            <a:blip r:embed="rId2"/>
            <a:srcRect l="0" t="4255" r="0" b="0"/>
            <a:stretch/>
          </p:blipFill>
          <p:spPr>
            <a:xfrm>
              <a:off x="4876920" y="2065320"/>
              <a:ext cx="39607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678720" y="1752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run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26480" y="2101680"/>
              <a:ext cx="0" cy="3240000"/>
            </a:xfrm>
            <a:prstGeom prst="line">
              <a:avLst/>
            </a:prstGeom>
            <a:ln w="414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07680" y="2141280"/>
              <a:ext cx="0" cy="3240000"/>
            </a:xfrm>
            <a:prstGeom prst="line">
              <a:avLst/>
            </a:prstGeom>
            <a:ln w="414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39080" y="42732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ev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79080" y="477648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ev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69360" y="362412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ev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04520" y="412272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ev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411280" y="602136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same data processing and c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ies for full-data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nergy calibration of CsI, run-by-r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to get good resolutions of Zvtx and P</a:t>
            </a:r>
            <a:r>
              <a:rPr b="0" lang="ja-JP" sz="24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Calibration and simulation of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to lower the detection threshold with a tight time window and to make the acceptance estimation 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ttack the BA (Back Anti): beam-plug co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404640"/>
            <a:ext cx="5076720" cy="2918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29498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ecalibration of CsI energy using K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3π</a:t>
            </a:r>
            <a:r>
              <a:rPr b="0" lang="ja-JP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80000" y="3357720"/>
            <a:ext cx="52020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bration and simulation of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646360" cy="3376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680" y="2421000"/>
            <a:ext cx="45720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844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γ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3645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γ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637000"/>
            <a:ext cx="863640" cy="107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835280" y="3933720"/>
            <a:ext cx="100800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042560" y="4437000"/>
            <a:ext cx="57636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45080" y="369252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ack sp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084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al additional 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5516640"/>
            <a:ext cx="2016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(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: relative with C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95640" y="1341360"/>
            <a:ext cx="2592360" cy="228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696000" y="2060640"/>
            <a:ext cx="2448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ff"/>
                </a:solidFill>
                <a:latin typeface="Times New Roman"/>
              </a:rPr>
              <a:t>Recalibration of CsI timing using K</a:t>
            </a:r>
            <a:r>
              <a:rPr b="1" lang="ja-JP" sz="1600" spc="-1" strike="noStrike" baseline="-25000">
                <a:solidFill>
                  <a:srgbClr val="0099ff"/>
                </a:solidFill>
                <a:latin typeface="Times New Roman"/>
              </a:rPr>
              <a:t>L</a:t>
            </a:r>
            <a:r>
              <a:rPr b="1" lang="ja-JP" sz="1600" spc="-1" strike="noStrike">
                <a:solidFill>
                  <a:srgbClr val="0099ff"/>
                </a:solidFill>
                <a:latin typeface="Times New Roman"/>
              </a:rPr>
              <a:t>→3π</a:t>
            </a:r>
            <a:r>
              <a:rPr b="1" lang="ja-JP" sz="1600" spc="-1" strike="noStrike" baseline="30000">
                <a:solidFill>
                  <a:srgbClr val="0099ff"/>
                </a:solidFill>
                <a:latin typeface="Times New Roman"/>
              </a:rPr>
              <a:t>0</a:t>
            </a:r>
            <a:r>
              <a:rPr b="1" lang="ja-JP" sz="1600" spc="-1" strike="noStrike">
                <a:solidFill>
                  <a:srgbClr val="0099ff"/>
                </a:solidFill>
                <a:latin typeface="Times New Roman"/>
              </a:rPr>
              <a:t> improved by 16 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32720" y="3500280"/>
            <a:ext cx="2222280" cy="2233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093080" y="5734080"/>
            <a:ext cx="1104840" cy="99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76720" y="4005360"/>
            <a:ext cx="33112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Timing simul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like energy is required for setting a tight time window, and then  the acceptance loss by veto can be surely estim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Times New Roman"/>
              </a:rPr>
              <a:t>Time0 calibration, light propagation, time walk corrections, etc over whole runs, which will be implemented in MC, are under go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519280" cy="2419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808360" cy="25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95640" y="4797360"/>
            <a:ext cx="2192400" cy="131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2176200" cy="182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8680" y="2708280"/>
            <a:ext cx="423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65246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γEnergy (G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1989000"/>
            <a:ext cx="4608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/o accid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accid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Times New Roman"/>
              </a:rPr>
              <a:t>Large masking effect disappeared in Run-2 with shorter pulse 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Times New Roman"/>
              </a:rPr>
              <a:t>We changed BA in the period between Run-2 and Run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2637000"/>
            <a:ext cx="2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1125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62120" y="1371600"/>
          <a:ext cx="792468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92468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cted sensi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569916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609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day        1-week        Run-I         Run-II      Run-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-1027080" y="2855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Event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-N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2421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2133720"/>
            <a:ext cx="23050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KTeV Li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Current Exp. Lim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my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391a could not take data for the 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decay without  the big support from this KAKENHI fund.  Thanks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ree runs, almost up to the day of the KEK-PS shutdown, were successfully performed, and we redundantly improved the setup in every step, with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hat we have learned in E391a would be very valuable in the next experiment at J-Pa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e exceeded the previous limit by a factor of two through a pilot analysis using a few % sample.  It will be soon pu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 full data analysis will finish in one and half years, and we hope our final sensitivity to exceed the GN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re thanks for the great suppo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is fun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ehalf of E391a collabo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14712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High Energy Accelerator Research Organization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KEK, Jap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oint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nstitute for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uclear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esearch (Dubna)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Department of Physics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Kyoto University,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ational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efense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cademy of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apan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Department of Physics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National Taiwan University, 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Department of Physics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Osaka University,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Department of Physics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Pusan National University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esearch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enter for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uclear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hysics, Osaka University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Faculty of Science and Engineering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Saga University,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Department of Physics, </a:t>
            </a:r>
            <a:r>
              <a:rPr b="1" i="1" lang="ja-JP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University of Chicago,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cc"/>
                </a:solidFill>
                <a:latin typeface="Times New Roman"/>
              </a:rPr>
              <a:t>Department of Physics, </a:t>
            </a:r>
            <a:r>
              <a:rPr b="1" lang="ja-JP" sz="1800" spc="-1" strike="noStrike">
                <a:solidFill>
                  <a:srgbClr val="3333cc"/>
                </a:solidFill>
                <a:latin typeface="Times New Roman"/>
              </a:rPr>
              <a:t>Yamagata University,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924680" cy="5224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464832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48640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rmalization of K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pi0, 2pi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nce w/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2pi0/N3pi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.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5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L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24360" y="1197000"/>
          <a:ext cx="5111640" cy="2104920"/>
        </p:xfrm>
        <a:graphic>
          <a:graphicData uri="http://schemas.openxmlformats.org/drawingml/2006/table">
            <a:tbl>
              <a:tblPr/>
              <a:tblGrid>
                <a:gridCol w="2309760"/>
                <a:gridCol w="1412640"/>
                <a:gridCol w="138924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i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pi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nstru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3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9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99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l dec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9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44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3798720"/>
            <a:ext cx="3095640" cy="2884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3024000" cy="2803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50520" y="5157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pi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06520" y="522936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i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count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5975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(Hz) = ( hit_count / random_trigger ) / time_window</a:t>
            </a:r>
            <a:br>
              <a:rPr sz="1400"/>
            </a:b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andom_trigger : TMON on spill,   time_window    : 100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un 2                                   Run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cc"/>
                </a:solidFill>
                <a:latin typeface="Times New Roman"/>
              </a:rPr>
              <a:t>For calorimeter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&gt;1 MeV           &gt;10 MeV        &gt;1 MeV             &gt;10 MeV          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FB             13,990.1          5,697.6         11,742.6           4,592.0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MB inner     9,137.0          1,594.2         22,490.8           3,407.7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MB outer   10,966.9          1,857.4         26,256.0           3,262.5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sI              1,995.1             553.9           9,016.4           3,005.5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KTeV CsI    7,145.0           2,613.2         27,831.4        10,792.9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Sand              119.3                 9.2               279.3               22.3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C02          9,094.2           3,610.7         12,480.0           7,731.6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C03          9,574.6           3,206.8         19,228.4         17,608.3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C04        20,792.4         10,345.7         76,466.5         43,797.3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C05        32,068.3         12,405.1         69,930.5         39,149.4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C06        69,962.9         16,129.0       132,296.9         52,042.8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C07      245,892.0         40,076.3       451,782.7       170,061.0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BA q     1,261,800.6    1,207,636.4    2,942,922.8    2,977,089.0</a:t>
            </a:r>
            <a:br>
              <a:rPr sz="1200"/>
            </a:br>
            <a:r>
              <a:rPr b="0" lang="ja-JP" sz="1200" spc="-1" strike="noStrike">
                <a:solidFill>
                  <a:srgbClr val="3333cc"/>
                </a:solidFill>
                <a:latin typeface="Times New Roman"/>
              </a:rPr>
              <a:t>For charged veto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&gt;0.1 MeV           &gt;1 MeV        &gt;0.1 MeV             &gt;1 MeV          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BCV             7,940.6           2,273.5          8,346.1            6,748.4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Outer CV     3,528.1           1,551.4         10,692.4            4,837.8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Inner CV      9,712.3           3,216.0         59,550.9          22,759.0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C04 s        9,479.7           7,839.6         39,406.4          35,697.0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CC05 s      14,403.2         10,058.1         29,663.7          23,596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A s      3,728,814.5    1,790,793.9    6,066,799.5     3,029,623.5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&gt;0.01 MeV         &gt;0.1 MeV      &gt;0.01 MeV         &gt;0.1 MeV          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BHCV           6,897.1          2,142.0        214,785.6          30,568.7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4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391a : Search for 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 theoretically clea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etermine CKM parameter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ensitive to the new physics due to FC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 first dedicate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tep-by-step approach for a precise measurement at J-Pa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ata tak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un-I : Feb. – July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un-II : Feb. – April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un-III : Oct. – Dec.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17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ur method to detect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28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93080" y="62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3789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long the beam ax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important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encil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to determine Zvtx and P</a:t>
            </a:r>
            <a:r>
              <a:rPr b="0" lang="ja-JP" sz="2000" spc="-1" strike="noStrike" baseline="-25000">
                <a:solidFill>
                  <a:srgbClr val="3333cc"/>
                </a:solidFill>
                <a:latin typeface="Times New Roman"/>
              </a:rPr>
              <a:t>T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π coverage with thick calori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to make a tight veto of additional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gh vacu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to reduce background from beam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alibration in s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to cancel the effects of various outer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458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chniques were established 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00400" cy="475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cil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2920" y="1341000"/>
            <a:ext cx="4249800" cy="476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4 πcoverage with thick calori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187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1967040" cy="185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00360" y="4292640"/>
            <a:ext cx="172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Five orders halo reduction by six collimat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43640" y="1773360"/>
            <a:ext cx="2232000" cy="165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16360" y="1916280"/>
            <a:ext cx="1657440" cy="122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573408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NIM A 545 (2005) 542, NI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41767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imes New Roman"/>
              </a:rPr>
              <a:t>CsI stacking with gap &lt;0.1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imes New Roman"/>
              </a:rPr>
              <a:t>New MS-resin extrusion scintillator, New EGP P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imes New Roman"/>
              </a:rPr>
              <a:t>Several know-how to fabricate large calorimeters with WLSF readout: machining, gluing, reflector, stacking, etc. Two large calorimeters, FB and MB were assembled with &lt;0.1 and &lt;1mm.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5373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3300"/>
                </a:solidFill>
                <a:latin typeface="Times New Roman"/>
              </a:rPr>
              <a:t>CsI: NIM A 545 (2005) 278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3300"/>
                </a:solidFill>
                <a:latin typeface="Times New Roman"/>
              </a:rPr>
              <a:t>EGP-PMT: NIM A 522 (2004) 477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3300"/>
                </a:solidFill>
                <a:latin typeface="Times New Roman"/>
              </a:rPr>
              <a:t>FB and MB and  MS scintillaor will be soon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chniques were established 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0400" cy="482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2920" y="1268280"/>
            <a:ext cx="4249800" cy="4835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ibration in si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1773360"/>
            <a:ext cx="1773360" cy="180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92720" y="3860640"/>
            <a:ext cx="3457440" cy="158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88000" y="1989000"/>
            <a:ext cx="20890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nergy and timing responses of all detector were calibrated by using cosmic and punch-through μ in sit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he accuracies were a few % in energy and &lt;1 ns in ti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5661000"/>
            <a:ext cx="24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To be published soon in NIM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566100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NIM A 545 (2005) 27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2087640" cy="1656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2060640"/>
            <a:ext cx="2016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Vacuum region was divided into two regions by a thin membrane, and they were differentially pump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ached 1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-5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Pa with a thin dead material of 20 mg/cm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in front of the 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qu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12:14:51Z</dcterms:created>
  <dc:creator>GeiYoub　LIM</dc:creator>
  <dc:description/>
  <dc:language>en-US</dc:language>
  <cp:lastModifiedBy>Takao Inagaki</cp:lastModifiedBy>
  <dcterms:modified xsi:type="dcterms:W3CDTF">2006-03-03T08:51:37Z</dcterms:modified>
  <cp:revision>27</cp:revision>
  <dc:subject/>
  <dc:title>Status of E391a</dc:title>
</cp:coreProperties>
</file>