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marL="599040" indent="-4057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8000" indent="-4060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6960" indent="-4057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67800" indent="-4060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86760" indent="-4060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86760" indent="-4060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86760" indent="-4060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marL="579960" indent="-3924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8480" indent="-3927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000" indent="-3924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7040" indent="-3927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25920" indent="-3927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25920" indent="-3927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25920" indent="-3927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5880" y="533520"/>
            <a:ext cx="8178840" cy="2921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8512"/>
                </a:solidFill>
                <a:latin typeface="Gill Sans"/>
              </a:rPr>
              <a:t>A06: Theory</a:t>
            </a:r>
            <a:br>
              <a:rPr sz="4800"/>
            </a:br>
            <a:r>
              <a:rPr b="0" lang="en-US" sz="4800" spc="-1" strike="noStrike">
                <a:solidFill>
                  <a:srgbClr val="ff0211"/>
                </a:solidFill>
                <a:latin typeface="Gill Sans"/>
              </a:rPr>
              <a:t>Heavy quark physics </a:t>
            </a:r>
            <a:br>
              <a:rPr sz="4800"/>
            </a:br>
            <a:r>
              <a:rPr b="0" lang="en-US" sz="4800" spc="-1" strike="noStrike">
                <a:solidFill>
                  <a:srgbClr val="ff0211"/>
                </a:solidFill>
                <a:latin typeface="Gill Sans"/>
              </a:rPr>
              <a:t>from </a:t>
            </a:r>
            <a:br>
              <a:rPr sz="4800"/>
            </a:br>
            <a:r>
              <a:rPr b="0" lang="en-US" sz="4800" spc="-1" strike="noStrike">
                <a:solidFill>
                  <a:srgbClr val="ff0211"/>
                </a:solidFill>
                <a:latin typeface="Gill Sans"/>
              </a:rPr>
              <a:t>lattice QCD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1460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5ff"/>
                </a:solidFill>
                <a:latin typeface="Gill Sans"/>
              </a:rPr>
              <a:t>Sinya AOK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5ff"/>
                </a:solidFill>
                <a:latin typeface="Gill Sans"/>
              </a:rPr>
              <a:t>Graduate School of Pure and Applied Scie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5ff"/>
                </a:solidFill>
                <a:latin typeface="Gill Sans"/>
              </a:rPr>
              <a:t>University of Tsukub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878760" y="5768280"/>
            <a:ext cx="8861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8e2c"/>
                </a:solidFill>
                <a:latin typeface="Gill Sans"/>
                <a:ea typeface="Gill Sans"/>
              </a:rPr>
              <a:t>Fourth Workshop on Mass Origin and Supersymmetry Physic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8e2c"/>
                </a:solidFill>
                <a:latin typeface="Gill Sans"/>
                <a:ea typeface="Gill Sans"/>
              </a:rPr>
              <a:t>March 6-8, 2006, Tsukuba, Japa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12240"/>
            <a:ext cx="8178840" cy="698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f0c"/>
                </a:solidFill>
                <a:latin typeface="Gill Sans"/>
              </a:rPr>
              <a:t>Conclusions and Discuss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36200" y="1104840"/>
            <a:ext cx="8178840" cy="558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-414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udied new proposal for bottom as well as charm quar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12000" indent="-414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ethod works for charm qua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12000" indent="-414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906"/>
                </a:solidFill>
                <a:latin typeface="Gill Sans"/>
              </a:rPr>
              <a:t>decay constant of charm-strange meson has been obtained in the continuum limit of full QC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12000" indent="-414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906"/>
                </a:solidFill>
                <a:latin typeface="Gill Sans"/>
              </a:rPr>
              <a:t>new method also works for bottom qua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37800" indent="-41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906"/>
                </a:solidFill>
                <a:latin typeface="Gill Sans"/>
              </a:rPr>
              <a:t>better than old one in heavy-heavy mes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37800" indent="-41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906"/>
                </a:solidFill>
                <a:latin typeface="Gill Sans"/>
              </a:rPr>
              <a:t>as good as old one in heavy-light mes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12000" indent="-414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fc"/>
                </a:solidFill>
                <a:latin typeface="Gill Sans"/>
              </a:rPr>
              <a:t>Future works: continuum limit of b quark physic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37800" indent="-41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fc"/>
                </a:solidFill>
                <a:latin typeface="Gill Sans"/>
              </a:rPr>
              <a:t>meson masses and decay constants, quark m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37800" indent="-41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fc"/>
                </a:solidFill>
                <a:latin typeface="Gill Sans"/>
              </a:rPr>
              <a:t>full QCD(N</a:t>
            </a:r>
            <a:r>
              <a:rPr b="0" lang="en-US" sz="2400" spc="-1" strike="noStrike" baseline="-6000">
                <a:solidFill>
                  <a:srgbClr val="0c20fc"/>
                </a:solidFill>
                <a:latin typeface="Gill Sans"/>
              </a:rPr>
              <a:t>F </a:t>
            </a:r>
            <a:r>
              <a:rPr b="0" lang="en-US" sz="2400" spc="-1" strike="noStrike">
                <a:solidFill>
                  <a:srgbClr val="0c20fc"/>
                </a:solidFill>
                <a:latin typeface="Gill Sans"/>
              </a:rPr>
              <a:t>=2 and 2+1) as well as quenched QC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127080"/>
            <a:ext cx="8178840" cy="622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906"/>
                </a:solidFill>
                <a:latin typeface="Gill San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-73800" y="972720"/>
            <a:ext cx="686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8ff"/>
                </a:solidFill>
                <a:latin typeface="Gill Sans"/>
                <a:ea typeface="Gill Sans"/>
              </a:rPr>
              <a:t>Determination of CKM matrix from experim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06800" y="1549440"/>
            <a:ext cx="497016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71600" y="2565360"/>
            <a:ext cx="7272360" cy="1816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7531200" y="3378240"/>
            <a:ext cx="2271600" cy="2030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6400" y="5163480"/>
            <a:ext cx="909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heoretical (non-perturbative) estimates are required for the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254160" y="2844720"/>
            <a:ext cx="838080" cy="825480"/>
          </a:xfrm>
          <a:prstGeom prst="ellipse">
            <a:avLst/>
          </a:prstGeom>
          <a:noFill/>
          <a:ln w="25560">
            <a:solidFill>
              <a:srgbClr val="062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 rot="3751200">
            <a:off x="501120" y="4075200"/>
            <a:ext cx="1270080" cy="672840"/>
          </a:xfrm>
          <a:prstGeom prst="rightArrow">
            <a:avLst>
              <a:gd name="adj1" fmla="val 32000"/>
              <a:gd name="adj2" fmla="val 83056"/>
            </a:avLst>
          </a:prstGeom>
          <a:solidFill>
            <a:srgbClr val="0315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1816200" y="5981760"/>
            <a:ext cx="1104840" cy="635040"/>
          </a:xfrm>
          <a:prstGeom prst="rightArrow">
            <a:avLst>
              <a:gd name="adj1" fmla="val 32000"/>
              <a:gd name="adj2" fmla="val 76551"/>
            </a:avLst>
          </a:prstGeom>
          <a:solidFill>
            <a:srgbClr val="ff03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3745440" y="6116040"/>
            <a:ext cx="184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12"/>
                </a:solidFill>
                <a:latin typeface="Gill Sans"/>
                <a:ea typeface="Gill Sans"/>
              </a:rPr>
              <a:t>Lattice QCD 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3479760" y="5931000"/>
            <a:ext cx="2476440" cy="736560"/>
          </a:xfrm>
          <a:prstGeom prst="roundRect">
            <a:avLst>
              <a:gd name="adj" fmla="val 25861"/>
            </a:avLst>
          </a:prstGeom>
          <a:noFill/>
          <a:ln w="25560">
            <a:solidFill>
              <a:srgbClr val="ff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" y="235800"/>
            <a:ext cx="49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1ff"/>
                </a:solidFill>
                <a:latin typeface="Gill Sans"/>
                <a:ea typeface="Gill Sans"/>
              </a:rPr>
              <a:t>Problem of lattice QCD for b qua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2120" y="888840"/>
            <a:ext cx="9156960" cy="266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43080" y="1359000"/>
            <a:ext cx="1104840" cy="507960"/>
          </a:xfrm>
          <a:prstGeom prst="rightArrow">
            <a:avLst>
              <a:gd name="adj1" fmla="val 32000"/>
              <a:gd name="adj2" fmla="val 95702"/>
            </a:avLst>
          </a:prstGeom>
          <a:solidFill>
            <a:srgbClr val="fff8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803240" y="1434960"/>
            <a:ext cx="1778040" cy="355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860640" y="1359000"/>
            <a:ext cx="1105200" cy="507960"/>
          </a:xfrm>
          <a:prstGeom prst="rightArrow">
            <a:avLst>
              <a:gd name="adj1" fmla="val 32000"/>
              <a:gd name="adj2" fmla="val 95733"/>
            </a:avLst>
          </a:prstGeom>
          <a:solidFill>
            <a:srgbClr val="ff030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5533920" y="1422360"/>
            <a:ext cx="2913120" cy="380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98640" y="2052000"/>
            <a:ext cx="215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6ff"/>
                </a:solidFill>
                <a:latin typeface="Gill Sans"/>
                <a:ea typeface="Gill Sans"/>
              </a:rPr>
              <a:t>Methods so fa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446040" y="2476440"/>
            <a:ext cx="8720280" cy="1244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-70920" y="3982320"/>
            <a:ext cx="3349080" cy="366120"/>
          </a:xfrm>
          <a:prstGeom prst="rect">
            <a:avLst/>
          </a:prstGeom>
          <a:noFill/>
          <a:ln w="9360">
            <a:solidFill>
              <a:srgbClr val="052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6ff"/>
                </a:solidFill>
                <a:latin typeface="Gill Sans"/>
                <a:ea typeface="Gill Sans"/>
              </a:rPr>
              <a:t>Research in this pro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336600" y="4572000"/>
            <a:ext cx="8939160" cy="2755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966840" y="4917240"/>
            <a:ext cx="284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uramashi-Tominag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7599240" y="5133240"/>
            <a:ext cx="255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ayaba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>
            <a:off x="4703400" y="5945760"/>
            <a:ext cx="255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ayaba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7599240" y="6453720"/>
            <a:ext cx="255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ayaba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7183800" y="701280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885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f09"/>
                </a:solidFill>
                <a:latin typeface="Gill Sans"/>
              </a:rPr>
              <a:t>On-shell improvement program </a:t>
            </a:r>
            <a:br>
              <a:rPr sz="3600"/>
            </a:br>
            <a:r>
              <a:rPr b="0" lang="en-US" sz="3600" spc="-1" strike="noStrike">
                <a:solidFill>
                  <a:srgbClr val="ff0f09"/>
                </a:solidFill>
                <a:latin typeface="Gill Sans"/>
              </a:rPr>
              <a:t>for massive quar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7395840" y="1361160"/>
            <a:ext cx="284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uramashi-Tominag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35080" y="4687920"/>
            <a:ext cx="9677160" cy="1608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930480" y="6870600"/>
            <a:ext cx="366840" cy="2286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935760" y="6858000"/>
            <a:ext cx="1455840" cy="241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743880" y="6730920"/>
            <a:ext cx="1854000" cy="4953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256160" y="5653800"/>
            <a:ext cx="255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ayaba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3835440" y="6730920"/>
            <a:ext cx="558720" cy="4953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280040" y="6286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6222960" y="6273720"/>
            <a:ext cx="520920" cy="57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393840" y="4290840"/>
            <a:ext cx="1168200" cy="204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8600" y="4229280"/>
            <a:ext cx="1498680" cy="33012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303120" y="1387440"/>
            <a:ext cx="7315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52280" y="1041480"/>
            <a:ext cx="7226280" cy="4584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086280" y="165240"/>
            <a:ext cx="3695400" cy="507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6862680" y="571680"/>
            <a:ext cx="3240000" cy="2664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912560" y="5450400"/>
            <a:ext cx="154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906"/>
                </a:solidFill>
                <a:latin typeface="Gill Sans"/>
                <a:ea typeface="Gill Sans"/>
              </a:rPr>
              <a:t>lattice spac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550440" y="5450400"/>
            <a:ext cx="170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906"/>
                </a:solidFill>
                <a:latin typeface="Gill Sans"/>
                <a:ea typeface="Gill Sans"/>
              </a:rPr>
              <a:t>continuum lim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1549440" y="5283360"/>
            <a:ext cx="635040" cy="12600"/>
          </a:xfrm>
          <a:prstGeom prst="line">
            <a:avLst/>
          </a:prstGeom>
          <a:ln w="38160">
            <a:solidFill>
              <a:srgbClr val="ff090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6566040" y="1816200"/>
            <a:ext cx="927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>
            <a:off x="6566040" y="2793960"/>
            <a:ext cx="927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>
            <a:off x="6566040" y="3543480"/>
            <a:ext cx="927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7732800" y="1712880"/>
            <a:ext cx="2209680" cy="2174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7569360" y="2679840"/>
            <a:ext cx="2525400" cy="241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7597800" y="3438360"/>
            <a:ext cx="2489040" cy="233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tretch/>
        </p:blipFill>
        <p:spPr>
          <a:xfrm>
            <a:off x="1655640" y="5972040"/>
            <a:ext cx="5640480" cy="1359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409760" y="5892840"/>
            <a:ext cx="6070680" cy="1511280"/>
          </a:xfrm>
          <a:prstGeom prst="roundRect">
            <a:avLst>
              <a:gd name="adj" fmla="val 12602"/>
            </a:avLst>
          </a:prstGeom>
          <a:noFill/>
          <a:ln w="25560">
            <a:solidFill>
              <a:srgbClr val="062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605720" y="6507360"/>
            <a:ext cx="255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ayaba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CP-PAC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7113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20f"/>
                </a:solidFill>
                <a:latin typeface="Gill Sans"/>
              </a:rPr>
              <a:t>b quark in our method (quenched QCD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8021880" y="89136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1eff"/>
                </a:solidFill>
                <a:latin typeface="Gill Sans"/>
                <a:ea typeface="Gill Sans"/>
              </a:rPr>
              <a:t>Aoki-Kuramash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05280" y="3162240"/>
            <a:ext cx="5621400" cy="4254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14480" y="2670120"/>
            <a:ext cx="5105160" cy="297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606600" y="3524400"/>
            <a:ext cx="2120760" cy="6332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609480" y="5553000"/>
            <a:ext cx="2502000" cy="2714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 rot="5400000">
            <a:off x="1339920" y="4413240"/>
            <a:ext cx="1054080" cy="609840"/>
          </a:xfrm>
          <a:prstGeom prst="rightArrow">
            <a:avLst>
              <a:gd name="adj1" fmla="val 32000"/>
              <a:gd name="adj2" fmla="val 76052"/>
            </a:avLst>
          </a:prstGeom>
          <a:solidFill>
            <a:srgbClr val="ff030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1806480" y="6108840"/>
            <a:ext cx="1465200" cy="317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5645520" y="5767920"/>
            <a:ext cx="213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ffd"/>
                </a:solidFill>
                <a:latin typeface="Gill Sans"/>
                <a:ea typeface="Gill Sans"/>
              </a:rPr>
              <a:t>heavy-heavy mes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6"/>
          <a:stretch/>
        </p:blipFill>
        <p:spPr>
          <a:xfrm>
            <a:off x="347760" y="873000"/>
            <a:ext cx="7534080" cy="14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63000"/>
            <a:ext cx="8178840" cy="698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f0c"/>
                </a:solidFill>
                <a:latin typeface="Gill Sans"/>
              </a:rPr>
              <a:t>hyperfine splitting(heavy-heav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33440" y="1308240"/>
            <a:ext cx="7386480" cy="5181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999160" y="916920"/>
            <a:ext cx="692640" cy="274680"/>
          </a:xfrm>
          <a:prstGeom prst="rect">
            <a:avLst/>
          </a:prstGeom>
          <a:noFill/>
          <a:ln w="9360">
            <a:solidFill>
              <a:srgbClr val="0e2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4003920" y="954720"/>
            <a:ext cx="1503360" cy="274680"/>
          </a:xfrm>
          <a:prstGeom prst="rect">
            <a:avLst/>
          </a:prstGeom>
          <a:noFill/>
          <a:ln w="9360">
            <a:solidFill>
              <a:srgbClr val="072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Pseudo Scala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568320" y="1282680"/>
            <a:ext cx="1260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4114440" y="1282680"/>
            <a:ext cx="1260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6654960" y="4724280"/>
            <a:ext cx="1028520" cy="0"/>
          </a:xfrm>
          <a:prstGeom prst="line">
            <a:avLst/>
          </a:prstGeom>
          <a:ln w="38160">
            <a:solidFill>
              <a:srgbClr val="ae58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7868160" y="4541400"/>
            <a:ext cx="50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5bff"/>
                </a:solidFill>
                <a:latin typeface="Gill Sans"/>
                <a:ea typeface="Gill Sans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4711680" y="4952880"/>
            <a:ext cx="1028880" cy="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732200" y="5254560"/>
            <a:ext cx="2611440" cy="254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379760" y="4254480"/>
            <a:ext cx="2846520" cy="2793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711680" y="4038480"/>
            <a:ext cx="1028880" cy="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407960" y="3251160"/>
            <a:ext cx="1005120" cy="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974880" y="2498760"/>
            <a:ext cx="2558880" cy="2667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321160" y="6426360"/>
            <a:ext cx="4610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alings are better in new method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best in new(non-perturbativ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5194440" y="6337440"/>
            <a:ext cx="4673520" cy="952200"/>
          </a:xfrm>
          <a:prstGeom prst="roundRect">
            <a:avLst>
              <a:gd name="adj" fmla="val 20000"/>
            </a:avLst>
          </a:prstGeom>
          <a:noFill/>
          <a:ln w="25560">
            <a:solidFill>
              <a:srgbClr val="ff09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1955880" y="6219720"/>
            <a:ext cx="1600200" cy="241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422280" y="914400"/>
            <a:ext cx="6397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63000"/>
            <a:ext cx="8178840" cy="698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f0c"/>
                </a:solidFill>
                <a:latin typeface="Gill Sans"/>
              </a:rPr>
              <a:t>decay constant (heavy-strange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50960" y="774720"/>
            <a:ext cx="7284960" cy="53211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149960" y="264168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350532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8325360" y="2484000"/>
            <a:ext cx="50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8325360" y="3334680"/>
            <a:ext cx="50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2819520"/>
            <a:ext cx="1028880" cy="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334960" y="3276720"/>
            <a:ext cx="788760" cy="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89040" y="482760"/>
            <a:ext cx="639720" cy="2286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2197080" y="5851440"/>
            <a:ext cx="1600200" cy="2415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5257800" y="2976480"/>
            <a:ext cx="2527200" cy="2174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1371600" y="3524400"/>
            <a:ext cx="3238560" cy="2394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708360" y="6352200"/>
            <a:ext cx="6460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New method is as good as old on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Continuum limit can be taken in new metho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3898800" y="6235560"/>
            <a:ext cx="5918400" cy="952560"/>
          </a:xfrm>
          <a:prstGeom prst="roundRect">
            <a:avLst>
              <a:gd name="adj" fmla="val 20000"/>
            </a:avLst>
          </a:prstGeom>
          <a:noFill/>
          <a:ln w="25560">
            <a:solidFill>
              <a:srgbClr val="ff09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12240"/>
            <a:ext cx="8178840" cy="698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f0c"/>
                </a:solidFill>
                <a:latin typeface="Gill Sans"/>
              </a:rPr>
              <a:t>b quark mas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573120" y="1206360"/>
            <a:ext cx="6929280" cy="52070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-230040" y="769320"/>
            <a:ext cx="771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quark masses can NOT be measured experimentally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4760" y="1587600"/>
            <a:ext cx="639720" cy="2286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1611360" y="6118200"/>
            <a:ext cx="1601640" cy="241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5397480" y="3301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1384200" y="449568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735320" y="3753720"/>
            <a:ext cx="203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c"/>
                </a:solidFill>
                <a:latin typeface="Gill Sans"/>
                <a:ea typeface="Gill Sans"/>
              </a:rPr>
              <a:t>New, from H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642440" y="5214240"/>
            <a:ext cx="19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c"/>
                </a:solidFill>
                <a:latin typeface="Gill Sans"/>
                <a:ea typeface="Gill Sans"/>
              </a:rPr>
              <a:t>New, from H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6146640" y="3924360"/>
            <a:ext cx="1524240" cy="1260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6146640" y="5384880"/>
            <a:ext cx="1524240" cy="12600"/>
          </a:xfrm>
          <a:prstGeom prst="line">
            <a:avLst/>
          </a:prstGeom>
          <a:ln w="38160">
            <a:solidFill>
              <a:srgbClr val="ff081a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7753320" y="3213000"/>
            <a:ext cx="1293840" cy="2034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1371600" y="4041720"/>
            <a:ext cx="1625760" cy="2462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266640" y="6580800"/>
            <a:ext cx="6928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aling is better in heavy-heavy c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H and HL seem to agree in the continuum lim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3530520" y="6464160"/>
            <a:ext cx="6388200" cy="952560"/>
          </a:xfrm>
          <a:prstGeom prst="roundRect">
            <a:avLst>
              <a:gd name="adj" fmla="val 20000"/>
            </a:avLst>
          </a:prstGeom>
          <a:noFill/>
          <a:ln w="25560">
            <a:solidFill>
              <a:srgbClr val="ff09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