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2E8-7FC3-4720-91EA-758DC174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169-1F4F-495D-B87D-CC5DCB3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853-02A8-4980-A5C4-2EDE6D08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4E0-0436-4D82-B71E-45C3713F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AF4-0774-4AD8-8893-C22E9F60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75C-BB75-4F07-87CB-DCEEDD3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B31-E278-4066-B61D-20DD0453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1BB-99E7-4297-BF1A-DA849A6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9BD-42BE-4E01-9E44-10F3BCE3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F9F-6467-487F-8725-403A1573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400-B307-4650-A5E2-D18643EA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A39-4E36-4F9E-86BD-3675630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97EE-1E86-4603-9873-B2221DB5F6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nal.gov/pub/today/archive_2005/today05-04-21.html" TargetMode="External"/><Relationship Id="rId2" Type="http://schemas.openxmlformats.org/officeDocument/2006/relationships/hyperlink" Target="http://www.kek.jp/newskek/2005/mayjun/topquark.html" TargetMode="External"/><Relationship Id="rId3" Type="http://schemas.openxmlformats.org/officeDocument/2006/relationships/hyperlink" Target="http://www.kek.jp/newskek/2005/mayjun/topquark.html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-cdfonline.fnal.gov/opshelp/stores/kumac/store_tot.eps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df.fnal.gov/~tomura/tmtjp_public/sensitivity_scan.eps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-cdf.fnal.gov/physics/exotic/r2a/20050218.zbbbar/zbbbar_massplot.eps" TargetMode="External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ff"/>
                </a:solidFill>
                <a:latin typeface="Arial"/>
              </a:rPr>
              <a:t>CDF</a:t>
            </a:r>
            <a:r>
              <a:rPr b="1" lang="ja-JP" sz="4400" spc="-1" strike="noStrike">
                <a:solidFill>
                  <a:srgbClr val="3333ff"/>
                </a:solidFill>
                <a:latin typeface="Arial"/>
              </a:rPr>
              <a:t>実験における</a:t>
            </a:r>
            <a:br>
              <a:rPr sz="4400"/>
            </a:br>
            <a:r>
              <a:rPr b="1" lang="ja-JP" sz="4400" spc="-1" strike="noStrike">
                <a:solidFill>
                  <a:srgbClr val="3333ff"/>
                </a:solidFill>
                <a:latin typeface="Arial"/>
              </a:rPr>
              <a:t>トップ・クォーク質量の測定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6720" y="5714640"/>
            <a:ext cx="480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物理学会・秋季大会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大阪市立大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 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dfii_logo" descr=""/>
          <p:cNvPicPr/>
          <p:nvPr/>
        </p:nvPicPr>
        <p:blipFill>
          <a:blip r:embed="rId1"/>
          <a:stretch/>
        </p:blipFill>
        <p:spPr>
          <a:xfrm>
            <a:off x="228600" y="21276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1676520"/>
            <a:ext cx="7467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佐藤構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 戸村友宣， 丸山和純， 金信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筑波大学数理物質研究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mor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ockefel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D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440" y="2590920"/>
            <a:ext cx="5160960" cy="28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CDF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Preliminary World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mplates_prd3" descr=""/>
          <p:cNvPicPr/>
          <p:nvPr/>
        </p:nvPicPr>
        <p:blipFill>
          <a:blip r:embed="rId1"/>
          <a:stretch/>
        </p:blipFill>
        <p:spPr>
          <a:xfrm>
            <a:off x="152280" y="2852640"/>
            <a:ext cx="4496040" cy="3319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op Mass Templ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703600"/>
            <a:ext cx="3048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gnal Template (1tagT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689040"/>
            <a:ext cx="4495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ff0066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 distribution shape is parameterized as a function of true top ma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using ttbar Monte Carlo samples with different top mass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2880" y="11426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istribution is also fit into a function, but NOT dependent of top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257800" y="2792520"/>
          <a:ext cx="3732120" cy="34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792520"/>
                    <a:ext cx="3732120" cy="34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410080" y="2743200"/>
            <a:ext cx="3657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kground Template (1tagT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5867280"/>
            <a:ext cx="190512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6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268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 of Fit to Data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57200"/>
            <a:ext cx="883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Likelihood fit looks for top mass that describes the data M</a:t>
            </a:r>
            <a:r>
              <a:rPr b="0" lang="en-US" sz="2400" spc="-1" strike="noStrike" baseline="-25000">
                <a:solidFill>
                  <a:srgbClr val="6600ff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distribution best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ackground fraction is constrained by estimation for tagged samp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ackground fraction is free in 0 tag s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58128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358128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66892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566892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358128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8200" y="4724280"/>
            <a:ext cx="7203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00"/>
                </a:solidFill>
                <a:latin typeface="Arial"/>
              </a:rPr>
              <a:t>1tag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33840" y="2925720"/>
            <a:ext cx="11775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tag (S+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06720" y="2924280"/>
            <a:ext cx="7203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00"/>
                </a:solidFill>
                <a:latin typeface="Arial"/>
              </a:rPr>
              <a:t>1ta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2280" y="4952880"/>
            <a:ext cx="59688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0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11760" y="2919240"/>
            <a:ext cx="11545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tag (S+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948280"/>
            <a:ext cx="81532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0 +2.9/-2.8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3.3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3040" y="5486400"/>
            <a:ext cx="18129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6461280"/>
            <a:ext cx="1495440" cy="144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6461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ff"/>
                </a:solidFill>
                <a:latin typeface="Arial"/>
              </a:rPr>
              <a:t>Jet Energy Scale (JES) Uncertainty = </a:t>
            </a:r>
            <a:r>
              <a:rPr b="1" lang="ja-JP" sz="2000" spc="-1" strike="noStrike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1" lang="ja-JP" sz="2000" spc="-1" strike="noStrike">
                <a:solidFill>
                  <a:srgbClr val="cc00ff"/>
                </a:solidFill>
                <a:latin typeface="Arial"/>
              </a:rPr>
              <a:t>3.0 GeV/</a:t>
            </a:r>
            <a:r>
              <a:rPr b="1" i="1" lang="ja-JP" sz="2000" spc="-1" strike="noStrike">
                <a:solidFill>
                  <a:srgbClr val="cc00ff"/>
                </a:solidFill>
                <a:latin typeface="Arial"/>
              </a:rPr>
              <a:t>c</a:t>
            </a:r>
            <a:r>
              <a:rPr b="1" lang="ja-JP" sz="2000" spc="-1" strike="noStrike" baseline="30000">
                <a:solidFill>
                  <a:srgbClr val="cc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roved Fit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04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ttbar" descr=""/>
          <p:cNvPicPr/>
          <p:nvPr/>
        </p:nvPicPr>
        <p:blipFill>
          <a:blip r:embed="rId1"/>
          <a:stretch/>
        </p:blipFill>
        <p:spPr>
          <a:xfrm>
            <a:off x="5778360" y="750960"/>
            <a:ext cx="2882880" cy="1635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365960" y="171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23200" y="1736640"/>
            <a:ext cx="136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5040" y="1104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9632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96320" y="172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180504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50120" y="96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50120" y="17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5880" y="21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59760" y="218916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75880" y="53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28480" y="1266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2360" y="18194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i="1" lang="en-US" sz="1800" spc="-1" strike="noStrike" baseline="30000">
                <a:solidFill>
                  <a:srgbClr val="3333cc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22720" y="797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547480" y="1249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01200" y="2036880"/>
            <a:ext cx="1378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05440" y="1965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05800" y="1438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223120" y="1638000"/>
            <a:ext cx="457200" cy="152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4040" y="1752480"/>
            <a:ext cx="457200" cy="3812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04040" y="1752480"/>
            <a:ext cx="7632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780160"/>
            <a:ext cx="81532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5 +2.7/-2.6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3.0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51520" y="6308640"/>
            <a:ext cx="1495440" cy="180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63086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00ff"/>
                </a:solidFill>
                <a:latin typeface="Arial"/>
              </a:rPr>
              <a:t>JES syst = </a:t>
            </a:r>
            <a:r>
              <a:rPr b="1" lang="ja-JP" sz="2000" spc="-1" strike="noStrike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1" lang="ja-JP" sz="2000" spc="-1" strike="noStrike">
                <a:solidFill>
                  <a:srgbClr val="cc00ff"/>
                </a:solidFill>
                <a:latin typeface="Arial"/>
              </a:rPr>
              <a:t>2.5 compared to </a:t>
            </a:r>
            <a:r>
              <a:rPr b="1" lang="ja-JP" sz="2000" spc="-1" strike="noStrike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1" lang="ja-JP" sz="2000" spc="-1" strike="noStrike">
                <a:solidFill>
                  <a:srgbClr val="cc00ff"/>
                </a:solidFill>
                <a:latin typeface="Arial"/>
              </a:rPr>
              <a:t>3.0 wo/ in situ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5029200"/>
            <a:ext cx="3848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World's Best Single Measurement!!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268" name=""/>
          <p:cNvSpPr/>
          <p:nvPr/>
        </p:nvSpPr>
        <p:spPr>
          <a:xfrm>
            <a:off x="148680" y="539424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Even better than Run I World A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68580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In-situ JES calibration w/ W</a:t>
            </a:r>
            <a:r>
              <a:rPr b="0" lang="ja-JP" sz="20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jj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nvariant mass in candidate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(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top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, W invariant mas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are parametrized a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functions of (true top mass, JE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kelihood fit is performed in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true top mass, JES) plane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2-D f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urrently only using SECVT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g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rther improvemen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hieved by optimizing b-ta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likelihoodcontour2d_-1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353040" cy="3124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106400" y="510552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480060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op mass 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uture Proje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5424480"/>
            <a:ext cx="12952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rrors_vs_intluminosity_mtop_conservative" descr=""/>
          <p:cNvPicPr/>
          <p:nvPr/>
        </p:nvPicPr>
        <p:blipFill>
          <a:blip r:embed="rId1"/>
          <a:stretch/>
        </p:blipFill>
        <p:spPr>
          <a:xfrm>
            <a:off x="4629240" y="990720"/>
            <a:ext cx="451476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V="1">
            <a:off x="6858000" y="3276720"/>
            <a:ext cx="0" cy="220824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534520" y="3428640"/>
            <a:ext cx="0" cy="211788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933960" y="5421240"/>
            <a:ext cx="99036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554688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Aimed for luminosity o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 Tevatron Run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tal uncertainty of 2-D fit measurement will achi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2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400" spc="-1" strike="noStrike" baseline="30000">
                <a:solidFill>
                  <a:srgbClr val="ff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 the end of CDF Run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00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Conservative projectio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suming only stat. and JES will impr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can improve other syst. uncertain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will optimize b-tagging condition for 2-D fit in the next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rrently it only uses SECVT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We will do bett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5029200" y="2133720"/>
            <a:ext cx="3809880" cy="4267080"/>
            <a:chOff x="5029200" y="2133720"/>
            <a:chExt cx="3809880" cy="426708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5029200" y="2133720"/>
              <a:ext cx="38098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5029200" y="2133720"/>
              <a:ext cx="380988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152280" y="0"/>
            <a:ext cx="9448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Run II Measur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5" name="summary" descr=""/>
          <p:cNvPicPr/>
          <p:nvPr/>
        </p:nvPicPr>
        <p:blipFill>
          <a:blip r:embed="rId2"/>
          <a:stretch/>
        </p:blipFill>
        <p:spPr>
          <a:xfrm>
            <a:off x="0" y="1190520"/>
            <a:ext cx="4724280" cy="5591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" y="3124080"/>
            <a:ext cx="426708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3716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Only best analysis from each decay mode, each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5720" y="822240"/>
            <a:ext cx="439776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DF Run II Top Mass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685800"/>
            <a:ext cx="4419360" cy="703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liminary World Average with CDF/D0, Run I/Run II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5181480"/>
            <a:ext cx="36576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Updated Electroweak Fi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62120" y="1577880"/>
            <a:ext cx="3581280" cy="3408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441960" cy="355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04920" y="4952880"/>
            <a:ext cx="853416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higgs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=91 +45/-32 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higgs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186 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(95% 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7440" y="838080"/>
            <a:ext cx="758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w/ Preliminary CDF + D0, Run I + Run II Combin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=172.7 </a:t>
            </a:r>
            <a:r>
              <a:rPr b="1" lang="ja-JP" sz="2400" spc="-1" strike="noStrike">
                <a:solidFill>
                  <a:srgbClr val="ff00ff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2.9 GeV/</a:t>
            </a:r>
            <a:r>
              <a:rPr b="1" i="1" lang="ja-JP" sz="24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ja-JP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6019920"/>
            <a:ext cx="8534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w/ Tevatron Run I average : 178.0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4.3 GeV/</a:t>
            </a:r>
            <a:r>
              <a:rPr b="0" i="1" lang="ja-JP" sz="20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higgs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=114 +69/-45 GeV/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, 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higgs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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260 GeV/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(95% 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1120" y="-7668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CDF L+Jets Template w/ JP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=173.0 +4.4/-4.3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(318 pb</a:t>
            </a:r>
            <a:r>
              <a:rPr b="0" lang="ja-JP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Template fit with in-situ JES calibr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best single measur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better than Run I World Avera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=173.5 +4.1/-4.0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(318 pb</a:t>
            </a:r>
            <a:r>
              <a:rPr b="0" lang="ja-JP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This analys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will achiev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9900ff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~ 2 GeV/</a:t>
            </a:r>
            <a:r>
              <a:rPr b="0" i="1" lang="ja-JP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1" i="1" lang="ja-JP" sz="24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the end of Run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Preliminary combin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f CDF and D0 (RunI + Run 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=172.7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Arial"/>
              </a:rPr>
              <a:t> 2.9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Run I World Average : 178.0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4.3 GeV/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000099"/>
                </a:solidFill>
                <a:latin typeface="Arial"/>
              </a:rPr>
              <a:t>higgs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=91 +45/-32 GeV/c</a:t>
            </a:r>
            <a:r>
              <a:rPr b="0" lang="ja-JP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, m</a:t>
            </a:r>
            <a:r>
              <a:rPr b="0" lang="ja-JP" sz="2400" spc="-1" strike="noStrike" baseline="-25000">
                <a:solidFill>
                  <a:srgbClr val="000099"/>
                </a:solidFill>
                <a:latin typeface="Arial"/>
              </a:rPr>
              <a:t>higgs</a:t>
            </a:r>
            <a:r>
              <a:rPr b="0" lang="ja-JP" sz="24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186 GeV/c</a:t>
            </a:r>
            <a:r>
              <a:rPr b="0" lang="ja-JP" sz="24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0" lang="ja-JP" sz="1600" spc="-1" strike="noStrike">
                <a:solidFill>
                  <a:srgbClr val="000099"/>
                </a:solidFill>
                <a:latin typeface="Arial"/>
              </a:rPr>
              <a:t>(95% CL)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iggs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60 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ing Run I World Ave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00ff"/>
                </a:solidFill>
                <a:latin typeface="Arial"/>
              </a:rPr>
              <a:t>Next Winter with </a:t>
            </a:r>
            <a:r>
              <a:rPr b="1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</a:t>
            </a:r>
            <a:r>
              <a:rPr b="1" lang="ja-JP" sz="2400" spc="-1" strike="noStrike">
                <a:solidFill>
                  <a:srgbClr val="9900ff"/>
                </a:solidFill>
                <a:latin typeface="Arial"/>
              </a:rPr>
              <a:t>1fb</a:t>
            </a:r>
            <a:r>
              <a:rPr b="1" lang="ja-JP" sz="2400" spc="-1" strike="noStrike" baseline="30000">
                <a:solidFill>
                  <a:srgbClr val="9900ff"/>
                </a:solidFill>
                <a:latin typeface="Arial"/>
              </a:rPr>
              <a:t>-1</a:t>
            </a:r>
            <a:r>
              <a:rPr b="0" lang="ja-JP" sz="2400" spc="-1" strike="noStrike" baseline="30000">
                <a:solidFill>
                  <a:srgbClr val="9900ff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9900ff"/>
                </a:solidFill>
                <a:latin typeface="Arial"/>
              </a:rPr>
              <a:t>dataset</a:t>
            </a:r>
            <a:r>
              <a:rPr b="0" lang="ja-JP" sz="2400" spc="-1" strike="noStrike" baseline="30000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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3 statisti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rovement of dominant uncertainties by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0 Run II Dilepton and All Hadronic channel from CDF/D0 Run II will be newly included in combined measurement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　　　 </a:t>
            </a:r>
            <a:r>
              <a:rPr b="0" lang="ja-JP" sz="28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8000"/>
                </a:solidFill>
                <a:latin typeface="Arial"/>
              </a:rPr>
              <a:t> We expect a good improvement in precision of measurement agai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s of Template Measur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981080"/>
          <a:ext cx="8128080" cy="32814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J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.7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6.0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5.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.9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4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.9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.9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.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.7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L+jets Template Grou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mplate Method measurement was repor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ermilab Today </a:t>
            </a:r>
            <a:r>
              <a:rPr b="0" lang="ja-JP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"CDF Tops the Top World Average“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April 21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EK News </a:t>
            </a:r>
            <a:r>
              <a:rPr b="0" lang="ja-JP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"</a:t>
            </a:r>
            <a:r>
              <a:rPr b="0" lang="ja-JP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質量起源の解明をめざして"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May 19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cdf_group_4-20" descr=""/>
          <p:cNvPicPr/>
          <p:nvPr/>
        </p:nvPicPr>
        <p:blipFill>
          <a:blip r:embed="rId4"/>
          <a:stretch/>
        </p:blipFill>
        <p:spPr>
          <a:xfrm>
            <a:off x="380880" y="1295280"/>
            <a:ext cx="6248520" cy="3718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784560" y="1930320"/>
            <a:ext cx="1651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tstitu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on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C Berkele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icag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IN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ermilab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is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sukuba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ockefell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vatron" descr=""/>
          <p:cNvPicPr/>
          <p:nvPr/>
        </p:nvPicPr>
        <p:blipFill>
          <a:blip r:embed="rId1"/>
          <a:srcRect l="2784" t="3125" r="35422" b="9324"/>
          <a:stretch/>
        </p:blipFill>
        <p:spPr>
          <a:xfrm>
            <a:off x="533520" y="6094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5400" y="4341960"/>
            <a:ext cx="89913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ja-JP" sz="2400" spc="-1" strike="noStrike">
                <a:solidFill>
                  <a:srgbClr val="993300"/>
                </a:solidFill>
                <a:latin typeface="Arial"/>
              </a:rPr>
              <a:t>p – p</a:t>
            </a:r>
            <a:r>
              <a:rPr b="1" lang="ja-JP" sz="2400" spc="-1" strike="noStrike">
                <a:solidFill>
                  <a:srgbClr val="993300"/>
                </a:solidFill>
                <a:latin typeface="Arial"/>
              </a:rPr>
              <a:t> collision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ja-JP" sz="2400" spc="-1" strike="noStrike">
                <a:solidFill>
                  <a:srgbClr val="993300"/>
                </a:solidFill>
                <a:latin typeface="Symbol"/>
                <a:ea typeface="Symbol"/>
              </a:rPr>
              <a:t></a:t>
            </a:r>
            <a:r>
              <a:rPr b="1" lang="ja-JP" sz="2400" spc="-1" strike="noStrike">
                <a:solidFill>
                  <a:srgbClr val="993300"/>
                </a:solidFill>
                <a:latin typeface="Arial"/>
              </a:rPr>
              <a:t>s = 1.96 TeV</a:t>
            </a:r>
            <a:r>
              <a:rPr b="0" lang="ja-JP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.8 TeV in Run 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ak luminosity record : 1.4x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evatron has already 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delivered </a:t>
            </a:r>
            <a:r>
              <a:rPr b="0" lang="ja-JP" sz="2400" spc="-1" strike="noStrike">
                <a:solidFill>
                  <a:srgbClr val="000099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1.2 fb</a:t>
            </a:r>
            <a:r>
              <a:rPr b="0" lang="ja-JP" sz="24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collisions in Run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33cc"/>
                </a:solidFill>
                <a:latin typeface="Arial"/>
              </a:rPr>
              <a:t>CDF has acquired ~1 fb</a:t>
            </a:r>
            <a:r>
              <a:rPr b="1" lang="ja-JP" sz="2400" spc="-1" strike="noStrike" baseline="30000">
                <a:solidFill>
                  <a:srgbClr val="ff33cc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alysis in this presentation uses 318 pb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Direct study on top quark is only possible at Tevatr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61920" y="4495680"/>
            <a:ext cx="2286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Tevatron Run II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store_to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762120"/>
            <a:ext cx="4495680" cy="347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36760" y="1219320"/>
            <a:ext cx="1613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II s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723920" y="1066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vent Sele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One isolated high P</a:t>
            </a:r>
            <a:r>
              <a:rPr b="0" lang="ja-JP" sz="2400" spc="-1" strike="noStrike" baseline="-25000">
                <a:solidFill>
                  <a:srgbClr val="ff0066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 lepton (e/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 : 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20 GeV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&lt;1.1, shower shape, matching between calorimeter cluster and tr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20 GeV, |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|&lt;1.0, matching between muon chamber hits and track, energy deposit in calori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Missing E</a:t>
            </a:r>
            <a:r>
              <a:rPr b="0" lang="ja-JP" sz="2000" spc="-1" strike="noStrike" baseline="-25000">
                <a:solidFill>
                  <a:srgbClr val="ff0066"/>
                </a:solidFill>
                <a:latin typeface="Arial"/>
              </a:rPr>
              <a:t>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gt; 20 GeV, to ensure there was a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in the fin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4 Je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constructed using JETCLU algorithm with cone size 0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8000"/>
                </a:solidFill>
                <a:latin typeface="Arial"/>
              </a:rPr>
              <a:t>Sample subdivi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by b-tagg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 and 2 tag channel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re than 3 jets wit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15 GeV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&lt;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4th jet with 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8 GeV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&lt;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 tag chan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 jets with E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&gt;21 GeV, |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|&lt;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5486400"/>
            <a:ext cx="8153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ja-JP" sz="2000" spc="-1" strike="noStrike">
                <a:solidFill>
                  <a:srgbClr val="008000"/>
                </a:solidFill>
                <a:latin typeface="Arial"/>
              </a:rPr>
              <a:t>only consider the leading 4 je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 products of ttbar decay, whe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jets are found in a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8000"/>
                </a:solidFill>
                <a:latin typeface="Arial"/>
              </a:rPr>
              <a:t>Two b-tagging algorithm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– SECVTX and Jet Prob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686800" cy="5937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Jet Probability Algorithm (1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Jet Probability Algorithm (2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936720"/>
            <a:ext cx="89154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Uncertainty on Jet Energy Measur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34240" cy="5580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Jet Energy Uncertainty Compared with Run I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timization of Jet Probabi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Jet Probability algorithm calculates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f the jet to originate from the primary vert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apply a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cut on the calculated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b-ta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We optimized the cut value for the best statistical sensitivity to top quark mass in a Monte Carlo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sensitivity_sca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096920"/>
            <a:ext cx="4724280" cy="4389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V="1">
            <a:off x="5153040" y="50292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5546880"/>
            <a:ext cx="35402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istical error minimum for top mass measurem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pected Number of Ev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number of events between data and expect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057400" y="2828880"/>
            <a:ext cx="6934320" cy="3079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2189400">
            <a:off x="11160" y="4201200"/>
            <a:ext cx="201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ja-JP" sz="1800" spc="-1" strike="noStrike" baseline="-25000">
                <a:solidFill>
                  <a:srgbClr val="008000"/>
                </a:solidFill>
                <a:latin typeface="Arial"/>
              </a:rPr>
              <a:t>top</a:t>
            </a: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 = 175 GeV/</a:t>
            </a:r>
            <a:r>
              <a:rPr b="1" i="1" lang="ja-JP" sz="18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ja-JP" sz="1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037000">
            <a:off x="-44280" y="5268960"/>
            <a:ext cx="214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1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 = 178 GeV/</a:t>
            </a:r>
            <a:r>
              <a:rPr b="1" i="1" lang="ja-JP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5029200"/>
            <a:ext cx="6705720" cy="3049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5376960"/>
            <a:ext cx="6705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4952880"/>
            <a:ext cx="380880" cy="228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00200" y="5486040"/>
            <a:ext cx="60948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raction of Correctly Reconstructed Ev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 ttbar MC events with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178 GeV/c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43000" y="1655640"/>
            <a:ext cx="7162920" cy="4821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9344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4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98240" y="2743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4040" y="2743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31720" y="518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36880" y="518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raction of Correctly Reconstructed Ev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33520" y="1563840"/>
            <a:ext cx="7638840" cy="521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279240" y="2901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4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31960" y="2935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22080" y="552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31960" y="552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6880" y="1190520"/>
            <a:ext cx="877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ttbar MC events with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178 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 Categorization with SECVTX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tion of Likeliho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df" descr=""/>
          <p:cNvPicPr/>
          <p:nvPr/>
        </p:nvPicPr>
        <p:blipFill>
          <a:blip r:embed="rId1"/>
          <a:stretch/>
        </p:blipFill>
        <p:spPr>
          <a:xfrm>
            <a:off x="0" y="1914480"/>
            <a:ext cx="4800600" cy="395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2280" y="167652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Multi-purpose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81560" y="2195640"/>
            <a:ext cx="47624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racking in magnetic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king coverage |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|&lt;~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gnetic field = 1.4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recision tracking with silic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layers of silicon det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M and Hadron Calori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E ~ 14%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(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E ~ 84%/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(H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uon cha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040" y="3863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ollider </a:t>
            </a:r>
            <a:r>
              <a:rPr b="1" lang="ja-JP" sz="4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etector at </a:t>
            </a:r>
            <a:r>
              <a:rPr b="1" lang="ja-JP" sz="4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ermilab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04920" y="1928880"/>
            <a:ext cx="8305560" cy="4700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 of Fit to Data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5335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Likelihood fit looks for top mass that describes the data M</a:t>
            </a:r>
            <a:r>
              <a:rPr b="0" lang="en-US" sz="2400" spc="-1" strike="noStrike" baseline="-25000">
                <a:solidFill>
                  <a:srgbClr val="6600ff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distribution best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ackground fraction is constrained by estimation for tagged samp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ackground fraction is free in 0 tag s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029200"/>
            <a:ext cx="18129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411480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411480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643104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643104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114800"/>
            <a:ext cx="182880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5920" y="5410080"/>
            <a:ext cx="75060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1ta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4840" y="3352680"/>
            <a:ext cx="12794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tag (S+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920" y="3352680"/>
            <a:ext cx="764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00"/>
                </a:solidFill>
                <a:latin typeface="Arial"/>
              </a:rPr>
              <a:t>1ta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8240" y="5638680"/>
            <a:ext cx="6242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1640" y="3276720"/>
            <a:ext cx="1241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tag (S+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easured Top Ma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185724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33520" y="6176880"/>
            <a:ext cx="81532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0 +2.9/-2.8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3.3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057640"/>
            <a:ext cx="28195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op mass </a:t>
            </a:r>
            <a:r>
              <a:rPr b="1" lang="ja-JP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9360" y="5715000"/>
            <a:ext cx="18129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775800" y="2481120"/>
            <a:ext cx="1828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-ln(L/L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876560" cy="40514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267080" y="990720"/>
            <a:ext cx="381024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akdown of Systemat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1447920"/>
            <a:ext cx="2286000" cy="440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Likelihood vs m</a:t>
            </a:r>
            <a:r>
              <a:rPr b="0" lang="ja-JP" sz="2000" spc="-1" strike="noStrike" baseline="-25000">
                <a:solidFill>
                  <a:srgbClr val="ffff00"/>
                </a:solidFill>
                <a:latin typeface="Arial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24280" y="2133720"/>
            <a:ext cx="35053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63120" y="533412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Jet Energy Scale (JES) is domin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ross Chec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tained statistical uncertainty is consistent with expectation from Monte Carlo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343400" cy="4314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267080" y="1019160"/>
            <a:ext cx="43434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roved Fitting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914400"/>
            <a:ext cx="80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Syst. Uncertainty = </a:t>
            </a:r>
            <a:r>
              <a:rPr b="0" lang="ja-JP" sz="2400" spc="-1" strike="noStrike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3.3 GeV/c</a:t>
            </a:r>
            <a:r>
              <a:rPr b="0" lang="ja-JP" sz="2400" spc="-1" strike="noStrike" baseline="30000">
                <a:solidFill>
                  <a:srgbClr val="cc00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 is dominated by JES uncertainty (</a:t>
            </a:r>
            <a:r>
              <a:rPr b="0" lang="ja-JP" sz="2400" spc="-1" strike="noStrike">
                <a:solidFill>
                  <a:srgbClr val="cc00ff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3.0 GeV/c</a:t>
            </a:r>
            <a:r>
              <a:rPr b="0" lang="ja-JP" sz="2400" spc="-1" strike="noStrike" baseline="30000">
                <a:solidFill>
                  <a:srgbClr val="cc00ff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st JES uncertainties are shared between light flavor and b-jets.  Only 0.6 GeV/c2 additional uncertainty on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due to b-jet specific systema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ikelihood fit with constraint on the dijet mass in candidate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tbar" descr=""/>
          <p:cNvPicPr/>
          <p:nvPr/>
        </p:nvPicPr>
        <p:blipFill>
          <a:blip r:embed="rId1"/>
          <a:stretch/>
        </p:blipFill>
        <p:spPr>
          <a:xfrm>
            <a:off x="1136520" y="3657600"/>
            <a:ext cx="3738600" cy="2614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125880" y="5108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0400" y="5181480"/>
            <a:ext cx="176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6360" y="4343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7960" y="4068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79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4120" y="5421240"/>
            <a:ext cx="17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952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9520" y="526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6240" y="617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24240" y="622620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624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68400" y="452592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3400" y="541008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27600" y="37735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5720" y="44956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7680" y="579132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2400" y="564372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2040" y="480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0040" y="4952880"/>
            <a:ext cx="27590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Use dijet invariant mass for in-situ JES calib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5241960" y="5181480"/>
            <a:ext cx="83808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241960" y="5638680"/>
            <a:ext cx="838080" cy="304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emplates with J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81400" y="251460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Hadronic W mas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87012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(M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, hadronic W invariant mass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re parametrized as </a:t>
            </a: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functions 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(true top mass, JES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952800" y="2895480"/>
            <a:ext cx="4048200" cy="3529080"/>
            <a:chOff x="3952800" y="2895480"/>
            <a:chExt cx="4048200" cy="35290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4105440" y="2895480"/>
              <a:ext cx="38955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952800" y="4824360"/>
              <a:ext cx="3812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16200000">
            <a:off x="7005600" y="4150440"/>
            <a:ext cx="285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 shifted by –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-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generic jet cali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610400" y="41144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2209680"/>
            <a:ext cx="35053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j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significantly as a function of J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-by-even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lso largely dependent on J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op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 is now parameterized as a function of true top mas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J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 of 2-D Fi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715000" cy="3752640"/>
          </a:xfrm>
          <a:prstGeom prst="rect">
            <a:avLst/>
          </a:prstGeom>
          <a:ln w="0">
            <a:noFill/>
          </a:ln>
        </p:spPr>
      </p:pic>
      <p:pic>
        <p:nvPicPr>
          <p:cNvPr id="413" name="likelihoodcontour2d_-1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353040" cy="3124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51520" y="6099120"/>
            <a:ext cx="1495440" cy="180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6099120"/>
            <a:ext cx="31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JES syst 2.5 compared to 3.1 wo/ in situ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62532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Likelihood fit looks for top mass, JES and background fraction that describes the data M</a:t>
            </a:r>
            <a:r>
              <a:rPr b="0" lang="en-US" sz="2400" spc="-1" strike="noStrike" baseline="-25000">
                <a:solidFill>
                  <a:srgbClr val="6600ff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and m</a:t>
            </a:r>
            <a:r>
              <a:rPr b="0" lang="en-US" sz="2400" spc="-1" strike="noStrike" baseline="-25000">
                <a:solidFill>
                  <a:srgbClr val="6600ff"/>
                </a:solidFill>
                <a:latin typeface="Arial"/>
              </a:rPr>
              <a:t>jj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distributions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49200" y="13716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40" y="1371600"/>
            <a:ext cx="21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op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distributio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7280" y="2590920"/>
            <a:ext cx="528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91160" y="2590920"/>
            <a:ext cx="63648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Arial"/>
              </a:rPr>
              <a:t>1ta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76560" y="4197240"/>
            <a:ext cx="627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Arial"/>
              </a:rPr>
              <a:t>1ta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34080" y="4197240"/>
            <a:ext cx="528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5565600"/>
            <a:ext cx="815364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5 +2.7/-2.6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3.0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6095880"/>
            <a:ext cx="3848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World's Best Single Measurement!!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5105520"/>
            <a:ext cx="81536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= 173.5 +3.7/-3.6 (stat+JES)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1.7 (syst)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66680" y="3124080"/>
            <a:ext cx="1828800" cy="301320"/>
            <a:chOff x="1066680" y="3124080"/>
            <a:chExt cx="1828800" cy="301320"/>
          </a:xfrm>
        </p:grpSpPr>
        <p:sp>
          <p:nvSpPr>
            <p:cNvPr id="427" name=""/>
            <p:cNvSpPr/>
            <p:nvPr/>
          </p:nvSpPr>
          <p:spPr>
            <a:xfrm>
              <a:off x="1447920" y="3170160"/>
              <a:ext cx="1295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3124080"/>
              <a:ext cx="1828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op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(GeV/c</a:t>
              </a:r>
              <a:r>
                <a:rPr b="1" lang="ja-JP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505320" y="3124080"/>
            <a:ext cx="1828800" cy="301320"/>
            <a:chOff x="3505320" y="3124080"/>
            <a:chExt cx="1828800" cy="301320"/>
          </a:xfrm>
        </p:grpSpPr>
        <p:sp>
          <p:nvSpPr>
            <p:cNvPr id="430" name=""/>
            <p:cNvSpPr/>
            <p:nvPr/>
          </p:nvSpPr>
          <p:spPr>
            <a:xfrm>
              <a:off x="3886560" y="3170160"/>
              <a:ext cx="1295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5320" y="3124080"/>
              <a:ext cx="1828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op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(GeV/c</a:t>
              </a:r>
              <a:r>
                <a:rPr b="1" lang="ja-JP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429000" y="4800600"/>
            <a:ext cx="1828800" cy="301320"/>
            <a:chOff x="3429000" y="4800600"/>
            <a:chExt cx="1828800" cy="301320"/>
          </a:xfrm>
        </p:grpSpPr>
        <p:sp>
          <p:nvSpPr>
            <p:cNvPr id="433" name=""/>
            <p:cNvSpPr/>
            <p:nvPr/>
          </p:nvSpPr>
          <p:spPr>
            <a:xfrm>
              <a:off x="3810240" y="4846680"/>
              <a:ext cx="1295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29000" y="4800600"/>
              <a:ext cx="1828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op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(GeV/c</a:t>
              </a:r>
              <a:r>
                <a:rPr b="1" lang="ja-JP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914400" y="4800600"/>
            <a:ext cx="1828800" cy="301320"/>
            <a:chOff x="914400" y="4800600"/>
            <a:chExt cx="1828800" cy="301320"/>
          </a:xfrm>
        </p:grpSpPr>
        <p:sp>
          <p:nvSpPr>
            <p:cNvPr id="436" name=""/>
            <p:cNvSpPr/>
            <p:nvPr/>
          </p:nvSpPr>
          <p:spPr>
            <a:xfrm>
              <a:off x="1295640" y="4846680"/>
              <a:ext cx="1295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14400" y="4800600"/>
              <a:ext cx="1828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ja-JP" sz="1200" spc="-1" strike="noStrike" baseline="-25000">
                  <a:solidFill>
                    <a:srgbClr val="000000"/>
                  </a:solidFill>
                  <a:latin typeface="Arial"/>
                </a:rPr>
                <a:t>top 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(GeV/c</a:t>
              </a:r>
              <a:r>
                <a:rPr b="1" lang="ja-JP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718680" y="4616280"/>
            <a:ext cx="195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Top mass (GeV/c</a:t>
            </a:r>
            <a:r>
              <a:rPr b="1" lang="ja-JP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680" y="6477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Even better than Run I World A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09120" y="2286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th only SECVT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uture Proje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42" name="errors_vs_intluminosity_mtop_conservative" descr=""/>
          <p:cNvPicPr/>
          <p:nvPr/>
        </p:nvPicPr>
        <p:blipFill>
          <a:blip r:embed="rId1"/>
          <a:stretch/>
        </p:blipFill>
        <p:spPr>
          <a:xfrm>
            <a:off x="4552920" y="1677960"/>
            <a:ext cx="4514760" cy="3441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flipV="1">
            <a:off x="6781680" y="3613320"/>
            <a:ext cx="0" cy="156672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458200" y="3738600"/>
            <a:ext cx="0" cy="150336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5880" y="52419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Aimed for luminosity of Tevatron Run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tal uncertainty of 2-D fit measurement will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 2 GeV/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ja-JP" sz="2800" spc="-1" strike="noStrike" baseline="30000">
                <a:solidFill>
                  <a:srgbClr val="ff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 the end of CDF Ru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Conservative</a:t>
            </a: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 projectio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uming only stat. and JES will impr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improve other syst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uncertain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will </a:t>
            </a: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optimize b-tagging condition for 2-D f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 Currently it only uses SECVT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We will do bette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5181480"/>
            <a:ext cx="12952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6781680" y="5181480"/>
            <a:ext cx="99072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Run II Measur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800600" y="1619280"/>
            <a:ext cx="4048200" cy="4933800"/>
          </a:xfrm>
          <a:prstGeom prst="rect">
            <a:avLst/>
          </a:prstGeom>
          <a:ln w="0">
            <a:noFill/>
          </a:ln>
        </p:spPr>
      </p:pic>
      <p:pic>
        <p:nvPicPr>
          <p:cNvPr id="451" name="summary" descr=""/>
          <p:cNvPicPr/>
          <p:nvPr/>
        </p:nvPicPr>
        <p:blipFill>
          <a:blip r:embed="rId2"/>
          <a:stretch/>
        </p:blipFill>
        <p:spPr>
          <a:xfrm>
            <a:off x="76320" y="1190520"/>
            <a:ext cx="4724280" cy="5591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80880" y="3124080"/>
            <a:ext cx="41148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un II Combined Top Ma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22600" y="838080"/>
            <a:ext cx="43898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rrel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ncorrelate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ex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ame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 due to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gd.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 due to frag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C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" y="1676520"/>
            <a:ext cx="3809880" cy="4800600"/>
            <a:chOff x="457200" y="1676520"/>
            <a:chExt cx="3809880" cy="480060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38098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 txBox="1"/>
            <p:nvPr/>
          </p:nvSpPr>
          <p:spPr>
            <a:xfrm>
              <a:off x="457200" y="1676520"/>
              <a:ext cx="3809880" cy="480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65040" y="99072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Only best analysis from each decay mode, each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5029200"/>
            <a:ext cx="38098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ew Preliminary World Averag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22240" y="5943600"/>
            <a:ext cx="5950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=172.7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1.7 (stat)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.4 (syst)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22860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lit into 2 to isolate “in situ” JES systematics from other 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1600" y="12952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rrel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9144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mbination of the best analysis from each decay mode, each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171880" y="1905120"/>
            <a:ext cx="6667200" cy="39146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371600" y="35812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358128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5743440"/>
            <a:ext cx="4800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Top Quark Mass - Introdu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57800" y="2147760"/>
            <a:ext cx="373392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Top is one of the least well studied elementary particl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vidence by CDF in 1994 / discovery by CDF/D0 in 19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Top mass is a fundamental parameter of the Standar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ss measurements of top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 constrain the Higgs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170320"/>
            <a:ext cx="3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radcorr" descr=""/>
          <p:cNvPicPr/>
          <p:nvPr/>
        </p:nvPicPr>
        <p:blipFill>
          <a:blip r:embed="rId2"/>
          <a:stretch/>
        </p:blipFill>
        <p:spPr>
          <a:xfrm>
            <a:off x="1295280" y="3643200"/>
            <a:ext cx="17528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radcorr2" descr=""/>
          <p:cNvPicPr/>
          <p:nvPr/>
        </p:nvPicPr>
        <p:blipFill>
          <a:blip r:embed="rId3"/>
          <a:stretch/>
        </p:blipFill>
        <p:spPr>
          <a:xfrm>
            <a:off x="3352680" y="3567240"/>
            <a:ext cx="1676520" cy="99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25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32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5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9720" y="3505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0840" y="43434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9600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24520" y="4572000"/>
            <a:ext cx="38977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99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Tevatron Run I averag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top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= 178.0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2.7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3.0 GeV/</a:t>
            </a:r>
            <a:r>
              <a:rPr b="0" i="1" lang="ja-JP" sz="20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higgs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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260 GeV/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(95% C.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638680"/>
            <a:ext cx="32641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top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EWSB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pecial role of t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0560" y="574344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 Run II go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5880" y="6048360"/>
            <a:ext cx="24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~ 2 GeV/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11560" y="6021360"/>
                <a:ext cx="21985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uture Improv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838080"/>
            <a:ext cx="49532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8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Arial"/>
              </a:rPr>
              <a:t>Syst. already dominates the uncertain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99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Basic improvement by 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1/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0" lang="ja-JP" sz="2800" spc="-1" strike="noStrike">
                <a:solidFill>
                  <a:srgbClr val="ff0066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 </a:t>
            </a:r>
            <a:r>
              <a:rPr b="0" lang="ja-JP" sz="2800" spc="-1" strike="noStrike">
                <a:solidFill>
                  <a:srgbClr val="ff0066"/>
                </a:solidFill>
                <a:latin typeface="Monotype Corsiva"/>
              </a:rPr>
              <a:t>L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1fb</a:t>
            </a:r>
            <a:r>
              <a:rPr b="0" lang="ja-JP" sz="2400" spc="-1" strike="noStrike" baseline="30000">
                <a:solidFill>
                  <a:srgbClr val="ff0066"/>
                </a:solidFill>
                <a:latin typeface="Arial"/>
              </a:rPr>
              <a:t>-1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in next Winter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 In-situ JES calibration is a powerful tool.  It can be introduced to other L+jets analy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0000"/>
                </a:solidFill>
                <a:latin typeface="Arial"/>
              </a:rPr>
              <a:t>Sig./Bkgd. Modeling </a:t>
            </a: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(ISR/FSR/Q</a:t>
            </a:r>
            <a:r>
              <a:rPr b="0" lang="ja-JP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 dependence etc.) </a:t>
            </a:r>
            <a:r>
              <a:rPr b="0" lang="ja-JP" sz="2400" spc="-1" strike="noStrike">
                <a:solidFill>
                  <a:srgbClr val="800000"/>
                </a:solidFill>
                <a:latin typeface="Arial"/>
              </a:rPr>
              <a:t>can be improved by using our own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D0 Run II Dilepton measurement is coming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Arial"/>
              </a:rPr>
              <a:t>Measurements in All Hadronic mode (CDF/D0) are under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447920"/>
          <a:ext cx="3276720" cy="4363920"/>
        </p:xfrm>
        <a:graphic>
          <a:graphicData uri="http://schemas.openxmlformats.org/drawingml/2006/table">
            <a:tbl>
              <a:tblPr/>
              <a:tblGrid>
                <a:gridCol w="2016000"/>
                <a:gridCol w="126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/c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.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kgd.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Inte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 Gen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y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457200" y="18558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0" y="990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Combined 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265284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2236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50292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3429000" y="3733920"/>
            <a:ext cx="53352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3429000" y="3276720"/>
            <a:ext cx="53352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504960" y="1981080"/>
            <a:ext cx="533160" cy="45720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581280" y="1981080"/>
            <a:ext cx="457200" cy="91440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54100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14479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Zbb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rigg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 SVT track + 2 10GeV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ffline Cut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==2 jets w/ 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20GeV, |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|&lt;1.5 (JetClu cone 0.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th jets are required to have secondary vertex t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j1,j2)&gt;3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3rd-j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10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zbbbar_massplot" descr="Fit to dijet mass - Et(3)&lt;10 G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447920"/>
            <a:ext cx="5029200" cy="48495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4710240" y="30492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op Quark Production and Deca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13320" y="28954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tbar" descr=""/>
          <p:cNvPicPr/>
          <p:nvPr/>
        </p:nvPicPr>
        <p:blipFill>
          <a:blip r:embed="rId1"/>
          <a:stretch/>
        </p:blipFill>
        <p:spPr>
          <a:xfrm>
            <a:off x="4979880" y="990720"/>
            <a:ext cx="3738600" cy="261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69240" y="244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43760" y="2514600"/>
            <a:ext cx="176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9360" y="1676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1320" y="1401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1320" y="259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67480" y="2754360"/>
            <a:ext cx="17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2880" y="137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2880" y="259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5960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67600" y="342900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59600" y="685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1760" y="185904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36760" y="274320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70960" y="11066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9080" y="182880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71040" y="31240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45760" y="297648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4540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8160" y="2104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2560" y="2104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25880" y="134460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Symbol"/>
                <a:ea typeface="Symbol"/>
              </a:rPr>
              <a:t>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3808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We use pair creation events (</a:t>
            </a:r>
            <a:r>
              <a:rPr b="0" lang="ja-JP" sz="2800" spc="-1" strike="noStrike">
                <a:solidFill>
                  <a:srgbClr val="ff00ff"/>
                </a:solidFill>
                <a:latin typeface="Symbol"/>
                <a:ea typeface="Symbol"/>
              </a:rPr>
              <a:t>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~6pb</a:t>
            </a:r>
            <a:r>
              <a:rPr b="0" lang="ja-JP" sz="2800" spc="-1" strike="noStrike" baseline="30000">
                <a:solidFill>
                  <a:srgbClr val="ff00ff"/>
                </a:solidFill>
                <a:latin typeface="Arial"/>
              </a:rPr>
              <a:t>-1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) to measure m</a:t>
            </a:r>
            <a:r>
              <a:rPr b="0" lang="ja-JP" sz="28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 decays bef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adro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0.4x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1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C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23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Br(t</a:t>
            </a:r>
            <a:r>
              <a:rPr b="0" lang="ja-JP" sz="28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Wb) </a:t>
            </a:r>
            <a:r>
              <a:rPr b="0" lang="ja-JP" sz="2800" spc="-1" strike="noStrike">
                <a:solidFill>
                  <a:srgbClr val="ff00ff"/>
                </a:solidFill>
                <a:latin typeface="Symbol"/>
                <a:ea typeface="Symbol"/>
              </a:rPr>
              <a:t>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 100%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960" y="47242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ep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040" y="519588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pton+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4600" y="524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58080" y="48020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15440" y="480060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but few signal.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wo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final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43160" y="525780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n final state. Manageable bkg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7080" y="56530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ll had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1876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8040" y="57150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arge 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5560" y="6105600"/>
            <a:ext cx="9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8760" y="6161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8040" y="61722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ID is challe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2720" y="42670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0400" y="43434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.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860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8088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2670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99172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7242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1814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6386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60958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5530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629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809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Final states 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measure top mass in l+jets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4800" y="1600200"/>
            <a:ext cx="152280" cy="152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77280" y="2743200"/>
            <a:ext cx="152280" cy="152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4560" y="287964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Symbol"/>
                <a:ea typeface="Symbol"/>
              </a:rPr>
              <a:t></a:t>
            </a: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low of Mass Measur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37816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59712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kg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42448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8120" y="3276720"/>
          <a:ext cx="22860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76720"/>
                    <a:ext cx="2286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rcRect l="0" t="10170" r="0" b="0"/>
          <a:stretch/>
        </p:blipFill>
        <p:spPr>
          <a:xfrm>
            <a:off x="3200400" y="527220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491160" y="3681360"/>
            <a:ext cx="2576520" cy="2276640"/>
          </a:xfrm>
          <a:prstGeom prst="rect">
            <a:avLst/>
          </a:prstGeom>
          <a:ln w="0">
            <a:noFill/>
          </a:ln>
        </p:spPr>
      </p:pic>
      <p:pic>
        <p:nvPicPr>
          <p:cNvPr id="139" name="templates_prd3" descr=""/>
          <p:cNvPicPr/>
          <p:nvPr/>
        </p:nvPicPr>
        <p:blipFill>
          <a:blip r:embed="rId5"/>
          <a:stretch/>
        </p:blipFill>
        <p:spPr>
          <a:xfrm>
            <a:off x="3200400" y="1701720"/>
            <a:ext cx="2238480" cy="1650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52680" y="1066680"/>
            <a:ext cx="192276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-by-event top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4106160" y="4113720"/>
            <a:ext cx="3718080" cy="398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ate F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ikelihood F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2530080"/>
            <a:ext cx="1676520" cy="304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054320"/>
            <a:ext cx="1600200" cy="60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5867280"/>
            <a:ext cx="182880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61280" y="4105800"/>
            <a:ext cx="3581280" cy="398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71120" y="4105800"/>
            <a:ext cx="3581280" cy="398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2606760"/>
            <a:ext cx="4572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4130640"/>
            <a:ext cx="4572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59436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916520"/>
            <a:ext cx="457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05560" y="1981080"/>
            <a:ext cx="2452680" cy="1465560"/>
          </a:xfrm>
          <a:prstGeom prst="rect">
            <a:avLst/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op mass and background fraction that describes the data distribution 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80" y="735120"/>
            <a:ext cx="3124080" cy="18147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 isolated e or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/ 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20 GeV, |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~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issing E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2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4 je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(JetClu w/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=0.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6600"/>
                </a:solidFill>
                <a:latin typeface="Arial"/>
              </a:rPr>
              <a:t>B-tagging of j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209680"/>
            <a:ext cx="533520" cy="2286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71840" y="2895480"/>
            <a:ext cx="304920" cy="3812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762120"/>
            <a:ext cx="3124440" cy="916920"/>
          </a:xfrm>
          <a:prstGeom prst="rect">
            <a:avLst/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e distribution as a function of true top m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333760" y="1600200"/>
            <a:ext cx="533160" cy="60948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1812960"/>
            <a:ext cx="3657600" cy="29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-Tagging Algorith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SECV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onstructs secondary vertex of B-hadron dec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gs b-jets by 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displacement of secondary vertex from primary verte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Jet Probability (J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oks at the </a:t>
            </a: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impact parameters of tracks in the j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calculates probability of the jet to originate from the primary vert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gs b-jet according to the calculated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We have optimized JP algorithm for the best sensitivity to top m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5415120"/>
          <a:ext cx="3962520" cy="121428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ight flav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178600" y="5699160"/>
            <a:ext cx="37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JP has looser tagging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with larger b-tagging effici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79920" y="22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tbar" descr=""/>
          <p:cNvPicPr/>
          <p:nvPr/>
        </p:nvPicPr>
        <p:blipFill>
          <a:blip r:embed="rId1"/>
          <a:stretch/>
        </p:blipFill>
        <p:spPr>
          <a:xfrm>
            <a:off x="5862600" y="879480"/>
            <a:ext cx="2882880" cy="1635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49840" y="184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07440" y="1865160"/>
            <a:ext cx="136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8920" y="1233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8056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0560" y="185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2880" y="193356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4360" y="109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436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6012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231768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60120" y="66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12720" y="13953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86600" y="19479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06960" y="925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31360" y="13780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85080" y="2165400"/>
            <a:ext cx="1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90400" y="2093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90400" y="156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Subsample Categoriz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280" y="2781360"/>
          <a:ext cx="8915400" cy="3476520"/>
        </p:xfrm>
        <a:graphic>
          <a:graphicData uri="http://schemas.openxmlformats.org/drawingml/2006/table">
            <a:tbl>
              <a:tblPr/>
              <a:tblGrid>
                <a:gridCol w="1524240"/>
                <a:gridCol w="1547640"/>
                <a:gridCol w="1424160"/>
                <a:gridCol w="1422360"/>
                <a:gridCol w="1498680"/>
                <a:gridCol w="14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tag (S+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tag (S+J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tag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tag(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-j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&gt;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tag con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J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SECV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rton-j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8 pb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/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52280" y="68580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 jets in final stat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parton-to-jet ass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B-tagging information helps in correct reconstruction of signal even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certainty minimum in double tagged candi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of JP doubles the double tagging efficienc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240" y="6308640"/>
            <a:ext cx="65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2-tag samples are much purer and easier to reconstru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2819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62360" y="2819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72240" y="2819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tracting Top Mass for each Candidate Ev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22544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construct event-by-event top mass (2-C f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280" y="2152800"/>
            <a:ext cx="8389800" cy="197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22360" y="2254320"/>
                <a:ext cx="6651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jet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it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eas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i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eas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57240" y="3157560"/>
                <a:ext cx="70851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ν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ν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103400" y="2293920"/>
            <a:ext cx="6105600" cy="844560"/>
          </a:xfrm>
          <a:prstGeom prst="flowChartAlternateProcess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429000" y="2011320"/>
            <a:ext cx="363600" cy="2113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1360" y="168264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Fluctuate particle momenta according to detector re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76480" y="3209760"/>
            <a:ext cx="3198600" cy="774720"/>
          </a:xfrm>
          <a:prstGeom prst="flowChartAlternateProcess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502080" y="3984120"/>
            <a:ext cx="146160" cy="3524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6560" y="412596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Constrain masses of 2 W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92520" y="3195720"/>
            <a:ext cx="3408480" cy="846000"/>
          </a:xfrm>
          <a:prstGeom prst="flowChartAlternateProcess">
            <a:avLst/>
          </a:prstGeom>
          <a:noFill/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814640" y="4039920"/>
            <a:ext cx="74520" cy="3538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1440" y="418140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t and t have the same m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53080" y="4229280"/>
            <a:ext cx="120600" cy="126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16224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16224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564516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5105520"/>
            <a:ext cx="8686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Assignment inconsistent with b-tagging information is rej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We choose the assignment with smallest 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 seemingly correct event reco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866920" y="2673360"/>
            <a:ext cx="16002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267336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34720" y="2139840"/>
            <a:ext cx="1482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free pa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8760" y="4703760"/>
            <a:ext cx="70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jets from W decay + 2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jets. 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jet-parton ass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5080" y="6308640"/>
            <a:ext cx="64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ject events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9, as seemingly back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ji sato</cp:lastModifiedBy>
  <dcterms:modified xsi:type="dcterms:W3CDTF">2005-09-13T23:04:15Z</dcterms:modified>
  <cp:revision>271</cp:revision>
  <dc:subject/>
  <dc:title>Top Mass Measurement  at the Tevatron</dc:title>
</cp:coreProperties>
</file>