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0.png" ContentType="image/png"/>
  <Override PartName="/ppt/media/image32.png" ContentType="image/png"/>
  <Override PartName="/ppt/media/image13.png" ContentType="image/png"/>
  <Override PartName="/ppt/media/image37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2.jpeg" ContentType="image/jpe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730-DACD-4448-8174-E715AC79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64F-51EC-4913-BBBF-647DA332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C10-398F-4C05-BC0C-59F3D95F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68E-3519-418A-9A8E-132E1CCE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26D-CB02-4D41-8CAA-C115E86C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803-78A2-492C-A772-5BC5EFA1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17F-EC4F-445A-B3B5-4B7CF605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F63-FD79-4761-9BF1-E62B063F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A16-B7C6-4D06-BB67-9AFC98CB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7F9-23C6-47A5-9F26-5ECAFF35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C79-F4D3-4F88-BD82-7ADA0E2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65C-0357-4A5E-8740-3693146C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5E7B-A834-4DB6-808E-E14DDE7598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-cdf.fnal.gov/physics/exotic/r2a/20050218.zbbbar/zbbbar_massplot.eps" TargetMode="External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ff"/>
                </a:solidFill>
                <a:latin typeface="Arial"/>
              </a:rPr>
              <a:t>Top Mass Measurement </a:t>
            </a:r>
            <a:br>
              <a:rPr sz="4400"/>
            </a:br>
            <a:r>
              <a:rPr b="1" lang="ja-JP" sz="4400" spc="-1" strike="noStrike">
                <a:solidFill>
                  <a:srgbClr val="3333ff"/>
                </a:solidFill>
                <a:latin typeface="Arial"/>
              </a:rPr>
              <a:t>at the Tevatr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4800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EP2005 Europhysics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Lisboa, Portugal, June 22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dfii_log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35160" cy="1235160"/>
          </a:xfrm>
          <a:prstGeom prst="rect">
            <a:avLst/>
          </a:prstGeom>
          <a:ln w="0">
            <a:noFill/>
          </a:ln>
        </p:spPr>
      </p:pic>
      <p:pic>
        <p:nvPicPr>
          <p:cNvPr id="44" name="logo-white-small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397160" cy="1346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920" y="312408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oji Sato (Univ. of Tsuku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CDF and D0 Collab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1886040"/>
            <a:ext cx="5715000" cy="3752640"/>
          </a:xfrm>
          <a:prstGeom prst="rect">
            <a:avLst/>
          </a:prstGeom>
          <a:ln w="0">
            <a:noFill/>
          </a:ln>
        </p:spPr>
      </p:pic>
      <p:pic>
        <p:nvPicPr>
          <p:cNvPr id="183" name="likelihoodcontour2d_-1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353040" cy="31240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DF L+jets Template Method (3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2920" y="6019920"/>
            <a:ext cx="1495440" cy="1440"/>
          </a:xfrm>
          <a:prstGeom prst="line">
            <a:avLst/>
          </a:prstGeom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6019920"/>
            <a:ext cx="31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ff"/>
                </a:solidFill>
                <a:latin typeface="Arial"/>
              </a:rPr>
              <a:t>JES syst 2.5 compared to 3.1 wo/ in situ cal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762120"/>
            <a:ext cx="861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Likelihood fit looks for top mass, JES and background fraction that describes the data M</a:t>
            </a:r>
            <a:r>
              <a:rPr b="0" lang="en-US" sz="2400" spc="-1" strike="noStrike" baseline="-25000">
                <a:solidFill>
                  <a:srgbClr val="6600ff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distribution best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emplate fit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49200" y="182880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18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760" y="1600200"/>
            <a:ext cx="21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top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distribution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67280" y="3036960"/>
            <a:ext cx="528120" cy="307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2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91160" y="3036960"/>
            <a:ext cx="636480" cy="307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00"/>
                </a:solidFill>
                <a:latin typeface="Arial"/>
              </a:rPr>
              <a:t>1ta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76560" y="4643280"/>
            <a:ext cx="627120" cy="307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00"/>
                </a:solidFill>
                <a:latin typeface="Arial"/>
              </a:rPr>
              <a:t>1ta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34080" y="4643280"/>
            <a:ext cx="528120" cy="307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0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5486400"/>
            <a:ext cx="8153640" cy="5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73.5 +2.7/-2.6 (stat)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3.0 (syst)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95360" y="6095880"/>
            <a:ext cx="3848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ＭＳ Ｐゴシック"/>
              </a:rPr>
              <a:t>World's Best Single Measurement!!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DF L+jets Template Method (4)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Future Projection -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676520"/>
            <a:ext cx="426708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otal uncertainty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ja-JP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i="1" lang="ja-JP" sz="32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 2 GeV/</a:t>
            </a: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ja-JP" sz="32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 the end of C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un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Conservative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suming only stat. and 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ill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We will do better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I will discuss later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5119560"/>
            <a:ext cx="12952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errors_vs_intluminosity_mtop_conservative" descr=""/>
          <p:cNvPicPr/>
          <p:nvPr/>
        </p:nvPicPr>
        <p:blipFill>
          <a:blip r:embed="rId1"/>
          <a:stretch/>
        </p:blipFill>
        <p:spPr>
          <a:xfrm>
            <a:off x="4629240" y="1612800"/>
            <a:ext cx="4514760" cy="3441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V="1">
            <a:off x="6858000" y="3613320"/>
            <a:ext cx="0" cy="1566720"/>
          </a:xfrm>
          <a:prstGeom prst="line">
            <a:avLst/>
          </a:prstGeom>
          <a:ln cap="rnd" w="5724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8534520" y="3738600"/>
            <a:ext cx="0" cy="1503360"/>
          </a:xfrm>
          <a:prstGeom prst="line">
            <a:avLst/>
          </a:prstGeom>
          <a:ln cap="rnd" w="5724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933960" y="5116680"/>
            <a:ext cx="99036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52419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ff"/>
                </a:solidFill>
                <a:latin typeface="Arial"/>
              </a:rPr>
              <a:t>Aimed for luminosity of Tevatron Run 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DF L+jets Dynamical Likelihood Method (1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371600"/>
            <a:ext cx="822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ikelihood as a function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rding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rix 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4640" y="3048120"/>
            <a:ext cx="8077320" cy="32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11280" y="3319560"/>
                <a:ext cx="698652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Flux</m:t>
                                </m:r>
                              </m:den>
                            </m:f>
                          </m:e>
                        </m:nary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D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D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p</m:t>
                                </m:r>
                              </m:e>
                            </m:ba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952640" y="4430880"/>
                <a:ext cx="62928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p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d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514600" y="4476600"/>
            <a:ext cx="3276720" cy="84312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57400" y="525780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r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9000" y="5943600"/>
            <a:ext cx="35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arton), 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Observ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4572000"/>
            <a:ext cx="1447560" cy="685800"/>
          </a:xfrm>
          <a:prstGeom prst="flowChartAlternateProcess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56760" y="5273640"/>
            <a:ext cx="2729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Transfer func. </a:t>
            </a:r>
            <a:br>
              <a:rPr sz="2400"/>
            </a:b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parton E</a:t>
            </a:r>
            <a:r>
              <a:rPr b="1" lang="ja-JP" sz="2400" spc="-1" strike="noStrike" baseline="-25000">
                <a:solidFill>
                  <a:srgbClr val="3333ff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jet E</a:t>
            </a:r>
            <a:r>
              <a:rPr b="1" lang="ja-JP" sz="2400" spc="-1" strike="noStrike" baseline="-25000">
                <a:solidFill>
                  <a:srgbClr val="3333ff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29480" y="3581280"/>
            <a:ext cx="990360" cy="685800"/>
          </a:xfrm>
          <a:prstGeom prst="flowChartAlternateProcess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57880" y="3124080"/>
            <a:ext cx="305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Probability for P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(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72480" y="3200400"/>
            <a:ext cx="1522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233080" y="2743200"/>
            <a:ext cx="738360" cy="914400"/>
          </a:xfrm>
          <a:prstGeom prst="line">
            <a:avLst/>
          </a:prstGeom>
          <a:ln w="284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2286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Sum over jet-parton combin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DF L+jets Dynamical Likelihood Method (2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5943600"/>
            <a:ext cx="8382240" cy="597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30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73.8 +2.6/-2.4(stat) ± 3.2(syst)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25520" y="60948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18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6600" y="1082520"/>
            <a:ext cx="70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3 candidates with 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exact 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jets (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 jet 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tagg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gnal fraction ~ 85.5%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Data63_results_final_CDF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511520" cy="3878280"/>
          </a:xfrm>
          <a:prstGeom prst="rect">
            <a:avLst/>
          </a:prstGeom>
          <a:ln w="0">
            <a:noFill/>
          </a:ln>
        </p:spPr>
      </p:pic>
      <p:pic>
        <p:nvPicPr>
          <p:cNvPr id="224" name="MaxMass_datavsMC_175_final_CDF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994560" y="144792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impact of gluon radiation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733920" y="14475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0 L+jets Matrix Element Method (1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438280"/>
            <a:ext cx="8077320" cy="419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903240" y="4191120"/>
                <a:ext cx="7569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v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JE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JE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kg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JE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2212920" y="3352680"/>
            <a:ext cx="4059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ignal probability for m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lculated w/ Matrix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191120"/>
            <a:ext cx="685800" cy="6858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876920"/>
            <a:ext cx="685800" cy="6858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362320" y="4800600"/>
            <a:ext cx="1523880" cy="9144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362320" y="5409720"/>
            <a:ext cx="2819160" cy="30492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56386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Signal fraction in measurement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191120"/>
            <a:ext cx="2971800" cy="685800"/>
          </a:xfrm>
          <a:prstGeom prst="flowChartAlternateProcess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4267080"/>
            <a:ext cx="762120" cy="381240"/>
          </a:xfrm>
          <a:prstGeom prst="flowChartAlternateProcess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4880" y="243828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Hadronic W mass in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8080" y="341316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In situ JES cal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2240" y="2498760"/>
            <a:ext cx="2286000" cy="1295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9280" y="3184560"/>
            <a:ext cx="0" cy="3049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4952880"/>
            <a:ext cx="2286000" cy="60984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010280" y="3809880"/>
            <a:ext cx="152640" cy="4572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9880" y="5638680"/>
            <a:ext cx="32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ckground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lculated w/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62640" y="1266840"/>
            <a:ext cx="58572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alculate probability density for 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trix Element for background inclu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 situ calibration of J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7120" y="2438280"/>
            <a:ext cx="4268160" cy="579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ability density for m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957840" cy="38102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0 L+jets Matrix Element Method (2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3520" y="12193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50 candidates w/ exactly 4 jets (w/o b-tagg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gnal fraction ~ 36.4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419720" cy="3706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28600" y="5872320"/>
            <a:ext cx="8610480" cy="597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30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69.5 ±4.4(stat+JES) +1.7/-1.6(syst)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30080" y="174312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20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3520" y="2895480"/>
            <a:ext cx="480060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0 Dilepton Matrix Weighting    Method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template method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ssume (x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weight for each e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35268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44680" y="2971800"/>
                <a:ext cx="4724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ution</m:t>
                            </m:r>
                          </m:sub>
                          <m:sup/>
                          <m:e/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F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F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p</m:t>
                                    </m:r>
                                  </m:e>
                                </m:ba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l</m:t>
                                    </m:r>
                                  </m:e>
                                </m:bar>
                              </m:e>
                              <m:sup/>
                            </m:sSup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514600" y="3809880"/>
            <a:ext cx="1295280" cy="533520"/>
          </a:xfrm>
          <a:prstGeom prst="flowChartAlternateProcess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4343400"/>
            <a:ext cx="440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bability to observe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n top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518148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9900ff"/>
                </a:solidFill>
                <a:latin typeface="Arial"/>
              </a:rPr>
              <a:t>top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at maximum 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5562720"/>
            <a:ext cx="5181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emplate f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/ 13 candidat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59120" y="6100920"/>
            <a:ext cx="7043400" cy="597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30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55 +14/-13 (stat) ± 7 (syst) GeV/</a:t>
            </a:r>
            <a:r>
              <a:rPr b="0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30080" y="288612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230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80060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Scan (x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838080"/>
            <a:ext cx="35812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lepton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der-constrain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ed kinematic as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1851120"/>
            <a:ext cx="35812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DF assu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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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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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34480" y="224316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DF Dilepton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atrix Element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per-event differential cross section due to LO Matrix El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ckground ME is also considered to reduce the impact of background conta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alculates probability vs 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or each e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25520" y="136224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40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5486400"/>
            <a:ext cx="7848360" cy="597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30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65.3 ± 6.3 (stat) ± 3.6 (syst)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55752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lxy_comp_log_mass_70" descr=""/>
          <p:cNvPicPr/>
          <p:nvPr/>
        </p:nvPicPr>
        <p:blipFill>
          <a:blip r:embed="rId1"/>
          <a:stretch/>
        </p:blipFill>
        <p:spPr>
          <a:xfrm>
            <a:off x="76320" y="2216160"/>
            <a:ext cx="4343400" cy="2889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DF L+jets L</a:t>
            </a:r>
            <a:r>
              <a:rPr b="1" lang="en-US" sz="4400" spc="-1" strike="noStrike" baseline="-25000">
                <a:solidFill>
                  <a:srgbClr val="3333cc"/>
                </a:solidFill>
                <a:latin typeface="Arial"/>
              </a:rPr>
              <a:t>XY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op rest frame :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0.4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0666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nsverse decay leng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X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f 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0" y="0"/>
            <a:ext cx="1219320" cy="990720"/>
            <a:chOff x="0" y="0"/>
            <a:chExt cx="1219320" cy="990720"/>
          </a:xfrm>
        </p:grpSpPr>
        <p:sp>
          <p:nvSpPr>
            <p:cNvPr id="278" name=""/>
            <p:cNvSpPr/>
            <p:nvPr/>
          </p:nvSpPr>
          <p:spPr>
            <a:xfrm>
              <a:off x="0" y="0"/>
              <a:ext cx="1219320" cy="99072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240" y="384"/>
                  </a:moveTo>
                  <a:lnTo>
                    <a:pt x="0" y="192"/>
                  </a:lnTo>
                  <a:lnTo>
                    <a:pt x="288" y="240"/>
                  </a:lnTo>
                  <a:lnTo>
                    <a:pt x="288" y="48"/>
                  </a:lnTo>
                  <a:lnTo>
                    <a:pt x="432" y="192"/>
                  </a:lnTo>
                  <a:lnTo>
                    <a:pt x="528" y="0"/>
                  </a:lnTo>
                  <a:lnTo>
                    <a:pt x="624" y="192"/>
                  </a:lnTo>
                  <a:lnTo>
                    <a:pt x="768" y="48"/>
                  </a:lnTo>
                  <a:lnTo>
                    <a:pt x="768" y="240"/>
                  </a:lnTo>
                  <a:lnTo>
                    <a:pt x="1056" y="240"/>
                  </a:lnTo>
                  <a:lnTo>
                    <a:pt x="768" y="384"/>
                  </a:lnTo>
                  <a:lnTo>
                    <a:pt x="1056" y="576"/>
                  </a:lnTo>
                  <a:lnTo>
                    <a:pt x="768" y="528"/>
                  </a:lnTo>
                  <a:lnTo>
                    <a:pt x="864" y="720"/>
                  </a:lnTo>
                  <a:lnTo>
                    <a:pt x="624" y="576"/>
                  </a:lnTo>
                  <a:lnTo>
                    <a:pt x="576" y="768"/>
                  </a:lnTo>
                  <a:lnTo>
                    <a:pt x="480" y="624"/>
                  </a:lnTo>
                  <a:lnTo>
                    <a:pt x="96" y="672"/>
                  </a:lnTo>
                  <a:lnTo>
                    <a:pt x="274" y="519"/>
                  </a:lnTo>
                  <a:lnTo>
                    <a:pt x="48" y="480"/>
                  </a:lnTo>
                  <a:lnTo>
                    <a:pt x="240" y="38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720" y="292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data_overlay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283280" cy="290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106400" y="205740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18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60920" y="2209680"/>
            <a:ext cx="179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XY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9760" y="1905120"/>
            <a:ext cx="289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XY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distribution for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334120"/>
            <a:ext cx="8458200" cy="597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30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207.8 +27.8/-22.3 (stat) ± 6.5 (syst)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5791320"/>
            <a:ext cx="1524240" cy="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15440" y="6095880"/>
            <a:ext cx="4983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ta/MC &lt;L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gt; scale factor :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.1 GeV/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ES :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0.3 GeV/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723920" y="5791320"/>
            <a:ext cx="685800" cy="228600"/>
          </a:xfrm>
          <a:prstGeom prst="line">
            <a:avLst/>
          </a:prstGeom>
          <a:ln w="284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040" y="595944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Syst. highly uncorrelated from other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6019920"/>
            <a:ext cx="8610840" cy="76176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144792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 216 secondary vertex b-tagged jets found in 178 events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w/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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3 je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8040" y="182880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crease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338880" y="1752120"/>
            <a:ext cx="11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ummary of Measuremen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800600" y="1390680"/>
            <a:ext cx="4048200" cy="4933800"/>
          </a:xfrm>
          <a:prstGeom prst="rect">
            <a:avLst/>
          </a:prstGeom>
          <a:ln w="0">
            <a:noFill/>
          </a:ln>
        </p:spPr>
      </p:pic>
      <p:pic>
        <p:nvPicPr>
          <p:cNvPr id="295" name="summary" descr=""/>
          <p:cNvPicPr/>
          <p:nvPr/>
        </p:nvPicPr>
        <p:blipFill>
          <a:blip r:embed="rId2"/>
          <a:stretch/>
        </p:blipFill>
        <p:spPr>
          <a:xfrm>
            <a:off x="76320" y="961920"/>
            <a:ext cx="47242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p05_mt_mw_contours" descr=""/>
          <p:cNvPicPr/>
          <p:nvPr/>
        </p:nvPicPr>
        <p:blipFill>
          <a:blip r:embed="rId1"/>
          <a:stretch/>
        </p:blipFill>
        <p:spPr>
          <a:xfrm>
            <a:off x="5316480" y="1219320"/>
            <a:ext cx="3598920" cy="3962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op Quark Mass - Introduc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op mass is a fundamental parameter of the Standard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ss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f top and W constr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 Higgs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6840" y="4952880"/>
            <a:ext cx="45464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Tevatron Run I aver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m</a:t>
            </a:r>
            <a:r>
              <a:rPr b="0" lang="ja-JP" sz="2400" spc="-1" strike="noStrike" baseline="-25000">
                <a:solidFill>
                  <a:srgbClr val="9900ff"/>
                </a:solidFill>
                <a:latin typeface="Arial"/>
              </a:rPr>
              <a:t>top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= 178.0 </a:t>
            </a:r>
            <a:r>
              <a:rPr b="0" lang="ja-JP" sz="2400" spc="-1" strike="noStrike">
                <a:solidFill>
                  <a:srgbClr val="9900ff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 2.7 </a:t>
            </a:r>
            <a:r>
              <a:rPr b="0" lang="ja-JP" sz="2400" spc="-1" strike="noStrike">
                <a:solidFill>
                  <a:srgbClr val="9900ff"/>
                </a:solidFill>
                <a:latin typeface="Symbol"/>
                <a:ea typeface="Symbol"/>
              </a:rPr>
              <a:t>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3.0 GeV/</a:t>
            </a:r>
            <a:r>
              <a:rPr b="0" i="1" lang="ja-JP" sz="24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0" lang="ja-JP" sz="2400" spc="-1" strike="noStrike" baseline="30000">
                <a:solidFill>
                  <a:srgbClr val="99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  </a:t>
            </a:r>
            <a:r>
              <a:rPr b="0" lang="ja-JP" sz="2800" spc="-1" strike="noStrike">
                <a:solidFill>
                  <a:srgbClr val="9900ff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m</a:t>
            </a:r>
            <a:r>
              <a:rPr b="0" lang="ja-JP" sz="2400" spc="-1" strike="noStrike" baseline="-25000">
                <a:solidFill>
                  <a:srgbClr val="9900ff"/>
                </a:solidFill>
                <a:latin typeface="Arial"/>
              </a:rPr>
              <a:t>higgs </a:t>
            </a:r>
            <a:r>
              <a:rPr b="0" lang="ja-JP" sz="2400" spc="-1" strike="noStrike">
                <a:solidFill>
                  <a:srgbClr val="9900ff"/>
                </a:solidFill>
                <a:latin typeface="Symbol"/>
                <a:ea typeface="Symbol"/>
              </a:rPr>
              <a:t>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260 GeV/c</a:t>
            </a:r>
            <a:r>
              <a:rPr b="0" lang="ja-JP" sz="2400" spc="-1" strike="noStrike" baseline="30000">
                <a:solidFill>
                  <a:srgbClr val="9900ff"/>
                </a:solidFill>
                <a:latin typeface="Arial"/>
              </a:rPr>
              <a:t>2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(9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7960" y="5029200"/>
            <a:ext cx="365112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Arial"/>
              </a:rPr>
              <a:t>top 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EWSB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pecial role of to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adcorr" descr=""/>
          <p:cNvPicPr/>
          <p:nvPr/>
        </p:nvPicPr>
        <p:blipFill>
          <a:blip r:embed="rId2"/>
          <a:stretch/>
        </p:blipFill>
        <p:spPr>
          <a:xfrm>
            <a:off x="1219320" y="4038480"/>
            <a:ext cx="1752480" cy="846360"/>
          </a:xfrm>
          <a:prstGeom prst="rect">
            <a:avLst/>
          </a:prstGeom>
          <a:ln w="0">
            <a:noFill/>
          </a:ln>
        </p:spPr>
      </p:pic>
      <p:pic>
        <p:nvPicPr>
          <p:cNvPr id="52" name="radcorr2" descr=""/>
          <p:cNvPicPr/>
          <p:nvPr/>
        </p:nvPicPr>
        <p:blipFill>
          <a:blip r:embed="rId3"/>
          <a:stretch/>
        </p:blipFill>
        <p:spPr>
          <a:xfrm>
            <a:off x="3276720" y="3962520"/>
            <a:ext cx="1676160" cy="99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82520" y="3747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3240" y="44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6720" y="3976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9720" y="3976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68560" y="48150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432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mbination of Measuremen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2600" y="838080"/>
            <a:ext cx="43898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rrela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ncorrelate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itu 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% w/i exp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same peri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S due to calo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% w/i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kgd.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% w/i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S due to fragmen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C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57200" y="1676520"/>
            <a:ext cx="3809880" cy="4800600"/>
            <a:chOff x="457200" y="1676520"/>
            <a:chExt cx="3809880" cy="480060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457200" y="1676520"/>
              <a:ext cx="380988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 txBox="1"/>
            <p:nvPr/>
          </p:nvSpPr>
          <p:spPr>
            <a:xfrm>
              <a:off x="457200" y="1676520"/>
              <a:ext cx="3809880" cy="480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5040" y="99072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Only best analysis from each decay mode, each experi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029200"/>
            <a:ext cx="38098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uture Improvemen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9520" y="1066680"/>
            <a:ext cx="4953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Basic improvement by </a:t>
            </a:r>
            <a:r>
              <a:rPr b="0" lang="ja-JP" sz="2400" spc="-1" strike="noStrike">
                <a:solidFill>
                  <a:srgbClr val="ff0066"/>
                </a:solidFill>
                <a:latin typeface="Symbol"/>
                <a:ea typeface="Symbol"/>
              </a:rPr>
              <a:t>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1/</a:t>
            </a:r>
            <a:r>
              <a:rPr b="0" lang="ja-JP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0" lang="ja-JP" sz="2800" spc="-1" strike="noStrike">
                <a:solidFill>
                  <a:srgbClr val="ff0066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- </a:t>
            </a:r>
            <a:r>
              <a:rPr b="0" lang="ja-JP" sz="2800" spc="-1" strike="noStrike">
                <a:solidFill>
                  <a:srgbClr val="ff0066"/>
                </a:solidFill>
                <a:latin typeface="Monotype Corsiva"/>
              </a:rPr>
              <a:t>L</a:t>
            </a:r>
            <a:r>
              <a:rPr b="0" lang="ja-JP" sz="2400" spc="-1" strike="noStrike">
                <a:solidFill>
                  <a:srgbClr val="ff0066"/>
                </a:solidFill>
                <a:latin typeface="Symbol"/>
                <a:ea typeface="Symbol"/>
              </a:rPr>
              <a:t>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1fb</a:t>
            </a:r>
            <a:r>
              <a:rPr b="0" lang="ja-JP" sz="2400" spc="-1" strike="noStrike" baseline="30000">
                <a:solidFill>
                  <a:srgbClr val="ff0066"/>
                </a:solidFill>
                <a:latin typeface="Arial"/>
              </a:rPr>
              <a:t>-1 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in next Winter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Further improvement on JES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 by direct </a:t>
            </a:r>
            <a:r>
              <a:rPr b="0" i="1" lang="ja-JP" sz="2400" spc="-1" strike="noStrike">
                <a:solidFill>
                  <a:srgbClr val="9900ff"/>
                </a:solidFill>
                <a:latin typeface="Arial"/>
              </a:rPr>
              <a:t>b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-jet JES calibration by </a:t>
            </a:r>
            <a:r>
              <a:rPr b="0" i="1" lang="ja-JP" sz="2400" spc="-1" strike="noStrike">
                <a:solidFill>
                  <a:srgbClr val="ff0066"/>
                </a:solidFill>
                <a:latin typeface="Arial"/>
              </a:rPr>
              <a:t>Z </a:t>
            </a:r>
            <a:r>
              <a:rPr b="0" i="1" lang="ja-JP" sz="24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ja-JP" sz="2400" spc="-1" strike="noStrike">
                <a:solidFill>
                  <a:srgbClr val="ff0066"/>
                </a:solidFill>
                <a:latin typeface="Arial"/>
              </a:rPr>
              <a:t> bb</a:t>
            </a:r>
            <a:r>
              <a:rPr b="0" i="1" lang="ja-JP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events.   Current </a:t>
            </a:r>
            <a:r>
              <a:rPr b="0" i="1" lang="ja-JP" sz="2400" spc="-1" strike="noStrike">
                <a:solidFill>
                  <a:srgbClr val="9900ff"/>
                </a:solidFill>
                <a:latin typeface="Arial"/>
              </a:rPr>
              <a:t>b</a:t>
            </a:r>
            <a:r>
              <a:rPr b="0" lang="ja-JP" sz="2400" spc="-1" strike="noStrike">
                <a:solidFill>
                  <a:srgbClr val="9900ff"/>
                </a:solidFill>
                <a:latin typeface="Arial"/>
              </a:rPr>
              <a:t>-jet JES taken same as generic jet</a:t>
            </a:r>
            <a:r>
              <a:rPr b="0" lang="ja-JP" sz="1800" spc="-1" strike="noStrike">
                <a:solidFill>
                  <a:srgbClr val="9900ff"/>
                </a:solidFill>
                <a:latin typeface="Arial"/>
              </a:rPr>
              <a:t> + additional uncertainty according to LEP/SLD measu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8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00000"/>
                </a:solidFill>
                <a:latin typeface="Arial"/>
              </a:rPr>
              <a:t>Sig./Bkgd. Modeling </a:t>
            </a:r>
            <a:r>
              <a:rPr b="0" lang="ja-JP" sz="1600" spc="-1" strike="noStrike">
                <a:solidFill>
                  <a:srgbClr val="800000"/>
                </a:solidFill>
                <a:latin typeface="Arial"/>
              </a:rPr>
              <a:t>(ISR/FSR/Q</a:t>
            </a:r>
            <a:r>
              <a:rPr b="0" lang="ja-JP" sz="16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800000"/>
                </a:solidFill>
                <a:latin typeface="Arial"/>
              </a:rPr>
              <a:t> dependence etc.) </a:t>
            </a:r>
            <a:r>
              <a:rPr b="0" lang="ja-JP" sz="2400" spc="-1" strike="noStrike">
                <a:solidFill>
                  <a:srgbClr val="800000"/>
                </a:solidFill>
                <a:latin typeface="Arial"/>
              </a:rPr>
              <a:t>can be improved by using our own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Measurement in All Hadronic mode is coming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Syst. of L</a:t>
            </a:r>
            <a:r>
              <a:rPr b="0" lang="ja-JP" sz="2400" spc="-1" strike="noStrike" baseline="-25000">
                <a:solidFill>
                  <a:srgbClr val="ff0066"/>
                </a:solidFill>
                <a:latin typeface="Arial"/>
              </a:rPr>
              <a:t>XY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 method is highly uncorrelated w/ other analy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1447920"/>
          <a:ext cx="3276720" cy="4363920"/>
        </p:xfrm>
        <a:graphic>
          <a:graphicData uri="http://schemas.openxmlformats.org/drawingml/2006/table">
            <a:tbl>
              <a:tblPr/>
              <a:tblGrid>
                <a:gridCol w="2016000"/>
                <a:gridCol w="126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/c</a:t>
                      </a:r>
                      <a:r>
                        <a:rPr b="0" lang="ja-JP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9900ff"/>
                          </a:solidFill>
                          <a:latin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9900ff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.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kgd.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Inte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 Gen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y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57200" y="18558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5200" y="99072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Combined 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265284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2366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50292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429000" y="3733920"/>
            <a:ext cx="53352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429000" y="3276720"/>
            <a:ext cx="533520" cy="9144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504960" y="1981080"/>
            <a:ext cx="533160" cy="457200"/>
          </a:xfrm>
          <a:prstGeom prst="line">
            <a:avLst/>
          </a:prstGeom>
          <a:ln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581280" y="1981080"/>
            <a:ext cx="457200" cy="914400"/>
          </a:xfrm>
          <a:prstGeom prst="line">
            <a:avLst/>
          </a:prstGeom>
          <a:ln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54100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44792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lp05_blueband" descr=""/>
          <p:cNvPicPr/>
          <p:nvPr/>
        </p:nvPicPr>
        <p:blipFill>
          <a:blip r:embed="rId1"/>
          <a:stretch/>
        </p:blipFill>
        <p:spPr>
          <a:xfrm>
            <a:off x="4818240" y="1676520"/>
            <a:ext cx="3593880" cy="3886200"/>
          </a:xfrm>
          <a:prstGeom prst="rect">
            <a:avLst/>
          </a:prstGeom>
          <a:ln w="0">
            <a:noFill/>
          </a:ln>
        </p:spPr>
      </p:pic>
      <p:pic>
        <p:nvPicPr>
          <p:cNvPr id="318" name="lp05_mt_mw_contours" descr=""/>
          <p:cNvPicPr/>
          <p:nvPr/>
        </p:nvPicPr>
        <p:blipFill>
          <a:blip r:embed="rId2"/>
          <a:stretch/>
        </p:blipFill>
        <p:spPr>
          <a:xfrm>
            <a:off x="1100160" y="1676520"/>
            <a:ext cx="3651120" cy="388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New ElectroWeak Fi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5333760"/>
            <a:ext cx="853416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higgs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=98 +52/-36 GeV/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, 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higgs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206 GeV/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(9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7680" y="1219320"/>
            <a:ext cx="8594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w/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previous</a:t>
            </a: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 Preliminary CDF Run II + D0 Run I Combine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1" lang="ja-JP" sz="2400" spc="-1" strike="noStrike" baseline="-25000">
                <a:solidFill>
                  <a:srgbClr val="ff00ff"/>
                </a:solidFill>
                <a:latin typeface="Arial"/>
              </a:rPr>
              <a:t>top</a:t>
            </a: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=174.3 </a:t>
            </a:r>
            <a:r>
              <a:rPr b="1" lang="ja-JP" sz="2400" spc="-1" strike="noStrike">
                <a:solidFill>
                  <a:srgbClr val="ff00ff"/>
                </a:solidFill>
                <a:latin typeface="Symbol"/>
                <a:ea typeface="Symbol"/>
              </a:rPr>
              <a:t></a:t>
            </a: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2.0 (stat) </a:t>
            </a:r>
            <a:r>
              <a:rPr b="1" lang="ja-JP" sz="2400" spc="-1" strike="noStrike">
                <a:solidFill>
                  <a:srgbClr val="ff00ff"/>
                </a:solidFill>
                <a:latin typeface="Symbol"/>
                <a:ea typeface="Symbol"/>
              </a:rPr>
              <a:t></a:t>
            </a:r>
            <a:r>
              <a:rPr b="1" lang="ja-JP" sz="2400" spc="-1" strike="noStrike">
                <a:solidFill>
                  <a:srgbClr val="ff00ff"/>
                </a:solidFill>
                <a:latin typeface="Arial"/>
              </a:rPr>
              <a:t>2.8 (syst) GeV/</a:t>
            </a:r>
            <a:r>
              <a:rPr b="1" i="1" lang="ja-JP" sz="24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1" lang="ja-JP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5943600"/>
            <a:ext cx="8534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w/ Tevatron Run I average : 178.0 </a:t>
            </a:r>
            <a:r>
              <a:rPr b="0" lang="ja-JP" sz="2000" spc="-1" strike="noStrike">
                <a:solidFill>
                  <a:srgbClr val="9900ff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 2.7 </a:t>
            </a:r>
            <a:r>
              <a:rPr b="0" lang="ja-JP" sz="2000" spc="-1" strike="noStrike">
                <a:solidFill>
                  <a:srgbClr val="9900ff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3.3 GeV/</a:t>
            </a:r>
            <a:r>
              <a:rPr b="0" i="1" lang="ja-JP" sz="2000" spc="-1" strike="noStrike">
                <a:solidFill>
                  <a:srgbClr val="9900ff"/>
                </a:solidFill>
                <a:latin typeface="Arial"/>
              </a:rPr>
              <a:t>c</a:t>
            </a:r>
            <a:r>
              <a:rPr b="0" lang="ja-JP" sz="2000" spc="-1" strike="noStrike" baseline="30000">
                <a:solidFill>
                  <a:srgbClr val="9900ff"/>
                </a:solidFill>
                <a:latin typeface="Arial"/>
              </a:rPr>
              <a:t>2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9900ff"/>
                </a:solidFill>
                <a:latin typeface="Arial"/>
              </a:rPr>
              <a:t>higgs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=114 +69/-45 GeV/c</a:t>
            </a:r>
            <a:r>
              <a:rPr b="0" lang="ja-JP" sz="2000" spc="-1" strike="noStrike" baseline="30000">
                <a:solidFill>
                  <a:srgbClr val="9900ff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, m</a:t>
            </a:r>
            <a:r>
              <a:rPr b="0" lang="ja-JP" sz="2000" spc="-1" strike="noStrike" baseline="-25000">
                <a:solidFill>
                  <a:srgbClr val="9900ff"/>
                </a:solidFill>
                <a:latin typeface="Arial"/>
              </a:rPr>
              <a:t>higgs</a:t>
            </a:r>
            <a:r>
              <a:rPr b="0" lang="ja-JP" sz="2000" spc="-1" strike="noStrike">
                <a:solidFill>
                  <a:srgbClr val="9900ff"/>
                </a:solidFill>
                <a:latin typeface="Symbol"/>
                <a:ea typeface="Symbol"/>
              </a:rPr>
              <a:t>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260 GeV/c</a:t>
            </a:r>
            <a:r>
              <a:rPr b="0" lang="ja-JP" sz="2000" spc="-1" strike="noStrike" baseline="30000">
                <a:solidFill>
                  <a:srgbClr val="9900ff"/>
                </a:solidFill>
                <a:latin typeface="Arial"/>
              </a:rPr>
              <a:t>2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(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9200" y="685800"/>
            <a:ext cx="8067240" cy="510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800000"/>
                </a:solidFill>
                <a:latin typeface="Arial"/>
              </a:rPr>
              <a:t>ElectroWeak fit is under update w/ new combined m</a:t>
            </a:r>
            <a:r>
              <a:rPr b="1" lang="ja-JP" sz="2400" spc="-1" strike="noStrike" baseline="-25000">
                <a:solidFill>
                  <a:srgbClr val="800000"/>
                </a:solidFill>
                <a:latin typeface="Arial"/>
              </a:rPr>
              <a:t>top</a:t>
            </a:r>
            <a:r>
              <a:rPr b="1" lang="ja-JP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CDF L+Jets Template Metho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is the best single measurem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=173.5 +4.1/-4.0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nd will achieve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0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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2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 Run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Preliminary combina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of CDF and D0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=172.7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 2.9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GeV/</a:t>
            </a:r>
            <a:r>
              <a:rPr b="1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ja-JP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Run I average : 178.0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4.3 GeV/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 baseline="30000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ja-JP" sz="24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99"/>
                </a:solidFill>
                <a:latin typeface="Arial"/>
              </a:rPr>
              <a:t>From</a:t>
            </a:r>
            <a:r>
              <a:rPr b="1" i="1" lang="ja-JP" sz="20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99"/>
                </a:solidFill>
                <a:latin typeface="Arial"/>
              </a:rPr>
              <a:t>previous preliminary world ave.</a:t>
            </a:r>
            <a:r>
              <a:rPr b="1" i="1" lang="ja-JP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ja-JP" sz="2000" spc="-1" strike="noStrike" baseline="-25000">
                <a:solidFill>
                  <a:srgbClr val="000099"/>
                </a:solidFill>
                <a:latin typeface="Arial"/>
              </a:rPr>
              <a:t>top</a:t>
            </a:r>
            <a:r>
              <a:rPr b="1" lang="ja-JP" sz="2000" spc="-1" strike="noStrike">
                <a:solidFill>
                  <a:srgbClr val="000099"/>
                </a:solidFill>
                <a:latin typeface="Arial"/>
              </a:rPr>
              <a:t>=174.3 </a:t>
            </a:r>
            <a:r>
              <a:rPr b="1" lang="ja-JP" sz="2000" spc="-1" strike="noStrike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1" lang="ja-JP" sz="2000" spc="-1" strike="noStrike">
                <a:solidFill>
                  <a:srgbClr val="000099"/>
                </a:solidFill>
                <a:latin typeface="Arial"/>
                <a:ea typeface="Arial"/>
              </a:rPr>
              <a:t> 3.4</a:t>
            </a:r>
            <a:r>
              <a:rPr b="1" lang="ja-JP" sz="2000" spc="-1" strike="noStrike">
                <a:solidFill>
                  <a:srgbClr val="000099"/>
                </a:solidFill>
                <a:latin typeface="Arial"/>
              </a:rPr>
              <a:t> GeV/</a:t>
            </a:r>
            <a:r>
              <a:rPr b="1" i="1" lang="ja-JP" sz="20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ja-JP" sz="2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 baseline="30000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ja-JP" sz="24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i="1" lang="ja-JP" sz="2400" spc="-1" strike="noStrike" baseline="30000">
                <a:solidFill>
                  <a:srgbClr val="000099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0" lang="ja-JP" sz="2400" spc="-1" strike="noStrike" baseline="-25000">
                <a:solidFill>
                  <a:srgbClr val="000099"/>
                </a:solidFill>
                <a:latin typeface="Arial"/>
              </a:rPr>
              <a:t>higgs</a:t>
            </a: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=98 +52/-36 GeV/c</a:t>
            </a:r>
            <a:r>
              <a:rPr b="0" lang="ja-JP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, m</a:t>
            </a:r>
            <a:r>
              <a:rPr b="0" lang="ja-JP" sz="2400" spc="-1" strike="noStrike" baseline="-25000">
                <a:solidFill>
                  <a:srgbClr val="000099"/>
                </a:solidFill>
                <a:latin typeface="Arial"/>
              </a:rPr>
              <a:t>higgs</a:t>
            </a:r>
            <a:r>
              <a:rPr b="0" lang="ja-JP" sz="2400" spc="-1" strike="noStrike">
                <a:solidFill>
                  <a:srgbClr val="000099"/>
                </a:solidFill>
                <a:latin typeface="Symbol"/>
                <a:ea typeface="Symbol"/>
              </a:rPr>
              <a:t></a:t>
            </a: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206 GeV/c</a:t>
            </a:r>
            <a:r>
              <a:rPr b="0" lang="ja-JP" sz="2400" spc="-1" strike="noStrike" baseline="30000">
                <a:solidFill>
                  <a:srgbClr val="000099"/>
                </a:solidFill>
                <a:latin typeface="Arial"/>
              </a:rPr>
              <a:t>2 </a:t>
            </a: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(95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ja-JP" sz="24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i="1" lang="ja-JP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800000"/>
                </a:solidFill>
                <a:latin typeface="Arial"/>
              </a:rPr>
              <a:t>This will be updated short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9900ff"/>
                </a:solidFill>
                <a:latin typeface="Arial"/>
              </a:rPr>
              <a:t>Next Winter with </a:t>
            </a:r>
            <a:r>
              <a:rPr b="0" lang="ja-JP" sz="2800" spc="-1" strike="noStrike">
                <a:solidFill>
                  <a:srgbClr val="9900ff"/>
                </a:solidFill>
                <a:latin typeface="Symbol"/>
                <a:ea typeface="Symbol"/>
              </a:rPr>
              <a:t></a:t>
            </a:r>
            <a:r>
              <a:rPr b="0" lang="ja-JP" sz="2800" spc="-1" strike="noStrike">
                <a:solidFill>
                  <a:srgbClr val="9900ff"/>
                </a:solidFill>
                <a:latin typeface="Arial"/>
              </a:rPr>
              <a:t>1fb</a:t>
            </a:r>
            <a:r>
              <a:rPr b="0" lang="ja-JP" sz="2800" spc="-1" strike="noStrike" baseline="30000">
                <a:solidFill>
                  <a:srgbClr val="9900ff"/>
                </a:solidFill>
                <a:latin typeface="Arial"/>
              </a:rPr>
              <a:t>-1</a:t>
            </a:r>
            <a:r>
              <a:rPr b="0" lang="ja-JP" sz="28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9900ff"/>
                </a:solidFill>
                <a:latin typeface="Arial"/>
              </a:rPr>
              <a:t>-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Improvement of dominant uncertainties better than by </a:t>
            </a:r>
            <a:r>
              <a:rPr b="0" lang="ja-JP" sz="2000" spc="-1" strike="noStrike">
                <a:solidFill>
                  <a:srgbClr val="9900ff"/>
                </a:solidFill>
                <a:latin typeface="Symbol"/>
                <a:ea typeface="Symbol"/>
              </a:rPr>
              <a:t>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1/</a:t>
            </a:r>
            <a:r>
              <a:rPr b="0" lang="ja-JP" sz="2000" spc="-1" strike="noStrike">
                <a:solidFill>
                  <a:srgbClr val="9900ff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900ff"/>
                </a:solidFill>
                <a:latin typeface="Monotype Corsiva"/>
              </a:rPr>
              <a:t>       </a:t>
            </a:r>
            <a:r>
              <a:rPr b="0" lang="ja-JP" sz="2000" spc="-1" strike="noStrike">
                <a:solidFill>
                  <a:srgbClr val="9900ff"/>
                </a:solidFill>
                <a:latin typeface="Arial"/>
              </a:rPr>
              <a:t>- D0 Run II dilepton and All Hadronic channel from CDF/D0 will be included in combined measu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ackup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419720" cy="3996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0 L+jets Template Method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5638680"/>
            <a:ext cx="8153280" cy="5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170.6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 4.2 (stat)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 6.0 (syst) 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GeV/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914400"/>
            <a:ext cx="8610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-by-even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69 candidate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events with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tagged j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01480" y="182880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229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DF L+jets Matrix Element Method (1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D0 L+jets ME, but does not include JES in probability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593720" y="3573360"/>
            <a:ext cx="1484280" cy="287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822320" y="4444920"/>
            <a:ext cx="914400" cy="254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563280" y="353376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 qqbar matrix element from Mahlon &amp; Par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32680" y="3948120"/>
            <a:ext cx="494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functions,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mentum fr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60400" y="4373640"/>
            <a:ext cx="503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functions (Map measured qua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parton level quantit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743120" y="4037040"/>
            <a:ext cx="1076400" cy="212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520080" y="3144960"/>
            <a:ext cx="44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asured quantities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on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1219320" y="2590920"/>
            <a:ext cx="6565680" cy="407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rcRect l="27188" t="31441" r="22554" b="63321"/>
          <a:stretch/>
        </p:blipFill>
        <p:spPr>
          <a:xfrm>
            <a:off x="609480" y="5067360"/>
            <a:ext cx="8001000" cy="1181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33520" y="2438280"/>
            <a:ext cx="8381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data_mc_PmxM_indv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460760" cy="3721320"/>
          </a:xfrm>
          <a:prstGeom prst="rect">
            <a:avLst/>
          </a:prstGeom>
          <a:ln w="0">
            <a:noFill/>
          </a:ln>
        </p:spPr>
      </p:pic>
      <p:pic>
        <p:nvPicPr>
          <p:cNvPr id="346" name="dataLikelihoodZoomIn" descr=""/>
          <p:cNvPicPr/>
          <p:nvPr/>
        </p:nvPicPr>
        <p:blipFill>
          <a:blip r:embed="rId2"/>
          <a:stretch/>
        </p:blipFill>
        <p:spPr>
          <a:xfrm>
            <a:off x="4708440" y="1981080"/>
            <a:ext cx="4359240" cy="35053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DF L+jets Matrix Element Method (2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725520" y="82224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18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3520" y="1295280"/>
            <a:ext cx="68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3 candidates with 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exact 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jets (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 jet 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tagg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94560" y="166068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impact of gluon radiation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3733920" y="16603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5872320"/>
            <a:ext cx="8153280" cy="5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172.0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 2.6 (stat) 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  <a:ea typeface="Arial"/>
              </a:rPr>
              <a:t> 3.3 (syst) 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GeV/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Dilepton Template Method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Make an assum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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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t), etc.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91584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2 </a:t>
            </a:r>
            <a:r>
              <a:rPr b="0" lang="ja-JP" sz="24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’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 dilepton decay of tt is an 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under-constraint syste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even supposing pole mass of 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41148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robability fo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assumed variable due to Monte Carlo distributi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Calculate the most probable M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for each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58672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emplate f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70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6708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21337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easure top ma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10880" y="990720"/>
            <a:ext cx="2600640" cy="15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0 matrix wei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D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i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D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D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DF Dilepton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Neutrino Weighting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1486080"/>
            <a:ext cx="420696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Assume pseudo-rap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of 2 </a:t>
            </a:r>
            <a:r>
              <a:rPr b="0" lang="ja-JP" sz="2400" spc="-1" strike="noStrike">
                <a:solidFill>
                  <a:srgbClr val="00cc99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’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lve the 4-vector of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ue to (E,p) con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alculate the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probability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measuring observed E</a:t>
            </a:r>
            <a:r>
              <a:rPr b="0" lang="ja-JP" sz="2400" spc="-1" strike="noStrike" baseline="-25000">
                <a:solidFill>
                  <a:srgbClr val="ff00ff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Scan over as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variabl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probability of M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ick the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most 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value of M</a:t>
            </a:r>
            <a:r>
              <a:rPr b="0" lang="ja-JP" sz="2400" spc="-1" strike="noStrike" baseline="-25000">
                <a:solidFill>
                  <a:srgbClr val="ff00ff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or the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FinalPlot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43400" cy="4038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48360" y="6095880"/>
            <a:ext cx="7835760" cy="597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30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70.6 +7.1/-6.6 (stat) ± 4.4 (syst) GeV/</a:t>
            </a:r>
            <a:r>
              <a:rPr b="0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77800" y="555300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59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79480" y="54864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Template f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486240" y="3429000"/>
            <a:ext cx="247680" cy="2476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333cc"/>
                </a:solidFill>
                <a:latin typeface="Arial"/>
              </a:rPr>
              <a:t>Tevatron Run II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0" name="Tevatron" descr=""/>
          <p:cNvPicPr/>
          <p:nvPr/>
        </p:nvPicPr>
        <p:blipFill>
          <a:blip r:embed="rId1"/>
          <a:srcRect l="2784" t="3125" r="35422" b="9324"/>
          <a:stretch/>
        </p:blipFill>
        <p:spPr>
          <a:xfrm>
            <a:off x="5181480" y="182880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3680" y="1219320"/>
            <a:ext cx="574992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ja-JP" sz="3200" spc="-1" strike="noStrike">
                <a:solidFill>
                  <a:srgbClr val="993300"/>
                </a:solidFill>
                <a:latin typeface="Arial"/>
              </a:rPr>
              <a:t>p – p</a:t>
            </a:r>
            <a:r>
              <a:rPr b="0" lang="ja-JP" sz="3200" spc="-1" strike="noStrike">
                <a:solidFill>
                  <a:srgbClr val="993300"/>
                </a:solidFill>
                <a:latin typeface="Arial"/>
              </a:rPr>
              <a:t> collisions 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ja-JP" sz="3200" spc="-1" strike="noStrike">
                <a:solidFill>
                  <a:srgbClr val="993300"/>
                </a:solidFill>
                <a:latin typeface="Symbol"/>
                <a:ea typeface="Symbol"/>
              </a:rPr>
              <a:t></a:t>
            </a:r>
            <a:r>
              <a:rPr b="0" lang="ja-JP" sz="3200" spc="-1" strike="noStrike">
                <a:solidFill>
                  <a:srgbClr val="993300"/>
                </a:solidFill>
                <a:latin typeface="Arial"/>
              </a:rPr>
              <a:t>s = 1.96 Te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cc00ff"/>
                </a:solidFill>
                <a:latin typeface="Arial"/>
              </a:rPr>
              <a:t>Peak luminos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c00ff"/>
                </a:solidFill>
                <a:latin typeface="Arial"/>
              </a:rPr>
              <a:t>      </a:t>
            </a:r>
            <a:r>
              <a:rPr b="0" lang="ja-JP" sz="3200" spc="-1" strike="noStrike">
                <a:solidFill>
                  <a:srgbClr val="cc00ff"/>
                </a:solidFill>
                <a:latin typeface="Arial"/>
              </a:rPr>
              <a:t>&gt;</a:t>
            </a:r>
            <a:r>
              <a:rPr b="0" lang="ja-JP" sz="3200" spc="-1" strike="noStrike">
                <a:solidFill>
                  <a:srgbClr val="cc00ff"/>
                </a:solidFill>
                <a:latin typeface="Symbol"/>
                <a:ea typeface="Symbol"/>
              </a:rPr>
              <a:t></a:t>
            </a:r>
            <a:r>
              <a:rPr b="0" lang="ja-JP" sz="3200" spc="-1" strike="noStrike">
                <a:solidFill>
                  <a:srgbClr val="cc00ff"/>
                </a:solidFill>
                <a:latin typeface="Arial"/>
              </a:rPr>
              <a:t> 1.2</a:t>
            </a:r>
            <a:r>
              <a:rPr b="0" lang="ja-JP" sz="3200" spc="-1" strike="noStrike">
                <a:solidFill>
                  <a:srgbClr val="cc00ff"/>
                </a:solidFill>
                <a:latin typeface="Symbol"/>
                <a:ea typeface="Symbol"/>
              </a:rPr>
              <a:t></a:t>
            </a:r>
            <a:r>
              <a:rPr b="0" lang="ja-JP" sz="3200" spc="-1" strike="noStrike">
                <a:solidFill>
                  <a:srgbClr val="cc00ff"/>
                </a:solidFill>
                <a:latin typeface="Arial"/>
              </a:rPr>
              <a:t>10</a:t>
            </a:r>
            <a:r>
              <a:rPr b="0" lang="ja-JP" sz="3200" spc="-1" strike="noStrike" baseline="30000">
                <a:solidFill>
                  <a:srgbClr val="cc00ff"/>
                </a:solidFill>
                <a:latin typeface="Arial"/>
              </a:rPr>
              <a:t>32 </a:t>
            </a:r>
            <a:r>
              <a:rPr b="0" lang="ja-JP" sz="3200" spc="-1" strike="noStrike">
                <a:solidFill>
                  <a:srgbClr val="cc00ff"/>
                </a:solidFill>
                <a:latin typeface="Arial"/>
              </a:rPr>
              <a:t>cm</a:t>
            </a:r>
            <a:r>
              <a:rPr b="0" lang="ja-JP" sz="3200" spc="-1" strike="noStrike" baseline="30000">
                <a:solidFill>
                  <a:srgbClr val="cc00ff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cc00ff"/>
                </a:solidFill>
                <a:latin typeface="Arial"/>
              </a:rPr>
              <a:t> s</a:t>
            </a:r>
            <a:r>
              <a:rPr b="0" lang="ja-JP" sz="3200" spc="-1" strike="noStrike" baseline="30000">
                <a:solidFill>
                  <a:srgbClr val="cc00ff"/>
                </a:solidFill>
                <a:latin typeface="Arial"/>
              </a:rPr>
              <a:t>-1</a:t>
            </a:r>
            <a:r>
              <a:rPr b="0" lang="ja-JP" sz="3200" spc="-1" strike="noStrike">
                <a:solidFill>
                  <a:srgbClr val="cc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3200" spc="-1" strike="noStrike">
                <a:solidFill>
                  <a:srgbClr val="3333ff"/>
                </a:solidFill>
                <a:latin typeface="Symbol"/>
                <a:ea typeface="Symbol"/>
              </a:rPr>
              <a:t></a:t>
            </a:r>
            <a:r>
              <a:rPr b="0" lang="ja-JP" sz="3200" spc="-1" strike="noStrike">
                <a:solidFill>
                  <a:srgbClr val="3333ff"/>
                </a:solidFill>
                <a:latin typeface="Arial"/>
              </a:rPr>
              <a:t>900 pb</a:t>
            </a:r>
            <a:r>
              <a:rPr b="0" lang="ja-JP" sz="3200" spc="-1" strike="noStrike" baseline="30000">
                <a:solidFill>
                  <a:srgbClr val="3333ff"/>
                </a:solidFill>
                <a:latin typeface="Arial"/>
              </a:rPr>
              <a:t>-1</a:t>
            </a:r>
            <a:r>
              <a:rPr b="0" lang="ja-JP" sz="3200" spc="-1" strike="noStrike">
                <a:solidFill>
                  <a:srgbClr val="3333ff"/>
                </a:solidFill>
                <a:latin typeface="Arial"/>
              </a:rPr>
              <a:t> of data alread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ja-JP" sz="3200" spc="-1" strike="noStrike">
                <a:solidFill>
                  <a:srgbClr val="3333ff"/>
                </a:solidFill>
                <a:latin typeface="Arial"/>
              </a:rPr>
              <a:t>acquired by CDF and D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cc99"/>
                </a:solidFill>
                <a:latin typeface="Arial"/>
              </a:rPr>
              <a:t>Current analyses 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cc99"/>
                </a:solidFill>
                <a:latin typeface="Arial"/>
              </a:rPr>
              <a:t>     </a:t>
            </a:r>
            <a:r>
              <a:rPr b="0" lang="ja-JP" sz="3200" spc="-1" strike="noStrike">
                <a:solidFill>
                  <a:srgbClr val="00cc99"/>
                </a:solidFill>
                <a:latin typeface="Arial"/>
              </a:rPr>
              <a:t>300 – 400 pb</a:t>
            </a:r>
            <a:r>
              <a:rPr b="0" lang="ja-JP" sz="3200" spc="-1" strike="noStrike" baseline="30000">
                <a:solidFill>
                  <a:srgbClr val="00cc99"/>
                </a:solidFill>
                <a:latin typeface="Arial"/>
              </a:rPr>
              <a:t>-1</a:t>
            </a:r>
            <a:r>
              <a:rPr b="0" lang="ja-JP" sz="3200" spc="-1" strike="noStrike">
                <a:solidFill>
                  <a:srgbClr val="00cc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Direct study on top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only possible at Tevatron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1371600"/>
            <a:ext cx="22860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CDF Dilepton P</a:t>
            </a:r>
            <a:r>
              <a:rPr b="1" lang="ja-JP" sz="4400" spc="-1" strike="noStrike" baseline="-25000">
                <a:solidFill>
                  <a:srgbClr val="3333cc"/>
                </a:solidFill>
                <a:latin typeface="Arial"/>
              </a:rPr>
              <a:t>z</a:t>
            </a: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(tt)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1486080"/>
            <a:ext cx="42069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 assuming Pz of tt syst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menta of the 6 f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articles can be calcu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m the observ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alculate the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invariant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of 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Scan over as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variabl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probability of M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ick the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most 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value of M</a:t>
            </a:r>
            <a:r>
              <a:rPr b="0" lang="ja-JP" sz="2400" spc="-1" strike="noStrike" baseline="-25000">
                <a:solidFill>
                  <a:srgbClr val="ff00ff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or the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8360" y="6095880"/>
            <a:ext cx="7835760" cy="597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30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70.2 +7.8/-7.2 (stat) ± 3.8 (syst) GeV/</a:t>
            </a:r>
            <a:r>
              <a:rPr b="0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77800" y="555300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40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79480" y="54864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Template f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10240" y="53352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795920" y="1295280"/>
            <a:ext cx="4119480" cy="4038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695680" y="1585800"/>
            <a:ext cx="759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CDF Dilepton </a:t>
            </a:r>
            <a:r>
              <a:rPr b="1" lang="ja-JP" sz="4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 of </a:t>
            </a:r>
            <a:r>
              <a:rPr b="1" lang="ja-JP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9960" y="2438280"/>
            <a:ext cx="420696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Assume (</a:t>
            </a:r>
            <a:r>
              <a:rPr b="0" lang="ja-JP" sz="2400" spc="-1" strike="noStrike">
                <a:solidFill>
                  <a:srgbClr val="00cc99"/>
                </a:solidFill>
                <a:latin typeface="Symbol"/>
                <a:ea typeface="Symbol"/>
              </a:rPr>
              <a:t></a:t>
            </a:r>
            <a:r>
              <a:rPr b="0" lang="ja-JP" sz="2400" spc="-1" strike="noStrike" baseline="-25000">
                <a:solidFill>
                  <a:srgbClr val="00cc99"/>
                </a:solidFill>
                <a:latin typeface="Symbol"/>
                <a:ea typeface="Symbol"/>
              </a:rPr>
              <a:t></a:t>
            </a:r>
            <a:r>
              <a:rPr b="0" lang="ja-JP" sz="2400" spc="-1" strike="noStrike">
                <a:solidFill>
                  <a:srgbClr val="00cc99"/>
                </a:solidFill>
                <a:latin typeface="Symbol"/>
                <a:ea typeface="Symbol"/>
              </a:rPr>
              <a:t></a:t>
            </a:r>
            <a:r>
              <a:rPr b="0" lang="ja-JP" sz="2400" spc="-1" strike="noStrike" baseline="-25000">
                <a:solidFill>
                  <a:srgbClr val="00cc99"/>
                </a:solidFill>
                <a:latin typeface="Symbol"/>
                <a:ea typeface="Symbol"/>
              </a:rPr>
              <a:t>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alculate M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ja-JP" sz="2400" spc="-1" strike="noStrike">
                <a:solidFill>
                  <a:srgbClr val="00cc99"/>
                </a:solidFill>
                <a:latin typeface="Symbol"/>
                <a:ea typeface="Symbol"/>
              </a:rPr>
              <a:t></a:t>
            </a:r>
            <a:r>
              <a:rPr b="0" lang="ja-JP" sz="2400" spc="-1" strike="noStrike" baseline="30000">
                <a:solidFill>
                  <a:srgbClr val="00cc99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 fi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Scan over as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cc99"/>
                </a:solidFill>
                <a:latin typeface="Arial"/>
              </a:rPr>
              <a:t>variabl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probability of M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ick the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most 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value of M</a:t>
            </a:r>
            <a:r>
              <a:rPr b="0" lang="ja-JP" sz="2400" spc="-1" strike="noStrike" baseline="-25000">
                <a:solidFill>
                  <a:srgbClr val="ff00ff"/>
                </a:solidFill>
                <a:latin typeface="Arial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for the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8360" y="6095880"/>
            <a:ext cx="7835760" cy="597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800" spc="-1" strike="noStrike" baseline="-30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= 169.8 +9.2/-9.3 (stat) ± 3.8 (syst) GeV/</a:t>
            </a:r>
            <a:r>
              <a:rPr b="0" i="1" lang="ja-JP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77800" y="5553000"/>
            <a:ext cx="1773360" cy="45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onotype Corsiva"/>
              </a:rPr>
              <a:t>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 340 pb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92240" y="52578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Template f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963880" y="838080"/>
            <a:ext cx="6027480" cy="1282680"/>
            <a:chOff x="2963880" y="838080"/>
            <a:chExt cx="6027480" cy="1282680"/>
          </a:xfrm>
        </p:grpSpPr>
        <p:sp>
          <p:nvSpPr>
            <p:cNvPr id="383" name=""/>
            <p:cNvSpPr/>
            <p:nvPr/>
          </p:nvSpPr>
          <p:spPr>
            <a:xfrm>
              <a:off x="2963880" y="838080"/>
              <a:ext cx="6027480" cy="12826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3016080" y="904680"/>
                  <a:ext cx="47782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l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jets</m:t>
                          </m:r>
                        </m:sub>
                        <m:sup/>
                        <m:e>
                          <m:f>
                            <m:num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it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eas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</m:sub>
                            <m:sup/>
                            <m:e>
                              <m:f>
                                <m:num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E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p>
                                          <m:r>
                                            <m:t xml:space="preserve">j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it</m:t>
                                          </m:r>
                                        </m:sup>
                                      </m:sSup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E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p>
                                          <m:r>
                                            <m:t xml:space="preserve">j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eas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sup>
                                      </m:sSup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den>
                              </m:f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3133440" y="1498680"/>
                  <a:ext cx="5480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p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p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p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3955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New Preliminary World Averag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22240" y="5943600"/>
            <a:ext cx="595044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=172.7 </a:t>
            </a:r>
            <a:r>
              <a:rPr b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1.7 (stat) </a:t>
            </a:r>
            <a:r>
              <a:rPr b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2.4 (syst) GeV/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ja-JP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22860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lit into 2 to isolate “in situ” JES systematics from other 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1600" y="129528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orrela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9144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mbination of the best analysis from each decay mode, each experi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171880" y="1905120"/>
            <a:ext cx="6667200" cy="39146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371600" y="35812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71600" y="358128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3333cc"/>
                </a:solidFill>
                <a:latin typeface="Arial"/>
              </a:rPr>
              <a:t>Zbb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rigg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 SVT track + 2 10GeV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Offline Cut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==2 jets w/ E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20GeV, |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|&lt;1.5 (JetClu cone 0.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oth jets are required to have secondary vertex t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j1,j2)&gt;3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3rd-j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10G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zbbbar_massplot" descr="Fit to dijet mass - Et(3)&lt;10 Ge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447920"/>
            <a:ext cx="5029200" cy="48495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710240" y="304920"/>
            <a:ext cx="3808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DF and D0 Detector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4" name="cdf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4505400" cy="371016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952880" y="3201840"/>
            <a:ext cx="3810240" cy="2489400"/>
            <a:chOff x="4952880" y="3201840"/>
            <a:chExt cx="3810240" cy="2489400"/>
          </a:xfrm>
        </p:grpSpPr>
        <p:pic>
          <p:nvPicPr>
            <p:cNvPr id="66" name="" descr=""/>
            <p:cNvPicPr/>
            <p:nvPr/>
          </p:nvPicPr>
          <p:blipFill>
            <a:blip r:embed="rId2"/>
            <a:srcRect l="5058" t="69326" r="38464" b="2309"/>
            <a:stretch/>
          </p:blipFill>
          <p:spPr>
            <a:xfrm>
              <a:off x="4952880" y="3201840"/>
              <a:ext cx="3810240" cy="24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 txBox="1"/>
            <p:nvPr/>
          </p:nvSpPr>
          <p:spPr>
            <a:xfrm>
              <a:off x="4952880" y="3201840"/>
              <a:ext cx="3810240" cy="24894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6480" y="762120"/>
            <a:ext cx="516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Both multi-purpose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80120" y="1295280"/>
            <a:ext cx="444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racking in magnetic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ecision tracking with silic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alori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uon cha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040" y="3726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3200" y="2209680"/>
            <a:ext cx="1017360" cy="581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11560" y="2592360"/>
            <a:ext cx="700560" cy="581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0320" y="6080040"/>
            <a:ext cx="361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et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~ 84%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GeV/c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tbar" descr=""/>
          <p:cNvPicPr/>
          <p:nvPr/>
        </p:nvPicPr>
        <p:blipFill>
          <a:blip r:embed="rId1"/>
          <a:stretch/>
        </p:blipFill>
        <p:spPr>
          <a:xfrm>
            <a:off x="4946760" y="1295280"/>
            <a:ext cx="3738600" cy="2614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935760" y="27464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2819520"/>
            <a:ext cx="176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96240" y="19810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7840" y="1706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784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4000" y="3059280"/>
            <a:ext cx="17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9760" y="1676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9760" y="2901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26120" y="3611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34480" y="3711600"/>
            <a:ext cx="17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26120" y="990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78280" y="21636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03280" y="304812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33880" y="141120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535960" y="213372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86800" y="232092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11920" y="3281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11920" y="243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93680" y="2362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ff"/>
                </a:solidFill>
                <a:latin typeface="Arial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08080" y="2362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ff"/>
                </a:solidFill>
                <a:latin typeface="Arial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1523880"/>
            <a:ext cx="457200" cy="45720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1523880"/>
            <a:ext cx="457200" cy="160020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60960" y="129528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ff"/>
                </a:solidFill>
                <a:latin typeface="Symbol"/>
                <a:ea typeface="Symbol"/>
              </a:rPr>
              <a:t></a:t>
            </a:r>
            <a:r>
              <a:rPr b="0" lang="ja-JP" sz="2400" spc="-1" strike="noStrike">
                <a:solidFill>
                  <a:srgbClr val="cc00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op Quark Production and Decay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We use pair cre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events to measure m</a:t>
            </a:r>
            <a:r>
              <a:rPr b="0" lang="ja-JP" sz="2800" spc="-1" strike="noStrike" baseline="-25000">
                <a:solidFill>
                  <a:srgbClr val="ff00ff"/>
                </a:solidFill>
                <a:latin typeface="Arial"/>
              </a:rPr>
              <a:t>top</a:t>
            </a: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p decay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adr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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=0.4x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-24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 1/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QCD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-23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Br(t</a:t>
            </a:r>
            <a:r>
              <a:rPr b="0" lang="ja-JP" sz="28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Wb) </a:t>
            </a:r>
            <a:r>
              <a:rPr b="0" lang="ja-JP" sz="2800" spc="-1" strike="noStrike">
                <a:solidFill>
                  <a:srgbClr val="ff00ff"/>
                </a:solidFill>
                <a:latin typeface="Symbol"/>
                <a:ea typeface="Symbol"/>
              </a:rPr>
              <a:t></a:t>
            </a:r>
            <a:r>
              <a:rPr b="0" lang="ja-JP" sz="2800" spc="-1" strike="noStrike">
                <a:solidFill>
                  <a:srgbClr val="ff00ff"/>
                </a:solidFill>
                <a:latin typeface="Arial"/>
              </a:rPr>
              <a:t> 100%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960" y="47242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dilep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3040" y="519588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pton+j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4600" y="524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58080" y="48020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15440" y="4800600"/>
            <a:ext cx="59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but few signal.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wo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final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43160" y="525780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in final state. Manageable bkg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7080" y="565308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ll hadr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1876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8040" y="57150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Large 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5560" y="6105600"/>
            <a:ext cx="9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18760" y="6161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8040" y="61722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ID is challen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2720" y="426708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10400" y="43434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.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20040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28600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088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2670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99172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34340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7242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51814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6386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60958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65530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62940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8098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Final stat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2362320" cy="1892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vent Selec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3962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+j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pton (e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 jets (2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je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ecial cut on for 0ta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CDF:hard cut on 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4thj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condary vertex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tag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705360" y="761760"/>
            <a:ext cx="2514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le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lepton (e/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 jets (2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j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ta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04920" y="16761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520" y="3876840"/>
          <a:ext cx="8153280" cy="2277720"/>
        </p:xfrm>
        <a:graphic>
          <a:graphicData uri="http://schemas.openxmlformats.org/drawingml/2006/table">
            <a:tbl>
              <a:tblPr/>
              <a:tblGrid>
                <a:gridCol w="2869920"/>
                <a:gridCol w="1054440"/>
                <a:gridCol w="1056960"/>
                <a:gridCol w="1057320"/>
                <a:gridCol w="2114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+j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ep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t (320pb</a:t>
                      </a:r>
                      <a:r>
                        <a:rPr b="0" lang="ja-JP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: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: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arton-jet assig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7191360" y="170928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78296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773680"/>
            <a:ext cx="2971800" cy="304920"/>
          </a:xfrm>
          <a:prstGeom prst="flowChartAlternateProcess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6140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tagging helps reject wrong assign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sides reduces backgrou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360" y="3429000"/>
            <a:ext cx="51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ical CDF event rate and S/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easurement Method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Templat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struct event-by-event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dependence of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stribution on true top mass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ing M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lihood fit looks for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describes data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 best (template f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ss assumptions / robust measu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9907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Matrix Elemen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likelihood (probability) for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ach event by Matrix Element calc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y the likelihood over the candidate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termination by the joint likelihood max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tter statistical precision expected w/ using more in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4480" y="5867280"/>
            <a:ext cx="87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ll methods in all channels are well validated by a blind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DF L+jets Template Method (1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construct event-by-event top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5600" y="1841400"/>
            <a:ext cx="8389800" cy="1973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98320" y="1943280"/>
                <a:ext cx="66517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jet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it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eas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E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it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E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eas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</m:sup>
                                    </m:sSup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033560" y="2857680"/>
                <a:ext cx="70848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ν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ν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79360" y="1982880"/>
            <a:ext cx="6105600" cy="844560"/>
          </a:xfrm>
          <a:prstGeom prst="flowChartAlternateProcess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04960" y="1700280"/>
            <a:ext cx="363240" cy="210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47680" y="1371600"/>
            <a:ext cx="69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Fluctuate particle momenta according to detector re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52440" y="2898720"/>
            <a:ext cx="3198960" cy="774720"/>
          </a:xfrm>
          <a:prstGeom prst="flowChartAlternateProcess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78400" y="3673080"/>
            <a:ext cx="145800" cy="3524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2880" y="381492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Constrain masses of 2 W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68840" y="2884320"/>
            <a:ext cx="3408480" cy="846360"/>
          </a:xfrm>
          <a:prstGeom prst="flowChartAlternateProcess">
            <a:avLst/>
          </a:prstGeom>
          <a:noFill/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890960" y="3728880"/>
            <a:ext cx="74880" cy="3542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7760" y="3870360"/>
            <a:ext cx="33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t and t have the same m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9400" y="3917880"/>
            <a:ext cx="120600" cy="1260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851200"/>
            <a:ext cx="533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2851200"/>
            <a:ext cx="533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46680" y="68500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33080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 jets from W decay / 2 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j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 jet-parton assig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-tagging helps reject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ff0066"/>
                </a:solidFill>
                <a:latin typeface="Arial"/>
              </a:rPr>
              <a:t>assignmen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besides re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ck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32116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4543560"/>
            <a:ext cx="32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Subdivide 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events into 0, 1, 2 t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hoose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ith smallest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943240" y="2362320"/>
            <a:ext cx="160020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2362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11040" y="1828800"/>
            <a:ext cx="1482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ff0000"/>
                </a:solidFill>
                <a:latin typeface="Arial"/>
              </a:rPr>
              <a:t>top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free pa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DF L+jets Template Method (2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7" name="templates_prd3" descr=""/>
          <p:cNvPicPr/>
          <p:nvPr/>
        </p:nvPicPr>
        <p:blipFill>
          <a:blip r:embed="rId1"/>
          <a:stretch/>
        </p:blipFill>
        <p:spPr>
          <a:xfrm>
            <a:off x="380880" y="3201840"/>
            <a:ext cx="3886200" cy="3537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287964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to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2895480"/>
            <a:ext cx="3429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Hadronic W mas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965240"/>
            <a:ext cx="7772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nd hadronic W invariant mass distributions are parametrized as functions of true top mass and Jet Energy Scale (JES) using Monte Carlo s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114800" y="3276720"/>
            <a:ext cx="4048200" cy="3528720"/>
            <a:chOff x="4114800" y="3276720"/>
            <a:chExt cx="4048200" cy="352872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267440" y="3276720"/>
              <a:ext cx="389556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114800" y="5205240"/>
              <a:ext cx="38124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47920" y="68580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rgest uncertainty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et Energy Scale (J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28760" y="1523880"/>
            <a:ext cx="6322680" cy="459720"/>
            <a:chOff x="1328760" y="1523880"/>
            <a:chExt cx="6322680" cy="459720"/>
          </a:xfrm>
        </p:grpSpPr>
        <p:sp>
          <p:nvSpPr>
            <p:cNvPr id="176" name=""/>
            <p:cNvSpPr/>
            <p:nvPr/>
          </p:nvSpPr>
          <p:spPr>
            <a:xfrm>
              <a:off x="1328760" y="1523880"/>
              <a:ext cx="63226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Arial"/>
                </a:rPr>
                <a:t>In situ JES calibration using W</a:t>
              </a:r>
              <a:r>
                <a:rPr b="0" lang="ja-JP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0" lang="ja-JP" sz="2400" spc="-1" strike="noStrike">
                  <a:solidFill>
                    <a:srgbClr val="ff0000"/>
                  </a:solidFill>
                  <a:latin typeface="Arial"/>
                </a:rPr>
                <a:t>jj in tt ev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10160" y="1642680"/>
              <a:ext cx="76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4572000" y="990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3800" y="942840"/>
            <a:ext cx="28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understanding of J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ff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ff"/>
                </a:solidFill>
                <a:latin typeface="Arial"/>
              </a:rPr>
              <a:t>Minimize JES un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167240" y="4531320"/>
            <a:ext cx="2855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 shifted by –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-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generic jet calib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7772400" y="4495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ji sato</cp:lastModifiedBy>
  <dcterms:modified xsi:type="dcterms:W3CDTF">2005-07-21T12:44:41Z</dcterms:modified>
  <cp:revision>83</cp:revision>
  <dc:subject/>
  <dc:title>Top Mass Measurement  at the Tevatron</dc:title>
</cp:coreProperties>
</file>