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9.wmf" ContentType="image/x-wmf"/>
  <Override PartName="/ppt/media/image6.wmf" ContentType="image/x-wmf"/>
  <Override PartName="/ppt/media/image11.wmf" ContentType="image/x-wmf"/>
  <Override PartName="/ppt/media/image7.jpeg" ContentType="image/jpeg"/>
  <Override PartName="/ppt/media/image10.wmf" ContentType="image/x-wmf"/>
  <Override PartName="/ppt/media/image4.jpeg" ContentType="image/jpeg"/>
  <Override PartName="/ppt/media/image12.jpeg" ContentType="image/jpeg"/>
  <Override PartName="/ppt/media/image8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542213" cy="11015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87B1A-D9C2-474C-A000-B517208B1B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002D5-C390-42AF-AF27-8F41801E50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F2D54-0F48-47D9-8DD6-C156226471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35B17-4529-463A-A9CD-A3D05696B2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EAEAE-A646-4621-B05B-641CED5C1C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E9744-87A5-498A-8DBF-B44B9CA183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23D29-177C-4DF0-AE6E-BABBF63874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BC418-20CE-42D3-A696-4210BE2D68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D48E7-CF55-4B5D-98BB-D39DDAC97A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656FF-0F77-4329-8CE6-058AC60B3B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6AF3E-5C3B-46A8-9BD9-F8120D03DD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943CF-01C9-415B-878B-F1DB235772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51920" y="6400440"/>
            <a:ext cx="4953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99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5B349-802E-45FE-BD67-63B80A93219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Run2b Silicon Detector - Overview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K. Hara </a:t>
            </a: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U of Tsukuba</a:t>
            </a: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51880" y="2666880"/>
            <a:ext cx="68072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Project St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Sensor Prototyp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Testing at U Tsukuba - covered by Take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Limitations in Q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Charge Up Iss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Sensor QA Agreeme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DF Japan Meeting, Dec 13-14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8526F-A145-4FBE-A151-418ACD98DA9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Charge-Up Recovery (w/o UV)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809880" y="914400"/>
          <a:ext cx="5734080" cy="2895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914400"/>
                    <a:ext cx="573408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3657600" y="3581280"/>
          <a:ext cx="6019920" cy="3276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3581280"/>
                    <a:ext cx="601992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6095880" y="990720"/>
            <a:ext cx="0" cy="1143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5880" y="9144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5520" y="914400"/>
            <a:ext cx="80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epo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2280" y="1143000"/>
            <a:ext cx="3276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cc"/>
                </a:solidFill>
                <a:latin typeface="Times New Roman"/>
              </a:rPr>
              <a:t>Bias is kept on at 200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9933"/>
                </a:solidFill>
                <a:latin typeface="Times New Roman"/>
              </a:rPr>
              <a:t>initial: uniformly charge-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ff"/>
                </a:solidFill>
                <a:latin typeface="Times New Roman"/>
              </a:rPr>
              <a:t>T=0: right after epoxied and wire-bonded (epoxy not cur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3640" y="3886200"/>
            <a:ext cx="3413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9900"/>
                </a:solidFill>
                <a:latin typeface="Times New Roman"/>
              </a:rPr>
              <a:t>Recovery is recogniz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9900"/>
                </a:solidFill>
                <a:latin typeface="Times New Roman"/>
              </a:rPr>
              <a:t>    </a:t>
            </a:r>
            <a:r>
              <a:rPr b="0" lang="ja-JP" sz="2000" spc="-1" strike="noStrike">
                <a:solidFill>
                  <a:srgbClr val="ff9900"/>
                </a:solidFill>
                <a:latin typeface="Times New Roman"/>
              </a:rPr>
              <a:t>in epoxied 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9900"/>
                </a:solidFill>
                <a:latin typeface="Times New Roman"/>
              </a:rPr>
              <a:t>    </a:t>
            </a:r>
            <a:r>
              <a:rPr b="0" lang="ja-JP" sz="2000" spc="-1" strike="noStrike">
                <a:solidFill>
                  <a:srgbClr val="ff9900"/>
                </a:solidFill>
                <a:latin typeface="Times New Roman"/>
              </a:rPr>
              <a:t>in region close to wire-bo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562720" y="3200400"/>
            <a:ext cx="380880" cy="38088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324480" y="3200400"/>
            <a:ext cx="381240" cy="38088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9560" y="335268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9900"/>
                </a:solidFill>
                <a:latin typeface="Times New Roman"/>
              </a:rPr>
              <a:t>wirebo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495680" y="3428640"/>
            <a:ext cx="9907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4648320" y="3504960"/>
            <a:ext cx="167616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8800" y="6324480"/>
            <a:ext cx="360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ease ignore isolated points (bad contac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DF Japan Meeting, Dec 13-14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FA9C5-6CCC-474F-9D55-B5125A06AE0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Charge-Up Recovery (w/ UV)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280" y="1523880"/>
            <a:ext cx="3276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ias is kept on at 200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UV on (Ib~175u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substantial recovery in the region close to wire-bo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(see the time consta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Unfortunately but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probes wiped prior to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T=63h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 measu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sensor taken off the stage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351320" y="6019920"/>
            <a:ext cx="360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ease ignore isolated points (bad contac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3124080" y="1219320"/>
          <a:ext cx="6400800" cy="466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219320"/>
                    <a:ext cx="6400800" cy="46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1523880" y="525780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0080" y="5840280"/>
            <a:ext cx="281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harge-up disappeared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we terminated data ta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DF Japan Meeting, Dec 13-14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12F92-0332-4154-A48A-336B1EB1591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1752480" y="457200"/>
          <a:ext cx="6229440" cy="416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457200"/>
                    <a:ext cx="6229440" cy="41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2743200" y="2057400"/>
            <a:ext cx="1676520" cy="4572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0960" y="1523880"/>
            <a:ext cx="23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ompletely recov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90920" y="1828800"/>
            <a:ext cx="304560" cy="2286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267080" y="3352680"/>
            <a:ext cx="3429000" cy="45720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708880" y="4191120"/>
            <a:ext cx="25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dditional charge-up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2280" y="4114800"/>
            <a:ext cx="832176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s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wire-bonds remove surface ch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poxy helps remove surface ch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urface charge in isolated area could remain at least for day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UV enhances charge removal (near wire-bonded reg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poxy degrades isolation, the system becomes weak against external char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oid use of tweezers unless it is proven not to charge-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When the sensor is removed from the stage</a:t>
            </a:r>
            <a:br>
              <a:rPr sz="2400"/>
            </a:b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265720" y="838080"/>
            <a:ext cx="360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ease ignore isolated points (bad contac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DF Japan Meeting, Dec 13-14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4C39E-A094-4ECB-B9EB-4F04D0443AA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Document of Testing Procedure+QA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QA document is under circulation:</a:t>
            </a: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47520" y="1523880"/>
            <a:ext cx="724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99cc"/>
                </a:solidFill>
                <a:latin typeface="Times New Roman"/>
              </a:rPr>
              <a:t> </a:t>
            </a:r>
            <a:r>
              <a:rPr b="0" lang="ja-JP" sz="2000" spc="-1" strike="noStrike">
                <a:solidFill>
                  <a:srgbClr val="0099cc"/>
                </a:solidFill>
                <a:latin typeface="Arial"/>
              </a:rPr>
              <a:t>http//hep-www.px.tsukuba.ac.jp/~hara/run2bsi/QA_sensor.d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QA1" descr=""/>
          <p:cNvPicPr/>
          <p:nvPr/>
        </p:nvPicPr>
        <p:blipFill>
          <a:blip r:embed="rId1"/>
          <a:stretch/>
        </p:blipFill>
        <p:spPr>
          <a:xfrm>
            <a:off x="1168560" y="2057400"/>
            <a:ext cx="6806880" cy="1078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DF Japan Meeting, Dec 13-14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D19D4-F5AA-4264-8969-89D89CA6FD6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qa2" descr=""/>
          <p:cNvPicPr/>
          <p:nvPr/>
        </p:nvPicPr>
        <p:blipFill>
          <a:blip r:embed="rId1"/>
          <a:stretch/>
        </p:blipFill>
        <p:spPr>
          <a:xfrm>
            <a:off x="826920" y="380880"/>
            <a:ext cx="7490160" cy="2292480"/>
          </a:xfrm>
          <a:prstGeom prst="rect">
            <a:avLst/>
          </a:prstGeom>
          <a:ln w="0">
            <a:noFill/>
          </a:ln>
        </p:spPr>
      </p:pic>
      <p:pic>
        <p:nvPicPr>
          <p:cNvPr id="181" name="qa3" descr=""/>
          <p:cNvPicPr/>
          <p:nvPr/>
        </p:nvPicPr>
        <p:blipFill>
          <a:blip r:embed="rId2"/>
          <a:stretch/>
        </p:blipFill>
        <p:spPr>
          <a:xfrm>
            <a:off x="1219320" y="2971800"/>
            <a:ext cx="7162560" cy="3660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DF Japan Meeting, Dec 13-14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96CCD-03C3-4AA2-ACCE-E0021B6DB61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906920" y="7779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Osaka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40280" y="7779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Osak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6680" y="5029200"/>
            <a:ext cx="763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平成明朝"/>
              </a:rPr>
              <a:t>Schedule driven b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平成明朝"/>
              </a:rPr>
              <a:t>  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平成明朝"/>
              </a:rPr>
              <a:t>stave construction/testing of components (hybrids, miniPC, bus cab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平成明朝"/>
              </a:rPr>
              <a:t>Installation should complete in 6 month shutd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1235160"/>
            <a:ext cx="8229600" cy="3733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" y="3444840"/>
            <a:ext cx="8229600" cy="914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60640" y="1235160"/>
            <a:ext cx="1440" cy="36576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121280" y="1235160"/>
            <a:ext cx="1440" cy="36576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63640" y="1235160"/>
            <a:ext cx="144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24080" y="1235160"/>
            <a:ext cx="180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84880" y="1235160"/>
            <a:ext cx="144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4880" y="1311120"/>
            <a:ext cx="279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  <a:ea typeface="Osaka"/>
              </a:rPr>
              <a:t>1st prototype stave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0800" y="1692360"/>
            <a:ext cx="37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Osaka"/>
              </a:rPr>
              <a:t>testing prototype DAQ chain comple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3200" y="367344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Osaka"/>
              </a:rPr>
              <a:t>prototy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11120" y="373392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Osaka"/>
              </a:rPr>
              <a:t>or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123720" y="3673440"/>
            <a:ext cx="198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Osaka"/>
              </a:rPr>
              <a:t>production deli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24080" y="3992400"/>
            <a:ext cx="1447920" cy="76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515280" y="1235160"/>
            <a:ext cx="1440" cy="36576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5080" y="1996920"/>
            <a:ext cx="24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Osaka"/>
              </a:rPr>
              <a:t>pre-production go ah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63640" y="3992400"/>
            <a:ext cx="398520" cy="76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328760" y="3992400"/>
            <a:ext cx="398520" cy="76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620120" y="1235160"/>
            <a:ext cx="144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402600" y="7779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Osaka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447920" y="1311120"/>
            <a:ext cx="38088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76520" y="1311120"/>
            <a:ext cx="380880" cy="304920"/>
          </a:xfrm>
          <a:prstGeom prst="su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133720" y="1692360"/>
            <a:ext cx="38088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00400" y="1996920"/>
            <a:ext cx="38088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458200" y="2835360"/>
            <a:ext cx="380880" cy="304560"/>
          </a:xfrm>
          <a:prstGeom prst="su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553080" y="2301840"/>
            <a:ext cx="38124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34160" y="2225520"/>
            <a:ext cx="26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Osaka"/>
              </a:rPr>
              <a:t>stave installation compl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0" y="2530440"/>
            <a:ext cx="38088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91720" y="2530440"/>
            <a:ext cx="23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Osaka"/>
              </a:rPr>
              <a:t>outer detector compl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238880" y="2835360"/>
            <a:ext cx="38124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280400" y="2805120"/>
            <a:ext cx="290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Osaka"/>
              </a:rPr>
              <a:t>ready for installation into IS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924680" y="2530440"/>
            <a:ext cx="381240" cy="304920"/>
          </a:xfrm>
          <a:prstGeom prst="su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543800" y="2301840"/>
            <a:ext cx="380880" cy="304920"/>
          </a:xfrm>
          <a:prstGeom prst="su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05320" y="1996920"/>
            <a:ext cx="380880" cy="304920"/>
          </a:xfrm>
          <a:prstGeom prst="su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362320" y="1692360"/>
            <a:ext cx="380880" cy="304560"/>
          </a:xfrm>
          <a:prstGeom prst="su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648320" y="3139920"/>
            <a:ext cx="38088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105520" y="3139920"/>
            <a:ext cx="380880" cy="304920"/>
          </a:xfrm>
          <a:prstGeom prst="su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359080" y="3139920"/>
            <a:ext cx="22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Osaka"/>
              </a:rPr>
              <a:t>prototype L0 compl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533520"/>
            <a:ext cx="38088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12600" y="533520"/>
            <a:ext cx="12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平成明朝"/>
              </a:rPr>
              <a:t>milest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533520"/>
            <a:ext cx="381240" cy="304560"/>
          </a:xfrm>
          <a:prstGeom prst="su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734200" y="533520"/>
            <a:ext cx="465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平成明朝"/>
              </a:rPr>
              <a:t>L2 milestones: incl. 30wk total conting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9000" y="38401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cc"/>
                </a:solidFill>
                <a:latin typeface="Times New Roman"/>
                <a:ea typeface="Osaka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828800" y="4373640"/>
            <a:ext cx="38088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144080" y="460224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Osaka"/>
              </a:rPr>
              <a:t>prototy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435924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Osaka"/>
              </a:rPr>
              <a:t>L0 c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362320" y="3992400"/>
            <a:ext cx="7596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352680" y="4373640"/>
            <a:ext cx="38124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588400" y="4602240"/>
            <a:ext cx="26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Osaka"/>
              </a:rPr>
              <a:t>production cable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09720" y="3597120"/>
            <a:ext cx="198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00"/>
                </a:solidFill>
                <a:latin typeface="Times New Roman"/>
                <a:ea typeface="Osaka"/>
              </a:rPr>
              <a:t>production deli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733920" y="4145040"/>
            <a:ext cx="152280" cy="759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505320" y="4145040"/>
            <a:ext cx="7596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667960" y="4068720"/>
            <a:ext cx="68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cc"/>
                </a:solidFill>
                <a:latin typeface="Times New Roman"/>
                <a:ea typeface="Osaka"/>
              </a:rPr>
              <a:t>L0 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828800" y="3521160"/>
            <a:ext cx="380880" cy="304560"/>
          </a:xfrm>
          <a:prstGeom prst="su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73040" y="336852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00"/>
                </a:solidFill>
                <a:latin typeface="Times New Roman"/>
                <a:ea typeface="Osaka"/>
              </a:rPr>
              <a:t>or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2743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3333cc"/>
                </a:solidFill>
                <a:latin typeface="Arial"/>
              </a:rPr>
              <a:t>Schedule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19520" y="3597120"/>
            <a:ext cx="342900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2437920" y="4190760"/>
            <a:ext cx="114300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572640" y="5943600"/>
            <a:ext cx="317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9999"/>
                </a:solidFill>
                <a:latin typeface="Times New Roman"/>
              </a:rPr>
              <a:t>workshop: Jan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9999"/>
                </a:solidFill>
                <a:latin typeface="Times New Roman"/>
              </a:rPr>
              <a:t>sensor sign-off mtg: beg. F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81080" y="3657600"/>
            <a:ext cx="304920" cy="3808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DF Japan Meeting, Dec 13-14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5F032-7E6C-4BE5-937B-A32DA15AE3E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362320" y="380880"/>
            <a:ext cx="7924680" cy="6248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3520" y="1523880"/>
            <a:ext cx="3276360" cy="14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Times New Roman"/>
              </a:rPr>
              <a:t>Layer 0: 12 fold  Ax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Times New Roman"/>
              </a:rPr>
              <a:t>Layer 1:   6 fold Axial-Ax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Times New Roman"/>
              </a:rPr>
              <a:t>Layer 2: 12 fold Axial-Stereo (1.2</a:t>
            </a:r>
            <a:r>
              <a:rPr b="1" lang="en-US" sz="1400" spc="-1" strike="noStrike" baseline="50000">
                <a:solidFill>
                  <a:srgbClr val="009999"/>
                </a:solidFill>
                <a:latin typeface="Times New Roman"/>
              </a:rPr>
              <a:t>o</a:t>
            </a:r>
            <a:r>
              <a:rPr b="1" lang="en-US" sz="1600" spc="-1" strike="noStrike">
                <a:solidFill>
                  <a:srgbClr val="009999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Times New Roman"/>
              </a:rPr>
              <a:t>Layer 3: 18 fold Axial-Stereo (1.2</a:t>
            </a:r>
            <a:r>
              <a:rPr b="1" lang="en-US" sz="1600" spc="-1" strike="noStrike" baseline="30000">
                <a:solidFill>
                  <a:srgbClr val="009999"/>
                </a:solidFill>
                <a:latin typeface="Times New Roman"/>
              </a:rPr>
              <a:t>o</a:t>
            </a:r>
            <a:r>
              <a:rPr b="1" lang="en-US" sz="1600" spc="-1" strike="noStrike">
                <a:solidFill>
                  <a:srgbClr val="009999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Times New Roman"/>
              </a:rPr>
              <a:t>Layer 4: 24 fold Axial-Stereo (1.2</a:t>
            </a:r>
            <a:r>
              <a:rPr b="1" lang="en-US" sz="1600" spc="-1" strike="noStrike" baseline="30000">
                <a:solidFill>
                  <a:srgbClr val="009999"/>
                </a:solidFill>
                <a:latin typeface="Times New Roman"/>
              </a:rPr>
              <a:t>o</a:t>
            </a:r>
            <a:r>
              <a:rPr b="1" lang="en-US" sz="1600" spc="-1" strike="noStrike">
                <a:solidFill>
                  <a:srgbClr val="009999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Times New Roman"/>
              </a:rPr>
              <a:t>Layer 5: 30 fold Axial–Ax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1219320"/>
            <a:ext cx="4572000" cy="4572000"/>
          </a:xfrm>
          <a:prstGeom prst="ellipse">
            <a:avLst/>
          </a:prstGeom>
          <a:noFill/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495680" y="1600200"/>
            <a:ext cx="3657600" cy="3809880"/>
          </a:xfrm>
          <a:prstGeom prst="ellipse">
            <a:avLst/>
          </a:prstGeom>
          <a:noFill/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876920" y="2057400"/>
            <a:ext cx="2895480" cy="2895480"/>
          </a:xfrm>
          <a:prstGeom prst="ellipse">
            <a:avLst/>
          </a:prstGeom>
          <a:noFill/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4120" y="2438280"/>
            <a:ext cx="2057400" cy="2133720"/>
          </a:xfrm>
          <a:prstGeom prst="ellipse">
            <a:avLst/>
          </a:prstGeom>
          <a:noFill/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324480" y="762120"/>
            <a:ext cx="0" cy="54100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2133720"/>
            <a:ext cx="4724640" cy="28954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4038480" y="2057400"/>
            <a:ext cx="4572000" cy="28954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3733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Project Statu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0400" y="99072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Lay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0600" y="3124080"/>
            <a:ext cx="313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cc"/>
                </a:solidFill>
                <a:latin typeface="Times New Roman"/>
              </a:rPr>
              <a:t>changes</a:t>
            </a:r>
            <a:r>
              <a:rPr b="0" lang="ja-JP" sz="2400" spc="-1" strike="noStrike">
                <a:solidFill>
                  <a:srgbClr val="3333cc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ja-JP" sz="2400" spc="-1" strike="noStrike">
                <a:solidFill>
                  <a:srgbClr val="3333cc"/>
                </a:solidFill>
                <a:latin typeface="Times New Roman"/>
              </a:rPr>
              <a:t>no </a:t>
            </a:r>
            <a:r>
              <a:rPr b="0" lang="ja-JP" sz="2400" spc="-1" strike="noStrike">
                <a:solidFill>
                  <a:srgbClr val="3333cc"/>
                </a:solidFill>
                <a:latin typeface="Times New Roman"/>
              </a:rPr>
              <a:t>90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ja-JP" sz="2400" spc="-1" strike="noStrike">
                <a:solidFill>
                  <a:srgbClr val="3333cc"/>
                </a:solidFill>
                <a:latin typeface="Times New Roman"/>
              </a:rPr>
              <a:t>; 2.5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o </a:t>
            </a:r>
            <a:r>
              <a:rPr b="0" lang="ja-JP" sz="2400" spc="-1" strike="noStrike" baseline="30000">
                <a:solidFill>
                  <a:srgbClr val="3333cc"/>
                </a:solidFill>
                <a:latin typeface="Times New Roman"/>
              </a:rPr>
              <a:t>　</a:t>
            </a:r>
            <a:r>
              <a:rPr b="0" lang="ja-JP" sz="2400" spc="-1" strike="noStrike">
                <a:solidFill>
                  <a:srgbClr val="3333cc"/>
                </a:solidFill>
                <a:latin typeface="Times New Roman"/>
              </a:rPr>
              <a:t>→</a:t>
            </a:r>
            <a:r>
              <a:rPr b="0" lang="ja-JP" sz="2400" spc="-1" strike="noStrike" baseline="30000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ja-JP" sz="2400" spc="-1" strike="noStrike">
                <a:solidFill>
                  <a:srgbClr val="3333cc"/>
                </a:solidFill>
                <a:latin typeface="Times New Roman"/>
              </a:rPr>
              <a:t>1.2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baseline="30000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ja-JP" sz="2400" spc="-1" strike="noStrike">
                <a:solidFill>
                  <a:srgbClr val="3333cc"/>
                </a:solidFill>
                <a:latin typeface="Times New Roman"/>
              </a:rPr>
              <a:t>6-fold sym for SV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ja-JP" sz="2400" spc="-1" strike="noStrike">
                <a:solidFill>
                  <a:srgbClr val="3333cc"/>
                </a:solidFill>
                <a:latin typeface="Times New Roman"/>
              </a:rPr>
              <a:t>simplified 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7520" y="4800600"/>
            <a:ext cx="327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1512 outer axial sen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648 outer stereo sen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144 inner axial sen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76240" y="6019920"/>
            <a:ext cx="262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cc99"/>
                </a:solidFill>
                <a:latin typeface="Times New Roman"/>
              </a:rPr>
              <a:t>36x2 axial-axial sta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cc99"/>
                </a:solidFill>
                <a:latin typeface="Times New Roman"/>
              </a:rPr>
              <a:t>54x2 axial-stereo sta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4952880"/>
            <a:ext cx="7632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81280" y="5410080"/>
            <a:ext cx="457200" cy="6858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78280" y="228600"/>
            <a:ext cx="482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passed Lehman Review (Sept 24,0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DOE Review (Dec 18)                 production ph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72200" y="685800"/>
            <a:ext cx="68580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DF Japan Meeting, Dec 13-14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9F153-3796-44BC-B313-21019A39D3E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Sensor Prototypes: Delivery (HPK)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14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9999"/>
                </a:solidFill>
                <a:latin typeface="Times New Roman"/>
              </a:rPr>
              <a:t>60 Axial Prototypes delivered (July 12)</a:t>
            </a:r>
            <a:endParaRPr b="0" lang="en-US" sz="2800" spc="-1" strike="noStrike">
              <a:solidFill>
                <a:srgbClr val="0099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99cc"/>
                </a:solidFill>
                <a:latin typeface="Times New Roman"/>
              </a:rPr>
              <a:t>        </a:t>
            </a:r>
            <a:r>
              <a:rPr b="0" lang="ja-JP" sz="2000" spc="-1" strike="noStrike">
                <a:solidFill>
                  <a:srgbClr val="0099cc"/>
                </a:solidFill>
                <a:latin typeface="Times New Roman"/>
              </a:rPr>
              <a:t>30 grade “A”+30 grade “B” – actually all are grade “A” quality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99cc"/>
                </a:solidFill>
                <a:latin typeface="Times New Roman"/>
              </a:rPr>
              <a:t>        </a:t>
            </a:r>
            <a:r>
              <a:rPr b="0" lang="ja-JP" sz="2000" spc="-1" strike="noStrike">
                <a:solidFill>
                  <a:srgbClr val="0099cc"/>
                </a:solidFill>
                <a:latin typeface="Times New Roman"/>
              </a:rPr>
              <a:t>40 better sensors are shipped to FNAL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9999"/>
                </a:solidFill>
                <a:latin typeface="Times New Roman"/>
              </a:rPr>
              <a:t>53 Stereo Prototypes delivered (by end Oct)</a:t>
            </a:r>
            <a:endParaRPr b="0" lang="en-US" sz="2800" spc="-1" strike="noStrike">
              <a:solidFill>
                <a:srgbClr val="0099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99cc"/>
                </a:solidFill>
                <a:latin typeface="Times New Roman"/>
              </a:rPr>
              <a:t>       </a:t>
            </a:r>
            <a:r>
              <a:rPr b="0" lang="ja-JP" sz="2000" spc="-1" strike="noStrike">
                <a:solidFill>
                  <a:srgbClr val="0099cc"/>
                </a:solidFill>
                <a:latin typeface="Times New Roman"/>
              </a:rPr>
              <a:t>18 + 18 sensors are shipped to FNAL</a:t>
            </a:r>
            <a:endParaRPr b="0" lang="en-US" sz="2000" spc="-1" strike="noStrike">
              <a:solidFill>
                <a:srgbClr val="0099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99cc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99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99cc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99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40000" y="4221000"/>
            <a:ext cx="62784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reo delivery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elayed by 2-3 wk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ue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cess component was repla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expected flaw on the surface (        grade 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wafers had to be taken manually from the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ically they are as good as axial sen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638680" y="5167440"/>
            <a:ext cx="609840" cy="228600"/>
          </a:xfrm>
          <a:prstGeom prst="rightArrow">
            <a:avLst>
              <a:gd name="adj1" fmla="val 50000"/>
              <a:gd name="adj2" fmla="val 6669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4800" y="1184400"/>
            <a:ext cx="46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the order of 60 sensors for e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DF Japan Meeting, Dec 13-14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D016F-4F92-40AE-9E0A-3EBB9AF8D69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Visual Inspection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228240" y="914400"/>
            <a:ext cx="4800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stains on stereo sensors</a:t>
            </a: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04920" y="1523880"/>
            <a:ext cx="5562360" cy="5105160"/>
            <a:chOff x="304920" y="1523880"/>
            <a:chExt cx="5562360" cy="5105160"/>
          </a:xfrm>
        </p:grpSpPr>
        <p:pic>
          <p:nvPicPr>
            <p:cNvPr id="69" name="S-072_2" descr=""/>
            <p:cNvPicPr/>
            <p:nvPr/>
          </p:nvPicPr>
          <p:blipFill>
            <a:blip r:embed="rId1"/>
            <a:stretch/>
          </p:blipFill>
          <p:spPr>
            <a:xfrm>
              <a:off x="304920" y="1523880"/>
              <a:ext cx="3213720" cy="393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S-072_2x" descr=""/>
            <p:cNvPicPr/>
            <p:nvPr/>
          </p:nvPicPr>
          <p:blipFill>
            <a:blip r:embed="rId2"/>
            <a:stretch/>
          </p:blipFill>
          <p:spPr>
            <a:xfrm>
              <a:off x="3456720" y="1523880"/>
              <a:ext cx="2410200" cy="39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04920" y="5656680"/>
              <a:ext cx="5562360" cy="97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Fig. 8a Example of scratches observed for stereo sensors. (Right) Enlarged view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6019920" y="1981080"/>
            <a:ext cx="3124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Times New Roman"/>
              </a:rPr>
              <a:t>about 2/3 of Class B have similar st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Times New Roman"/>
              </a:rPr>
              <a:t>No correlation with defect str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Times New Roman"/>
              </a:rPr>
              <a:t>No obvious correlation with I-V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DF Japan Meeting, Dec 13-14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41E06-AB33-488F-A50A-A4A7E16DFF2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Limitations in QA - Implant Open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557520" y="19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6220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81480" y="990720"/>
            <a:ext cx="3810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Times New Roman"/>
              </a:rPr>
              <a:t>Implant open is seen clearly,while HPK could not find. In total 3 such channels out of 36 sensors test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s023-ru2" descr=""/>
          <p:cNvPicPr/>
          <p:nvPr/>
        </p:nvPicPr>
        <p:blipFill>
          <a:blip r:embed="rId1"/>
          <a:stretch/>
        </p:blipFill>
        <p:spPr>
          <a:xfrm>
            <a:off x="0" y="990720"/>
            <a:ext cx="4952880" cy="3301920"/>
          </a:xfrm>
          <a:prstGeom prst="rect">
            <a:avLst/>
          </a:prstGeom>
          <a:ln w="0">
            <a:noFill/>
          </a:ln>
        </p:spPr>
      </p:pic>
      <p:grpSp>
        <p:nvGrpSpPr>
          <p:cNvPr id="78" name=""/>
          <p:cNvGrpSpPr/>
          <p:nvPr/>
        </p:nvGrpSpPr>
        <p:grpSpPr>
          <a:xfrm>
            <a:off x="0" y="3581280"/>
            <a:ext cx="6019920" cy="2743200"/>
            <a:chOff x="0" y="3581280"/>
            <a:chExt cx="6019920" cy="2743200"/>
          </a:xfrm>
        </p:grpSpPr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0" y="3581280"/>
              <a:ext cx="6019920" cy="23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250920" y="5981760"/>
              <a:ext cx="5527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Fig. 9 Illustration of measurement configurations of readout and intermediate implant opens. strips .measurements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0" y="3962520"/>
            <a:ext cx="2286000" cy="2057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passivate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hybrid moun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24080"/>
            <a:ext cx="38098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HPK detects implant opens b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DC s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inject V on DC and measure 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o bias-ring: insensitive for readout str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AC s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inject V on AC and measure transient I into bias-ring: not very sensitive if the open is at far s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DF Japan Meeting, Dec 13-14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A4DC5-F94A-4F73-9E7F-9D553D04D43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828800" y="1295280"/>
            <a:ext cx="5715000" cy="2819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1981080" y="1371240"/>
            <a:ext cx="1828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981080" y="1447920"/>
            <a:ext cx="30481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2057400" y="2285640"/>
            <a:ext cx="5257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2362320" y="3428640"/>
            <a:ext cx="49528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5105520" y="3657240"/>
            <a:ext cx="22096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057400" y="2514240"/>
            <a:ext cx="5257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1219320"/>
            <a:ext cx="609840" cy="3047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160" y="1600200"/>
            <a:ext cx="177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probed e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511 AC p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1523880"/>
            <a:ext cx="1828800" cy="2438640"/>
          </a:xfrm>
          <a:prstGeom prst="rect">
            <a:avLst/>
          </a:prstGeom>
          <a:noFill/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162920" y="3352680"/>
            <a:ext cx="228600" cy="60984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14640" y="16002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hybrid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4191120"/>
            <a:ext cx="3733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Times New Roman"/>
              </a:rPr>
              <a:t>12 or 19 un-probed stri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182920" y="4495680"/>
            <a:ext cx="370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Times New Roman"/>
              </a:rPr>
              <a:t>no opening in B.R., AC p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3333cc"/>
                </a:solidFill>
                <a:latin typeface="Arial"/>
              </a:rPr>
              <a:t>Limitations for stereo sensor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10080" y="1600200"/>
            <a:ext cx="3049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10080" y="1676520"/>
            <a:ext cx="3049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10080" y="1752480"/>
            <a:ext cx="3049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1828800"/>
            <a:ext cx="3049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10080" y="1905120"/>
            <a:ext cx="3049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86400" y="3657600"/>
            <a:ext cx="3049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86400" y="3733920"/>
            <a:ext cx="3049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809880"/>
            <a:ext cx="3049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4572000"/>
            <a:ext cx="754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we open for probing?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asurement takes time only for these strip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Times New Roman"/>
              </a:rPr>
              <a:t>Our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9933"/>
                </a:solidFill>
                <a:latin typeface="Times New Roman"/>
              </a:rPr>
              <a:t>Accept un-probed strips (and readout opens) since the dead fraction is very small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685800" y="4572000"/>
            <a:ext cx="3200400" cy="4572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DF Japan Meeting, Dec 13-14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F0B2D-60C0-4E55-A5E5-03FC4609EA3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Charge Up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657600" y="990720"/>
          <a:ext cx="5486400" cy="3809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990720"/>
                    <a:ext cx="548640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0" y="1371600"/>
            <a:ext cx="374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cc"/>
                </a:solidFill>
                <a:latin typeface="Times New Roman"/>
              </a:rPr>
              <a:t>In early stage, we often got bad distributions (R/Ccp e.g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cc"/>
                </a:solidFill>
                <a:latin typeface="Times New Roman"/>
              </a:rPr>
              <a:t>Rint, Cint are also aff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2244600"/>
            <a:ext cx="976320" cy="228600"/>
          </a:xfrm>
          <a:prstGeom prst="rightArrow">
            <a:avLst>
              <a:gd name="adj1" fmla="val 50000"/>
              <a:gd name="adj2" fmla="val 10677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3159000"/>
            <a:ext cx="3657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From the location and size of bad strips, we suspected vacuum tweezers caused charge-up on sensor 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4572000"/>
            <a:ext cx="78487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Times New Roman"/>
              </a:rPr>
              <a:t>After eliminating use of tweezers, we saw a few channels which showed initially “charge-up” effect and recovered l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cc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99cc"/>
                </a:solidFill>
                <a:latin typeface="Times New Roman"/>
              </a:rPr>
              <a:t>- This could be due to bad probe contact, though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4400" y="5715000"/>
            <a:ext cx="66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yway, the sensors are after all free from charge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DF Japan Meeting, Dec 13-14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134F5-F6D7-478E-9ECB-7E2DE8BF7D9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Charge Up – its mechanism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990720"/>
            <a:ext cx="937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100&gt; is easier than &lt;111&gt; to charge u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e to lower transition potential for inversion layer cre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2286000"/>
            <a:ext cx="4114800" cy="1371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1828800"/>
            <a:ext cx="411480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66ff"/>
                </a:solidFill>
                <a:latin typeface="Times New Roman"/>
              </a:rPr>
              <a:t>+    +   +   +   +   +  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23160" y="2133720"/>
            <a:ext cx="28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66ff"/>
                </a:solidFill>
                <a:latin typeface="Times New Roman"/>
              </a:rPr>
              <a:t>+    +   +   +   +   +  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03720" y="1828800"/>
            <a:ext cx="351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fixed oxide charges in SiO</a:t>
            </a:r>
            <a:r>
              <a:rPr b="0" lang="en-US" sz="1200" spc="-1" strike="noStrike">
                <a:solidFill>
                  <a:srgbClr val="0066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80040" y="2209680"/>
            <a:ext cx="21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Si-SiO</a:t>
            </a:r>
            <a:r>
              <a:rPr b="0" lang="en-US" sz="1200" spc="-1" strike="noStrike">
                <a:solidFill>
                  <a:srgbClr val="0066ff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666880" y="2514600"/>
            <a:ext cx="5639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&lt;111&gt;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bout one order abundant positive char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ttracts more electrons, which isolate P+ impl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stronger against external effec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6480" y="220968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-  -  -  -  -  -  -  -  -  -  -  - 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2286000"/>
            <a:ext cx="53352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286000"/>
            <a:ext cx="53352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4572000"/>
            <a:ext cx="4114800" cy="1371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4114800"/>
            <a:ext cx="411480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66ff"/>
                </a:solidFill>
                <a:latin typeface="Times New Roman"/>
              </a:rPr>
              <a:t>+            +            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76880" y="4343400"/>
            <a:ext cx="252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66ff"/>
                </a:solidFill>
                <a:latin typeface="Times New Roman"/>
              </a:rPr>
              <a:t>+        +               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00560" y="4343400"/>
            <a:ext cx="305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-       -        -      -         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4572000"/>
            <a:ext cx="53316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4572000"/>
            <a:ext cx="53352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90720" y="3962520"/>
            <a:ext cx="91440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91120" y="3962520"/>
            <a:ext cx="91440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4648320"/>
            <a:ext cx="27432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05520" y="4114800"/>
            <a:ext cx="3886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3300"/>
                </a:solidFill>
                <a:latin typeface="Times New Roman"/>
              </a:rPr>
              <a:t>&lt;100&gt;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ja-JP" sz="2000" spc="-1" strike="noStrike">
                <a:solidFill>
                  <a:srgbClr val="ff3300"/>
                </a:solidFill>
                <a:latin typeface="Times New Roman"/>
              </a:rPr>
              <a:t>fewer positive char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ja-JP" sz="2000" spc="-1" strike="noStrike">
                <a:solidFill>
                  <a:srgbClr val="ff3300"/>
                </a:solidFill>
                <a:latin typeface="Times New Roman"/>
              </a:rPr>
              <a:t>fewer electrons attrac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ja-JP" sz="2000" spc="-1" strike="noStrike">
                <a:solidFill>
                  <a:srgbClr val="ff3300"/>
                </a:solidFill>
                <a:latin typeface="Times New Roman"/>
              </a:rPr>
              <a:t>less robust against external effec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3300"/>
                </a:solidFill>
                <a:latin typeface="Times New Roman"/>
              </a:rPr>
              <a:t>may create P layer = inversion 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DF Japan Meeting, Dec 13-14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FB626-97D3-4173-B7C0-6E602B0804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Charge Up – its recovery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1295280"/>
            <a:ext cx="4724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version layer should disappear by radi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accumulation of positive charges in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oxide layer, which attract more electr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(&gt; extra holes in inversion lay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urface charges responsible for inversion layer creation should be taken away if there is a ro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nearby Al strips are wire-bon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substantial surface current (UV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xtra epoxy on surface might disturb this recovery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4952880" y="304920"/>
            <a:ext cx="3657600" cy="5866920"/>
            <a:chOff x="4952880" y="304920"/>
            <a:chExt cx="3657600" cy="5866920"/>
          </a:xfrm>
        </p:grpSpPr>
        <p:pic>
          <p:nvPicPr>
            <p:cNvPr id="140" name="" descr=""/>
            <p:cNvPicPr/>
            <p:nvPr/>
          </p:nvPicPr>
          <p:blipFill>
            <a:blip r:embed="rId1"/>
            <a:srcRect l="0" t="-23657" r="0" b="0"/>
            <a:stretch/>
          </p:blipFill>
          <p:spPr>
            <a:xfrm>
              <a:off x="4952880" y="304920"/>
              <a:ext cx="3584160" cy="53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4952880" y="5639040"/>
              <a:ext cx="365760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Fig. 10b Photo of the sensor used for charge-up study. Locations of wirebonds and epoxy are illustrated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99880" y="5334120"/>
            <a:ext cx="4437360" cy="1191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pared a sample heavily charg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pply epoxy (Araldite 20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ome Al strips wire-bon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DF Japan Meeting, Dec 13-14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41B97-00C5-446A-8D41-47DFE064C97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3T23:41:32Z</dcterms:created>
  <dc:creator>原</dc:creator>
  <dc:description/>
  <dc:language>en-US</dc:language>
  <cp:lastModifiedBy>Tsukuba H.E.P. Lab.</cp:lastModifiedBy>
  <dcterms:modified xsi:type="dcterms:W3CDTF">2002-12-13T02:06:20Z</dcterms:modified>
  <cp:revision>33</cp:revision>
  <dc:subject/>
  <dc:title>Evaluation of Prototype Silicon Sensors for CDF-Run2b</dc:title>
</cp:coreProperties>
</file>