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25F2-A85D-4BC8-A97D-9B2F95B5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E4F9-8615-44A1-9E85-E45B50A2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EA2-ACD0-4EED-BD15-A87B3D0A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B66A-C826-42AC-8E1F-267FFEDF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3C9C-8C87-4BD8-82C5-DE8FB769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0F04-5126-44B1-B8DC-4336A804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0A3B-1F47-450D-9092-07908C7A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57D-E574-45D7-B085-8D93F304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BB46-E3A6-43A7-832E-8285F180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1A7-81AF-4B9E-AD76-4697D31A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4568-CC79-4EA2-9CAB-A3A3DEA8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788-1F31-4AC0-91BF-1B37005E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78E1-2662-430A-9F9B-4CCC2647D32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Times New Roman"/>
              </a:rPr>
              <a:t>Run2b Silicon Det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553440" cy="2362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Design goals of Run2b Si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Stave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Silicon sen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48200" y="228600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K. Hara (U. Tsuku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5880" y="228600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. Hara (U. Tsuku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goals of Run2b silic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Performance as good as/better than Run2a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Simple and robust*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, to be ready by summer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No changes for DAQ ch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new (Si, 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chip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800" spc="-1" strike="noStrike">
                <a:solidFill>
                  <a:srgbClr val="3333cc"/>
                </a:solidFill>
                <a:latin typeface="Times New Roman"/>
              </a:rPr>
              <a:t>hybrid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2800" spc="-1" strike="noStrike">
                <a:solidFill>
                  <a:srgbClr val="008080"/>
                </a:solidFill>
                <a:latin typeface="Times New Roman"/>
              </a:rPr>
              <a:t>mini-portcard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ja-JP" sz="2800" spc="-1" strike="noStrike">
                <a:solidFill>
                  <a:srgbClr val="00cc99"/>
                </a:solidFill>
                <a:latin typeface="Times New Roman"/>
              </a:rPr>
              <a:t>Junction PC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1680" y="3733920"/>
            <a:ext cx="803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SVX3 chips: Honeywell! (cost, yield), noise@large C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SVX4 chips: 0.25μm process, 2.5V, submitted before Christ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Fine-pitch hybrid (BeO) developed for L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80"/>
                </a:solidFill>
                <a:latin typeface="Times New Roman"/>
              </a:rPr>
              <a:t>Eliminate rad-critical (~5.7fb</a:t>
            </a:r>
            <a:r>
              <a:rPr b="0" lang="ja-JP" sz="2400" spc="-1" strike="noStrike" baseline="30000">
                <a:solidFill>
                  <a:srgbClr val="008080"/>
                </a:solidFill>
                <a:latin typeface="Times New Roman"/>
              </a:rPr>
              <a:t>-1</a:t>
            </a:r>
            <a:r>
              <a:rPr b="0" lang="ja-JP" sz="2400" spc="-1" strike="noStrike">
                <a:solidFill>
                  <a:srgbClr val="008080"/>
                </a:solidFill>
                <a:latin typeface="Times New Roman"/>
              </a:rPr>
              <a:t>)DOIMs in Run2a port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3680" y="5410080"/>
            <a:ext cx="785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Uniform stave design(~90%)+special inner layer+a la L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um use of light-weight 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52280" y="-228600"/>
            <a:ext cx="10021680" cy="7765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7848720" y="1295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72400" y="91440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63.5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6880" y="609588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80"/>
                </a:solidFill>
                <a:latin typeface="Times New Roman"/>
              </a:rPr>
              <a:t>6-fold wedge         SV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60958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50640" y="662940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80"/>
                </a:solidFill>
                <a:latin typeface="Times New Roman"/>
              </a:rPr>
              <a:t>90°@L1,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962160" y="685764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68400" y="6858000"/>
            <a:ext cx="22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good anchor to C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3580920" y="708624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10160" y="7086600"/>
            <a:ext cx="32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8080"/>
                </a:solidFill>
                <a:latin typeface="Times New Roman"/>
              </a:rPr>
              <a:t>good ΔZ for 3D impact pa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7010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98640" y="152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06.5R(SVX2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24680" y="53352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3880" y="2279520"/>
            <a:ext cx="733680" cy="2508480"/>
          </a:xfrm>
          <a:custGeom>
            <a:avLst/>
            <a:gdLst/>
            <a:ahLst/>
            <a:rect l="l" t="t" r="r" b="b"/>
            <a:pathLst>
              <a:path w="462" h="1580">
                <a:moveTo>
                  <a:pt x="462" y="0"/>
                </a:moveTo>
                <a:cubicBezTo>
                  <a:pt x="436" y="8"/>
                  <a:pt x="411" y="17"/>
                  <a:pt x="386" y="25"/>
                </a:cubicBezTo>
                <a:cubicBezTo>
                  <a:pt x="369" y="36"/>
                  <a:pt x="353" y="47"/>
                  <a:pt x="336" y="58"/>
                </a:cubicBezTo>
                <a:cubicBezTo>
                  <a:pt x="328" y="64"/>
                  <a:pt x="311" y="75"/>
                  <a:pt x="311" y="75"/>
                </a:cubicBezTo>
                <a:cubicBezTo>
                  <a:pt x="255" y="163"/>
                  <a:pt x="339" y="39"/>
                  <a:pt x="270" y="117"/>
                </a:cubicBezTo>
                <a:cubicBezTo>
                  <a:pt x="226" y="167"/>
                  <a:pt x="189" y="235"/>
                  <a:pt x="153" y="292"/>
                </a:cubicBezTo>
                <a:cubicBezTo>
                  <a:pt x="144" y="306"/>
                  <a:pt x="141" y="336"/>
                  <a:pt x="136" y="350"/>
                </a:cubicBezTo>
                <a:cubicBezTo>
                  <a:pt x="132" y="362"/>
                  <a:pt x="124" y="372"/>
                  <a:pt x="119" y="384"/>
                </a:cubicBezTo>
                <a:cubicBezTo>
                  <a:pt x="113" y="400"/>
                  <a:pt x="109" y="418"/>
                  <a:pt x="103" y="434"/>
                </a:cubicBezTo>
                <a:cubicBezTo>
                  <a:pt x="90" y="471"/>
                  <a:pt x="72" y="504"/>
                  <a:pt x="61" y="542"/>
                </a:cubicBezTo>
                <a:cubicBezTo>
                  <a:pt x="35" y="632"/>
                  <a:pt x="27" y="725"/>
                  <a:pt x="19" y="818"/>
                </a:cubicBezTo>
                <a:cubicBezTo>
                  <a:pt x="22" y="939"/>
                  <a:pt x="0" y="1188"/>
                  <a:pt x="78" y="1327"/>
                </a:cubicBezTo>
                <a:cubicBezTo>
                  <a:pt x="110" y="1384"/>
                  <a:pt x="146" y="1402"/>
                  <a:pt x="178" y="1452"/>
                </a:cubicBezTo>
                <a:cubicBezTo>
                  <a:pt x="199" y="1485"/>
                  <a:pt x="186" y="1471"/>
                  <a:pt x="219" y="1494"/>
                </a:cubicBezTo>
                <a:cubicBezTo>
                  <a:pt x="267" y="1565"/>
                  <a:pt x="188" y="1455"/>
                  <a:pt x="286" y="1553"/>
                </a:cubicBezTo>
                <a:cubicBezTo>
                  <a:pt x="313" y="1580"/>
                  <a:pt x="299" y="1578"/>
                  <a:pt x="320" y="15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3960" y="403848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1 axial coverage~0.7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472428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8080"/>
                </a:solidFill>
                <a:latin typeface="HG創英角ｺﾞｼｯｸUB"/>
                <a:ea typeface="HG創英角ｺﾞｼｯｸUB"/>
              </a:rPr>
              <a:t>6-fold lay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6200" y="3049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8080"/>
                </a:solidFill>
                <a:latin typeface="Times New Roman"/>
              </a:rPr>
              <a:t>Descop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279360"/>
            <a:ext cx="3276720" cy="314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90920" y="2743200"/>
            <a:ext cx="6357960" cy="385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96080" y="4952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763120" y="49528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1280" y="121932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Use outer staves for 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95680" y="1295280"/>
            <a:ext cx="976320" cy="304920"/>
          </a:xfrm>
          <a:prstGeom prst="leftArrow">
            <a:avLst>
              <a:gd name="adj1" fmla="val 50000"/>
              <a:gd name="adj2" fmla="val 8004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3440" y="175248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Drop L4 or L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2209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38440" y="5667480"/>
            <a:ext cx="901440" cy="257040"/>
          </a:xfrm>
          <a:custGeom>
            <a:avLst/>
            <a:gdLst/>
            <a:ahLst/>
            <a:rect l="l" t="t" r="r" b="b"/>
            <a:pathLst>
              <a:path w="568" h="162">
                <a:moveTo>
                  <a:pt x="0" y="97"/>
                </a:moveTo>
                <a:cubicBezTo>
                  <a:pt x="32" y="49"/>
                  <a:pt x="101" y="49"/>
                  <a:pt x="154" y="40"/>
                </a:cubicBezTo>
                <a:cubicBezTo>
                  <a:pt x="201" y="51"/>
                  <a:pt x="216" y="58"/>
                  <a:pt x="244" y="97"/>
                </a:cubicBezTo>
                <a:cubicBezTo>
                  <a:pt x="257" y="135"/>
                  <a:pt x="261" y="149"/>
                  <a:pt x="219" y="162"/>
                </a:cubicBezTo>
                <a:cubicBezTo>
                  <a:pt x="180" y="136"/>
                  <a:pt x="158" y="93"/>
                  <a:pt x="203" y="56"/>
                </a:cubicBezTo>
                <a:cubicBezTo>
                  <a:pt x="230" y="34"/>
                  <a:pt x="267" y="24"/>
                  <a:pt x="300" y="16"/>
                </a:cubicBezTo>
                <a:cubicBezTo>
                  <a:pt x="322" y="11"/>
                  <a:pt x="365" y="0"/>
                  <a:pt x="365" y="0"/>
                </a:cubicBezTo>
                <a:cubicBezTo>
                  <a:pt x="425" y="3"/>
                  <a:pt x="484" y="3"/>
                  <a:pt x="544" y="8"/>
                </a:cubicBezTo>
                <a:cubicBezTo>
                  <a:pt x="552" y="9"/>
                  <a:pt x="568" y="16"/>
                  <a:pt x="568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6960" y="5715000"/>
            <a:ext cx="24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4%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~3 GeV less M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r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~14% more 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19040" y="1447920"/>
            <a:ext cx="8305920" cy="1079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121932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990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ek t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99072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609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ter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600200" y="22860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19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30621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licon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57400" y="228564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638680" y="236232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2666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ybrid subst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out 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715000" y="251424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3048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tch adap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858000" y="251460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762120" y="2209680"/>
            <a:ext cx="1371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819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657600" y="3962520"/>
            <a:ext cx="7832880" cy="3506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3581280"/>
            <a:ext cx="74674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ve structure (60 cm long, supported at z=0 and ±60cm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bon fiber – rohacell structure with ~2x6 mm peek cooling pip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each sid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single sided silicon sens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ybrid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ued to the silic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licon glued to copper-kapton bus c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ybrids wirebonded to bus c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9240" y="5486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Mini Port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8305560" y="45716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8080"/>
                </a:solidFill>
                <a:latin typeface="Times New Roman"/>
              </a:rPr>
              <a:t>RunIIB</a:t>
            </a:r>
            <a:r>
              <a:rPr b="0" lang="ja-JP" sz="4400" spc="-1" strike="noStrike">
                <a:solidFill>
                  <a:srgbClr val="008080"/>
                </a:solidFill>
                <a:latin typeface="Times New Roman"/>
              </a:rPr>
              <a:t>　</a:t>
            </a:r>
            <a:r>
              <a:rPr b="0" lang="ja-JP" sz="4400" spc="-1" strike="noStrike">
                <a:solidFill>
                  <a:srgbClr val="008080"/>
                </a:solidFill>
                <a:latin typeface="Times New Roman"/>
              </a:rPr>
              <a:t>St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47640" y="0"/>
            <a:ext cx="7848720" cy="4386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8080"/>
                </a:solidFill>
                <a:latin typeface="Times New Roman"/>
              </a:rPr>
              <a:t>RunIIB</a:t>
            </a:r>
            <a:r>
              <a:rPr b="0" lang="ja-JP" sz="4400" spc="-1" strike="noStrike">
                <a:solidFill>
                  <a:srgbClr val="008080"/>
                </a:solidFill>
                <a:latin typeface="Times New Roman"/>
              </a:rPr>
              <a:t>　</a:t>
            </a:r>
            <a:r>
              <a:rPr b="0" lang="ja-JP" sz="4400" spc="-1" strike="noStrike">
                <a:solidFill>
                  <a:srgbClr val="008080"/>
                </a:solidFill>
                <a:latin typeface="Times New Roman"/>
              </a:rPr>
              <a:t>St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4000" y="4800600"/>
            <a:ext cx="903600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44680" y="1371600"/>
          <a:ext cx="8053200" cy="276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1371600"/>
                    <a:ext cx="8053200" cy="27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33520" y="4419720"/>
            <a:ext cx="39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80"/>
                </a:solidFill>
                <a:latin typeface="Times New Roman"/>
              </a:rPr>
              <a:t>Outer   axial  (75um)  1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80"/>
                </a:solidFill>
                <a:latin typeface="Times New Roman"/>
              </a:rPr>
              <a:t>                  </a:t>
            </a:r>
            <a:r>
              <a:rPr b="0" lang="ja-JP" sz="2400" spc="-1" strike="noStrike">
                <a:solidFill>
                  <a:srgbClr val="008080"/>
                </a:solidFill>
                <a:latin typeface="Times New Roman"/>
              </a:rPr>
              <a:t>°(93um)   5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80"/>
                </a:solidFill>
                <a:latin typeface="Times New Roman"/>
              </a:rPr>
              <a:t>             </a:t>
            </a:r>
            <a:r>
              <a:rPr b="0" lang="ja-JP" sz="2400" spc="-1" strike="noStrike">
                <a:solidFill>
                  <a:srgbClr val="008080"/>
                </a:solidFill>
                <a:latin typeface="Times New Roman"/>
              </a:rPr>
              <a:t>2.5°(80um)   5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80"/>
                </a:solidFill>
                <a:latin typeface="Times New Roman"/>
              </a:rPr>
              <a:t>      </a:t>
            </a:r>
            <a:r>
              <a:rPr b="0" lang="ja-JP" sz="2400" spc="-1" strike="noStrike">
                <a:solidFill>
                  <a:srgbClr val="008080"/>
                </a:solidFill>
                <a:latin typeface="Times New Roman"/>
              </a:rPr>
              <a:t>3 types                  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5562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3600" y="4495680"/>
            <a:ext cx="242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Inner  axial     1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axial’    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°  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3 types      2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5638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7640" y="4648320"/>
            <a:ext cx="36216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391160" y="54860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72760" y="56386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51920" y="6080040"/>
            <a:ext cx="32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K:2300+spares=2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617220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28720" y="601992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13+α)months @+200/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164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8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5040" y="5181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8080"/>
                </a:solidFill>
                <a:latin typeface="Times New Roman"/>
              </a:rPr>
              <a:t>Number of Sen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74880" y="297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9920" y="1143000"/>
            <a:ext cx="62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ial and SAS sensors are similar to AT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°on 6”  process is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57240" y="2509920"/>
            <a:ext cx="5423040" cy="1841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17240" y="44197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352320" y="35812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7600" y="4876920"/>
            <a:ext cx="188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714640" y="38098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04840" y="5211720"/>
            <a:ext cx="231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viously achiev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~4μm (4” SSD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~5μm (4” DSD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?          (6” SSD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80"/>
                </a:solidFill>
                <a:latin typeface="Times New Roman"/>
              </a:rPr>
              <a:t>Si sensor : R&amp;D 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333440"/>
            <a:ext cx="8076960" cy="3733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13716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13716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3716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13716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62920" y="13716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9120" y="898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5880" y="914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40480" y="914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523880"/>
            <a:ext cx="30492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6840" y="1447920"/>
            <a:ext cx="33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00"/>
                </a:solidFill>
                <a:latin typeface="Times New Roman"/>
              </a:rPr>
              <a:t>mechanical prototypes(Mar~M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2057400"/>
            <a:ext cx="1295280" cy="485640"/>
          </a:xfrm>
          <a:prstGeom prst="rightArrow">
            <a:avLst>
              <a:gd name="adj1" fmla="val 50000"/>
              <a:gd name="adj2" fmla="val 6667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3840" y="182880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electrical prototypes(~Sep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70280" y="2514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tave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3247920"/>
            <a:ext cx="1904760" cy="409680"/>
          </a:xfrm>
          <a:prstGeom prst="rightArrow">
            <a:avLst>
              <a:gd name="adj1" fmla="val 50000"/>
              <a:gd name="adj2" fmla="val 1162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0621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barrel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3505320"/>
            <a:ext cx="762120" cy="409320"/>
          </a:xfrm>
          <a:prstGeom prst="rightArrow">
            <a:avLst>
              <a:gd name="adj1" fmla="val 50000"/>
              <a:gd name="adj2" fmla="val 465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4240" y="287964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Times New Roman"/>
              </a:rPr>
              <a:t>Si proto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3333cc"/>
                </a:solidFill>
                <a:latin typeface="Times New Roman"/>
              </a:rPr>
              <a:t>90deg 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3781440"/>
            <a:ext cx="1295280" cy="409680"/>
          </a:xfrm>
          <a:prstGeom prst="rightArrow">
            <a:avLst>
              <a:gd name="adj1" fmla="val 50000"/>
              <a:gd name="adj2" fmla="val 7904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3581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final t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88620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426708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Times New Roman"/>
              </a:rPr>
              <a:t>order production 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2840" y="4267080"/>
            <a:ext cx="17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Times New Roman"/>
              </a:rPr>
              <a:t>series Si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4648320"/>
            <a:ext cx="762120" cy="409320"/>
          </a:xfrm>
          <a:prstGeom prst="rightArrow">
            <a:avLst>
              <a:gd name="adj1" fmla="val 50000"/>
              <a:gd name="adj2" fmla="val 4654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464832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VX4, cables,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55440" y="5349960"/>
            <a:ext cx="7197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平成明朝"/>
              </a:rPr>
              <a:t>Schedule risks: (1) SVX4 chip (for electrical prototyping, reliabi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平成明朝"/>
              </a:rPr>
              <a:t>                                             </a:t>
            </a:r>
            <a:r>
              <a:rPr b="0" lang="ja-JP" sz="2000" spc="-1" strike="noStrike">
                <a:solidFill>
                  <a:srgbClr val="008080"/>
                </a:solidFill>
                <a:latin typeface="Times New Roman"/>
                <a:ea typeface="平成明朝"/>
              </a:rPr>
              <a:t>successful operation w/ bus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平成明朝"/>
              </a:rPr>
              <a:t>                   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平成明朝"/>
              </a:rPr>
              <a:t>(2) installation in 6-mon shut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808080"/>
                </a:solidFill>
                <a:latin typeface="Times New Roman"/>
                <a:ea typeface="平成明朝"/>
              </a:rPr>
              <a:t>Contingency ~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2819520"/>
            <a:ext cx="380988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4038480"/>
            <a:ext cx="35812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58200" y="13716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58200" y="1447920"/>
            <a:ext cx="304920" cy="40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40320" y="137160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hut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6mont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2666880"/>
            <a:ext cx="182880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23004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full production(200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5715000"/>
            <a:ext cx="190512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3009960"/>
            <a:ext cx="838440" cy="380880"/>
          </a:xfrm>
          <a:prstGeom prst="leftRightArrow">
            <a:avLst>
              <a:gd name="adj1" fmla="val 50000"/>
              <a:gd name="adj2" fmla="val 4382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48720" y="300996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02:10:57Z</dcterms:created>
  <dc:creator>hara kazuhiko</dc:creator>
  <dc:description/>
  <dc:language>en-US</dc:language>
  <cp:lastModifiedBy>原</cp:lastModifiedBy>
  <dcterms:modified xsi:type="dcterms:W3CDTF">2001-12-13T00:45:17Z</dcterms:modified>
  <cp:revision>13</cp:revision>
  <dc:subject/>
  <dc:title>Run2b Silicon Detector</dc:title>
</cp:coreProperties>
</file>