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42213" cy="11015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4876560" cy="3119400"/>
          </a:xfrm>
          <a:prstGeom prst="rect">
            <a:avLst/>
          </a:prstGeom>
          <a:ln w="0">
            <a:noFill/>
          </a:ln>
        </p:spPr>
      </p:pic>
      <p:grpSp>
        <p:nvGrpSpPr>
          <p:cNvPr id="39" name=""/>
          <p:cNvGrpSpPr/>
          <p:nvPr/>
        </p:nvGrpSpPr>
        <p:grpSpPr>
          <a:xfrm>
            <a:off x="3505320" y="380880"/>
            <a:ext cx="6324480" cy="4800600"/>
            <a:chOff x="3505320" y="380880"/>
            <a:chExt cx="6324480" cy="4800600"/>
          </a:xfrm>
        </p:grpSpPr>
        <p:pic>
          <p:nvPicPr>
            <p:cNvPr id="40" name="" descr=""/>
            <p:cNvPicPr/>
            <p:nvPr/>
          </p:nvPicPr>
          <p:blipFill>
            <a:blip r:embed="rId2"/>
            <a:stretch/>
          </p:blipFill>
          <p:spPr>
            <a:xfrm>
              <a:off x="3505320" y="380880"/>
              <a:ext cx="63244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4842720" y="966240"/>
              <a:ext cx="3648600" cy="351252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207760" y="1258920"/>
              <a:ext cx="2918880" cy="292680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11960" y="1610280"/>
              <a:ext cx="2310480" cy="222444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77000" y="1902600"/>
              <a:ext cx="1641960" cy="163908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67200" y="614880"/>
              <a:ext cx="0" cy="4156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42720" y="1668600"/>
              <a:ext cx="3770640" cy="2224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842360" y="1610280"/>
              <a:ext cx="3648600" cy="2224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cc"/>
                </a:solidFill>
                <a:latin typeface="ＭＳ Ｐゴシック"/>
              </a:rPr>
              <a:t>Run2b</a:t>
            </a:r>
            <a:r>
              <a:rPr b="0" lang="ja-JP" sz="3600" spc="-1" strike="noStrike">
                <a:solidFill>
                  <a:srgbClr val="3333cc"/>
                </a:solidFill>
                <a:latin typeface="ＭＳ Ｐゴシック"/>
              </a:rPr>
              <a:t>シリコン検出器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720" y="990720"/>
            <a:ext cx="363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現在の</a:t>
            </a: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SVX-II</a:t>
            </a: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（内側３層）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放射線損傷により</a:t>
            </a: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Run2b</a:t>
            </a: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中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著しく性能が劣化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　　　</a:t>
            </a: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Run2b</a:t>
            </a:r>
            <a:r>
              <a:rPr b="1" lang="ja-JP" sz="2400" spc="-1" strike="noStrike">
                <a:solidFill>
                  <a:srgbClr val="009999"/>
                </a:solidFill>
                <a:latin typeface="Times New Roman"/>
              </a:rPr>
              <a:t>シリコン検出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30080" y="4952880"/>
            <a:ext cx="307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日本の分担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1512 outer axial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648 outer stereo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144 inner axial sensors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L0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用超微細信号ケーブ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380880"/>
            <a:ext cx="32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L0~L5:  R=2.1~16.6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2096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436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冷却パイプ、ハイブリッドを一体化した同一形状の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Stave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構造を採用する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(L1~L5) 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ことで、製造期間の短縮を図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4362600">
            <a:off x="4005720" y="2547000"/>
            <a:ext cx="212760" cy="1214280"/>
          </a:xfrm>
          <a:custGeom>
            <a:avLst/>
            <a:gdLst>
              <a:gd name="textAreaLeft" fmla="*/ 28440 w 212760"/>
              <a:gd name="textAreaRight" fmla="*/ 184320 w 21276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15520" y="2971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（５ｃｍ幅ｘ６０ｃｍ長さ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685800"/>
            <a:ext cx="8534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Times New Roman"/>
              </a:rPr>
              <a:t>浜松ホトニクス社で試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657600" y="252360"/>
            <a:ext cx="6553080" cy="6656400"/>
            <a:chOff x="3657600" y="252360"/>
            <a:chExt cx="6553080" cy="6656400"/>
          </a:xfrm>
        </p:grpSpPr>
        <p:graphicFrame>
          <p:nvGraphicFramePr>
            <p:cNvPr id="58" name=""/>
            <p:cNvGraphicFramePr/>
            <p:nvPr/>
          </p:nvGraphicFramePr>
          <p:xfrm>
            <a:off x="3733920" y="252360"/>
            <a:ext cx="5333760" cy="375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252360"/>
                      <a:ext cx="5333760" cy="375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3657600" y="3224160"/>
            <a:ext cx="6553080" cy="36846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3224160"/>
                      <a:ext cx="6553080" cy="368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ＭＳ Ｐゴシック"/>
              </a:rPr>
              <a:t>Outer Axial/Stereo Si </a:t>
            </a:r>
            <a:r>
              <a:rPr b="0" lang="ja-JP" sz="2800" spc="-1" strike="noStrike">
                <a:solidFill>
                  <a:srgbClr val="3333cc"/>
                </a:solidFill>
                <a:latin typeface="ＭＳ Ｐゴシック"/>
              </a:rPr>
              <a:t>センサーの試作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電気的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機械的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放射線照射後の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を評価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　　　　いずれも優れ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212840"/>
            <a:ext cx="312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I-V</a:t>
            </a: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特性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（右上）全</a:t>
            </a: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60</a:t>
            </a: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（右下）全</a:t>
            </a: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53</a:t>
            </a: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　　　殆どが</a:t>
            </a: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1000V</a:t>
            </a: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まで</a:t>
            </a: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096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60958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cc"/>
                </a:solidFill>
                <a:latin typeface="ＭＳ Ｐゴシック"/>
              </a:rPr>
              <a:t>試作センサーの性能評価結果（例）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762120"/>
            <a:ext cx="487692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ストリップの欠陥を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axial/stereo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各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18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台ずつ測定し、浜松の結果と比較し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浜松の欠陥はすべて検知され理解でき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浜松では、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readout implant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の切断を検知できないことが分っ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　　　　  　欠陥率が極めて低い（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&lt;0.01%)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た　　　　め見過ごしても問題ないと合意し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52280" y="3276720"/>
            <a:ext cx="4267440" cy="3581280"/>
            <a:chOff x="152280" y="3276720"/>
            <a:chExt cx="4267440" cy="3581280"/>
          </a:xfrm>
        </p:grpSpPr>
        <p:graphicFrame>
          <p:nvGraphicFramePr>
            <p:cNvPr id="71" name=""/>
            <p:cNvGraphicFramePr/>
            <p:nvPr/>
          </p:nvGraphicFramePr>
          <p:xfrm>
            <a:off x="152280" y="3276720"/>
            <a:ext cx="4267440" cy="3581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276720"/>
                      <a:ext cx="426744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/>
            <p:nvPr/>
          </p:nvSpPr>
          <p:spPr>
            <a:xfrm>
              <a:off x="1371240" y="4404960"/>
              <a:ext cx="76176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76160" y="4888440"/>
              <a:ext cx="60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560" y="5211000"/>
              <a:ext cx="1218960" cy="6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= -25deg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f=100 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0" y="304920"/>
          <a:ext cx="4724280" cy="374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920"/>
                    <a:ext cx="472428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962520" y="4038480"/>
            <a:ext cx="50292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0.7x10</a:t>
            </a:r>
            <a:r>
              <a:rPr b="1" lang="ja-JP" sz="2000" spc="-1" strike="noStrike" baseline="30000">
                <a:solidFill>
                  <a:srgbClr val="009999"/>
                </a:solidFill>
                <a:latin typeface="Times New Roman"/>
              </a:rPr>
              <a:t>14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 /cm</a:t>
            </a:r>
            <a:r>
              <a:rPr b="1" lang="ja-JP" sz="2000" spc="-1" strike="noStrike" baseline="30000">
                <a:solidFill>
                  <a:srgbClr val="009999"/>
                </a:solidFill>
                <a:latin typeface="Times New Roman"/>
              </a:rPr>
              <a:t>2 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の中性子照射（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L0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で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15fb</a:t>
            </a:r>
            <a:r>
              <a:rPr b="1" lang="ja-JP" sz="2000" spc="-1" strike="noStrike" baseline="30000">
                <a:solidFill>
                  <a:srgbClr val="009999"/>
                </a:solidFill>
                <a:latin typeface="Times New Roman"/>
              </a:rPr>
              <a:t>-1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相当</a:t>
            </a: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全空乏化電圧は約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50V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で予想と一致し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全空乏化電圧より高いバイアス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(~250V) </a:t>
            </a:r>
            <a:r>
              <a:rPr b="1" lang="ja-JP" sz="2000" spc="-1" strike="noStrike">
                <a:solidFill>
                  <a:srgbClr val="3333cc"/>
                </a:solidFill>
                <a:latin typeface="Times New Roman"/>
              </a:rPr>
              <a:t>を与えないと、ストリップ間抵抗や容量は適正になら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5791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97720" y="5715000"/>
            <a:ext cx="3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高耐圧センサーは、照射後も十分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9999"/>
                </a:solidFill>
                <a:latin typeface="Times New Roman"/>
              </a:rPr>
              <a:t>電気的特性を発揮でき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-196920" y="4733640"/>
            <a:ext cx="1082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全容量（ｎ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ー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3:41:32Z</dcterms:created>
  <dc:creator>原</dc:creator>
  <dc:description/>
  <dc:language>en-US</dc:language>
  <cp:lastModifiedBy>原</cp:lastModifiedBy>
  <dcterms:modified xsi:type="dcterms:W3CDTF">2003-02-18T14:34:34Z</dcterms:modified>
  <cp:revision>36</cp:revision>
  <dc:subject/>
  <dc:title>Evaluation of Prototype Silicon Sensors for CDF-Run2b</dc:title>
</cp:coreProperties>
</file>