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8DC-DEB9-44A8-AC0B-483B3B6E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630-ABFC-4028-A524-1402F5F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3A8-6432-4411-B65D-5CAD6019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693-352C-4236-8DF4-DA80A05D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4C1-130C-4EE1-8FD4-8A9D9D5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944-2544-47EB-8E37-D4E880F7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643-2513-4FA0-B8BE-BE5569A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C0B-14D3-44E2-AD3A-18C1121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092-CFF0-4620-9C25-3210D91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64F-0F0E-4B96-A6EF-774B041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84F-7ED0-4978-9B0D-1CE035F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DAF-9491-427D-979C-EC84166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A96-C7AD-4E12-AE55-F34F37B9D1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65200" y="15228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Comic Sans MS"/>
              </a:rPr>
              <a:t>Sensors for the CDF Run IIb Silicon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1520" y="76212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DF Run IIb Silicon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8000" y="9907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L0~L5:  r=2.1~16.6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676160" y="266652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76720" y="1523880"/>
          <a:ext cx="5486400" cy="1581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21932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o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p pi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uter (axi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uter (1.2</a:t>
                      </a:r>
                      <a:r>
                        <a:rPr b="0" lang="en-US" sz="2000" spc="-1" strike="noStrike" baseline="30000">
                          <a:solidFill>
                            <a:srgbClr val="008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0 (axi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" name=""/>
          <p:cNvGrpSpPr/>
          <p:nvPr/>
        </p:nvGrpSpPr>
        <p:grpSpPr>
          <a:xfrm>
            <a:off x="5105520" y="2011320"/>
            <a:ext cx="761760" cy="1035000"/>
            <a:chOff x="5105520" y="2011320"/>
            <a:chExt cx="761760" cy="1035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5105520" y="2392200"/>
                  <a:ext cx="761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5105520" y="2743200"/>
                  <a:ext cx="76176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7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5105520" y="2011320"/>
                  <a:ext cx="761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" name=""/>
          <p:cNvSpPr/>
          <p:nvPr/>
        </p:nvSpPr>
        <p:spPr>
          <a:xfrm flipH="1" flipV="1">
            <a:off x="2590920" y="3200040"/>
            <a:ext cx="45720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1219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RO is double of th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181480"/>
            <a:ext cx="4856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600360"/>
            <a:ext cx="4800600" cy="325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533520" y="990720"/>
            <a:ext cx="411480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33360" y="3078000"/>
            <a:ext cx="59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Outer sensor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93% of all) are glued on both sid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80 staves of 2 types (Axial-Axial or Axial-1.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038480"/>
            <a:ext cx="4495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63 </a:t>
            </a:r>
            <a:r>
              <a:rPr b="1" lang="ja-JP" sz="2000" spc="-1" strike="noStrike">
                <a:solidFill>
                  <a:srgbClr val="008000"/>
                </a:solidFill>
                <a:latin typeface="Times New Roman"/>
              </a:rPr>
              <a:t>Outer (axial)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53 </a:t>
            </a:r>
            <a:r>
              <a:rPr b="1" lang="ja-JP" sz="2000" spc="-1" strike="noStrike">
                <a:solidFill>
                  <a:srgbClr val="008000"/>
                </a:solidFill>
                <a:latin typeface="Times New Roman"/>
              </a:rPr>
              <a:t>Outer (1.2</a:t>
            </a:r>
            <a:r>
              <a:rPr b="1" lang="ja-JP" sz="2000" spc="-1" strike="noStrike" baseline="30000">
                <a:solidFill>
                  <a:srgbClr val="008000"/>
                </a:solidFill>
                <a:latin typeface="Times New Roman"/>
              </a:rPr>
              <a:t>o</a:t>
            </a:r>
            <a:r>
              <a:rPr b="1" lang="ja-JP" sz="2000" spc="-1" strike="noStrike">
                <a:solidFill>
                  <a:srgbClr val="008000"/>
                </a:solidFill>
                <a:latin typeface="Times New Roman"/>
              </a:rPr>
              <a:t> )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sensors were fabricated by Hamamatu Phot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114/116: No micro-discharge up to 1k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Other electrical/mechanical performance is also excell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00600" y="12193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Five sensors were irradiated to 1.4x10</a:t>
            </a:r>
            <a:r>
              <a:rPr b="1" lang="en-US" sz="2000" spc="-1" strike="noStrike" baseline="30000">
                <a:solidFill>
                  <a:srgbClr val="009999"/>
                </a:solidFill>
                <a:latin typeface="Times New Roman"/>
              </a:rPr>
              <a:t>14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n-eq/cm</a:t>
            </a:r>
            <a:r>
              <a:rPr b="1" lang="en-US" sz="2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76920" y="1905120"/>
            <a:ext cx="3978000" cy="1008720"/>
            <a:chOff x="4876920" y="1905120"/>
            <a:chExt cx="3978000" cy="1008720"/>
          </a:xfrm>
        </p:grpSpPr>
        <p:sp>
          <p:nvSpPr>
            <p:cNvPr id="60" name=""/>
            <p:cNvSpPr/>
            <p:nvPr/>
          </p:nvSpPr>
          <p:spPr>
            <a:xfrm>
              <a:off x="4876920" y="1905120"/>
              <a:ext cx="397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66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Full depletion voltag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66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Leakage current increas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                         </a:t>
              </a: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as exp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38680" y="2606760"/>
              <a:ext cx="456840" cy="228600"/>
            </a:xfrm>
            <a:prstGeom prst="rightArrow">
              <a:avLst>
                <a:gd name="adj1" fmla="val 50000"/>
                <a:gd name="adj2" fmla="val 49961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876920" y="31240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quires extra voltage to recover the perform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320" y="3868560"/>
          <a:ext cx="4419360" cy="29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68560"/>
                    <a:ext cx="441936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90720" y="4267080"/>
            <a:ext cx="1577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99"/>
                </a:solidFill>
                <a:latin typeface="Arial"/>
              </a:rPr>
              <a:t>0.7 </a:t>
            </a:r>
            <a:r>
              <a:rPr b="1" lang="ja-JP" sz="1400" spc="-1" strike="noStrike">
                <a:solidFill>
                  <a:srgbClr val="006699"/>
                </a:solidFill>
                <a:latin typeface="Arial"/>
                <a:ea typeface="Arial Unicode MS"/>
              </a:rPr>
              <a:t>X </a:t>
            </a:r>
            <a:r>
              <a:rPr b="1" lang="ja-JP" sz="1400" spc="-1" strike="noStrike">
                <a:solidFill>
                  <a:srgbClr val="006699"/>
                </a:solidFill>
                <a:latin typeface="Arial"/>
              </a:rPr>
              <a:t>10</a:t>
            </a:r>
            <a:r>
              <a:rPr b="1" lang="ja-JP" sz="1400" spc="-1" strike="noStrike" baseline="30000">
                <a:solidFill>
                  <a:srgbClr val="006699"/>
                </a:solidFill>
                <a:latin typeface="Arial"/>
              </a:rPr>
              <a:t>14</a:t>
            </a:r>
            <a:r>
              <a:rPr b="1" lang="ja-JP" sz="1400" spc="-1" strike="noStrike">
                <a:solidFill>
                  <a:srgbClr val="006699"/>
                </a:solidFill>
                <a:latin typeface="Arial"/>
              </a:rPr>
              <a:t> n/cm</a:t>
            </a:r>
            <a:r>
              <a:rPr b="1" lang="ja-JP" sz="1400" spc="-1" strike="noStrike" baseline="30000">
                <a:solidFill>
                  <a:srgbClr val="0066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-720" y="4038480"/>
            <a:ext cx="6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terstrip Resistance (G</a:t>
            </a:r>
            <a:r>
              <a:rPr b="0" lang="ja-JP" sz="1600" spc="-1" strike="noStrike">
                <a:solidFill>
                  <a:srgbClr val="000000"/>
                </a:solidFill>
                <a:latin typeface="Symbol"/>
                <a:ea typeface="Symbol"/>
              </a:rPr>
              <a:t>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86200"/>
            <a:ext cx="28958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Interstrip capacita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(~300V for Vfd=13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Interstrip resi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(~1G</a:t>
            </a:r>
            <a:r>
              <a:rPr b="1" lang="ja-JP" sz="2000" spc="-1" strike="noStrike">
                <a:solidFill>
                  <a:srgbClr val="336699"/>
                </a:solidFill>
                <a:latin typeface="Symbol"/>
                <a:ea typeface="Symbol"/>
              </a:rPr>
              <a:t></a:t>
            </a:r>
            <a:r>
              <a:rPr b="1" lang="ja-JP" sz="2000" spc="-1" strike="noStrike">
                <a:solidFill>
                  <a:srgbClr val="336699"/>
                </a:solidFill>
                <a:latin typeface="Times New Roman"/>
              </a:rPr>
              <a:t> at 300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2436800">
            <a:off x="4572000" y="3809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1209800">
            <a:off x="4572000" y="464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562720"/>
            <a:ext cx="4343400" cy="1313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clu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totype performance is satisfa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ion delivery starts from Ju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88960" y="15228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Comic Sans MS"/>
              </a:rPr>
              <a:t>Sensors for the CDF Run IIb Silicon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1560" y="703440"/>
            <a:ext cx="77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Dose (for 15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t L0 for Run IIb is 0.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MeV n-eq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609480"/>
            <a:ext cx="5027400" cy="3546360"/>
            <a:chOff x="0" y="609480"/>
            <a:chExt cx="5027400" cy="3546360"/>
          </a:xfrm>
        </p:grpSpPr>
        <p:graphicFrame>
          <p:nvGraphicFramePr>
            <p:cNvPr id="75" name=""/>
            <p:cNvGraphicFramePr/>
            <p:nvPr/>
          </p:nvGraphicFramePr>
          <p:xfrm>
            <a:off x="83160" y="609480"/>
            <a:ext cx="4944240" cy="354636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160" y="609480"/>
                      <a:ext cx="4944240" cy="35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 flipH="1" flipV="1">
              <a:off x="-360" y="809280"/>
              <a:ext cx="423720" cy="27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Interstrip Capacitance (pF</a:t>
              </a:r>
              <a:r>
                <a:rPr b="0" lang="ja-JP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6240" y="1517400"/>
              <a:ext cx="139032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6699"/>
                  </a:solidFill>
                  <a:latin typeface="Arial"/>
                </a:rPr>
                <a:t>1.4 </a:t>
              </a:r>
              <a:r>
                <a:rPr b="1" lang="ja-JP" sz="1200" spc="-1" strike="noStrike">
                  <a:solidFill>
                    <a:srgbClr val="006699"/>
                  </a:solidFill>
                  <a:latin typeface="Arial"/>
                  <a:ea typeface="Arial Unicode MS"/>
                </a:rPr>
                <a:t>X </a:t>
              </a:r>
              <a:r>
                <a:rPr b="1" lang="ja-JP" sz="1200" spc="-1" strike="noStrike">
                  <a:solidFill>
                    <a:srgbClr val="006699"/>
                  </a:solidFill>
                  <a:latin typeface="Arial"/>
                </a:rPr>
                <a:t>10</a:t>
              </a:r>
              <a:r>
                <a:rPr b="1" lang="ja-JP" sz="1200" spc="-1" strike="noStrike" baseline="30000">
                  <a:solidFill>
                    <a:srgbClr val="006699"/>
                  </a:solidFill>
                  <a:latin typeface="Arial"/>
                </a:rPr>
                <a:t>14</a:t>
              </a:r>
              <a:r>
                <a:rPr b="1" lang="ja-JP" sz="1200" spc="-1" strike="noStrike">
                  <a:solidFill>
                    <a:srgbClr val="006699"/>
                  </a:solidFill>
                  <a:latin typeface="Arial"/>
                </a:rPr>
                <a:t> n/cm</a:t>
              </a:r>
              <a:r>
                <a:rPr b="1" lang="ja-JP" sz="1200" spc="-1" strike="noStrike" baseline="30000">
                  <a:solidFill>
                    <a:srgbClr val="0066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0:26:29Z</dcterms:created>
  <dc:creator>hara</dc:creator>
  <dc:description/>
  <dc:language>en-US</dc:language>
  <cp:lastModifiedBy>hara</cp:lastModifiedBy>
  <dcterms:modified xsi:type="dcterms:W3CDTF">2003-05-09T00:15:02Z</dcterms:modified>
  <cp:revision>10</cp:revision>
  <dc:subject/>
  <dc:title>PowerPoint プレゼンテーション</dc:title>
</cp:coreProperties>
</file>