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068-B654-4060-AA2A-ACBA3832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3FA-B4F3-4339-A4D4-7C1FCB33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D70-3FAB-4AAD-B5A1-0BE50599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4AA-D0D3-43D2-9748-27BC734B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684-F26F-4A90-A013-C30B8F3F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A30-E8AA-405A-984A-542F2854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C62-3BD5-4FCE-B0CC-01FDD9B6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253-C695-4C1D-A643-F4990DA3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26E-920D-4E01-A4EB-1D072A1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E0D-DF46-4CEC-9212-32D96DAB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23E-2B0E-48B0-8C09-BFC4E403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BD6-B10F-4B85-A11E-65CD8B1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EAB5-7CDC-41C6-BB21-0E11C8EAC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Status of Hamamatsu Silicon Se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49760" y="11206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T@CERN, Oct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91080" y="44737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K. Hara (U. Tsuku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669000" cy="4394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096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 new defects crea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324480" y="6858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5840" y="30492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isually not seen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495680" y="464796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67160" y="5943600"/>
            <a:ext cx="72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ny HPK defects clustered 300-400: problem in HPK prob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9880" y="5562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me (?) not identi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991120"/>
            <a:ext cx="976320" cy="257400"/>
          </a:xfrm>
          <a:prstGeom prst="rightArrow">
            <a:avLst>
              <a:gd name="adj1" fmla="val 50000"/>
              <a:gd name="adj2" fmla="val 948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228600"/>
            <a:ext cx="304812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平成角ゴシック"/>
              </a:rPr>
              <a:t>24hr I 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240" y="39625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93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14600" y="685800"/>
            <a:ext cx="6248520" cy="345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09920" y="914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63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114800">
            <a:off x="7010280" y="39618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5320" y="44956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405080"/>
            <a:ext cx="8153640" cy="4768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Institution(+HPK)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3400" y="884160"/>
            <a:ext cx="59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~300/month in recent deliv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ensors with modified mask from 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88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5880" y="16002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01160" y="2346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553080" cy="609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kage current (@150, 350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9720" y="762120"/>
            <a:ext cx="786276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72200" y="0"/>
            <a:ext cx="27432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422280"/>
            <a:ext cx="59691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fer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657600"/>
            <a:ext cx="1981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平成角ゴシック"/>
              </a:rPr>
              <a:t>full depletion 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平成角ゴシック"/>
              </a:rPr>
              <a:t>voltag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5657760" cy="357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3648240"/>
            <a:ext cx="5639040" cy="3209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6747000">
            <a:off x="7871400" y="1043640"/>
            <a:ext cx="654120" cy="242640"/>
          </a:xfrm>
          <a:prstGeom prst="rightArrow">
            <a:avLst>
              <a:gd name="adj1" fmla="val 50000"/>
              <a:gd name="adj2" fmla="val 673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72040" y="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669200">
            <a:off x="7848360" y="1142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858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as resistance, sampling 2/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61840" y="990720"/>
            <a:ext cx="741852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ant tests: sampling (2/lo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5960" y="1600200"/>
            <a:ext cx="7912080" cy="461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4360" y="306216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trip tests: just start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5320" y="60948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nly detectors with many defec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117440"/>
            <a:ext cx="3503520" cy="574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1181160"/>
            <a:ext cx="3670560" cy="5676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20291400">
            <a:off x="0" y="1218960"/>
            <a:ext cx="19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ll defects ident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291400">
            <a:off x="4117680" y="465444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se not ident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181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08:21:38Z</dcterms:created>
  <dc:creator>hara kazuhiko</dc:creator>
  <dc:description/>
  <dc:language>en-US</dc:language>
  <cp:lastModifiedBy>hara kazuhiko</cp:lastModifiedBy>
  <dcterms:modified xsi:type="dcterms:W3CDTF">2001-10-05T09:38:46Z</dcterms:modified>
  <cp:revision>16</cp:revision>
  <dc:subject/>
  <dc:title>Status of Hamamatsu Silicon Sensors</dc:title>
</cp:coreProperties>
</file>