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11.pct" ContentType="image/x-pict"/>
  <Override PartName="/ppt/media/image9.png" ContentType="image/png"/>
  <Override PartName="/ppt/media/image8.png" ContentType="image/png"/>
  <Override PartName="/ppt/media/image16.pct" ContentType="image/x-pict"/>
  <Override PartName="/ppt/media/image15.png" ContentType="image/png"/>
  <Override PartName="/ppt/media/image17.jpeg" ContentType="image/jpeg"/>
  <Override PartName="/ppt/media/image14.pct" ContentType="image/x-pict"/>
  <Override PartName="/ppt/media/image1.pct" ContentType="image/x-pict"/>
  <Override PartName="/ppt/media/image2.pct" ContentType="image/x-pict"/>
  <Override PartName="/ppt/media/image10.png" ContentType="image/png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B7C-F04E-4E39-B2E1-95842F48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390-B3B1-4880-BD58-304D8E39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BBD-E601-4C11-A090-6D5D3578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B24-8648-4C6C-BA79-8BFB0B46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881-B705-4DA8-8037-B43C540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D5A-A7B0-430D-8D19-AB521B71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88F-450C-4A31-A2B8-95312338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8B8-EBA7-48A0-AA06-9ED6BDB9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D44-10FD-47DD-8F91-CE62E9F2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B35-456C-454F-A294-E7B5D46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643-95D3-428B-A662-E65A30E5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E50-E8D0-4AF2-A6B5-BECE8E1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334D-87B3-467D-B756-09CD8B6C12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T@Prague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Status of Hamamatsu Silicon Se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0600" y="1523880"/>
            <a:ext cx="5856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. Hara (Univ of Tsuku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eakage current at 150V &amp; 35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umber of defect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fer thickness &amp; full depletion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ias resistance (sam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tatus of Institut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mplan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upling capac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4-hr leakage current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48320" y="11271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CT@Pragu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, June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5360" y="1371600"/>
            <a:ext cx="8153280" cy="4749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 tests: sampling (2/lo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200" y="2057400"/>
            <a:ext cx="8877600" cy="3705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ling capac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4200" y="1203480"/>
            <a:ext cx="55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easure nly detectors with many defec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577800"/>
            <a:ext cx="84582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5638680" cy="4097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541044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04812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hr I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mi-auto pro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4760" y="1744560"/>
            <a:ext cx="8321400" cy="4178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Institution tests (stat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4520" y="1905120"/>
            <a:ext cx="7913520" cy="5157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3400" y="884160"/>
            <a:ext cx="59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00/month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ensors with modified mask from 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im at ~300/mon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3480" y="228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296280" cy="656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553080" cy="609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kage current (@150, 350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1200" y="279360"/>
            <a:ext cx="8661600" cy="6297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72200" y="0"/>
            <a:ext cx="27432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21932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平成角ゴシック"/>
              </a:rPr>
              <a:t>all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7692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平成角ゴシック"/>
              </a:rPr>
              <a:t>pinhole is responsib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71500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990720"/>
            <a:ext cx="976320" cy="304560"/>
          </a:xfrm>
          <a:prstGeom prst="leftArrow">
            <a:avLst>
              <a:gd name="adj1" fmla="val 50000"/>
              <a:gd name="adj2" fmla="val 801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fer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平成角ゴシック"/>
              </a:rPr>
              <a:t>full depletion volt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平成角ゴシック"/>
              </a:rPr>
              <a:t>50~9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2400" y="1447920"/>
            <a:ext cx="236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平成角ゴシック"/>
              </a:rPr>
              <a:t>mean=289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平成角ゴシック"/>
              </a:rPr>
              <a:t>spec:285±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184320"/>
            <a:ext cx="4708440" cy="648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3255600">
            <a:off x="4518360" y="4777560"/>
            <a:ext cx="654120" cy="243000"/>
          </a:xfrm>
          <a:prstGeom prst="rightArrow">
            <a:avLst>
              <a:gd name="adj1" fmla="val 50000"/>
              <a:gd name="adj2" fmla="val 67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6720" y="38862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3227400"/>
            <a:ext cx="5738760" cy="36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738760" cy="363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14080" y="593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80988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7560" y="3650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K I-V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191040"/>
            <a:ext cx="4800600" cy="3666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3227400"/>
            <a:ext cx="4648320" cy="363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30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00" y="167652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s with new 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24000" y="404640"/>
            <a:ext cx="7081920" cy="6396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858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as resistance, sampling 2/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08:21:38Z</dcterms:created>
  <dc:creator>hara kazuhiko</dc:creator>
  <dc:description/>
  <dc:language>en-US</dc:language>
  <cp:lastModifiedBy>hara kazuhiko</cp:lastModifiedBy>
  <dcterms:modified xsi:type="dcterms:W3CDTF">2001-07-08T23:50:10Z</dcterms:modified>
  <cp:revision>8</cp:revision>
  <dc:subject/>
  <dc:title>Status of Hamamatsu Silicon Sensors</dc:title>
</cp:coreProperties>
</file>