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jpeg" ContentType="image/jpe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48.png" ContentType="image/png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3508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0972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D0ECCD0-4D60-4626-AD03-6A18B3964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スライド番号プレースホルダー 3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BC5280-9CF2-48A0-9E51-11B77DCF9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スライド番号プレースホルダー 3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3D632C-6735-47B7-99A2-21099154C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0D22-0C5E-4B81-AF48-E83570CB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775E-3955-4992-916B-14A54910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F7D8-EA50-49FC-B303-BCC4F695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02DD-A718-418B-A2C3-F676CEBA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A31C-7667-47E8-97C2-73E777DB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B178-A210-4416-AA85-1119DF90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C51F-11AC-4936-949D-964D1ADE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7EE7-4621-4E2F-8B27-14742B68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6661-7B53-484E-B034-25011266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D762-ED6F-4ADC-B85B-344403F4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427A-BD2A-4C71-A2F5-71F4C179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FAB5-D22C-48D4-B711-0261E5B5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AB9A-1EA4-4045-97B6-EFE7D2E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4BAA-BE5B-45E5-8438-37FA03D0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DA83-352F-422A-9262-C5129A2C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BC63-54D0-4966-9DBF-F1FFABCC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CF7C-7D4A-4AF3-8E59-C13A7682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E2F1-8338-43B5-8FD2-C9744ED9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940F-BAE6-452C-A682-3FCE2E58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552E-F508-4341-9FA8-F970F759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B3B7-79FF-47E9-9682-DDC92824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E6FF-623D-4F20-BDCA-DFB7CC1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82C1-9E5D-44D6-A57A-E16BC24C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59D8-F3F4-47DF-9EE3-84EC99E7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942F-250C-423D-A11E-BFED4C3AD4D1}" type="slidenum">
              <a:rPr b="0" lang="en-US" sz="12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F305-A721-4C67-90A2-5A04244BA2C0}" type="slidenum">
              <a:rPr b="0" lang="en-US" sz="14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0" y="0"/>
            <a:ext cx="9148680" cy="685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Osaka"/>
              </a:rPr>
              <a:t> 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Osaka"/>
              <a:ea typeface="Osak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362560" y="324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APPC12     July 17, 2013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-30240" y="1068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d6953"/>
                </a:solidFill>
                <a:latin typeface="Times New Roman"/>
                <a:ea typeface="HG明朝E"/>
              </a:rPr>
              <a:t>Shin-Hong Kim (University of Tsukuba)</a:t>
            </a:r>
            <a:r>
              <a:rPr b="1" lang="en-US" sz="2000" spc="-1" strike="noStrike">
                <a:solidFill>
                  <a:srgbClr val="8d695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d6953"/>
                </a:solidFill>
                <a:latin typeface="Times New Roman"/>
              </a:rPr>
              <a:t>for Neutrino Decay collaboration 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03" name="Rectangle 9" descr=""/>
          <p:cNvPicPr/>
          <p:nvPr/>
        </p:nvPicPr>
        <p:blipFill>
          <a:blip r:embed="rId3"/>
          <a:stretch/>
        </p:blipFill>
        <p:spPr>
          <a:xfrm>
            <a:off x="444600" y="262080"/>
            <a:ext cx="8248680" cy="804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-30240" y="386064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●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Introduction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　　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Motivation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　　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Cosmic Infrared Background Measurement by COBE and AKARI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　　　　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●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Proposal on Search for Cosmic Background Neutrino Decay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Preparatory Rocket experiment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●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R&amp;D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of Superconducting Tunnel Junction (STJ) Detector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　　　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1916280"/>
            <a:ext cx="9004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Neutrino Decay Collabora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 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S.H. Kim, Y. Takeuchi, K.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HG明朝E"/>
              </a:rPr>
              <a:t>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Nagata, K. Kasahara, T. Okudaira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University of Tsukuba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 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H. Ikeda,  S. Matsuura, T. Wada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JAXA/ISAS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 H. Ishino, A.  Kibayashi 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Okayama University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 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S. Mima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RIKEN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T. Yoshida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University</a:t>
            </a:r>
            <a:r>
              <a:rPr b="1" lang="ja-JP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of Fukui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Y. Kato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Kinki University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M. Hazumi,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 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Y. Arai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KEK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 E. Ramberg, J.H. Yoo 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Fermilab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S. B.Kim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Seoul National University)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362240" y="3308400"/>
            <a:ext cx="6484680" cy="327816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6" descr=""/>
          <p:cNvPicPr/>
          <p:nvPr/>
        </p:nvPicPr>
        <p:blipFill>
          <a:blip r:embed="rId2"/>
          <a:stretch/>
        </p:blipFill>
        <p:spPr>
          <a:xfrm>
            <a:off x="603360" y="0"/>
            <a:ext cx="7870680" cy="695160"/>
          </a:xfrm>
          <a:prstGeom prst="rect">
            <a:avLst/>
          </a:prstGeom>
          <a:ln w="0">
            <a:noFill/>
          </a:ln>
        </p:spPr>
      </p:pic>
      <p:sp>
        <p:nvSpPr>
          <p:cNvPr id="188" name="テキスト ボックス 4"/>
          <p:cNvSpPr/>
          <p:nvPr/>
        </p:nvSpPr>
        <p:spPr>
          <a:xfrm>
            <a:off x="290520" y="627120"/>
            <a:ext cx="464184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HGS明朝E"/>
                <a:ea typeface="HGS明朝E"/>
              </a:rPr>
              <a:t>SOI-STJ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SOI (Silicon-On-Insulator) preamplifier :  Low noise preamplifier working around 1K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We have processed Nb/Al-STJ on a SOI transistor board, and confirmed that both Nb/Al-STJ detector and SOI MOSFET worked normally 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at 700mK</a:t>
            </a: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4932360" y="644400"/>
            <a:ext cx="3960720" cy="2664000"/>
          </a:xfrm>
          <a:prstGeom prst="rect">
            <a:avLst/>
          </a:prstGeom>
          <a:ln w="0">
            <a:noFill/>
          </a:ln>
        </p:spPr>
      </p:pic>
      <p:sp>
        <p:nvSpPr>
          <p:cNvPr id="190" name="テキスト ボックス 4"/>
          <p:cNvSpPr/>
          <p:nvPr/>
        </p:nvSpPr>
        <p:spPr>
          <a:xfrm>
            <a:off x="468360" y="6499080"/>
            <a:ext cx="84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In the next step, we will look at the response of SOI-STJ to infrared photons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1" name="テキスト ボックス 7"/>
          <p:cNvSpPr/>
          <p:nvPr/>
        </p:nvSpPr>
        <p:spPr>
          <a:xfrm>
            <a:off x="4932360" y="392904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imes New Roman"/>
              </a:rPr>
              <a:t>I  (1mA /DIV.)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2" name="テキスト ボックス 7"/>
          <p:cNvSpPr/>
          <p:nvPr/>
        </p:nvSpPr>
        <p:spPr>
          <a:xfrm>
            <a:off x="5038560" y="4618080"/>
            <a:ext cx="136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V  (2mV /DIV.)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6" descr=""/>
          <p:cNvPicPr/>
          <p:nvPr/>
        </p:nvPicPr>
        <p:blipFill>
          <a:blip r:embed="rId1"/>
          <a:stretch/>
        </p:blipFill>
        <p:spPr>
          <a:xfrm>
            <a:off x="622440" y="115920"/>
            <a:ext cx="7875360" cy="695160"/>
          </a:xfrm>
          <a:prstGeom prst="rect">
            <a:avLst/>
          </a:prstGeom>
          <a:ln w="0">
            <a:noFill/>
          </a:ln>
        </p:spPr>
      </p:pic>
      <p:sp>
        <p:nvSpPr>
          <p:cNvPr id="194" name="テキスト ボックス 2"/>
          <p:cNvSpPr/>
          <p:nvPr/>
        </p:nvSpPr>
        <p:spPr>
          <a:xfrm>
            <a:off x="160200" y="623880"/>
            <a:ext cx="89838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HGS明朝E"/>
                <a:ea typeface="HGS明朝E"/>
              </a:rPr>
              <a:t>Hf-STJ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Goal:  Measure energy of  a single far-infrared photon for neutrino decay search experiment within 2% energy resolution. 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95" name="テキスト ボックス 2" descr=""/>
          <p:cNvPicPr/>
          <p:nvPr/>
        </p:nvPicPr>
        <p:blipFill>
          <a:blip r:embed="rId2"/>
          <a:stretch/>
        </p:blipFill>
        <p:spPr>
          <a:xfrm>
            <a:off x="285840" y="1785960"/>
            <a:ext cx="8523360" cy="944640"/>
          </a:xfrm>
          <a:prstGeom prst="rect">
            <a:avLst/>
          </a:prstGeom>
          <a:ln w="0">
            <a:noFill/>
          </a:ln>
        </p:spPr>
      </p:pic>
      <p:sp>
        <p:nvSpPr>
          <p:cNvPr id="196" name="テキスト ボックス 2"/>
          <p:cNvSpPr/>
          <p:nvPr/>
        </p:nvSpPr>
        <p:spPr>
          <a:xfrm>
            <a:off x="260280" y="4140360"/>
            <a:ext cx="49183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Hf-STJ (100x100</a:t>
            </a:r>
            <a:r>
              <a:rPr b="1" lang="en-US" sz="1800" spc="-1" strike="noStrike">
                <a:solidFill>
                  <a:srgbClr val="00206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)</a:t>
            </a: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 shows smaller leakage current than </a:t>
            </a:r>
            <a:r>
              <a:rPr b="1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Hf-STJ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(200x200</a:t>
            </a:r>
            <a:r>
              <a:rPr b="1" lang="en-US" sz="1800" spc="-1" strike="noStrike">
                <a:solidFill>
                  <a:srgbClr val="00206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)</a:t>
            </a: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 which we have established to work as a STJ in 2011.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The work to reduce a large leakage current of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Hf-STJ is underway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97" name="グループ化 9"/>
          <p:cNvGrpSpPr/>
          <p:nvPr/>
        </p:nvGrpSpPr>
        <p:grpSpPr>
          <a:xfrm>
            <a:off x="5256360" y="3095640"/>
            <a:ext cx="3725640" cy="1606680"/>
            <a:chOff x="5256360" y="3095640"/>
            <a:chExt cx="3725640" cy="1606680"/>
          </a:xfrm>
        </p:grpSpPr>
        <p:pic>
          <p:nvPicPr>
            <p:cNvPr id="198" name="Picture 2" descr=""/>
            <p:cNvPicPr/>
            <p:nvPr/>
          </p:nvPicPr>
          <p:blipFill>
            <a:blip r:embed="rId3"/>
            <a:stretch/>
          </p:blipFill>
          <p:spPr>
            <a:xfrm>
              <a:off x="5430960" y="3099960"/>
              <a:ext cx="1829520" cy="160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" descr=""/>
            <p:cNvPicPr/>
            <p:nvPr/>
          </p:nvPicPr>
          <p:blipFill>
            <a:blip r:embed="rId4"/>
            <a:stretch/>
          </p:blipFill>
          <p:spPr>
            <a:xfrm>
              <a:off x="7270920" y="3095640"/>
              <a:ext cx="1711080" cy="1606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0" name="直線矢印コネクタ 12"/>
            <p:cNvCxnSpPr/>
            <p:nvPr/>
          </p:nvCxnSpPr>
          <p:spPr>
            <a:xfrm>
              <a:off x="6999120" y="3779640"/>
              <a:ext cx="37836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01" name="テキスト ボックス 13"/>
            <p:cNvSpPr/>
            <p:nvPr/>
          </p:nvSpPr>
          <p:spPr>
            <a:xfrm>
              <a:off x="7087680" y="3176640"/>
              <a:ext cx="15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B=10 Gauss</a:t>
              </a:r>
              <a:endParaRPr b="0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2" name="テキスト ボックス 14"/>
            <p:cNvSpPr/>
            <p:nvPr/>
          </p:nvSpPr>
          <p:spPr>
            <a:xfrm>
              <a:off x="5256360" y="3184200"/>
              <a:ext cx="14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B=0 Gauss</a:t>
              </a:r>
              <a:endParaRPr b="0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203" name="正方形/長方形 1"/>
          <p:cNvSpPr/>
          <p:nvPr/>
        </p:nvSpPr>
        <p:spPr>
          <a:xfrm>
            <a:off x="5267160" y="2527200"/>
            <a:ext cx="3672000" cy="6141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I-V curve of Hf-STJ (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200x200</a:t>
            </a:r>
            <a:r>
              <a:rPr b="1" lang="en-US" sz="1600" spc="-1" strike="noStrike">
                <a:solidFill>
                  <a:srgbClr val="00206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m</a:t>
            </a:r>
            <a:r>
              <a:rPr b="1" lang="en-US" sz="16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)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T~80mK, I</a:t>
            </a:r>
            <a:r>
              <a:rPr b="0" lang="en-US" sz="1600" spc="-1" strike="noStrike" baseline="-25000">
                <a:solidFill>
                  <a:srgbClr val="002060"/>
                </a:solidFill>
                <a:latin typeface="HGS明朝E"/>
                <a:ea typeface="HGS明朝E"/>
              </a:rPr>
              <a:t>c</a:t>
            </a: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=60μA, 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R</a:t>
            </a:r>
            <a:r>
              <a:rPr b="1" lang="en-US" sz="1600" spc="-1" strike="noStrike" baseline="-25000">
                <a:solidFill>
                  <a:srgbClr val="002060"/>
                </a:solidFill>
                <a:latin typeface="HGS明朝E"/>
                <a:ea typeface="HGS明朝E"/>
              </a:rPr>
              <a:t>d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=0.2Ω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5"/>
          <a:stretch/>
        </p:blipFill>
        <p:spPr>
          <a:xfrm>
            <a:off x="5432400" y="5294160"/>
            <a:ext cx="1724040" cy="153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6"/>
          <a:stretch/>
        </p:blipFill>
        <p:spPr>
          <a:xfrm>
            <a:off x="7259760" y="5294160"/>
            <a:ext cx="1679400" cy="1538280"/>
          </a:xfrm>
          <a:prstGeom prst="rect">
            <a:avLst/>
          </a:prstGeom>
          <a:ln w="0">
            <a:noFill/>
          </a:ln>
        </p:spPr>
      </p:pic>
      <p:sp>
        <p:nvSpPr>
          <p:cNvPr id="206" name="正方形/長方形 17"/>
          <p:cNvSpPr/>
          <p:nvPr/>
        </p:nvSpPr>
        <p:spPr>
          <a:xfrm>
            <a:off x="5332320" y="4710240"/>
            <a:ext cx="3606840" cy="614160"/>
          </a:xfrm>
          <a:prstGeom prst="rect">
            <a:avLst/>
          </a:prstGeom>
          <a:noFill/>
          <a:ln w="9360">
            <a:solidFill>
              <a:srgbClr val="262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I-V curve of Hf-STJ (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100x100</a:t>
            </a:r>
            <a:r>
              <a:rPr b="1" lang="en-US" sz="1600" spc="-1" strike="noStrike">
                <a:solidFill>
                  <a:srgbClr val="00206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m</a:t>
            </a:r>
            <a:r>
              <a:rPr b="1" lang="en-US" sz="16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)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T~40mK, I</a:t>
            </a:r>
            <a:r>
              <a:rPr b="0" lang="en-US" sz="1600" spc="-1" strike="noStrike" baseline="-25000">
                <a:solidFill>
                  <a:srgbClr val="002060"/>
                </a:solidFill>
                <a:latin typeface="HGS明朝E"/>
                <a:ea typeface="HGS明朝E"/>
              </a:rPr>
              <a:t>c</a:t>
            </a: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=10μA, 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R</a:t>
            </a:r>
            <a:r>
              <a:rPr b="1" lang="en-US" sz="1600" spc="-1" strike="noStrike" baseline="-25000">
                <a:solidFill>
                  <a:srgbClr val="002060"/>
                </a:solidFill>
                <a:latin typeface="HGS明朝E"/>
                <a:ea typeface="HGS明朝E"/>
              </a:rPr>
              <a:t>d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=0.6Ω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7"/>
          <a:stretch/>
        </p:blipFill>
        <p:spPr>
          <a:xfrm>
            <a:off x="1042920" y="2743200"/>
            <a:ext cx="2595600" cy="1314360"/>
          </a:xfrm>
          <a:prstGeom prst="rect">
            <a:avLst/>
          </a:prstGeom>
          <a:ln w="0">
            <a:noFill/>
          </a:ln>
        </p:spPr>
      </p:pic>
      <p:cxnSp>
        <p:nvCxnSpPr>
          <p:cNvPr id="208" name="直線矢印コネクタ 4"/>
          <p:cNvCxnSpPr/>
          <p:nvPr/>
        </p:nvCxnSpPr>
        <p:spPr>
          <a:xfrm>
            <a:off x="6999120" y="5949720"/>
            <a:ext cx="3772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9" name="テキスト ボックス 5"/>
          <p:cNvSpPr/>
          <p:nvPr/>
        </p:nvSpPr>
        <p:spPr>
          <a:xfrm>
            <a:off x="5088600" y="537372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B=0 Gauss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0" name="テキスト ボックス 23"/>
          <p:cNvSpPr/>
          <p:nvPr/>
        </p:nvSpPr>
        <p:spPr>
          <a:xfrm>
            <a:off x="6858720" y="53737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B=10 Gauss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1981080" y="12600"/>
            <a:ext cx="4876920" cy="920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539640" y="981000"/>
            <a:ext cx="76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 is feasible to observe the cosmic background neutrino decay with a satellite experiment, if we assume Left-Right Symmetric Model.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are developing STJ-based detectors to detect a far-infrared photon in energy range between 8 and 30meV to search for cosmic background neutrino decay.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rocket experiment using the STJ detectors for neutrino decay search is in preparation. It will improve the neutrino lifetime sensitivity from the present 10</a:t>
            </a:r>
            <a:r>
              <a:rPr b="0" lang="en-US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2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ear</a:t>
            </a:r>
            <a:r>
              <a:rPr b="0" lang="en-US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10</a:t>
            </a:r>
            <a:r>
              <a:rPr b="0" lang="en-US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4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ear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タイトル 1" descr=""/>
          <p:cNvPicPr/>
          <p:nvPr/>
        </p:nvPicPr>
        <p:blipFill>
          <a:blip r:embed="rId1"/>
          <a:stretch/>
        </p:blipFill>
        <p:spPr>
          <a:xfrm>
            <a:off x="2773440" y="1268280"/>
            <a:ext cx="378612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F5EB-4C9A-4BF2-9439-29633D8DBA42}" type="slidenum">
              <a:rPr b="0" lang="en-US" sz="1400" spc="-1" strike="noStrike">
                <a:solidFill>
                  <a:srgbClr val="4d5b6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5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7DD4-C1F5-4C98-8B54-42BE7A49CE90}" type="slidenum">
              <a:rPr b="0" lang="en-US" sz="1400" spc="-1" strike="noStrike">
                <a:solidFill>
                  <a:srgbClr val="4d5b6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6" name="角丸四角形 9"/>
          <p:cNvSpPr/>
          <p:nvPr/>
        </p:nvSpPr>
        <p:spPr>
          <a:xfrm>
            <a:off x="1692360" y="3213000"/>
            <a:ext cx="7056360" cy="35892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Nb/Al-STJ</a:t>
            </a:r>
            <a:r>
              <a:rPr b="0" lang="ja-JP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設計・開発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17" name="タイトル 1" descr=""/>
          <p:cNvPicPr/>
          <p:nvPr/>
        </p:nvPicPr>
        <p:blipFill>
          <a:blip r:embed="rId1"/>
          <a:stretch/>
        </p:blipFill>
        <p:spPr>
          <a:xfrm>
            <a:off x="2639880" y="-60480"/>
            <a:ext cx="402912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142920" y="636480"/>
          <a:ext cx="9001080" cy="6162840"/>
        </p:xfrm>
        <a:graphic>
          <a:graphicData uri="http://schemas.openxmlformats.org/drawingml/2006/table">
            <a:tbl>
              <a:tblPr/>
              <a:tblGrid>
                <a:gridCol w="2016000"/>
                <a:gridCol w="1044720"/>
                <a:gridCol w="1152360"/>
                <a:gridCol w="1117800"/>
                <a:gridCol w="1224000"/>
                <a:gridCol w="1222200"/>
                <a:gridCol w="1224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Experiment Design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uperconductingTunnel Junction (STJ ) Detector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0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Preamplifier at 2K and Post-Preamp (Fermilab, JAXA, Tsukuba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ispersive Element, Optics (JAXA, Tsukuba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ryostat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( JAXA, KEK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easurements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nalysis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ll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9" name="角丸四角形 4"/>
          <p:cNvSpPr/>
          <p:nvPr/>
        </p:nvSpPr>
        <p:spPr>
          <a:xfrm>
            <a:off x="2124000" y="162864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Experiment design with FIR Rocket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0" name="角丸四角形 5"/>
          <p:cNvSpPr/>
          <p:nvPr/>
        </p:nvSpPr>
        <p:spPr>
          <a:xfrm>
            <a:off x="2124000" y="1268280"/>
            <a:ext cx="702000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Experiment design with Satellite such as SPICA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1" name="角丸四角形 9"/>
          <p:cNvSpPr/>
          <p:nvPr/>
        </p:nvSpPr>
        <p:spPr>
          <a:xfrm>
            <a:off x="2124000" y="2205000"/>
            <a:ext cx="2305080" cy="5032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 of Nb/Al-STJ Detector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2" name="角丸四角形 10"/>
          <p:cNvSpPr/>
          <p:nvPr/>
        </p:nvSpPr>
        <p:spPr>
          <a:xfrm>
            <a:off x="4433760" y="2214720"/>
            <a:ext cx="1368720" cy="5014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Produc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3" name="角丸四角形 13"/>
          <p:cNvSpPr/>
          <p:nvPr/>
        </p:nvSpPr>
        <p:spPr>
          <a:xfrm>
            <a:off x="4433760" y="4221000"/>
            <a:ext cx="1363680" cy="43200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Produc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4" name="角丸四角形 14"/>
          <p:cNvSpPr/>
          <p:nvPr/>
        </p:nvSpPr>
        <p:spPr>
          <a:xfrm>
            <a:off x="2124000" y="3213000"/>
            <a:ext cx="2309760" cy="5050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5" name="角丸四角形 20"/>
          <p:cNvSpPr/>
          <p:nvPr/>
        </p:nvSpPr>
        <p:spPr>
          <a:xfrm>
            <a:off x="2124000" y="6237360"/>
            <a:ext cx="3730680" cy="35856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Simula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6" name="角丸四角形 12"/>
          <p:cNvSpPr/>
          <p:nvPr/>
        </p:nvSpPr>
        <p:spPr>
          <a:xfrm>
            <a:off x="2124000" y="4221000"/>
            <a:ext cx="2309760" cy="43200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7" name="角丸四角形 9"/>
          <p:cNvSpPr/>
          <p:nvPr/>
        </p:nvSpPr>
        <p:spPr>
          <a:xfrm>
            <a:off x="2124000" y="2708280"/>
            <a:ext cx="7020000" cy="35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　　　</a:t>
            </a: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 of Hf-STJ Detector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8" name="角丸四角形 10"/>
          <p:cNvSpPr/>
          <p:nvPr/>
        </p:nvSpPr>
        <p:spPr>
          <a:xfrm>
            <a:off x="4429080" y="3213000"/>
            <a:ext cx="1368360" cy="5050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Produc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9" name="角丸四角形 13"/>
          <p:cNvSpPr/>
          <p:nvPr/>
        </p:nvSpPr>
        <p:spPr>
          <a:xfrm>
            <a:off x="3225960" y="5950080"/>
            <a:ext cx="2628720" cy="2872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Analysis Program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0" name="角丸四角形 13"/>
          <p:cNvSpPr/>
          <p:nvPr/>
        </p:nvSpPr>
        <p:spPr>
          <a:xfrm>
            <a:off x="5875200" y="6289560"/>
            <a:ext cx="3268800" cy="30636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Analysis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1" name="角丸四角形 12"/>
          <p:cNvSpPr/>
          <p:nvPr/>
        </p:nvSpPr>
        <p:spPr>
          <a:xfrm>
            <a:off x="2124000" y="5300640"/>
            <a:ext cx="2303640" cy="43200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2" name="角丸四角形 13"/>
          <p:cNvSpPr/>
          <p:nvPr/>
        </p:nvSpPr>
        <p:spPr>
          <a:xfrm>
            <a:off x="4405320" y="5300640"/>
            <a:ext cx="1411200" cy="43200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Produc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3" name="角丸四角形 10"/>
          <p:cNvSpPr/>
          <p:nvPr/>
        </p:nvSpPr>
        <p:spPr>
          <a:xfrm rot="16200000">
            <a:off x="3892320" y="3800160"/>
            <a:ext cx="4968720" cy="58428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Far-Infrared Observatory Rocket Experiment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304920" y="291960"/>
            <a:ext cx="8089920" cy="841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4284720" y="162864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At the superconducting junction,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excited electrons (quasi-particles) over their energy gap go through tunnel barrier by a tunnel effect.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By measuring the tunnel current of electrons excited by an incident particle, we measure the energy of the particle. 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8893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uperconductor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Insulator </a:t>
            </a: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uperconductor 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Josephson Junction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733920" cy="30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6942240" y="6046920"/>
          <a:ext cx="1296720" cy="44136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4136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070600" y="5915160"/>
          <a:ext cx="1726920" cy="44136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44136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070600" y="4896000"/>
          <a:ext cx="1726920" cy="44100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44100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6942240" y="5027760"/>
          <a:ext cx="1296720" cy="44100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4100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726240" y="4259160"/>
          <a:ext cx="236520" cy="1871640"/>
        </p:xfrm>
        <a:graphic>
          <a:graphicData uri="http://schemas.openxmlformats.org/drawingml/2006/table">
            <a:tbl>
              <a:tblPr/>
              <a:tblGrid>
                <a:gridCol w="236520"/>
              </a:tblGrid>
              <a:tr h="187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36"/>
          <p:cNvSpPr/>
          <p:nvPr/>
        </p:nvSpPr>
        <p:spPr>
          <a:xfrm>
            <a:off x="6715080" y="5919840"/>
            <a:ext cx="263520" cy="4255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4" name="円/楕円​​ 14"/>
          <p:cNvSpPr/>
          <p:nvPr/>
        </p:nvSpPr>
        <p:spPr>
          <a:xfrm flipV="1">
            <a:off x="5789520" y="5051520"/>
            <a:ext cx="108000" cy="11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5" name="円/楕円​​ 15"/>
          <p:cNvSpPr/>
          <p:nvPr/>
        </p:nvSpPr>
        <p:spPr>
          <a:xfrm flipV="1">
            <a:off x="6041880" y="5051520"/>
            <a:ext cx="108000" cy="11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6" name="テキスト ボックス 16"/>
          <p:cNvSpPr/>
          <p:nvPr/>
        </p:nvSpPr>
        <p:spPr>
          <a:xfrm>
            <a:off x="5932080" y="6265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Constantia"/>
                <a:ea typeface="HGP明朝E"/>
              </a:rPr>
              <a:t>S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7" name="テキスト ボックス 17"/>
          <p:cNvSpPr/>
          <p:nvPr/>
        </p:nvSpPr>
        <p:spPr>
          <a:xfrm>
            <a:off x="6725880" y="627552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Constantia"/>
                <a:ea typeface="HGP明朝E"/>
              </a:rPr>
              <a:t>I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8" name="テキスト ボックス 18"/>
          <p:cNvSpPr/>
          <p:nvPr/>
        </p:nvSpPr>
        <p:spPr>
          <a:xfrm>
            <a:off x="7430760" y="6275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Constantia"/>
                <a:ea typeface="HGP明朝E"/>
              </a:rPr>
              <a:t>S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9" name="テキスト ボックス 19"/>
          <p:cNvSpPr/>
          <p:nvPr/>
        </p:nvSpPr>
        <p:spPr>
          <a:xfrm>
            <a:off x="7972560" y="5530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Constantia"/>
                <a:ea typeface="HGP明朝E"/>
              </a:rPr>
              <a:t>2Δ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cxnSp>
        <p:nvCxnSpPr>
          <p:cNvPr id="250" name="直線矢印​​コネクタ 20"/>
          <p:cNvCxnSpPr/>
          <p:nvPr/>
        </p:nvCxnSpPr>
        <p:spPr>
          <a:xfrm>
            <a:off x="8007120" y="5387760"/>
            <a:ext cx="108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1" name="円/楕円​​ 21"/>
          <p:cNvSpPr/>
          <p:nvPr/>
        </p:nvSpPr>
        <p:spPr>
          <a:xfrm>
            <a:off x="5689440" y="5904000"/>
            <a:ext cx="42732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2" name="円/楕円​​ 22"/>
          <p:cNvSpPr/>
          <p:nvPr/>
        </p:nvSpPr>
        <p:spPr>
          <a:xfrm flipV="1">
            <a:off x="5754600" y="598572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3" name="円/楕円​​ 23"/>
          <p:cNvSpPr/>
          <p:nvPr/>
        </p:nvSpPr>
        <p:spPr>
          <a:xfrm flipV="1">
            <a:off x="5934240" y="5985720"/>
            <a:ext cx="10764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4" name="上矢印 25"/>
          <p:cNvSpPr/>
          <p:nvPr/>
        </p:nvSpPr>
        <p:spPr>
          <a:xfrm rot="5400000">
            <a:off x="6727320" y="4736880"/>
            <a:ext cx="247680" cy="825480"/>
          </a:xfrm>
          <a:prstGeom prst="upArrow">
            <a:avLst>
              <a:gd name="adj1" fmla="val 50843"/>
              <a:gd name="adj2" fmla="val 48018"/>
            </a:avLst>
          </a:prstGeom>
          <a:solidFill>
            <a:srgbClr val="ff760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5" name="円/楕円​​ 26"/>
          <p:cNvSpPr/>
          <p:nvPr/>
        </p:nvSpPr>
        <p:spPr>
          <a:xfrm flipV="1">
            <a:off x="7373880" y="5171400"/>
            <a:ext cx="108000" cy="119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cxnSp>
        <p:nvCxnSpPr>
          <p:cNvPr id="256" name="直線矢印​​コネクタ 28"/>
          <p:cNvCxnSpPr/>
          <p:nvPr/>
        </p:nvCxnSpPr>
        <p:spPr>
          <a:xfrm>
            <a:off x="5754240" y="4403880"/>
            <a:ext cx="72360" cy="54360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triangle" w="med"/>
          </a:ln>
        </p:spPr>
      </p:cxnSp>
      <p:cxnSp>
        <p:nvCxnSpPr>
          <p:cNvPr id="257" name="直線矢印​​コネクタ 29"/>
          <p:cNvCxnSpPr/>
          <p:nvPr/>
        </p:nvCxnSpPr>
        <p:spPr>
          <a:xfrm>
            <a:off x="5754240" y="4411800"/>
            <a:ext cx="359640" cy="53568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triangle" w="med"/>
          </a:ln>
        </p:spPr>
      </p:cxnSp>
      <p:sp>
        <p:nvSpPr>
          <p:cNvPr id="258" name="テキスト ボックス 30"/>
          <p:cNvSpPr/>
          <p:nvPr/>
        </p:nvSpPr>
        <p:spPr>
          <a:xfrm>
            <a:off x="4642920" y="400536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Excited Electrons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cxnSp>
        <p:nvCxnSpPr>
          <p:cNvPr id="259" name="直線矢印​​コネクタ 31"/>
          <p:cNvCxnSpPr/>
          <p:nvPr/>
        </p:nvCxnSpPr>
        <p:spPr>
          <a:xfrm>
            <a:off x="4638240" y="5263920"/>
            <a:ext cx="648360" cy="80388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60" name="直線矢印​​コネクタ 6"/>
          <p:cNvCxnSpPr/>
          <p:nvPr/>
        </p:nvCxnSpPr>
        <p:spPr>
          <a:xfrm flipV="1">
            <a:off x="5573520" y="5409720"/>
            <a:ext cx="1080" cy="37080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triangle" w="med"/>
          </a:ln>
        </p:spPr>
      </p:cxnSp>
      <p:cxnSp>
        <p:nvCxnSpPr>
          <p:cNvPr id="261" name="直線矢印​​コネクタ 39"/>
          <p:cNvCxnSpPr/>
          <p:nvPr/>
        </p:nvCxnSpPr>
        <p:spPr>
          <a:xfrm flipV="1">
            <a:off x="5717880" y="5419080"/>
            <a:ext cx="1080" cy="37044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triangle" w="med"/>
          </a:ln>
        </p:spPr>
      </p:cxnSp>
      <p:cxnSp>
        <p:nvCxnSpPr>
          <p:cNvPr id="262" name="直線矢印​​コネクタ 40"/>
          <p:cNvCxnSpPr/>
          <p:nvPr/>
        </p:nvCxnSpPr>
        <p:spPr>
          <a:xfrm flipV="1">
            <a:off x="5862240" y="5419080"/>
            <a:ext cx="1080" cy="37044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triangle" w="med"/>
          </a:ln>
        </p:spPr>
      </p:cxnSp>
      <p:cxnSp>
        <p:nvCxnSpPr>
          <p:cNvPr id="263" name="直線矢印​​コネクタ 41"/>
          <p:cNvCxnSpPr/>
          <p:nvPr/>
        </p:nvCxnSpPr>
        <p:spPr>
          <a:xfrm flipV="1">
            <a:off x="6005160" y="5409720"/>
            <a:ext cx="1080" cy="37080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triangle" w="med"/>
          </a:ln>
        </p:spPr>
      </p:cxnSp>
      <p:sp>
        <p:nvSpPr>
          <p:cNvPr id="264" name="円/楕円​​ 45"/>
          <p:cNvSpPr/>
          <p:nvPr/>
        </p:nvSpPr>
        <p:spPr>
          <a:xfrm flipV="1">
            <a:off x="5357880" y="505872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5" name="円/楕円​​ 46"/>
          <p:cNvSpPr/>
          <p:nvPr/>
        </p:nvSpPr>
        <p:spPr>
          <a:xfrm flipV="1">
            <a:off x="5610240" y="505872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cxnSp>
        <p:nvCxnSpPr>
          <p:cNvPr id="266" name="直線矢印​​コネクタ 47"/>
          <p:cNvCxnSpPr/>
          <p:nvPr/>
        </p:nvCxnSpPr>
        <p:spPr>
          <a:xfrm flipH="1">
            <a:off x="5664240" y="4411800"/>
            <a:ext cx="76680" cy="53568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triangle" w="med"/>
          </a:ln>
        </p:spPr>
      </p:cxnSp>
      <p:cxnSp>
        <p:nvCxnSpPr>
          <p:cNvPr id="267" name="直線矢印​​コネクタ 50"/>
          <p:cNvCxnSpPr/>
          <p:nvPr/>
        </p:nvCxnSpPr>
        <p:spPr>
          <a:xfrm flipH="1">
            <a:off x="5484960" y="4411800"/>
            <a:ext cx="255960" cy="54504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triangle" w="med"/>
          </a:ln>
        </p:spPr>
      </p:cxnSp>
      <p:sp>
        <p:nvSpPr>
          <p:cNvPr id="268" name="テキスト ボックス 37"/>
          <p:cNvSpPr/>
          <p:nvPr/>
        </p:nvSpPr>
        <p:spPr>
          <a:xfrm>
            <a:off x="2986200" y="4941720"/>
            <a:ext cx="19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Incident Particle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9" name="円/楕円​​ 21"/>
          <p:cNvSpPr/>
          <p:nvPr/>
        </p:nvSpPr>
        <p:spPr>
          <a:xfrm>
            <a:off x="5170320" y="5986440"/>
            <a:ext cx="427320" cy="287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0" name="円/楕円​​ 22"/>
          <p:cNvSpPr/>
          <p:nvPr/>
        </p:nvSpPr>
        <p:spPr>
          <a:xfrm flipV="1">
            <a:off x="5235480" y="6068160"/>
            <a:ext cx="108000" cy="119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1" name="円/楕円​​ 23"/>
          <p:cNvSpPr/>
          <p:nvPr/>
        </p:nvSpPr>
        <p:spPr>
          <a:xfrm flipV="1">
            <a:off x="5415120" y="6068160"/>
            <a:ext cx="109440" cy="119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2" name="円/楕円​​ 21"/>
          <p:cNvSpPr/>
          <p:nvPr/>
        </p:nvSpPr>
        <p:spPr>
          <a:xfrm>
            <a:off x="6170760" y="5987880"/>
            <a:ext cx="426960" cy="287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3" name="円/楕円​​ 22"/>
          <p:cNvSpPr/>
          <p:nvPr/>
        </p:nvSpPr>
        <p:spPr>
          <a:xfrm flipV="1">
            <a:off x="6235560" y="606996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4" name="円/楕円​​ 23"/>
          <p:cNvSpPr/>
          <p:nvPr/>
        </p:nvSpPr>
        <p:spPr>
          <a:xfrm flipV="1">
            <a:off x="6415200" y="6069960"/>
            <a:ext cx="10944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5" name="円/楕円​​ 21"/>
          <p:cNvSpPr/>
          <p:nvPr/>
        </p:nvSpPr>
        <p:spPr>
          <a:xfrm>
            <a:off x="7027920" y="6089760"/>
            <a:ext cx="426960" cy="287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6" name="円/楕円​​ 22"/>
          <p:cNvSpPr/>
          <p:nvPr/>
        </p:nvSpPr>
        <p:spPr>
          <a:xfrm flipV="1">
            <a:off x="7093080" y="619056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7" name="円/楕円​​ 23"/>
          <p:cNvSpPr/>
          <p:nvPr/>
        </p:nvSpPr>
        <p:spPr>
          <a:xfrm flipV="1">
            <a:off x="7272360" y="6190560"/>
            <a:ext cx="10944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8" name="円/楕円​​ 21"/>
          <p:cNvSpPr/>
          <p:nvPr/>
        </p:nvSpPr>
        <p:spPr>
          <a:xfrm>
            <a:off x="7527960" y="6083280"/>
            <a:ext cx="426960" cy="287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9" name="円/楕円​​ 22"/>
          <p:cNvSpPr/>
          <p:nvPr/>
        </p:nvSpPr>
        <p:spPr>
          <a:xfrm flipV="1">
            <a:off x="7593120" y="619056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0" name="円/楕円​​ 23"/>
          <p:cNvSpPr/>
          <p:nvPr/>
        </p:nvSpPr>
        <p:spPr>
          <a:xfrm flipV="1">
            <a:off x="7772400" y="6190560"/>
            <a:ext cx="10944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1" name="Line 75"/>
          <p:cNvSpPr/>
          <p:nvPr/>
        </p:nvSpPr>
        <p:spPr>
          <a:xfrm flipV="1">
            <a:off x="5219640" y="6237360"/>
            <a:ext cx="144360" cy="28728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2" name="テキスト ボックス 30"/>
          <p:cNvSpPr/>
          <p:nvPr/>
        </p:nvSpPr>
        <p:spPr>
          <a:xfrm>
            <a:off x="4284000" y="64612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Cooper Pairs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701640" y="274680"/>
            <a:ext cx="7540560" cy="914400"/>
          </a:xfrm>
          <a:prstGeom prst="rect">
            <a:avLst/>
          </a:prstGeom>
          <a:ln w="0">
            <a:noFill/>
          </a:ln>
        </p:spPr>
      </p:pic>
      <p:sp>
        <p:nvSpPr>
          <p:cNvPr id="284" name="Line 31"/>
          <p:cNvSpPr/>
          <p:nvPr/>
        </p:nvSpPr>
        <p:spPr>
          <a:xfrm>
            <a:off x="6072120" y="1998720"/>
            <a:ext cx="1800" cy="14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4932360" y="1700280"/>
            <a:ext cx="3924360" cy="1202040"/>
          </a:xfrm>
          <a:prstGeom prst="rect">
            <a:avLst/>
          </a:prstGeom>
          <a:noFill/>
          <a:ln w="9360">
            <a:solidFill>
              <a:srgbClr val="252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nd gap energy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:     Fano factor (= 0.2)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:     Incident particle energy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6" name="Rectangle 42"/>
          <p:cNvSpPr/>
          <p:nvPr/>
        </p:nvSpPr>
        <p:spPr>
          <a:xfrm>
            <a:off x="4427640" y="3860640"/>
            <a:ext cx="4572000" cy="1299960"/>
          </a:xfrm>
          <a:prstGeom prst="rect">
            <a:avLst/>
          </a:prstGeom>
          <a:noFill/>
          <a:ln w="9360">
            <a:solidFill>
              <a:srgbClr val="252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c : Critical Temperature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peration is done at a temperature around 1/10 of Tc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7" name="テキスト ボックス 54"/>
          <p:cNvSpPr/>
          <p:nvPr/>
        </p:nvSpPr>
        <p:spPr>
          <a:xfrm>
            <a:off x="396000" y="1341360"/>
            <a:ext cx="348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J Energy Resolution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8" name="円形吹き出し 4"/>
          <p:cNvSpPr/>
          <p:nvPr/>
        </p:nvSpPr>
        <p:spPr>
          <a:xfrm>
            <a:off x="1692360" y="5950080"/>
            <a:ext cx="7307280" cy="647640"/>
          </a:xfrm>
          <a:prstGeom prst="wedgeEllipseCallout">
            <a:avLst>
              <a:gd name="adj1" fmla="val -41740"/>
              <a:gd name="adj2" fmla="val -10490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5b6b"/>
                </a:solidFill>
                <a:latin typeface="ＭＳ Ｐゴシック"/>
                <a:ea typeface="ＭＳ Ｐゴシック"/>
              </a:rPr>
              <a:t>We reported that Hf-STJ worked as a STJ in 2011.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8"/>
              <p:cNvSpPr txBox="1"/>
              <p:nvPr/>
            </p:nvSpPr>
            <p:spPr>
              <a:xfrm>
                <a:off x="743040" y="1989000"/>
                <a:ext cx="4203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Hf as a superconductor,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     at 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表 18" descr=""/>
          <p:cNvPicPr/>
          <p:nvPr/>
        </p:nvPicPr>
        <p:blipFill>
          <a:blip r:embed="rId2"/>
          <a:stretch/>
        </p:blipFill>
        <p:spPr>
          <a:xfrm>
            <a:off x="390600" y="3676680"/>
            <a:ext cx="3932280" cy="2011320"/>
          </a:xfrm>
          <a:prstGeom prst="rect">
            <a:avLst/>
          </a:prstGeom>
          <a:ln w="0">
            <a:noFill/>
          </a:ln>
        </p:spPr>
      </p:pic>
      <p:sp>
        <p:nvSpPr>
          <p:cNvPr id="291" name="正方形/長方形 55"/>
          <p:cNvSpPr/>
          <p:nvPr/>
        </p:nvSpPr>
        <p:spPr>
          <a:xfrm>
            <a:off x="395280" y="5084640"/>
            <a:ext cx="3889440" cy="43200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2" name="正方形/長方形 55"/>
          <p:cNvSpPr/>
          <p:nvPr/>
        </p:nvSpPr>
        <p:spPr>
          <a:xfrm>
            <a:off x="324000" y="3068640"/>
            <a:ext cx="4824360" cy="43164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839880" y="1008000"/>
            <a:ext cx="8216640" cy="4519800"/>
          </a:xfrm>
          <a:prstGeom prst="rect">
            <a:avLst/>
          </a:prstGeom>
          <a:ln w="0">
            <a:noFill/>
          </a:ln>
        </p:spPr>
      </p:pic>
      <p:sp>
        <p:nvSpPr>
          <p:cNvPr id="294" name="Line 11"/>
          <p:cNvSpPr/>
          <p:nvPr/>
        </p:nvSpPr>
        <p:spPr>
          <a:xfrm flipV="1">
            <a:off x="7715160" y="5435640"/>
            <a:ext cx="0" cy="34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5" name="正方形/長方形 1"/>
          <p:cNvSpPr/>
          <p:nvPr/>
        </p:nvSpPr>
        <p:spPr>
          <a:xfrm>
            <a:off x="4697280" y="1557360"/>
            <a:ext cx="227160" cy="3240000"/>
          </a:xfrm>
          <a:prstGeom prst="rect">
            <a:avLst/>
          </a:prstGeom>
          <a:noFill/>
          <a:ln w="93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 rot="16200000">
            <a:off x="4761720" y="2319840"/>
            <a:ext cx="547560" cy="174600"/>
          </a:xfrm>
          <a:prstGeom prst="rect">
            <a:avLst/>
          </a:prstGeom>
          <a:solidFill>
            <a:srgbClr val="ff7605"/>
          </a:solidFill>
          <a:ln w="9360">
            <a:solidFill>
              <a:srgbClr val="4d5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</a:rPr>
              <a:t>CDF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7" name="Rectangle 7"/>
          <p:cNvSpPr/>
          <p:nvPr/>
        </p:nvSpPr>
        <p:spPr>
          <a:xfrm rot="16200000">
            <a:off x="4470480" y="2298600"/>
            <a:ext cx="691920" cy="216000"/>
          </a:xfrm>
          <a:prstGeom prst="rect">
            <a:avLst/>
          </a:prstGeom>
          <a:solidFill>
            <a:srgbClr val="ff7605"/>
          </a:solidFill>
          <a:ln w="9360">
            <a:solidFill>
              <a:srgbClr val="4d5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</a:rPr>
              <a:t>ATLAS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8" name="Line 10"/>
          <p:cNvSpPr/>
          <p:nvPr/>
        </p:nvSpPr>
        <p:spPr>
          <a:xfrm flipV="1">
            <a:off x="2089080" y="5543640"/>
            <a:ext cx="0" cy="28584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99" name="Rectangle 2" descr=""/>
          <p:cNvPicPr/>
          <p:nvPr/>
        </p:nvPicPr>
        <p:blipFill>
          <a:blip r:embed="rId2"/>
          <a:stretch/>
        </p:blipFill>
        <p:spPr>
          <a:xfrm>
            <a:off x="792000" y="-152280"/>
            <a:ext cx="7821720" cy="14014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491040" y="5881680"/>
            <a:ext cx="32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d5b6b"/>
                </a:solidFill>
                <a:latin typeface="Times New Roman"/>
              </a:rPr>
              <a:t>　　　　　　　　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GUT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Phase Transition in vacuum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4809960" y="5511600"/>
            <a:ext cx="0" cy="53316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733920" y="6095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Electroweak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Higgs particle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V="1">
            <a:off x="6156360" y="5383080"/>
            <a:ext cx="0" cy="874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254920" y="6216480"/>
            <a:ext cx="33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.9K Cosmic background neutrino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110/cm</a:t>
            </a:r>
            <a:r>
              <a:rPr b="0" lang="en-US" sz="1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459480" y="5664240"/>
            <a:ext cx="25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.7K Cosmic background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adiation(420/cm</a:t>
            </a:r>
            <a:r>
              <a:rPr b="0" lang="en-US" sz="1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8" descr=""/>
          <p:cNvPicPr/>
          <p:nvPr/>
        </p:nvPicPr>
        <p:blipFill>
          <a:blip r:embed="rId1"/>
          <a:stretch/>
        </p:blipFill>
        <p:spPr>
          <a:xfrm>
            <a:off x="4206960" y="3284640"/>
            <a:ext cx="4937040" cy="187776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2" descr=""/>
          <p:cNvPicPr/>
          <p:nvPr/>
        </p:nvPicPr>
        <p:blipFill>
          <a:blip r:embed="rId2"/>
          <a:stretch/>
        </p:blipFill>
        <p:spPr>
          <a:xfrm>
            <a:off x="676440" y="182520"/>
            <a:ext cx="7497720" cy="9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1763640" y="2997360"/>
                <a:ext cx="28083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ζ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ζ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4"/>
          <p:cNvSpPr/>
          <p:nvPr/>
        </p:nvSpPr>
        <p:spPr>
          <a:xfrm>
            <a:off x="324000" y="1268280"/>
            <a:ext cx="89280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M. Beg, W. Marciano and M. Rudeman  Phys. Rev. D17 (1978) 1395-1401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R. E. Shrock  Nucl. Phys. B206 (1982) 359-379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　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Calculate the neutrino decay width in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U(2)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　ｘ　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U(2)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　ｘ　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(1) model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with Dirac neutrinos.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M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R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=∞  and sin </a:t>
            </a:r>
            <a:r>
              <a:rPr b="0" lang="en-US" sz="2000" spc="-1" strike="noStrike">
                <a:solidFill>
                  <a:srgbClr val="4d5b6b"/>
                </a:solidFill>
                <a:latin typeface="Symbol"/>
                <a:ea typeface="Symbol"/>
              </a:rPr>
              <a:t>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= 0 corresponds to Standard Model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50920" y="3933720"/>
            <a:ext cx="3744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and W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are fields with pure V-A and V+A couplings,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respectively, and </a:t>
            </a:r>
            <a:r>
              <a:rPr b="0" lang="en-US" sz="2000" spc="-1" strike="noStrike">
                <a:solidFill>
                  <a:srgbClr val="4d5b6b"/>
                </a:solidFill>
                <a:latin typeface="Symbol"/>
                <a:ea typeface="Symbol"/>
              </a:rPr>
              <a:t>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is a mixing angle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250920" y="5013360"/>
                <a:ext cx="845964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Using a lower mass limit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71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V/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, a mixing angle limit </m:t>
                        </m:r>
                        <m:r>
                          <m:t xml:space="preserve">ζ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meV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τ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in Standard Model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Rectangle 11"/>
          <p:cNvSpPr/>
          <p:nvPr/>
        </p:nvSpPr>
        <p:spPr>
          <a:xfrm>
            <a:off x="2268360" y="6237360"/>
            <a:ext cx="172908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322280" y="182520"/>
            <a:ext cx="6066000" cy="890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324000" y="981000"/>
            <a:ext cx="7991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R. E. Schrock, Nucl. Phys. 28 (1982) 359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　　　　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Calculate the neutrino decay width in SU(2)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L 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ｘ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SU(2)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R 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ｘ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U(1) model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0" y="1773360"/>
            <a:ext cx="8867880" cy="19461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324000" y="45086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　　　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6"/>
              <p:cNvSpPr txBox="1"/>
              <p:nvPr/>
            </p:nvSpPr>
            <p:spPr>
              <a:xfrm>
                <a:off x="971640" y="3645000"/>
                <a:ext cx="7272360" cy="30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αG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m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ζ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5TeV,  sin</m:t>
                        </m:r>
                        <m:r>
                          <m:t xml:space="preserve">ζ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GeV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50meV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standard model,</m:t>
                        </m:r>
                      </m:e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f>
                          <m:num>
                            <m:r>
                              <m:t xml:space="preserve">9</m:t>
                            </m:r>
                            <m:sSub>
                              <m:e>
                                <m:r>
                                  <m:t xml:space="preserve">αG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92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m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τ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Thus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ato and 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Kobayashi, Pro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o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h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5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17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and oth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-55440" y="36360"/>
            <a:ext cx="9412200" cy="79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17"/>
              <p:cNvSpPr txBox="1"/>
              <p:nvPr/>
            </p:nvSpPr>
            <p:spPr>
              <a:xfrm>
                <a:off x="611280" y="3981600"/>
                <a:ext cx="340200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Δ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Sup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～</m:t>
                        </m:r>
                        <m:r>
                          <m:rPr>
                            <m:lit/>
                            <m:nor/>
                          </m:rPr>
                          <m:t xml:space="preserve">25 meV at 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est fram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ar-Infrared region 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～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201600" y="836640"/>
            <a:ext cx="8942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Only neutrino mass is unknown in elementary particles.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etection of neutrino decay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enables us to measure an independent quantity of </a:t>
            </a:r>
            <a:r>
              <a:rPr b="1" lang="en-US" sz="1800" spc="-1" strike="noStrike">
                <a:solidFill>
                  <a:srgbClr val="00206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asured by neutrino oscillation experiments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hus we can obtain neutrino mass itself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from these two independent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measurements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s the neutrino lifetime is very long, we need use cosmic background neutrino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o observe the neutrino decay.  To observe this decay of the cosmic background neutrino means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 discovery of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he cosmic background neutrino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predicted by cosmology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09" name="グループ化 2"/>
          <p:cNvGrpSpPr/>
          <p:nvPr/>
        </p:nvGrpSpPr>
        <p:grpSpPr>
          <a:xfrm>
            <a:off x="677880" y="2881440"/>
            <a:ext cx="1647720" cy="871560"/>
            <a:chOff x="677880" y="2881440"/>
            <a:chExt cx="1647720" cy="871560"/>
          </a:xfrm>
        </p:grpSpPr>
        <p:sp>
          <p:nvSpPr>
            <p:cNvPr id="110" name="Line 4"/>
            <p:cNvSpPr/>
            <p:nvPr/>
          </p:nvSpPr>
          <p:spPr>
            <a:xfrm>
              <a:off x="716760" y="3355560"/>
              <a:ext cx="1595880" cy="0"/>
            </a:xfrm>
            <a:prstGeom prst="line">
              <a:avLst/>
            </a:prstGeom>
            <a:ln w="9360">
              <a:solidFill>
                <a:srgbClr val="4d5b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1034640" y="3100320"/>
              <a:ext cx="813240" cy="267480"/>
            </a:xfrm>
            <a:custGeom>
              <a:avLst/>
              <a:gdLst/>
              <a:ahLst/>
              <a:rect l="l" t="t" r="r" b="b"/>
              <a:pathLst>
                <a:path w="1003" h="168">
                  <a:moveTo>
                    <a:pt x="0" y="160"/>
                  </a:moveTo>
                  <a:cubicBezTo>
                    <a:pt x="5" y="152"/>
                    <a:pt x="12" y="145"/>
                    <a:pt x="16" y="136"/>
                  </a:cubicBezTo>
                  <a:cubicBezTo>
                    <a:pt x="23" y="121"/>
                    <a:pt x="32" y="88"/>
                    <a:pt x="32" y="88"/>
                  </a:cubicBezTo>
                  <a:cubicBezTo>
                    <a:pt x="76" y="97"/>
                    <a:pt x="99" y="97"/>
                    <a:pt x="136" y="72"/>
                  </a:cubicBezTo>
                  <a:cubicBezTo>
                    <a:pt x="145" y="59"/>
                    <a:pt x="157" y="34"/>
                    <a:pt x="176" y="32"/>
                  </a:cubicBezTo>
                  <a:cubicBezTo>
                    <a:pt x="189" y="30"/>
                    <a:pt x="203" y="36"/>
                    <a:pt x="216" y="40"/>
                  </a:cubicBezTo>
                  <a:cubicBezTo>
                    <a:pt x="232" y="44"/>
                    <a:pt x="264" y="56"/>
                    <a:pt x="264" y="56"/>
                  </a:cubicBezTo>
                  <a:cubicBezTo>
                    <a:pt x="328" y="47"/>
                    <a:pt x="319" y="46"/>
                    <a:pt x="368" y="24"/>
                  </a:cubicBezTo>
                  <a:cubicBezTo>
                    <a:pt x="383" y="17"/>
                    <a:pt x="400" y="13"/>
                    <a:pt x="416" y="8"/>
                  </a:cubicBezTo>
                  <a:cubicBezTo>
                    <a:pt x="424" y="5"/>
                    <a:pt x="440" y="0"/>
                    <a:pt x="440" y="0"/>
                  </a:cubicBezTo>
                  <a:cubicBezTo>
                    <a:pt x="456" y="3"/>
                    <a:pt x="473" y="3"/>
                    <a:pt x="488" y="8"/>
                  </a:cubicBezTo>
                  <a:cubicBezTo>
                    <a:pt x="523" y="20"/>
                    <a:pt x="542" y="58"/>
                    <a:pt x="584" y="72"/>
                  </a:cubicBezTo>
                  <a:cubicBezTo>
                    <a:pt x="665" y="62"/>
                    <a:pt x="628" y="71"/>
                    <a:pt x="696" y="48"/>
                  </a:cubicBezTo>
                  <a:cubicBezTo>
                    <a:pt x="712" y="43"/>
                    <a:pt x="744" y="32"/>
                    <a:pt x="744" y="32"/>
                  </a:cubicBezTo>
                  <a:cubicBezTo>
                    <a:pt x="761" y="38"/>
                    <a:pt x="787" y="45"/>
                    <a:pt x="800" y="56"/>
                  </a:cubicBezTo>
                  <a:cubicBezTo>
                    <a:pt x="838" y="87"/>
                    <a:pt x="792" y="75"/>
                    <a:pt x="840" y="96"/>
                  </a:cubicBezTo>
                  <a:cubicBezTo>
                    <a:pt x="862" y="105"/>
                    <a:pt x="922" y="110"/>
                    <a:pt x="936" y="112"/>
                  </a:cubicBezTo>
                  <a:cubicBezTo>
                    <a:pt x="944" y="117"/>
                    <a:pt x="953" y="121"/>
                    <a:pt x="960" y="128"/>
                  </a:cubicBezTo>
                  <a:cubicBezTo>
                    <a:pt x="967" y="135"/>
                    <a:pt x="968" y="146"/>
                    <a:pt x="976" y="152"/>
                  </a:cubicBezTo>
                  <a:cubicBezTo>
                    <a:pt x="983" y="157"/>
                    <a:pt x="994" y="154"/>
                    <a:pt x="1000" y="160"/>
                  </a:cubicBezTo>
                  <a:cubicBezTo>
                    <a:pt x="1003" y="163"/>
                    <a:pt x="995" y="165"/>
                    <a:pt x="992" y="168"/>
                  </a:cubicBezTo>
                </a:path>
              </a:pathLst>
            </a:custGeom>
            <a:noFill/>
            <a:ln w="9360">
              <a:solidFill>
                <a:srgbClr val="4d5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12" name="Line 6"/>
            <p:cNvSpPr/>
            <p:nvPr/>
          </p:nvSpPr>
          <p:spPr>
            <a:xfrm>
              <a:off x="1456200" y="3355560"/>
              <a:ext cx="661680" cy="364680"/>
            </a:xfrm>
            <a:prstGeom prst="line">
              <a:avLst/>
            </a:prstGeom>
            <a:ln w="9360">
              <a:solidFill>
                <a:srgbClr val="4d5b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7"/>
                <p:cNvSpPr txBox="1"/>
                <p:nvPr/>
              </p:nvSpPr>
              <p:spPr>
                <a:xfrm>
                  <a:off x="677880" y="3063600"/>
                  <a:ext cx="241560" cy="29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Object 8"/>
                <p:cNvSpPr txBox="1"/>
                <p:nvPr/>
              </p:nvSpPr>
              <p:spPr>
                <a:xfrm>
                  <a:off x="2040120" y="3063600"/>
                  <a:ext cx="2538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9"/>
                <p:cNvSpPr txBox="1"/>
                <p:nvPr/>
              </p:nvSpPr>
              <p:spPr>
                <a:xfrm>
                  <a:off x="2157120" y="3538080"/>
                  <a:ext cx="168480" cy="21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Object 10"/>
                <p:cNvSpPr txBox="1"/>
                <p:nvPr/>
              </p:nvSpPr>
              <p:spPr>
                <a:xfrm>
                  <a:off x="1096200" y="3369960"/>
                  <a:ext cx="411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,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1"/>
                <p:cNvSpPr txBox="1"/>
                <p:nvPr/>
              </p:nvSpPr>
              <p:spPr>
                <a:xfrm>
                  <a:off x="1339560" y="2881440"/>
                  <a:ext cx="252720" cy="21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" name="Picture 23" descr=""/>
          <p:cNvPicPr/>
          <p:nvPr/>
        </p:nvPicPr>
        <p:blipFill>
          <a:blip r:embed="rId2"/>
          <a:stretch/>
        </p:blipFill>
        <p:spPr>
          <a:xfrm>
            <a:off x="4521240" y="1539720"/>
            <a:ext cx="4657680" cy="38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オブジェクト 2"/>
              <p:cNvSpPr txBox="1"/>
              <p:nvPr/>
            </p:nvSpPr>
            <p:spPr>
              <a:xfrm>
                <a:off x="2627280" y="3164040"/>
                <a:ext cx="14065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6" descr=""/>
          <p:cNvPicPr/>
          <p:nvPr/>
        </p:nvPicPr>
        <p:blipFill>
          <a:blip r:embed="rId1"/>
          <a:stretch/>
        </p:blipFill>
        <p:spPr>
          <a:xfrm>
            <a:off x="615960" y="49320"/>
            <a:ext cx="7412040" cy="6937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5"/>
          <p:cNvSpPr/>
          <p:nvPr/>
        </p:nvSpPr>
        <p:spPr>
          <a:xfrm>
            <a:off x="2700360" y="844560"/>
            <a:ext cx="3600360" cy="45972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cal plane Instruments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6192720" cy="4335480"/>
          </a:xfrm>
          <a:prstGeom prst="rect">
            <a:avLst/>
          </a:prstGeom>
          <a:ln w="0">
            <a:noFill/>
          </a:ln>
        </p:spPr>
      </p:pic>
      <p:sp>
        <p:nvSpPr>
          <p:cNvPr id="321" name="テキスト ボックス 10"/>
          <p:cNvSpPr/>
          <p:nvPr/>
        </p:nvSpPr>
        <p:spPr>
          <a:xfrm>
            <a:off x="6516720" y="1916280"/>
            <a:ext cx="251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Incident rays are made parallel through cylindrical mirrors 1, 2 and a parabolic mirror before diffracted by a grating, and are finally focused on the STJ detector array by a spherical mirror.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95280" y="5748480"/>
            <a:ext cx="767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Rate/50pixel-spectrometer =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　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15 kHz  ( 300Hz/pixel)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Measurements for 200 s 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→ 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3M events /50pixel-spectrometer. 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  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Using 8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x 50pixel-spectrometer,   σ/N=0.02%     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2σ = 0.04% x 0.5μW/m</a:t>
            </a:r>
            <a:r>
              <a:rPr b="1" lang="en-US" sz="1400" spc="-1" strike="noStrike" baseline="30000">
                <a:solidFill>
                  <a:srgbClr val="ff3300"/>
                </a:solidFill>
                <a:latin typeface="HGS明朝E"/>
                <a:ea typeface="HGS明朝E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/sr = 0.2nW/m</a:t>
            </a:r>
            <a:r>
              <a:rPr b="1" lang="en-US" sz="1400" spc="-1" strike="noStrike" baseline="30000">
                <a:solidFill>
                  <a:srgbClr val="ff3300"/>
                </a:solidFill>
                <a:latin typeface="HGS明朝E"/>
                <a:ea typeface="HGS明朝E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/sr 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　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(0.4%  times present limit 50nW/m</a:t>
            </a:r>
            <a:r>
              <a:rPr b="1" lang="en-US" sz="1400" spc="-1" strike="noStrike" baseline="30000">
                <a:solidFill>
                  <a:srgbClr val="ff3300"/>
                </a:solidFill>
                <a:latin typeface="HGS明朝E"/>
                <a:ea typeface="HGS明朝E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/sr 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）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4140360" y="2641680"/>
            <a:ext cx="4937040" cy="187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2" descr=""/>
          <p:cNvPicPr/>
          <p:nvPr/>
        </p:nvPicPr>
        <p:blipFill>
          <a:blip r:embed="rId2"/>
          <a:stretch/>
        </p:blipFill>
        <p:spPr>
          <a:xfrm>
            <a:off x="682560" y="19080"/>
            <a:ext cx="7486560" cy="91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395280" y="2924280"/>
            <a:ext cx="3745080" cy="1355400"/>
          </a:xfrm>
          <a:prstGeom prst="rect">
            <a:avLst/>
          </a:prstGeom>
          <a:solidFill>
            <a:srgbClr val="ffff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262e35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262e35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262e35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62e35"/>
                </a:solidFill>
                <a:latin typeface="Times New Roman"/>
              </a:rPr>
              <a:t>and </a:t>
            </a:r>
            <a:r>
              <a:rPr b="1" i="1" lang="en-US" sz="2000" spc="-1" strike="noStrike">
                <a:solidFill>
                  <a:srgbClr val="262e35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262e35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262e35"/>
                </a:solidFill>
                <a:latin typeface="Times New Roman"/>
              </a:rPr>
              <a:t> are fields with pure V-A and V+A couplings,</a:t>
            </a:r>
            <a:r>
              <a:rPr b="1" lang="ja-JP" sz="2000" spc="-1" strike="noStrike">
                <a:solidFill>
                  <a:srgbClr val="262e35"/>
                </a:solidFill>
                <a:latin typeface="Times New Roman"/>
              </a:rPr>
              <a:t>　 </a:t>
            </a:r>
            <a:r>
              <a:rPr b="1" lang="en-US" sz="2000" spc="-1" strike="noStrike">
                <a:solidFill>
                  <a:srgbClr val="262e35"/>
                </a:solidFill>
                <a:latin typeface="Times New Roman"/>
              </a:rPr>
              <a:t>respectively, and </a:t>
            </a:r>
            <a:r>
              <a:rPr b="1" i="1" lang="en-US" sz="2000" spc="-1" strike="noStrike">
                <a:solidFill>
                  <a:srgbClr val="262e35"/>
                </a:solidFill>
                <a:latin typeface="Symbol"/>
                <a:ea typeface="Symbol"/>
              </a:rPr>
              <a:t></a:t>
            </a:r>
            <a:r>
              <a:rPr b="1" lang="en-US" sz="2000" spc="-1" strike="noStrike">
                <a:solidFill>
                  <a:srgbClr val="262e35"/>
                </a:solidFill>
                <a:latin typeface="Times New Roman"/>
              </a:rPr>
              <a:t>is a mixing angle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395280" y="4316400"/>
                <a:ext cx="84596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a lower mass limit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71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V/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, a mixing angle limit </m:t>
                        </m:r>
                        <m:r>
                          <m:t xml:space="preserve">ζ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meV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τ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in Standard Model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11"/>
          <p:cNvSpPr/>
          <p:nvPr/>
        </p:nvSpPr>
        <p:spPr>
          <a:xfrm>
            <a:off x="2397240" y="5129280"/>
            <a:ext cx="172872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オブジェクト 1"/>
              <p:cNvSpPr txBox="1"/>
              <p:nvPr/>
            </p:nvSpPr>
            <p:spPr>
              <a:xfrm>
                <a:off x="419040" y="855720"/>
                <a:ext cx="775332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Left-Right Symmetric Model  SU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⊗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L 38, 125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 PRD 17, 139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NP B206, 359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8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there are two Weak Boson mass eigenstates :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ζ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ζ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 txBox="1"/>
          <p:nvPr/>
        </p:nvSpPr>
        <p:spPr>
          <a:xfrm>
            <a:off x="826920" y="5949720"/>
            <a:ext cx="7545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Measured neutrino lifetime limit τ </a:t>
            </a:r>
            <a:r>
              <a:rPr b="1" lang="ja-JP" sz="2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&lt;  3 x 10</a:t>
            </a:r>
            <a:r>
              <a:rPr b="1" lang="en-US" sz="2200" spc="-1" strike="noStrike" baseline="30000">
                <a:solidFill>
                  <a:srgbClr val="002060"/>
                </a:solidFill>
                <a:latin typeface="Times New Roman"/>
              </a:rPr>
              <a:t>12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 year      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from CIB results measured by COBE and AKARI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正方形/長方形 1"/>
          <p:cNvSpPr/>
          <p:nvPr/>
        </p:nvSpPr>
        <p:spPr>
          <a:xfrm>
            <a:off x="4697280" y="1557360"/>
            <a:ext cx="227160" cy="3240000"/>
          </a:xfrm>
          <a:prstGeom prst="rect">
            <a:avLst/>
          </a:prstGeom>
          <a:noFill/>
          <a:ln w="93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792000" y="-36360"/>
            <a:ext cx="7821720" cy="1414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"/>
          <p:cNvPicPr/>
          <p:nvPr/>
        </p:nvPicPr>
        <p:blipFill>
          <a:blip r:embed="rId2"/>
          <a:stretch/>
        </p:blipFill>
        <p:spPr>
          <a:xfrm>
            <a:off x="184320" y="1557360"/>
            <a:ext cx="8935920" cy="47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262080" y="-42840"/>
            <a:ext cx="8881920" cy="695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250920" y="549360"/>
            <a:ext cx="88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COBE:  </a:t>
            </a:r>
            <a:r>
              <a:rPr b="1" lang="ja-JP" sz="16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M. G. Hauser </a:t>
            </a:r>
            <a:r>
              <a:rPr b="1" i="1" lang="en-US" sz="1600" spc="-1" strike="noStrike">
                <a:solidFill>
                  <a:srgbClr val="4d5b6b"/>
                </a:solidFill>
                <a:latin typeface="Times New Roman"/>
              </a:rPr>
              <a:t>et al.</a:t>
            </a: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  ApJ  508 (1998) 25.    D. P. Finkbeiner </a:t>
            </a:r>
            <a:r>
              <a:rPr b="1" i="1" lang="en-US" sz="1600" spc="-1" strike="noStrike">
                <a:solidFill>
                  <a:srgbClr val="4d5b6b"/>
                </a:solidFill>
                <a:latin typeface="Times New Roman"/>
              </a:rPr>
              <a:t>et al.</a:t>
            </a: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 ApJ  544 (2000) 81.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AKARI:  S. Matsuura </a:t>
            </a:r>
            <a:r>
              <a:rPr b="1" i="1" lang="en-US" sz="1600" spc="-1" strike="noStrike">
                <a:solidFill>
                  <a:srgbClr val="4d5b6b"/>
                </a:solidFill>
                <a:latin typeface="Times New Roman"/>
              </a:rPr>
              <a:t>et al.</a:t>
            </a: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 ApJ.  737 (2011) 2.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33360" y="5589720"/>
            <a:ext cx="88106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A. Mirizzi, D. Montanino and P. Serpico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　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PRD76, 053007 (2007)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　　　　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Neutrino lifetime τ 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&lt;  (1.6~3.1)x10</a:t>
            </a:r>
            <a:r>
              <a:rPr b="1" lang="en-US" sz="1600" spc="-1" strike="noStrike" baseline="30000">
                <a:solidFill>
                  <a:srgbClr val="002060"/>
                </a:solidFill>
                <a:latin typeface="Calibri"/>
              </a:rPr>
              <a:t>12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year      from CIB results by COBE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S.H. Kim, K. Takemasa, Y. Takeuchi and S. Matsuura     JPSJ 81, 024101 (2012)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               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Neutrino lifetime τ 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&lt;  (3.1~3.8)x10</a:t>
            </a:r>
            <a:r>
              <a:rPr b="1" lang="en-US" sz="1600" spc="-1" strike="noStrike" baseline="30000">
                <a:solidFill>
                  <a:srgbClr val="002060"/>
                </a:solidFill>
                <a:latin typeface="Calibri"/>
              </a:rPr>
              <a:t>12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year      from CIB results by AKARI and SPITZER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</p:txBody>
      </p:sp>
      <p:grpSp>
        <p:nvGrpSpPr>
          <p:cNvPr id="133" name="グループ化 7"/>
          <p:cNvGrpSpPr/>
          <p:nvPr/>
        </p:nvGrpSpPr>
        <p:grpSpPr>
          <a:xfrm>
            <a:off x="306360" y="1197000"/>
            <a:ext cx="7641360" cy="4340160"/>
            <a:chOff x="306360" y="1197000"/>
            <a:chExt cx="7641360" cy="4340160"/>
          </a:xfrm>
        </p:grpSpPr>
        <p:sp>
          <p:nvSpPr>
            <p:cNvPr id="134" name="直線コネクタ 8"/>
            <p:cNvSpPr/>
            <p:nvPr/>
          </p:nvSpPr>
          <p:spPr>
            <a:xfrm flipV="1">
              <a:off x="5108760" y="2143080"/>
              <a:ext cx="0" cy="3062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135" name="Picture 2" descr=""/>
            <p:cNvPicPr/>
            <p:nvPr/>
          </p:nvPicPr>
          <p:blipFill>
            <a:blip r:embed="rId2"/>
            <a:stretch/>
          </p:blipFill>
          <p:spPr>
            <a:xfrm>
              <a:off x="1996920" y="1204920"/>
              <a:ext cx="5248800" cy="38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テキスト ボックス 10"/>
            <p:cNvSpPr/>
            <p:nvPr/>
          </p:nvSpPr>
          <p:spPr>
            <a:xfrm>
              <a:off x="2993400" y="1203480"/>
              <a:ext cx="14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Zodiacal Light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37" name="テキスト ボックス 12"/>
            <p:cNvSpPr/>
            <p:nvPr/>
          </p:nvSpPr>
          <p:spPr>
            <a:xfrm rot="16200000">
              <a:off x="678960" y="3477600"/>
              <a:ext cx="23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Surface </a:t>
              </a:r>
              <a:r>
                <a:rPr b="1" lang="en-US" sz="18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brightness </a:t>
              </a:r>
              <a:r>
                <a:rPr b="1" i="1" lang="en-US" sz="1800" spc="-1" strike="noStrike">
                  <a:solidFill>
                    <a:srgbClr val="002060"/>
                  </a:solidFill>
                  <a:latin typeface="Symbol"/>
                  <a:ea typeface="Symbol"/>
                </a:rPr>
                <a:t></a:t>
              </a:r>
              <a:r>
                <a:rPr b="1" i="1" lang="en-US" sz="18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I</a:t>
              </a:r>
              <a:r>
                <a:rPr b="1" i="1" lang="en-US" sz="1800" spc="-1" strike="noStrike" baseline="-25000">
                  <a:solidFill>
                    <a:srgbClr val="00206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38" name="テキスト ボックス 13"/>
            <p:cNvSpPr/>
            <p:nvPr/>
          </p:nvSpPr>
          <p:spPr>
            <a:xfrm>
              <a:off x="5828400" y="33350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Galactic dust emission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39" name="テキスト ボックス 14"/>
            <p:cNvSpPr/>
            <p:nvPr/>
          </p:nvSpPr>
          <p:spPr>
            <a:xfrm>
              <a:off x="5790960" y="471456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Wavelength[</a:t>
              </a:r>
              <a:r>
                <a:rPr b="1" lang="en-US" sz="1600" spc="-1" strike="noStrike">
                  <a:solidFill>
                    <a:srgbClr val="00206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m]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0" name="テキスト ボックス 15"/>
            <p:cNvSpPr/>
            <p:nvPr/>
          </p:nvSpPr>
          <p:spPr>
            <a:xfrm>
              <a:off x="4627800" y="4059360"/>
              <a:ext cx="319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Integrated flux from galaxy counts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1" name="テキスト ボックス 16"/>
            <p:cNvSpPr/>
            <p:nvPr/>
          </p:nvSpPr>
          <p:spPr>
            <a:xfrm>
              <a:off x="2797200" y="262692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Galaxy evolution model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142" name="Picture 2" descr="\\130.158.105.2\Linux\yuji\wShare\tmp\c1.gif"/>
            <p:cNvPicPr/>
            <p:nvPr/>
          </p:nvPicPr>
          <p:blipFill>
            <a:blip r:embed="rId3"/>
            <a:srcRect l="0" t="50945" r="0" b="33440"/>
            <a:stretch/>
          </p:blipFill>
          <p:spPr>
            <a:xfrm>
              <a:off x="2284200" y="5070240"/>
              <a:ext cx="5120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テキスト ボックス 18"/>
            <p:cNvSpPr/>
            <p:nvPr/>
          </p:nvSpPr>
          <p:spPr>
            <a:xfrm>
              <a:off x="306360" y="1197000"/>
              <a:ext cx="21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IB measurements</a:t>
              </a:r>
              <a:endParaRPr b="0" lang="en-US" sz="1800" spc="-1" strike="noStrike">
                <a:solidFill>
                  <a:srgbClr val="ff33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AKARI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, </a:t>
              </a:r>
              <a:r>
                <a:rPr b="1" lang="en-US" sz="1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</a:t>
              </a:r>
              <a:r>
                <a:rPr b="1" lang="en-US" sz="1800" spc="-1" strike="noStrike">
                  <a:solidFill>
                    <a:srgbClr val="0070c0"/>
                  </a:solidFill>
                  <a:latin typeface="Times New Roman"/>
                </a:rPr>
                <a:t> COBE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144" name="テキスト ボックス 19" descr=""/>
            <p:cNvPicPr/>
            <p:nvPr/>
          </p:nvPicPr>
          <p:blipFill>
            <a:blip r:embed="rId4"/>
            <a:stretch/>
          </p:blipFill>
          <p:spPr>
            <a:xfrm>
              <a:off x="4505040" y="1743480"/>
              <a:ext cx="210924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Line 113"/>
          <p:cNvSpPr/>
          <p:nvPr/>
        </p:nvSpPr>
        <p:spPr>
          <a:xfrm>
            <a:off x="4924440" y="1293840"/>
            <a:ext cx="8319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6" name="テキスト ボックス 13"/>
          <p:cNvSpPr/>
          <p:nvPr/>
        </p:nvSpPr>
        <p:spPr>
          <a:xfrm>
            <a:off x="4850640" y="957240"/>
            <a:ext cx="148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Search Reg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7" name="Line 114"/>
          <p:cNvSpPr/>
          <p:nvPr/>
        </p:nvSpPr>
        <p:spPr>
          <a:xfrm>
            <a:off x="4941720" y="1452600"/>
            <a:ext cx="443160" cy="14400"/>
          </a:xfrm>
          <a:prstGeom prst="line">
            <a:avLst/>
          </a:prstGeom>
          <a:ln w="25560">
            <a:solidFill>
              <a:srgbClr val="ff66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8" name="Text Box 116"/>
          <p:cNvSpPr/>
          <p:nvPr/>
        </p:nvSpPr>
        <p:spPr>
          <a:xfrm>
            <a:off x="5467680" y="1290600"/>
            <a:ext cx="186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Rocket Experiment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64000" y="485640"/>
            <a:ext cx="5556240" cy="325944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3" descr=""/>
          <p:cNvPicPr/>
          <p:nvPr/>
        </p:nvPicPr>
        <p:blipFill>
          <a:blip r:embed="rId2"/>
          <a:stretch/>
        </p:blipFill>
        <p:spPr>
          <a:xfrm>
            <a:off x="590400" y="-36360"/>
            <a:ext cx="6718320" cy="804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23640" y="736560"/>
            <a:ext cx="335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10-hour running with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a telescope with 20cm diameter,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a viewing angle of 0.1 degrees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and 100% detection efficiency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( Satellite Experiment )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0" y="3476520"/>
            <a:ext cx="4716360" cy="3381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167440" y="3933720"/>
            <a:ext cx="2399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dN/dE</a:t>
            </a:r>
            <a:r>
              <a:rPr b="0" lang="en-US" sz="2400" spc="-1" strike="noStrike" baseline="-25000">
                <a:solidFill>
                  <a:srgbClr val="4d5b6b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d5b6b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- d</a:t>
            </a:r>
            <a:r>
              <a:rPr b="0" lang="en-US" sz="2400" spc="-1" strike="noStrike" baseline="30000">
                <a:solidFill>
                  <a:srgbClr val="4d5b6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4d5b6b"/>
                </a:solidFill>
                <a:latin typeface="Times New Roman"/>
              </a:rPr>
              <a:t>γ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/dE</a:t>
            </a:r>
            <a:r>
              <a:rPr b="0" lang="en-US" sz="2400" spc="-1" strike="noStrike" baseline="-25000">
                <a:solidFill>
                  <a:srgbClr val="4d5b6b"/>
                </a:solidFill>
                <a:latin typeface="Times New Roman"/>
              </a:rPr>
              <a:t>γ</a:t>
            </a:r>
            <a:r>
              <a:rPr b="0" lang="en-US" sz="2400" spc="-1" strike="noStrike" baseline="30000">
                <a:solidFill>
                  <a:srgbClr val="4d5b6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4d5b6b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 flipV="1">
            <a:off x="5866920" y="3644640"/>
            <a:ext cx="73080" cy="360360"/>
          </a:xfrm>
          <a:prstGeom prst="line">
            <a:avLst/>
          </a:prstGeom>
          <a:ln w="25560">
            <a:solidFill>
              <a:srgbClr val="4d5b6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4859280" y="4724280"/>
            <a:ext cx="649440" cy="144720"/>
          </a:xfrm>
          <a:prstGeom prst="line">
            <a:avLst/>
          </a:prstGeom>
          <a:ln w="25560">
            <a:solidFill>
              <a:srgbClr val="4d5b6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630680" y="5392800"/>
            <a:ext cx="4283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Times New Roman"/>
              </a:rPr>
              <a:t>●</a:t>
            </a:r>
            <a:r>
              <a:rPr b="0" lang="ja-JP" sz="18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Need the energy resolution better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than 2%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●</a:t>
            </a:r>
            <a:r>
              <a:rPr b="1" lang="ja-JP" sz="18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Can observe the ν</a:t>
            </a:r>
            <a:r>
              <a:rPr b="1" lang="en-US" sz="1800" spc="-1" strike="noStrike" baseline="-25000">
                <a:solidFill>
                  <a:srgbClr val="4d5b6b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 decay with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a mass of 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50meV, and a lifetime of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1.5 x 10</a:t>
            </a:r>
            <a:r>
              <a:rPr b="1" lang="en-US" sz="1800" spc="-1" strike="noStrike" baseline="30000">
                <a:solidFill>
                  <a:srgbClr val="4d5b6b"/>
                </a:solidFill>
                <a:latin typeface="Times New Roman"/>
              </a:rPr>
              <a:t>17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year at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.7σ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H="1">
            <a:off x="7308360" y="990720"/>
            <a:ext cx="358920" cy="102960"/>
          </a:xfrm>
          <a:prstGeom prst="line">
            <a:avLst/>
          </a:prstGeom>
          <a:ln w="25560">
            <a:solidFill>
              <a:srgbClr val="4d5b6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6477120" y="2170080"/>
            <a:ext cx="110880" cy="322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663520" y="62064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Cosmic Infrared Background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652640" y="1268280"/>
            <a:ext cx="387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eutrino Decay 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τ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5 x 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year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arp edge with 1.9K smearing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th detector resolution of 0% to 5%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386000" y="5516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.7σ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 flipV="1">
            <a:off x="4716360" y="2329920"/>
            <a:ext cx="142920" cy="235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327200" y="2482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 shift effect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056720" cy="472788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2" descr=""/>
          <p:cNvPicPr/>
          <p:nvPr/>
        </p:nvPicPr>
        <p:blipFill>
          <a:blip r:embed="rId2"/>
          <a:stretch/>
        </p:blipFill>
        <p:spPr>
          <a:xfrm>
            <a:off x="407880" y="176040"/>
            <a:ext cx="8736120" cy="884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692360" y="1413000"/>
            <a:ext cx="532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SU(2)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x SU(2)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R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x U(1) model  Lifetime Prediction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4572000" y="1916280"/>
            <a:ext cx="504720" cy="360360"/>
          </a:xfrm>
          <a:prstGeom prst="line">
            <a:avLst/>
          </a:prstGeom>
          <a:ln w="25560">
            <a:solidFill>
              <a:srgbClr val="4d5b6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50920" y="5516640"/>
            <a:ext cx="856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arch Region:  λ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＝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μm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　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γ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＝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meV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 Rocket experiment, λ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＝　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0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0μm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　（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γ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＝　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meV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Nb/Al-STJ sensisitive region &gt; 8meV ( N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Times New Roman"/>
              </a:rPr>
              <a:t>quasi-particles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= 60 )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5084640"/>
            <a:ext cx="7910640" cy="4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.H. Kim, K. Takemasa, Y. Takeuchi and S. Matsuura     JPSJ 81, 024101 (2012)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70" name="Line 113"/>
          <p:cNvSpPr/>
          <p:nvPr/>
        </p:nvSpPr>
        <p:spPr>
          <a:xfrm>
            <a:off x="1763640" y="4365720"/>
            <a:ext cx="49690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1" name="テキスト ボックス 13"/>
          <p:cNvSpPr/>
          <p:nvPr/>
        </p:nvSpPr>
        <p:spPr>
          <a:xfrm>
            <a:off x="2204280" y="407664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Search Region ( Satellite Experiment)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2" name="Line 114"/>
          <p:cNvSpPr/>
          <p:nvPr/>
        </p:nvSpPr>
        <p:spPr>
          <a:xfrm>
            <a:off x="1763640" y="4508640"/>
            <a:ext cx="2232000" cy="0"/>
          </a:xfrm>
          <a:prstGeom prst="line">
            <a:avLst/>
          </a:prstGeom>
          <a:ln w="25560">
            <a:solidFill>
              <a:srgbClr val="ff66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3" name="Text Box 116"/>
          <p:cNvSpPr/>
          <p:nvPr/>
        </p:nvSpPr>
        <p:spPr>
          <a:xfrm>
            <a:off x="2272680" y="4437000"/>
            <a:ext cx="186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Rocket Experiment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"/>
          <p:cNvPicPr/>
          <p:nvPr/>
        </p:nvPicPr>
        <p:blipFill>
          <a:blip r:embed="rId1"/>
          <a:stretch/>
        </p:blipFill>
        <p:spPr>
          <a:xfrm>
            <a:off x="287280" y="2440080"/>
            <a:ext cx="4781520" cy="375444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6" descr=""/>
          <p:cNvPicPr/>
          <p:nvPr/>
        </p:nvPicPr>
        <p:blipFill>
          <a:blip r:embed="rId2"/>
          <a:stretch/>
        </p:blipFill>
        <p:spPr>
          <a:xfrm>
            <a:off x="615960" y="49320"/>
            <a:ext cx="7412040" cy="693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287280" y="13190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JAXA Rocket CIB Experiment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                        </a:t>
            </a:r>
            <a:r>
              <a:rPr b="0" lang="ja-JP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Feb 2, 1992</a:t>
            </a:r>
            <a:r>
              <a:rPr b="0" lang="ja-JP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）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77" name="図 1" descr=""/>
          <p:cNvPicPr/>
          <p:nvPr/>
        </p:nvPicPr>
        <p:blipFill>
          <a:blip r:embed="rId3"/>
          <a:stretch/>
        </p:blipFill>
        <p:spPr>
          <a:xfrm>
            <a:off x="312840" y="1704960"/>
            <a:ext cx="1439640" cy="1000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5"/>
          <p:cNvSpPr/>
          <p:nvPr/>
        </p:nvSpPr>
        <p:spPr>
          <a:xfrm>
            <a:off x="231840" y="630360"/>
            <a:ext cx="79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Plan:  5minutes data acquisition at 200 km height in 2016. 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Improve lifetime limit by two orders of magnitude ( ~10</a:t>
            </a:r>
            <a:r>
              <a:rPr b="0" lang="en-US" sz="2000" spc="-1" strike="noStrike" baseline="30000">
                <a:solidFill>
                  <a:srgbClr val="002060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year)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40323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6" descr=""/>
          <p:cNvPicPr/>
          <p:nvPr/>
        </p:nvPicPr>
        <p:blipFill>
          <a:blip r:embed="rId1"/>
          <a:stretch/>
        </p:blipFill>
        <p:spPr>
          <a:xfrm>
            <a:off x="622440" y="115920"/>
            <a:ext cx="7875360" cy="695160"/>
          </a:xfrm>
          <a:prstGeom prst="rect">
            <a:avLst/>
          </a:prstGeom>
          <a:ln w="0">
            <a:noFill/>
          </a:ln>
        </p:spPr>
      </p:pic>
      <p:sp>
        <p:nvSpPr>
          <p:cNvPr id="181" name="テキスト ボックス 2"/>
          <p:cNvSpPr/>
          <p:nvPr/>
        </p:nvSpPr>
        <p:spPr>
          <a:xfrm>
            <a:off x="160200" y="623880"/>
            <a:ext cx="89838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HGS明朝E"/>
                <a:ea typeface="HGS明朝E"/>
              </a:rPr>
              <a:t>Nb/Al-STJ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Goal:  detection of  a single far-infrared photon in energy range between  15meV and 30meV for the rocket experiment for neutrino decay search. 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82" name="図 6" descr=""/>
          <p:cNvPicPr/>
          <p:nvPr/>
        </p:nvPicPr>
        <p:blipFill>
          <a:blip r:embed="rId2"/>
          <a:stretch/>
        </p:blipFill>
        <p:spPr>
          <a:xfrm>
            <a:off x="5479920" y="4108320"/>
            <a:ext cx="3481560" cy="2657520"/>
          </a:xfrm>
          <a:prstGeom prst="rect">
            <a:avLst/>
          </a:prstGeom>
          <a:ln w="0">
            <a:noFill/>
          </a:ln>
        </p:spPr>
      </p:pic>
      <p:sp>
        <p:nvSpPr>
          <p:cNvPr id="183" name="テキスト ボックス 55"/>
          <p:cNvSpPr/>
          <p:nvPr/>
        </p:nvSpPr>
        <p:spPr>
          <a:xfrm>
            <a:off x="7005600" y="434340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ignal charge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4815000" y="1871640"/>
            <a:ext cx="4189320" cy="2251080"/>
          </a:xfrm>
          <a:prstGeom prst="rect">
            <a:avLst/>
          </a:prstGeom>
          <a:ln w="0">
            <a:noFill/>
          </a:ln>
        </p:spPr>
      </p:pic>
      <p:sp>
        <p:nvSpPr>
          <p:cNvPr id="185" name="テキスト ボックス 2"/>
          <p:cNvSpPr/>
          <p:nvPr/>
        </p:nvSpPr>
        <p:spPr>
          <a:xfrm>
            <a:off x="160200" y="1879560"/>
            <a:ext cx="540864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Signal of Nb/Al-STJ (100 x 100μ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) to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infrared (1.31μm) light at 1.9K.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ime spread at FWHM is 1μsec. 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he number of photon : 93±11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( from the spread of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he signal charge distribution )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HGS明朝E"/>
                <a:ea typeface="HGS明朝E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he response of Nb/Al-STJ (4μ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) to the visible light (456nm) at 1.9K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a single photon peak is separated from pedestal by 1σ.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he signal charge distribution (Red histogram) is fitted by four Gaussians of  0, 1, 2 and 3 photon peaks.  Single photon peak has a mean of 0.4fC and  σ of 0.4fC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2:06:54Z</dcterms:created>
  <dc:creator>High Energy Physics Lab.</dc:creator>
  <dc:description/>
  <dc:language>en-US</dc:language>
  <cp:lastModifiedBy>skim</cp:lastModifiedBy>
  <cp:lastPrinted>2013-07-10T01:52:21Z</cp:lastPrinted>
  <dcterms:modified xsi:type="dcterms:W3CDTF">2013-08-05T07:57:04Z</dcterms:modified>
  <cp:revision>289</cp:revision>
  <dc:subject/>
  <dc:title>スライド タイトルなし</dc:title>
</cp:coreProperties>
</file>